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BEA-AC6B-4898-B492-1B2F505E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DE0-C7AD-4D20-8352-816F58E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B98-6577-4D8F-A5F8-110A14DD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7C3-4722-4EF4-B2C2-0FE0DCAB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410-16BA-499D-884D-694D5B19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D77-8D32-4F51-A4FD-B1A2B83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7D5-373D-48E7-9162-D5BBC26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A8F-15AB-471F-AC7C-C71830B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2ABC-BC06-438F-ADA8-CFEA82F8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D7E-DC0E-4ABD-8B33-A80D0ED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A376-0EA3-4C58-9D87-8593C62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D7D-EDCE-44C3-8110-DDE2235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47A-191F-43B7-9F4E-BED1B20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632-C05E-4530-9B05-FE2D25B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CD59-0CB4-47D1-9C8D-3E007EE9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D7B1-655D-46A7-A28B-79867673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7D93-44BA-4CA2-A767-9951547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32E-95DC-475A-B7CD-898BCF60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DAC-8EED-4F23-9B94-CEFD8AB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78-8AEE-45B6-94BA-C480AFF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656-EE14-4892-9A98-27E8D45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ECB-734E-4976-BB7F-896BA86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67E-DCD4-4AA9-9081-AB77E626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355-154B-4D80-B314-9880C6E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31D-3DA0-4CD9-B8A1-90FE206C49F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C23-3F42-42C4-B654-9CE52BE641E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ga.cl/" TargetMode="External"/><Relationship Id="rId3" Type="http://schemas.openxmlformats.org/officeDocument/2006/relationships/hyperlink" Target="http://www.dga.cl/" TargetMode="External"/><Relationship Id="rId4" Type="http://schemas.openxmlformats.org/officeDocument/2006/relationships/hyperlink" Target="http://www.dga.cl/" TargetMode="External"/><Relationship Id="rId5" Type="http://schemas.openxmlformats.org/officeDocument/2006/relationships/hyperlink" Target="http://www.dga.cl/" TargetMode="External"/><Relationship Id="rId6" Type="http://schemas.openxmlformats.org/officeDocument/2006/relationships/hyperlink" Target="http://www.dga.cl/" TargetMode="External"/><Relationship Id="rId7" Type="http://schemas.openxmlformats.org/officeDocument/2006/relationships/hyperlink" Target="http://water.usgs.gov/waterwatch/" TargetMode="External"/><Relationship Id="rId8" Type="http://schemas.openxmlformats.org/officeDocument/2006/relationships/hyperlink" Target="http://water.usgs.gov/waterwatch/" TargetMode="External"/><Relationship Id="rId9" Type="http://schemas.openxmlformats.org/officeDocument/2006/relationships/hyperlink" Target="http://water.usgs.gov/waterwatch/" TargetMode="External"/><Relationship Id="rId10" Type="http://schemas.openxmlformats.org/officeDocument/2006/relationships/hyperlink" Target="http://water.usgs.gov/waterwatch/" TargetMode="External"/><Relationship Id="rId11" Type="http://schemas.openxmlformats.org/officeDocument/2006/relationships/hyperlink" Target="http://water.usgs.gov/waterwatch/" TargetMode="External"/><Relationship Id="rId12" Type="http://schemas.openxmlformats.org/officeDocument/2006/relationships/hyperlink" Target="http://water.usgs.gov/waterwatch/" TargetMode="External"/><Relationship Id="rId13" Type="http://schemas.openxmlformats.org/officeDocument/2006/relationships/hyperlink" Target="http://water.usgs.gov/waterwatch/" TargetMode="External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esentación de datos de escor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676520"/>
            <a:ext cx="1828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u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666880"/>
            <a:ext cx="114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  l/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80720" y="2133720"/>
            <a:ext cx="114300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895480"/>
            <a:ext cx="20574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/k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  l/s/H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133720"/>
            <a:ext cx="190512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133720"/>
            <a:ext cx="304920" cy="2133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191120"/>
            <a:ext cx="30481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lámina de agua,  cm o m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4100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Verdana"/>
              </a:rPr>
              <a:t>dimensionamiento de obra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765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comparación de regímenes hidrológi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9560" y="2362320"/>
            <a:ext cx="22860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3581280"/>
            <a:ext cx="762120" cy="19051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3053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el estudio de relaciones precipitación-escorrentía o en balances hidrológicos de cuen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638320" y="4876920"/>
            <a:ext cx="167652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14400" y="762120"/>
          <a:ext cx="7696080" cy="56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62120"/>
                    <a:ext cx="76960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306440" y="0"/>
          <a:ext cx="539928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0"/>
                    <a:ext cx="53992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793c00"/>
                    </a:outerShdw>
                  </a:effectLst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86600" y="228600"/>
            <a:ext cx="20574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los caudales medios diarios máximos y mínimos fueron 250 y 0,004 m</a:t>
            </a:r>
            <a:r>
              <a:rPr b="1" lang="es-ES_tradnl" sz="1800" spc="-1" strike="noStrike" baseline="30000">
                <a:solidFill>
                  <a:srgbClr val="ff9933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/seg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0"/>
            <a:ext cx="59436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ación Alhué en Quilamu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276720"/>
            <a:ext cx="25909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Courier New Cyr"/>
              </a:rPr>
              <a:t>años hidrológicos 63-64 a 67-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-13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Obtención de curvas de duración representativas de períodos largos a partir de registros cort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14680" y="2784600"/>
            <a:ext cx="5837040" cy="2849400"/>
            <a:chOff x="1714680" y="2784600"/>
            <a:chExt cx="5837040" cy="2849400"/>
          </a:xfrm>
        </p:grpSpPr>
        <p:sp>
          <p:nvSpPr>
            <p:cNvPr id="147" name=""/>
            <p:cNvSpPr/>
            <p:nvPr/>
          </p:nvSpPr>
          <p:spPr>
            <a:xfrm>
              <a:off x="1714680" y="4313160"/>
              <a:ext cx="5837040" cy="1320840"/>
            </a:xfrm>
            <a:custGeom>
              <a:avLst/>
              <a:gdLst/>
              <a:ahLst/>
              <a:rect l="l" t="t" r="r" b="b"/>
              <a:pathLst>
                <a:path w="3677" h="832">
                  <a:moveTo>
                    <a:pt x="0" y="832"/>
                  </a:moveTo>
                  <a:cubicBezTo>
                    <a:pt x="116" y="825"/>
                    <a:pt x="213" y="823"/>
                    <a:pt x="317" y="772"/>
                  </a:cubicBezTo>
                  <a:cubicBezTo>
                    <a:pt x="378" y="711"/>
                    <a:pt x="352" y="738"/>
                    <a:pt x="394" y="694"/>
                  </a:cubicBezTo>
                  <a:cubicBezTo>
                    <a:pt x="426" y="606"/>
                    <a:pt x="477" y="533"/>
                    <a:pt x="523" y="454"/>
                  </a:cubicBezTo>
                  <a:cubicBezTo>
                    <a:pt x="552" y="404"/>
                    <a:pt x="579" y="344"/>
                    <a:pt x="634" y="317"/>
                  </a:cubicBezTo>
                  <a:cubicBezTo>
                    <a:pt x="733" y="269"/>
                    <a:pt x="1036" y="285"/>
                    <a:pt x="1097" y="283"/>
                  </a:cubicBezTo>
                  <a:cubicBezTo>
                    <a:pt x="1213" y="259"/>
                    <a:pt x="1272" y="205"/>
                    <a:pt x="1371" y="154"/>
                  </a:cubicBezTo>
                  <a:cubicBezTo>
                    <a:pt x="1417" y="130"/>
                    <a:pt x="1468" y="112"/>
                    <a:pt x="1517" y="94"/>
                  </a:cubicBezTo>
                  <a:cubicBezTo>
                    <a:pt x="1533" y="88"/>
                    <a:pt x="1596" y="62"/>
                    <a:pt x="1611" y="60"/>
                  </a:cubicBezTo>
                  <a:cubicBezTo>
                    <a:pt x="1705" y="50"/>
                    <a:pt x="1800" y="49"/>
                    <a:pt x="1894" y="43"/>
                  </a:cubicBezTo>
                  <a:cubicBezTo>
                    <a:pt x="2006" y="47"/>
                    <a:pt x="2104" y="62"/>
                    <a:pt x="2211" y="43"/>
                  </a:cubicBezTo>
                  <a:cubicBezTo>
                    <a:pt x="2293" y="28"/>
                    <a:pt x="2307" y="9"/>
                    <a:pt x="2400" y="0"/>
                  </a:cubicBezTo>
                  <a:cubicBezTo>
                    <a:pt x="2519" y="7"/>
                    <a:pt x="2633" y="22"/>
                    <a:pt x="2751" y="34"/>
                  </a:cubicBezTo>
                  <a:cubicBezTo>
                    <a:pt x="2774" y="57"/>
                    <a:pt x="2780" y="75"/>
                    <a:pt x="2811" y="86"/>
                  </a:cubicBezTo>
                  <a:cubicBezTo>
                    <a:pt x="2859" y="132"/>
                    <a:pt x="2946" y="138"/>
                    <a:pt x="3009" y="146"/>
                  </a:cubicBezTo>
                  <a:cubicBezTo>
                    <a:pt x="3043" y="157"/>
                    <a:pt x="3091" y="151"/>
                    <a:pt x="3111" y="180"/>
                  </a:cubicBezTo>
                  <a:cubicBezTo>
                    <a:pt x="3134" y="213"/>
                    <a:pt x="3160" y="238"/>
                    <a:pt x="3180" y="274"/>
                  </a:cubicBezTo>
                  <a:cubicBezTo>
                    <a:pt x="3213" y="333"/>
                    <a:pt x="3242" y="389"/>
                    <a:pt x="3309" y="412"/>
                  </a:cubicBezTo>
                  <a:cubicBezTo>
                    <a:pt x="3372" y="475"/>
                    <a:pt x="3429" y="466"/>
                    <a:pt x="3523" y="472"/>
                  </a:cubicBezTo>
                  <a:cubicBezTo>
                    <a:pt x="3578" y="481"/>
                    <a:pt x="3624" y="506"/>
                    <a:pt x="3677" y="50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2720" y="3021120"/>
              <a:ext cx="2368440" cy="1441440"/>
            </a:xfrm>
            <a:custGeom>
              <a:avLst/>
              <a:gdLst/>
              <a:ahLst/>
              <a:rect l="l" t="t" r="r" b="b"/>
              <a:pathLst>
                <a:path w="1492" h="908">
                  <a:moveTo>
                    <a:pt x="0" y="908"/>
                  </a:moveTo>
                  <a:cubicBezTo>
                    <a:pt x="35" y="901"/>
                    <a:pt x="69" y="894"/>
                    <a:pt x="103" y="883"/>
                  </a:cubicBezTo>
                  <a:cubicBezTo>
                    <a:pt x="162" y="845"/>
                    <a:pt x="152" y="783"/>
                    <a:pt x="172" y="720"/>
                  </a:cubicBezTo>
                  <a:cubicBezTo>
                    <a:pt x="178" y="699"/>
                    <a:pt x="178" y="682"/>
                    <a:pt x="206" y="677"/>
                  </a:cubicBezTo>
                  <a:cubicBezTo>
                    <a:pt x="251" y="670"/>
                    <a:pt x="297" y="671"/>
                    <a:pt x="343" y="668"/>
                  </a:cubicBezTo>
                  <a:cubicBezTo>
                    <a:pt x="363" y="665"/>
                    <a:pt x="383" y="664"/>
                    <a:pt x="403" y="660"/>
                  </a:cubicBezTo>
                  <a:cubicBezTo>
                    <a:pt x="420" y="656"/>
                    <a:pt x="454" y="643"/>
                    <a:pt x="454" y="643"/>
                  </a:cubicBezTo>
                  <a:cubicBezTo>
                    <a:pt x="491" y="608"/>
                    <a:pt x="478" y="605"/>
                    <a:pt x="532" y="583"/>
                  </a:cubicBezTo>
                  <a:cubicBezTo>
                    <a:pt x="546" y="538"/>
                    <a:pt x="519" y="516"/>
                    <a:pt x="540" y="463"/>
                  </a:cubicBezTo>
                  <a:cubicBezTo>
                    <a:pt x="548" y="443"/>
                    <a:pt x="610" y="438"/>
                    <a:pt x="617" y="437"/>
                  </a:cubicBezTo>
                  <a:cubicBezTo>
                    <a:pt x="666" y="433"/>
                    <a:pt x="714" y="431"/>
                    <a:pt x="763" y="428"/>
                  </a:cubicBezTo>
                  <a:cubicBezTo>
                    <a:pt x="774" y="420"/>
                    <a:pt x="785" y="410"/>
                    <a:pt x="797" y="403"/>
                  </a:cubicBezTo>
                  <a:cubicBezTo>
                    <a:pt x="811" y="396"/>
                    <a:pt x="827" y="395"/>
                    <a:pt x="840" y="386"/>
                  </a:cubicBezTo>
                  <a:cubicBezTo>
                    <a:pt x="876" y="362"/>
                    <a:pt x="903" y="313"/>
                    <a:pt x="952" y="308"/>
                  </a:cubicBezTo>
                  <a:cubicBezTo>
                    <a:pt x="997" y="303"/>
                    <a:pt x="1043" y="303"/>
                    <a:pt x="1089" y="300"/>
                  </a:cubicBezTo>
                  <a:cubicBezTo>
                    <a:pt x="1115" y="297"/>
                    <a:pt x="1184" y="293"/>
                    <a:pt x="1192" y="274"/>
                  </a:cubicBezTo>
                  <a:cubicBezTo>
                    <a:pt x="1206" y="239"/>
                    <a:pt x="1196" y="198"/>
                    <a:pt x="1209" y="163"/>
                  </a:cubicBezTo>
                  <a:cubicBezTo>
                    <a:pt x="1223" y="126"/>
                    <a:pt x="1344" y="118"/>
                    <a:pt x="1380" y="103"/>
                  </a:cubicBezTo>
                  <a:cubicBezTo>
                    <a:pt x="1434" y="81"/>
                    <a:pt x="1453" y="35"/>
                    <a:pt x="1492" y="0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1720" y="2784600"/>
              <a:ext cx="203400" cy="933480"/>
            </a:xfrm>
            <a:custGeom>
              <a:avLst/>
              <a:gdLst/>
              <a:ahLst/>
              <a:rect l="l" t="t" r="r" b="b"/>
              <a:pathLst>
                <a:path w="128" h="588">
                  <a:moveTo>
                    <a:pt x="0" y="560"/>
                  </a:moveTo>
                  <a:cubicBezTo>
                    <a:pt x="9" y="566"/>
                    <a:pt x="16" y="576"/>
                    <a:pt x="26" y="577"/>
                  </a:cubicBezTo>
                  <a:cubicBezTo>
                    <a:pt x="111" y="588"/>
                    <a:pt x="70" y="490"/>
                    <a:pt x="43" y="449"/>
                  </a:cubicBezTo>
                  <a:cubicBezTo>
                    <a:pt x="52" y="421"/>
                    <a:pt x="67" y="400"/>
                    <a:pt x="77" y="372"/>
                  </a:cubicBezTo>
                  <a:cubicBezTo>
                    <a:pt x="65" y="336"/>
                    <a:pt x="43" y="325"/>
                    <a:pt x="60" y="286"/>
                  </a:cubicBezTo>
                  <a:cubicBezTo>
                    <a:pt x="72" y="258"/>
                    <a:pt x="128" y="226"/>
                    <a:pt x="128" y="226"/>
                  </a:cubicBezTo>
                  <a:cubicBezTo>
                    <a:pt x="126" y="213"/>
                    <a:pt x="121" y="151"/>
                    <a:pt x="111" y="132"/>
                  </a:cubicBezTo>
                  <a:cubicBezTo>
                    <a:pt x="88" y="87"/>
                    <a:pt x="74" y="75"/>
                    <a:pt x="60" y="29"/>
                  </a:cubicBezTo>
                  <a:cubicBezTo>
                    <a:pt x="69" y="0"/>
                    <a:pt x="59" y="3"/>
                    <a:pt x="77" y="3"/>
                  </a:cubicBezTo>
                </a:path>
              </a:pathLst>
            </a:custGeom>
            <a:noFill/>
            <a:ln w="284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76680" y="3510000"/>
              <a:ext cx="1087200" cy="1266840"/>
            </a:xfrm>
            <a:custGeom>
              <a:avLst/>
              <a:gdLst/>
              <a:ahLst/>
              <a:rect l="l" t="t" r="r" b="b"/>
              <a:pathLst>
                <a:path w="685" h="798">
                  <a:moveTo>
                    <a:pt x="0" y="798"/>
                  </a:moveTo>
                  <a:cubicBezTo>
                    <a:pt x="48" y="781"/>
                    <a:pt x="66" y="774"/>
                    <a:pt x="102" y="738"/>
                  </a:cubicBezTo>
                  <a:cubicBezTo>
                    <a:pt x="123" y="677"/>
                    <a:pt x="115" y="704"/>
                    <a:pt x="128" y="660"/>
                  </a:cubicBezTo>
                  <a:cubicBezTo>
                    <a:pt x="125" y="649"/>
                    <a:pt x="120" y="638"/>
                    <a:pt x="120" y="626"/>
                  </a:cubicBezTo>
                  <a:cubicBezTo>
                    <a:pt x="120" y="592"/>
                    <a:pt x="123" y="557"/>
                    <a:pt x="128" y="523"/>
                  </a:cubicBezTo>
                  <a:cubicBezTo>
                    <a:pt x="135" y="468"/>
                    <a:pt x="227" y="437"/>
                    <a:pt x="265" y="412"/>
                  </a:cubicBezTo>
                  <a:cubicBezTo>
                    <a:pt x="308" y="383"/>
                    <a:pt x="318" y="335"/>
                    <a:pt x="351" y="300"/>
                  </a:cubicBezTo>
                  <a:cubicBezTo>
                    <a:pt x="384" y="208"/>
                    <a:pt x="425" y="209"/>
                    <a:pt x="505" y="180"/>
                  </a:cubicBezTo>
                  <a:cubicBezTo>
                    <a:pt x="560" y="127"/>
                    <a:pt x="510" y="183"/>
                    <a:pt x="540" y="129"/>
                  </a:cubicBezTo>
                  <a:cubicBezTo>
                    <a:pt x="550" y="111"/>
                    <a:pt x="574" y="78"/>
                    <a:pt x="574" y="78"/>
                  </a:cubicBezTo>
                  <a:cubicBezTo>
                    <a:pt x="577" y="69"/>
                    <a:pt x="577" y="60"/>
                    <a:pt x="582" y="52"/>
                  </a:cubicBezTo>
                  <a:cubicBezTo>
                    <a:pt x="604" y="16"/>
                    <a:pt x="659" y="29"/>
                    <a:pt x="685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11560" y="3292560"/>
              <a:ext cx="245880" cy="844560"/>
            </a:xfrm>
            <a:custGeom>
              <a:avLst/>
              <a:gdLst/>
              <a:ahLst/>
              <a:rect l="l" t="t" r="r" b="b"/>
              <a:pathLst>
                <a:path w="155" h="532">
                  <a:moveTo>
                    <a:pt x="0" y="532"/>
                  </a:moveTo>
                  <a:cubicBezTo>
                    <a:pt x="51" y="454"/>
                    <a:pt x="45" y="486"/>
                    <a:pt x="26" y="360"/>
                  </a:cubicBezTo>
                  <a:cubicBezTo>
                    <a:pt x="23" y="342"/>
                    <a:pt x="8" y="309"/>
                    <a:pt x="8" y="309"/>
                  </a:cubicBezTo>
                  <a:cubicBezTo>
                    <a:pt x="12" y="275"/>
                    <a:pt x="17" y="190"/>
                    <a:pt x="51" y="163"/>
                  </a:cubicBezTo>
                  <a:cubicBezTo>
                    <a:pt x="65" y="152"/>
                    <a:pt x="86" y="152"/>
                    <a:pt x="103" y="146"/>
                  </a:cubicBezTo>
                  <a:cubicBezTo>
                    <a:pt x="155" y="69"/>
                    <a:pt x="137" y="115"/>
                    <a:pt x="137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7120" y="3890880"/>
              <a:ext cx="1033560" cy="627120"/>
            </a:xfrm>
            <a:custGeom>
              <a:avLst/>
              <a:gdLst/>
              <a:ahLst/>
              <a:rect l="l" t="t" r="r" b="b"/>
              <a:pathLst>
                <a:path w="651" h="395">
                  <a:moveTo>
                    <a:pt x="0" y="395"/>
                  </a:moveTo>
                  <a:cubicBezTo>
                    <a:pt x="71" y="392"/>
                    <a:pt x="143" y="391"/>
                    <a:pt x="214" y="386"/>
                  </a:cubicBezTo>
                  <a:cubicBezTo>
                    <a:pt x="254" y="383"/>
                    <a:pt x="287" y="347"/>
                    <a:pt x="325" y="335"/>
                  </a:cubicBezTo>
                  <a:cubicBezTo>
                    <a:pt x="364" y="306"/>
                    <a:pt x="390" y="272"/>
                    <a:pt x="437" y="258"/>
                  </a:cubicBezTo>
                  <a:cubicBezTo>
                    <a:pt x="480" y="212"/>
                    <a:pt x="419" y="269"/>
                    <a:pt x="531" y="232"/>
                  </a:cubicBezTo>
                  <a:cubicBezTo>
                    <a:pt x="543" y="228"/>
                    <a:pt x="548" y="215"/>
                    <a:pt x="557" y="206"/>
                  </a:cubicBezTo>
                  <a:cubicBezTo>
                    <a:pt x="565" y="163"/>
                    <a:pt x="576" y="138"/>
                    <a:pt x="600" y="103"/>
                  </a:cubicBezTo>
                  <a:cubicBezTo>
                    <a:pt x="603" y="95"/>
                    <a:pt x="604" y="86"/>
                    <a:pt x="608" y="78"/>
                  </a:cubicBezTo>
                  <a:cubicBezTo>
                    <a:pt x="612" y="71"/>
                    <a:pt x="621" y="67"/>
                    <a:pt x="625" y="60"/>
                  </a:cubicBezTo>
                  <a:cubicBezTo>
                    <a:pt x="630" y="50"/>
                    <a:pt x="629" y="37"/>
                    <a:pt x="634" y="26"/>
                  </a:cubicBezTo>
                  <a:cubicBezTo>
                    <a:pt x="638" y="16"/>
                    <a:pt x="651" y="0"/>
                    <a:pt x="651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8880" y="3565440"/>
              <a:ext cx="1006560" cy="774720"/>
            </a:xfrm>
            <a:custGeom>
              <a:avLst/>
              <a:gdLst/>
              <a:ahLst/>
              <a:rect l="l" t="t" r="r" b="b"/>
              <a:pathLst>
                <a:path w="634" h="488">
                  <a:moveTo>
                    <a:pt x="0" y="488"/>
                  </a:moveTo>
                  <a:cubicBezTo>
                    <a:pt x="49" y="473"/>
                    <a:pt x="52" y="435"/>
                    <a:pt x="86" y="403"/>
                  </a:cubicBezTo>
                  <a:cubicBezTo>
                    <a:pt x="103" y="368"/>
                    <a:pt x="125" y="307"/>
                    <a:pt x="163" y="291"/>
                  </a:cubicBezTo>
                  <a:cubicBezTo>
                    <a:pt x="184" y="282"/>
                    <a:pt x="256" y="276"/>
                    <a:pt x="266" y="274"/>
                  </a:cubicBezTo>
                  <a:cubicBezTo>
                    <a:pt x="297" y="269"/>
                    <a:pt x="360" y="257"/>
                    <a:pt x="360" y="257"/>
                  </a:cubicBezTo>
                  <a:cubicBezTo>
                    <a:pt x="420" y="218"/>
                    <a:pt x="482" y="120"/>
                    <a:pt x="523" y="60"/>
                  </a:cubicBezTo>
                  <a:cubicBezTo>
                    <a:pt x="543" y="32"/>
                    <a:pt x="592" y="54"/>
                    <a:pt x="626" y="51"/>
                  </a:cubicBezTo>
                  <a:cubicBezTo>
                    <a:pt x="634" y="5"/>
                    <a:pt x="634" y="23"/>
                    <a:pt x="634" y="0"/>
                  </a:cubicBezTo>
                </a:path>
              </a:pathLst>
            </a:custGeom>
            <a:noFill/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57200" y="457200"/>
            <a:ext cx="2819520" cy="2593440"/>
            <a:chOff x="457200" y="457200"/>
            <a:chExt cx="2819520" cy="2593440"/>
          </a:xfrm>
        </p:grpSpPr>
        <p:sp>
          <p:nvSpPr>
            <p:cNvPr id="159" name=""/>
            <p:cNvSpPr/>
            <p:nvPr/>
          </p:nvSpPr>
          <p:spPr>
            <a:xfrm>
              <a:off x="8380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457200"/>
            <a:ext cx="2819520" cy="2593440"/>
            <a:chOff x="4800600" y="457200"/>
            <a:chExt cx="2819520" cy="2593440"/>
          </a:xfrm>
        </p:grpSpPr>
        <p:sp>
          <p:nvSpPr>
            <p:cNvPr id="164" name=""/>
            <p:cNvSpPr/>
            <p:nvPr/>
          </p:nvSpPr>
          <p:spPr>
            <a:xfrm>
              <a:off x="51814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14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724280" y="3200400"/>
            <a:ext cx="2819520" cy="2593440"/>
            <a:chOff x="4724280" y="3200400"/>
            <a:chExt cx="2819520" cy="2593440"/>
          </a:xfrm>
        </p:grpSpPr>
        <p:sp>
          <p:nvSpPr>
            <p:cNvPr id="169" name=""/>
            <p:cNvSpPr/>
            <p:nvPr/>
          </p:nvSpPr>
          <p:spPr>
            <a:xfrm>
              <a:off x="5105160" y="32767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160" y="51814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42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38080" y="3048120"/>
            <a:ext cx="2819520" cy="2409840"/>
            <a:chOff x="838080" y="3048120"/>
            <a:chExt cx="2819520" cy="2409840"/>
          </a:xfrm>
        </p:grpSpPr>
        <p:sp>
          <p:nvSpPr>
            <p:cNvPr id="174" name=""/>
            <p:cNvSpPr/>
            <p:nvPr/>
          </p:nvSpPr>
          <p:spPr>
            <a:xfrm>
              <a:off x="1218960" y="3124080"/>
              <a:ext cx="0" cy="190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8960" y="502884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0481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180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90720" y="762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0" y="80"/>
                  <a:pt x="0" y="160"/>
                  <a:pt x="48" y="240"/>
                </a:cubicBezTo>
                <a:cubicBezTo>
                  <a:pt x="96" y="320"/>
                  <a:pt x="152" y="400"/>
                  <a:pt x="288" y="480"/>
                </a:cubicBezTo>
                <a:cubicBezTo>
                  <a:pt x="424" y="560"/>
                  <a:pt x="712" y="648"/>
                  <a:pt x="864" y="720"/>
                </a:cubicBezTo>
                <a:cubicBezTo>
                  <a:pt x="1016" y="792"/>
                  <a:pt x="1108" y="852"/>
                  <a:pt x="1200" y="912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21160" y="990720"/>
            <a:ext cx="1765440" cy="129528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2860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8088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7720" y="1752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24480" y="1600200"/>
            <a:ext cx="0" cy="83808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81120" y="16765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523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4267080"/>
            <a:ext cx="99036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09680" y="42667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46483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9625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523880" y="3580920"/>
            <a:ext cx="1524240" cy="12193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505320"/>
            <a:ext cx="1765440" cy="160020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48520" y="426708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05160" y="42670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eriodo comple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00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66880" y="3885840"/>
            <a:ext cx="0" cy="114300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18960" y="3886200"/>
            <a:ext cx="1447560" cy="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7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33520"/>
            <a:ext cx="190476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0"/>
                </a:moveTo>
                <a:cubicBezTo>
                  <a:pt x="20" y="41"/>
                  <a:pt x="57" y="163"/>
                  <a:pt x="122" y="247"/>
                </a:cubicBezTo>
                <a:cubicBezTo>
                  <a:pt x="187" y="331"/>
                  <a:pt x="247" y="428"/>
                  <a:pt x="387" y="504"/>
                </a:cubicBezTo>
                <a:cubicBezTo>
                  <a:pt x="527" y="580"/>
                  <a:pt x="827" y="601"/>
                  <a:pt x="962" y="701"/>
                </a:cubicBezTo>
                <a:cubicBezTo>
                  <a:pt x="1097" y="801"/>
                  <a:pt x="1150" y="1020"/>
                  <a:pt x="1200" y="1104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914400"/>
            <a:ext cx="259092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imes New Roman"/>
              </a:rPr>
              <a:t>Periodo concurr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 de inter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700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dga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c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3400" y="259092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0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2"/>
              </a:rPr>
              <a:t>waterwatch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3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 medio di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imnímetro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urva de descar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1 o más med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ar h ó Q (curvatura relación de descarg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ón continua es dese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es medios mensu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o valores di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prome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normal-seco-húme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variación esta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14400" y="507960"/>
          <a:ext cx="7467480" cy="572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07960"/>
                    <a:ext cx="746748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4550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hidrogra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1904760"/>
            <a:ext cx="0" cy="3733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5638680"/>
            <a:ext cx="6705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82960"/>
            <a:ext cx="5511960" cy="3187440"/>
          </a:xfrm>
          <a:custGeom>
            <a:avLst/>
            <a:gdLst/>
            <a:ahLst/>
            <a:rect l="l" t="t" r="r" b="b"/>
            <a:pathLst>
              <a:path w="3472" h="2008">
                <a:moveTo>
                  <a:pt x="0" y="2000"/>
                </a:moveTo>
                <a:cubicBezTo>
                  <a:pt x="120" y="2004"/>
                  <a:pt x="240" y="2008"/>
                  <a:pt x="336" y="1952"/>
                </a:cubicBezTo>
                <a:cubicBezTo>
                  <a:pt x="432" y="1896"/>
                  <a:pt x="480" y="1840"/>
                  <a:pt x="576" y="1664"/>
                </a:cubicBezTo>
                <a:cubicBezTo>
                  <a:pt x="672" y="1488"/>
                  <a:pt x="824" y="1128"/>
                  <a:pt x="912" y="896"/>
                </a:cubicBezTo>
                <a:cubicBezTo>
                  <a:pt x="1000" y="664"/>
                  <a:pt x="1024" y="416"/>
                  <a:pt x="1104" y="272"/>
                </a:cubicBezTo>
                <a:cubicBezTo>
                  <a:pt x="1184" y="128"/>
                  <a:pt x="1296" y="0"/>
                  <a:pt x="1392" y="32"/>
                </a:cubicBezTo>
                <a:cubicBezTo>
                  <a:pt x="1488" y="64"/>
                  <a:pt x="1576" y="256"/>
                  <a:pt x="1680" y="464"/>
                </a:cubicBezTo>
                <a:cubicBezTo>
                  <a:pt x="1784" y="672"/>
                  <a:pt x="1888" y="1088"/>
                  <a:pt x="2016" y="1280"/>
                </a:cubicBezTo>
                <a:cubicBezTo>
                  <a:pt x="2144" y="1472"/>
                  <a:pt x="2272" y="1528"/>
                  <a:pt x="2448" y="1616"/>
                </a:cubicBezTo>
                <a:cubicBezTo>
                  <a:pt x="2624" y="1704"/>
                  <a:pt x="2912" y="1768"/>
                  <a:pt x="3072" y="1808"/>
                </a:cubicBezTo>
                <a:cubicBezTo>
                  <a:pt x="3232" y="1848"/>
                  <a:pt x="3344" y="1848"/>
                  <a:pt x="3408" y="1856"/>
                </a:cubicBezTo>
                <a:cubicBezTo>
                  <a:pt x="3472" y="1864"/>
                  <a:pt x="3464" y="1860"/>
                  <a:pt x="3456" y="185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7524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Zona del máxi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19360" y="1219320"/>
            <a:ext cx="2286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362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concentr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971800"/>
            <a:ext cx="914400" cy="1143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rece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57440" y="2819520"/>
            <a:ext cx="1066680" cy="60948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-25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urva de gasto o volúmenes acumulad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666880"/>
          <a:ext cx="205740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666880"/>
                    <a:ext cx="20574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5105520" y="1904760"/>
            <a:ext cx="0" cy="2971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8769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7720" y="2212920"/>
            <a:ext cx="2720880" cy="2640240"/>
          </a:xfrm>
          <a:custGeom>
            <a:avLst/>
            <a:gdLst/>
            <a:ahLst/>
            <a:rect l="l" t="t" r="r" b="b"/>
            <a:pathLst>
              <a:path w="1714" h="1663">
                <a:moveTo>
                  <a:pt x="0" y="1663"/>
                </a:moveTo>
                <a:cubicBezTo>
                  <a:pt x="16" y="1646"/>
                  <a:pt x="40" y="1621"/>
                  <a:pt x="60" y="1611"/>
                </a:cubicBezTo>
                <a:cubicBezTo>
                  <a:pt x="76" y="1603"/>
                  <a:pt x="111" y="1594"/>
                  <a:pt x="111" y="1594"/>
                </a:cubicBezTo>
                <a:cubicBezTo>
                  <a:pt x="150" y="1536"/>
                  <a:pt x="131" y="1558"/>
                  <a:pt x="162" y="1525"/>
                </a:cubicBezTo>
                <a:cubicBezTo>
                  <a:pt x="190" y="1448"/>
                  <a:pt x="247" y="1444"/>
                  <a:pt x="317" y="1423"/>
                </a:cubicBezTo>
                <a:cubicBezTo>
                  <a:pt x="338" y="1401"/>
                  <a:pt x="360" y="1397"/>
                  <a:pt x="385" y="1380"/>
                </a:cubicBezTo>
                <a:cubicBezTo>
                  <a:pt x="405" y="1321"/>
                  <a:pt x="455" y="1296"/>
                  <a:pt x="505" y="1268"/>
                </a:cubicBezTo>
                <a:cubicBezTo>
                  <a:pt x="549" y="1243"/>
                  <a:pt x="585" y="1215"/>
                  <a:pt x="634" y="1200"/>
                </a:cubicBezTo>
                <a:cubicBezTo>
                  <a:pt x="650" y="1184"/>
                  <a:pt x="671" y="1174"/>
                  <a:pt x="685" y="1157"/>
                </a:cubicBezTo>
                <a:cubicBezTo>
                  <a:pt x="730" y="1100"/>
                  <a:pt x="649" y="1160"/>
                  <a:pt x="720" y="1114"/>
                </a:cubicBezTo>
                <a:cubicBezTo>
                  <a:pt x="745" y="1075"/>
                  <a:pt x="787" y="1043"/>
                  <a:pt x="831" y="1028"/>
                </a:cubicBezTo>
                <a:cubicBezTo>
                  <a:pt x="841" y="1000"/>
                  <a:pt x="874" y="951"/>
                  <a:pt x="874" y="951"/>
                </a:cubicBezTo>
                <a:cubicBezTo>
                  <a:pt x="896" y="881"/>
                  <a:pt x="865" y="964"/>
                  <a:pt x="900" y="908"/>
                </a:cubicBezTo>
                <a:cubicBezTo>
                  <a:pt x="905" y="901"/>
                  <a:pt x="904" y="891"/>
                  <a:pt x="908" y="883"/>
                </a:cubicBezTo>
                <a:cubicBezTo>
                  <a:pt x="918" y="865"/>
                  <a:pt x="935" y="851"/>
                  <a:pt x="942" y="831"/>
                </a:cubicBezTo>
                <a:cubicBezTo>
                  <a:pt x="945" y="822"/>
                  <a:pt x="945" y="811"/>
                  <a:pt x="951" y="805"/>
                </a:cubicBezTo>
                <a:cubicBezTo>
                  <a:pt x="965" y="791"/>
                  <a:pt x="985" y="782"/>
                  <a:pt x="1002" y="771"/>
                </a:cubicBezTo>
                <a:cubicBezTo>
                  <a:pt x="1030" y="753"/>
                  <a:pt x="1037" y="730"/>
                  <a:pt x="1071" y="720"/>
                </a:cubicBezTo>
                <a:cubicBezTo>
                  <a:pt x="1096" y="704"/>
                  <a:pt x="1115" y="684"/>
                  <a:pt x="1140" y="668"/>
                </a:cubicBezTo>
                <a:cubicBezTo>
                  <a:pt x="1160" y="604"/>
                  <a:pt x="1133" y="678"/>
                  <a:pt x="1165" y="625"/>
                </a:cubicBezTo>
                <a:cubicBezTo>
                  <a:pt x="1169" y="619"/>
                  <a:pt x="1180" y="580"/>
                  <a:pt x="1182" y="574"/>
                </a:cubicBezTo>
                <a:cubicBezTo>
                  <a:pt x="1169" y="506"/>
                  <a:pt x="1186" y="436"/>
                  <a:pt x="1234" y="385"/>
                </a:cubicBezTo>
                <a:cubicBezTo>
                  <a:pt x="1239" y="356"/>
                  <a:pt x="1243" y="312"/>
                  <a:pt x="1268" y="291"/>
                </a:cubicBezTo>
                <a:cubicBezTo>
                  <a:pt x="1284" y="277"/>
                  <a:pt x="1320" y="257"/>
                  <a:pt x="1320" y="257"/>
                </a:cubicBezTo>
                <a:cubicBezTo>
                  <a:pt x="1347" y="216"/>
                  <a:pt x="1390" y="190"/>
                  <a:pt x="1431" y="163"/>
                </a:cubicBezTo>
                <a:cubicBezTo>
                  <a:pt x="1438" y="158"/>
                  <a:pt x="1441" y="149"/>
                  <a:pt x="1448" y="145"/>
                </a:cubicBezTo>
                <a:cubicBezTo>
                  <a:pt x="1479" y="126"/>
                  <a:pt x="1525" y="120"/>
                  <a:pt x="1560" y="111"/>
                </a:cubicBezTo>
                <a:cubicBezTo>
                  <a:pt x="1568" y="105"/>
                  <a:pt x="1576" y="99"/>
                  <a:pt x="1585" y="94"/>
                </a:cubicBezTo>
                <a:cubicBezTo>
                  <a:pt x="1593" y="90"/>
                  <a:pt x="1603" y="89"/>
                  <a:pt x="1611" y="85"/>
                </a:cubicBezTo>
                <a:cubicBezTo>
                  <a:pt x="1695" y="38"/>
                  <a:pt x="1631" y="60"/>
                  <a:pt x="1688" y="43"/>
                </a:cubicBezTo>
                <a:cubicBezTo>
                  <a:pt x="1700" y="9"/>
                  <a:pt x="1691" y="23"/>
                  <a:pt x="1714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10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rcentaje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ependiente secuencia occurr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ble a distintas unidades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a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905120"/>
            <a:ext cx="754380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#orden año 1    año 2.....  año n  Prome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4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84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36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0,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0,0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,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105520"/>
            <a:ext cx="480060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exc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 #orden/#to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Weibu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5334120"/>
            <a:ext cx="76176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año calend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362320" y="0"/>
          <a:ext cx="651672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0"/>
                    <a:ext cx="6516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1520640"/>
            <a:ext cx="25016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período tot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1T17:26:42Z</dcterms:modified>
  <cp:revision>29</cp:revision>
  <dc:subject/>
  <dc:title>PowerPoint Presentation</dc:title>
</cp:coreProperties>
</file>