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7.jpeg" ContentType="image/jpeg"/>
  <Override PartName="/ppt/media/image8.wmf" ContentType="image/x-wmf"/>
  <Override PartName="/ppt/media/image32.jpeg" ContentType="image/jpeg"/>
  <Override PartName="/ppt/media/image38.jpeg" ContentType="image/jpeg"/>
  <Override PartName="/ppt/media/image9.png" ContentType="image/png"/>
  <Override PartName="/ppt/media/image33.jpeg" ContentType="image/jpeg"/>
  <Override PartName="/ppt/media/image39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6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C14-1376-4550-9378-09C550C2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30D-E512-4261-A952-375DB7A1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500-671F-41EC-BA8A-26B61E4D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AA2-AE83-45B2-9AD5-86FA71DA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4F6E-61F0-43D1-82D9-FD1111DD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95B4-7C81-41B7-B939-A37F9494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C2E6-F858-46A1-A64F-B93B11E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F2F-7722-4526-A3C9-7E82658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C892-4790-4784-9B98-B97C8E16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0957-9F60-4E39-BE82-E9EFAAB7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784-AA2E-48DF-AFEC-90EAD71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037-B72F-48C9-8A67-4F3F8F8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B3BC-9A98-4D76-8850-79BA16B9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21EA-4DB1-43B0-B032-348D603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BE3F-1C62-4F75-BDC9-10048AD0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A98A-7E67-4CDE-A31B-D8BD2CF5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D102-B7BA-4DA8-91E5-F0189A54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939-4067-4CCC-9D70-E3C19F7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03A-A7EA-4D07-9DA9-60156385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8D1-EEEB-44ED-85CA-4B6C503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0A7-1FBB-43C3-9E43-DC801559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6C5-40AA-4293-8E64-FB7E7E87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F8D-6317-4E95-AFA8-844F733E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9A4-AA79-4D38-8053-7670123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FE51-1328-4933-A5EB-A0B5A86DF19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AD6D-3CAF-4D39-92E6-624F591C41E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rcamnl.wr.usgs.gov/sws/fieldmethods/Controls/" TargetMode="External"/><Relationship Id="rId3" Type="http://schemas.openxmlformats.org/officeDocument/2006/relationships/hyperlink" Target="http://wwwrcamnl.wr.usgs.gov/sws/fieldmethods/Controls/" TargetMode="External"/><Relationship Id="rId4" Type="http://schemas.openxmlformats.org/officeDocument/2006/relationships/hyperlink" Target="http://wwwrcamnl.wr.usgs.gov/sws/fieldmethods/Controls/" TargetMode="External"/><Relationship Id="rId5" Type="http://schemas.openxmlformats.org/officeDocument/2006/relationships/hyperlink" Target="http://wwwrcamnl.wr.usgs.gov/sws/fieldmethods/Controls/" TargetMode="External"/><Relationship Id="rId6" Type="http://schemas.openxmlformats.org/officeDocument/2006/relationships/hyperlink" Target="http://wwwrcamnl.wr.usgs.gov/sws/fieldmethods/Controls/" TargetMode="External"/><Relationship Id="rId7" Type="http://schemas.openxmlformats.org/officeDocument/2006/relationships/hyperlink" Target="http://wwwrcamnl.wr.usgs.gov/sws/fieldmethods/Controls/" TargetMode="External"/><Relationship Id="rId8" Type="http://schemas.openxmlformats.org/officeDocument/2006/relationships/hyperlink" Target="http://wwwrcamnl.wr.usgs.gov/sws/fieldmethods/Controls/" TargetMode="External"/><Relationship Id="rId9" Type="http://schemas.openxmlformats.org/officeDocument/2006/relationships/hyperlink" Target="http://wwwrcamnl.wr.usgs.gov/sws/fieldmethods/Controls/" TargetMode="External"/><Relationship Id="rId10" Type="http://schemas.openxmlformats.org/officeDocument/2006/relationships/hyperlink" Target="http://wwwrcamnl.wr.usgs.gov/sws/fieldmethods/Controls/" TargetMode="External"/><Relationship Id="rId11" Type="http://schemas.openxmlformats.org/officeDocument/2006/relationships/hyperlink" Target="http://wwwrcamnl.wr.usgs.gov/sws/fieldmethods/Controls/" TargetMode="External"/><Relationship Id="rId12" Type="http://schemas.openxmlformats.org/officeDocument/2006/relationships/hyperlink" Target="http://wwwrcamnl.wr.usgs.gov/sws/fieldmethods/Controls/" TargetMode="External"/><Relationship Id="rId13" Type="http://schemas.openxmlformats.org/officeDocument/2006/relationships/hyperlink" Target="http://wwwrcamnl.wr.usgs.gov/sws/fieldmethods/Controls/" TargetMode="External"/><Relationship Id="rId14" Type="http://schemas.openxmlformats.org/officeDocument/2006/relationships/hyperlink" Target="http://wwwrcamnl.wr.usgs.gov/sws/fieldmethods/Controls/" TargetMode="External"/><Relationship Id="rId15" Type="http://schemas.openxmlformats.org/officeDocument/2006/relationships/hyperlink" Target="http://water.usgs.gov/pubs/of/2004/1015/" TargetMode="External"/><Relationship Id="rId16" Type="http://schemas.openxmlformats.org/officeDocument/2006/relationships/hyperlink" Target="http://water.usgs.gov/pubs/of/2004/1015/" TargetMode="External"/><Relationship Id="rId17" Type="http://schemas.openxmlformats.org/officeDocument/2006/relationships/hyperlink" Target="http://water.usgs.gov/pubs/of/2004/1015/" TargetMode="External"/><Relationship Id="rId18" Type="http://schemas.openxmlformats.org/officeDocument/2006/relationships/hyperlink" Target="http://water.usgs.gov/pubs/of/2004/1015/" TargetMode="External"/><Relationship Id="rId19" Type="http://schemas.openxmlformats.org/officeDocument/2006/relationships/hyperlink" Target="http://water.usgs.gov/pubs/of/2004/1015/" TargetMode="External"/><Relationship Id="rId20" Type="http://schemas.openxmlformats.org/officeDocument/2006/relationships/hyperlink" Target="http://water.usgs.gov/pubs/of/2004/1015/" TargetMode="External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di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ciones indirec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mente alta precisión en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requiere sección de afo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a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pre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cs401-b" descr=""/>
          <p:cNvPicPr/>
          <p:nvPr/>
        </p:nvPicPr>
        <p:blipFill>
          <a:blip r:embed="rId2"/>
          <a:stretch/>
        </p:blipFill>
        <p:spPr>
          <a:xfrm>
            <a:off x="2857680" y="2057400"/>
            <a:ext cx="628632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aquarod" descr=""/>
          <p:cNvPicPr/>
          <p:nvPr/>
        </p:nvPicPr>
        <p:blipFill>
          <a:blip r:embed="rId3"/>
          <a:stretch/>
        </p:blipFill>
        <p:spPr>
          <a:xfrm>
            <a:off x="0" y="1981080"/>
            <a:ext cx="31240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2667" r="0" b="0"/>
          <a:stretch/>
        </p:blipFill>
        <p:spPr>
          <a:xfrm>
            <a:off x="1371600" y="1523880"/>
            <a:ext cx="67896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71578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altura: instrumentos precalibrad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rtede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iangular, rectangular, trapezoi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ared angosta/grue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nale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 en sección/pendiente del canal genera flujo crítico en garga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altura fluj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udal es función de la configuración de la canale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án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oline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namómetro (péndulo hidrométric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lotad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aforo" descr=""/>
          <p:cNvPicPr/>
          <p:nvPr/>
        </p:nvPicPr>
        <p:blipFill>
          <a:blip r:embed="rId2"/>
          <a:stretch/>
        </p:blipFill>
        <p:spPr>
          <a:xfrm>
            <a:off x="7086600" y="2895480"/>
            <a:ext cx="2017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ectromagnéticos (se induce campo magnético perpendicular a la dirección de la corriente y se capta con electro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oppl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ser (Laser Doppler Velocimeter L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onido (Acoustic Doppler Velocimeter A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coustic Doppler Current Profiler (ADCP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ormas de medi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rro suspendi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u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Bo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bal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dean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aforo%20vadeo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51246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Aforo1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581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álculo de Q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urvas isotáqu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elocidad Me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teg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distveloc" descr=""/>
          <p:cNvPicPr/>
          <p:nvPr/>
        </p:nvPicPr>
        <p:blipFill>
          <a:blip r:embed="rId2"/>
          <a:stretch/>
        </p:blipFill>
        <p:spPr>
          <a:xfrm>
            <a:off x="4038480" y="1962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ecuacion%20aforo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657600" cy="568440"/>
          </a:xfrm>
          <a:prstGeom prst="rect">
            <a:avLst/>
          </a:prstGeom>
          <a:ln w="0">
            <a:noFill/>
          </a:ln>
        </p:spPr>
      </p:pic>
      <p:pic>
        <p:nvPicPr>
          <p:cNvPr id="201" name="seccion%20aforo" descr=""/>
          <p:cNvPicPr/>
          <p:nvPr/>
        </p:nvPicPr>
        <p:blipFill>
          <a:blip r:embed="rId4"/>
          <a:stretch/>
        </p:blipFill>
        <p:spPr>
          <a:xfrm>
            <a:off x="304920" y="4286160"/>
            <a:ext cx="8477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zador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lución sal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sótopos (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18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, deuterio 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, rodamina WT y B, dicromáto de sodio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zadores radioactiv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ncipio: tiempo viaje centro masa del trazad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acústico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95280" y="1655640"/>
            <a:ext cx="67438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cepto: relacionar altura de escurrimiento (h) y caudal (Q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3276720"/>
            <a:ext cx="2818800" cy="2593080"/>
            <a:chOff x="152280" y="3276720"/>
            <a:chExt cx="2818800" cy="2593080"/>
          </a:xfrm>
        </p:grpSpPr>
        <p:grpSp>
          <p:nvGrpSpPr>
            <p:cNvPr id="93" name=""/>
            <p:cNvGrpSpPr/>
            <p:nvPr/>
          </p:nvGrpSpPr>
          <p:grpSpPr>
            <a:xfrm>
              <a:off x="152280" y="3276720"/>
              <a:ext cx="2818800" cy="2593080"/>
              <a:chOff x="152280" y="3276720"/>
              <a:chExt cx="2818800" cy="2593080"/>
            </a:xfrm>
          </p:grpSpPr>
          <p:sp>
            <p:nvSpPr>
              <p:cNvPr id="94" name=""/>
              <p:cNvSpPr/>
              <p:nvPr/>
            </p:nvSpPr>
            <p:spPr>
              <a:xfrm>
                <a:off x="53280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3280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228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564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61760" y="3911760"/>
              <a:ext cx="1523880" cy="876240"/>
            </a:xfrm>
            <a:custGeom>
              <a:avLst/>
              <a:gdLst/>
              <a:ahLst/>
              <a:rect l="l" t="t" r="r" b="b"/>
              <a:pathLst>
                <a:path w="960" h="552">
                  <a:moveTo>
                    <a:pt x="0" y="272"/>
                  </a:moveTo>
                  <a:cubicBezTo>
                    <a:pt x="32" y="372"/>
                    <a:pt x="64" y="472"/>
                    <a:pt x="96" y="512"/>
                  </a:cubicBezTo>
                  <a:cubicBezTo>
                    <a:pt x="128" y="552"/>
                    <a:pt x="160" y="528"/>
                    <a:pt x="192" y="512"/>
                  </a:cubicBezTo>
                  <a:cubicBezTo>
                    <a:pt x="224" y="496"/>
                    <a:pt x="248" y="472"/>
                    <a:pt x="288" y="416"/>
                  </a:cubicBezTo>
                  <a:cubicBezTo>
                    <a:pt x="328" y="360"/>
                    <a:pt x="392" y="232"/>
                    <a:pt x="432" y="176"/>
                  </a:cubicBezTo>
                  <a:cubicBezTo>
                    <a:pt x="472" y="120"/>
                    <a:pt x="496" y="104"/>
                    <a:pt x="528" y="80"/>
                  </a:cubicBezTo>
                  <a:cubicBezTo>
                    <a:pt x="560" y="56"/>
                    <a:pt x="576" y="0"/>
                    <a:pt x="624" y="32"/>
                  </a:cubicBezTo>
                  <a:cubicBezTo>
                    <a:pt x="672" y="64"/>
                    <a:pt x="760" y="192"/>
                    <a:pt x="816" y="272"/>
                  </a:cubicBezTo>
                  <a:cubicBezTo>
                    <a:pt x="872" y="352"/>
                    <a:pt x="916" y="432"/>
                    <a:pt x="960" y="512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19520" y="3276720"/>
            <a:ext cx="2818800" cy="2593080"/>
            <a:chOff x="2819520" y="3276720"/>
            <a:chExt cx="2818800" cy="2593080"/>
          </a:xfrm>
        </p:grpSpPr>
        <p:grpSp>
          <p:nvGrpSpPr>
            <p:cNvPr id="100" name=""/>
            <p:cNvGrpSpPr/>
            <p:nvPr/>
          </p:nvGrpSpPr>
          <p:grpSpPr>
            <a:xfrm>
              <a:off x="2819520" y="3276720"/>
              <a:ext cx="2818800" cy="2593080"/>
              <a:chOff x="2819520" y="3276720"/>
              <a:chExt cx="2818800" cy="25930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0004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0004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195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288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568320" y="3429000"/>
              <a:ext cx="1612800" cy="1752120"/>
              <a:chOff x="3568320" y="3429000"/>
              <a:chExt cx="1612800" cy="1752120"/>
            </a:xfrm>
          </p:grpSpPr>
          <p:sp>
            <p:nvSpPr>
              <p:cNvPr id="106" name=""/>
              <p:cNvSpPr/>
              <p:nvPr/>
            </p:nvSpPr>
            <p:spPr>
              <a:xfrm>
                <a:off x="3733200" y="46476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8120" y="426672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66720" y="396180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1280" y="37332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68320" y="3429000"/>
                <a:ext cx="1612800" cy="1752120"/>
              </a:xfrm>
              <a:custGeom>
                <a:avLst/>
                <a:gdLst/>
                <a:ahLst/>
                <a:rect l="l" t="t" r="r" b="b"/>
                <a:pathLst>
                  <a:path w="1016" h="1104">
                    <a:moveTo>
                      <a:pt x="56" y="960"/>
                    </a:moveTo>
                    <a:cubicBezTo>
                      <a:pt x="28" y="1032"/>
                      <a:pt x="0" y="1104"/>
                      <a:pt x="56" y="1008"/>
                    </a:cubicBezTo>
                    <a:cubicBezTo>
                      <a:pt x="112" y="912"/>
                      <a:pt x="232" y="552"/>
                      <a:pt x="392" y="384"/>
                    </a:cubicBezTo>
                    <a:cubicBezTo>
                      <a:pt x="552" y="216"/>
                      <a:pt x="784" y="108"/>
                      <a:pt x="1016" y="0"/>
                    </a:cubicBez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5486400" y="396252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943600" y="3276720"/>
            <a:ext cx="2819520" cy="2593080"/>
            <a:chOff x="5943600" y="3276720"/>
            <a:chExt cx="2819520" cy="2593080"/>
          </a:xfrm>
        </p:grpSpPr>
        <p:grpSp>
          <p:nvGrpSpPr>
            <p:cNvPr id="113" name=""/>
            <p:cNvGrpSpPr/>
            <p:nvPr/>
          </p:nvGrpSpPr>
          <p:grpSpPr>
            <a:xfrm>
              <a:off x="5943600" y="3276720"/>
              <a:ext cx="2819520" cy="2593080"/>
              <a:chOff x="5943600" y="3276720"/>
              <a:chExt cx="2819520" cy="2593080"/>
            </a:xfrm>
          </p:grpSpPr>
          <p:sp>
            <p:nvSpPr>
              <p:cNvPr id="114" name=""/>
              <p:cNvSpPr/>
              <p:nvPr/>
            </p:nvSpPr>
            <p:spPr>
              <a:xfrm>
                <a:off x="632448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24480" y="525744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4360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77320" y="5410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477120" y="3854160"/>
              <a:ext cx="1828800" cy="1009440"/>
            </a:xfrm>
            <a:custGeom>
              <a:avLst/>
              <a:gdLst/>
              <a:ahLst/>
              <a:rect l="l" t="t" r="r" b="b"/>
              <a:pathLst>
                <a:path w="1152" h="636">
                  <a:moveTo>
                    <a:pt x="0" y="500"/>
                  </a:moveTo>
                  <a:cubicBezTo>
                    <a:pt x="32" y="540"/>
                    <a:pt x="64" y="580"/>
                    <a:pt x="96" y="596"/>
                  </a:cubicBezTo>
                  <a:cubicBezTo>
                    <a:pt x="128" y="612"/>
                    <a:pt x="160" y="596"/>
                    <a:pt x="192" y="596"/>
                  </a:cubicBezTo>
                  <a:cubicBezTo>
                    <a:pt x="224" y="596"/>
                    <a:pt x="240" y="636"/>
                    <a:pt x="288" y="596"/>
                  </a:cubicBezTo>
                  <a:cubicBezTo>
                    <a:pt x="336" y="556"/>
                    <a:pt x="432" y="436"/>
                    <a:pt x="480" y="356"/>
                  </a:cubicBezTo>
                  <a:cubicBezTo>
                    <a:pt x="528" y="276"/>
                    <a:pt x="529" y="172"/>
                    <a:pt x="576" y="116"/>
                  </a:cubicBezTo>
                  <a:cubicBezTo>
                    <a:pt x="623" y="60"/>
                    <a:pt x="699" y="0"/>
                    <a:pt x="763" y="18"/>
                  </a:cubicBezTo>
                  <a:cubicBezTo>
                    <a:pt x="827" y="36"/>
                    <a:pt x="919" y="176"/>
                    <a:pt x="960" y="224"/>
                  </a:cubicBezTo>
                  <a:cubicBezTo>
                    <a:pt x="1001" y="272"/>
                    <a:pt x="976" y="262"/>
                    <a:pt x="1008" y="308"/>
                  </a:cubicBezTo>
                  <a:cubicBezTo>
                    <a:pt x="1040" y="354"/>
                    <a:pt x="1100" y="428"/>
                    <a:pt x="1152" y="50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6095880"/>
            <a:ext cx="3809880" cy="609840"/>
          </a:xfrm>
          <a:prstGeom prst="wedgeEllipseCallout">
            <a:avLst>
              <a:gd name="adj1" fmla="val -6374"/>
              <a:gd name="adj2" fmla="val -161199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curva de descar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atéli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se experimental (Alsdorf y Lettenmaier, 2003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ltimetría por rad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 para medición en lugares inaccesibles o regiones en desarrol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ferencia tecn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strument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Metodológ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erson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álcu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corecion" descr=""/>
          <p:cNvPicPr/>
          <p:nvPr/>
        </p:nvPicPr>
        <p:blipFill>
          <a:blip r:embed="rId2"/>
          <a:stretch/>
        </p:blipFill>
        <p:spPr>
          <a:xfrm>
            <a:off x="3048120" y="2971800"/>
            <a:ext cx="5867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álisis experimental del comportamiento de instrumentos hidrométricos”.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blo Riquelme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.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(INH). VIII Jornadas Francisco Javier Domínguez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sensor" descr=""/>
          <p:cNvPicPr/>
          <p:nvPr/>
        </p:nvPicPr>
        <p:blipFill>
          <a:blip r:embed="rId2"/>
          <a:srcRect l="1565" t="2087" r="4687" b="16663"/>
          <a:stretch/>
        </p:blipFill>
        <p:spPr>
          <a:xfrm>
            <a:off x="4343400" y="30481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214" name="canal_calib" descr=""/>
          <p:cNvPicPr/>
          <p:nvPr/>
        </p:nvPicPr>
        <p:blipFill>
          <a:blip r:embed="rId3"/>
          <a:srcRect l="4687" t="2087" r="9375" b="2087"/>
          <a:stretch/>
        </p:blipFill>
        <p:spPr>
          <a:xfrm>
            <a:off x="76320" y="30481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error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de flu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dimen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7" name="setup_sensor" descr=""/>
          <p:cNvPicPr/>
          <p:nvPr/>
        </p:nvPicPr>
        <p:blipFill>
          <a:blip r:embed="rId2"/>
          <a:stretch/>
        </p:blipFill>
        <p:spPr>
          <a:xfrm>
            <a:off x="4105440" y="1533600"/>
            <a:ext cx="4962240" cy="517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2760" y="491796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stalación experimental sensor. Diferentes posiciones y alternativas recubr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sult_calib_sens2" descr=""/>
          <p:cNvPicPr/>
          <p:nvPr/>
        </p:nvPicPr>
        <p:blipFill>
          <a:blip r:embed="rId2"/>
          <a:srcRect l="0" t="0" r="4687" b="0"/>
          <a:stretch/>
        </p:blipFill>
        <p:spPr>
          <a:xfrm>
            <a:off x="4495680" y="609480"/>
            <a:ext cx="4648320" cy="5953320"/>
          </a:xfrm>
          <a:prstGeom prst="rect">
            <a:avLst/>
          </a:prstGeom>
          <a:ln w="0">
            <a:noFill/>
          </a:ln>
        </p:spPr>
      </p:pic>
      <p:pic>
        <p:nvPicPr>
          <p:cNvPr id="220" name="result_calib_sens" descr=""/>
          <p:cNvPicPr/>
          <p:nvPr/>
        </p:nvPicPr>
        <p:blipFill>
          <a:blip r:embed="rId3"/>
          <a:srcRect l="1565" t="0" r="4687" b="0"/>
          <a:stretch/>
        </p:blipFill>
        <p:spPr>
          <a:xfrm>
            <a:off x="0" y="609480"/>
            <a:ext cx="4572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sult_calib_sens3" descr=""/>
          <p:cNvPicPr/>
          <p:nvPr/>
        </p:nvPicPr>
        <p:blipFill>
          <a:blip r:embed="rId2"/>
          <a:srcRect l="0" t="0" r="7810" b="0"/>
          <a:stretch/>
        </p:blipFill>
        <p:spPr>
          <a:xfrm>
            <a:off x="0" y="433440"/>
            <a:ext cx="4495680" cy="5991120"/>
          </a:xfrm>
          <a:prstGeom prst="rect">
            <a:avLst/>
          </a:prstGeom>
          <a:ln w="0">
            <a:noFill/>
          </a:ln>
        </p:spPr>
      </p:pic>
      <p:pic>
        <p:nvPicPr>
          <p:cNvPr id="222" name="result_calib_sens4" descr=""/>
          <p:cNvPicPr/>
          <p:nvPr/>
        </p:nvPicPr>
        <p:blipFill>
          <a:blip r:embed="rId3"/>
          <a:srcRect l="0" t="0" r="3122" b="0"/>
          <a:stretch/>
        </p:blipFill>
        <p:spPr>
          <a:xfrm>
            <a:off x="4419720" y="409680"/>
            <a:ext cx="4724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 (cont.):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4" name="setup_sensor_sedim2" descr=""/>
          <p:cNvPicPr/>
          <p:nvPr/>
        </p:nvPicPr>
        <p:blipFill>
          <a:blip r:embed="rId2"/>
          <a:srcRect l="3419" t="0" r="0" b="0"/>
          <a:stretch/>
        </p:blipFill>
        <p:spPr>
          <a:xfrm>
            <a:off x="0" y="1447920"/>
            <a:ext cx="5410080" cy="4205160"/>
          </a:xfrm>
          <a:prstGeom prst="rect">
            <a:avLst/>
          </a:prstGeom>
          <a:ln w="0">
            <a:noFill/>
          </a:ln>
        </p:spPr>
      </p:pic>
      <p:pic>
        <p:nvPicPr>
          <p:cNvPr id="225" name="setup_sensor_sedim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52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sult_calib_sens_sedim1" descr=""/>
          <p:cNvPicPr/>
          <p:nvPr/>
        </p:nvPicPr>
        <p:blipFill>
          <a:blip r:embed="rId2"/>
          <a:stretch/>
        </p:blipFill>
        <p:spPr>
          <a:xfrm>
            <a:off x="762120" y="1438200"/>
            <a:ext cx="7619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8" name="DGA_tradicional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972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DGA_moderniza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77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s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se pueden ajustar por expresiones del tipo (sección uniforme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= cau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K, c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parámet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escurri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correspondiente a no fluj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8120" y="3048120"/>
          <a:ext cx="2666880" cy="64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048120"/>
                    <a:ext cx="26668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DGA_dcp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912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4" name="DGA_evol_dcp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410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DGA_desfase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9153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8" name="DGA_grafico1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721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DGA_aforos" descr=""/>
          <p:cNvPicPr/>
          <p:nvPr/>
        </p:nvPicPr>
        <p:blipFill>
          <a:blip r:embed="rId2"/>
          <a:srcRect l="0" t="15071" r="0" b="0"/>
          <a:stretch/>
        </p:blipFill>
        <p:spPr>
          <a:xfrm>
            <a:off x="1295280" y="1523880"/>
            <a:ext cx="67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2" name="DGA_descarga" descr=""/>
          <p:cNvPicPr/>
          <p:nvPr/>
        </p:nvPicPr>
        <p:blipFill>
          <a:blip r:embed="rId2"/>
          <a:srcRect l="0" t="17160" r="0" b="0"/>
          <a:stretch/>
        </p:blipFill>
        <p:spPr>
          <a:xfrm>
            <a:off x="1219320" y="1828800"/>
            <a:ext cx="6667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cul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0800" y="1905120"/>
            <a:ext cx="79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rcamnl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wr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sw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fieldmethod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/Control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>
            <a:hlinkClick r:id="rId15"/>
          </p:cNvPr>
          <p:cNvSpPr/>
          <p:nvPr/>
        </p:nvSpPr>
        <p:spPr>
          <a:xfrm>
            <a:off x="457920" y="25909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6"/>
              </a:rPr>
              <a:t>http://water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0"/>
              </a:rPr>
              <a:t>/pubs/of/2004/1015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juste manual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2057400"/>
            <a:ext cx="8458200" cy="3888720"/>
            <a:chOff x="457200" y="2057400"/>
            <a:chExt cx="8458200" cy="3888720"/>
          </a:xfrm>
        </p:grpSpPr>
        <p:sp>
          <p:nvSpPr>
            <p:cNvPr id="126" name=""/>
            <p:cNvSpPr/>
            <p:nvPr/>
          </p:nvSpPr>
          <p:spPr>
            <a:xfrm>
              <a:off x="7696080" y="39625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" y="2057400"/>
              <a:ext cx="7619760" cy="3888720"/>
              <a:chOff x="457200" y="2057400"/>
              <a:chExt cx="7619760" cy="38887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990360" y="2209320"/>
                <a:ext cx="2895480" cy="3048480"/>
                <a:chOff x="990360" y="2209320"/>
                <a:chExt cx="2895480" cy="3048480"/>
              </a:xfrm>
            </p:grpSpPr>
            <p:sp>
              <p:nvSpPr>
                <p:cNvPr id="129" name=""/>
                <p:cNvSpPr/>
                <p:nvPr/>
              </p:nvSpPr>
              <p:spPr>
                <a:xfrm flipV="1">
                  <a:off x="990360" y="2209320"/>
                  <a:ext cx="0" cy="30481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5257800"/>
                  <a:ext cx="28954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 flipV="1">
                <a:off x="5181480" y="2209320"/>
                <a:ext cx="0" cy="3048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81480" y="3733920"/>
                <a:ext cx="2895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200" y="2057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04960" y="5486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95280" y="4800600"/>
                <a:ext cx="152280" cy="15228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3880" y="46483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18960" y="2743200"/>
                <a:ext cx="2667240" cy="2438280"/>
              </a:xfrm>
              <a:custGeom>
                <a:avLst/>
                <a:gdLst/>
                <a:ahLst/>
                <a:rect l="l" t="t" r="r" b="b"/>
                <a:pathLst>
                  <a:path w="1680" h="1536">
                    <a:moveTo>
                      <a:pt x="0" y="1536"/>
                    </a:moveTo>
                    <a:cubicBezTo>
                      <a:pt x="48" y="1404"/>
                      <a:pt x="134" y="1226"/>
                      <a:pt x="192" y="1104"/>
                    </a:cubicBezTo>
                    <a:cubicBezTo>
                      <a:pt x="250" y="982"/>
                      <a:pt x="290" y="902"/>
                      <a:pt x="350" y="807"/>
                    </a:cubicBezTo>
                    <a:cubicBezTo>
                      <a:pt x="410" y="712"/>
                      <a:pt x="471" y="619"/>
                      <a:pt x="555" y="533"/>
                    </a:cubicBezTo>
                    <a:cubicBezTo>
                      <a:pt x="639" y="447"/>
                      <a:pt x="731" y="366"/>
                      <a:pt x="855" y="293"/>
                    </a:cubicBezTo>
                    <a:cubicBezTo>
                      <a:pt x="979" y="220"/>
                      <a:pt x="1159" y="145"/>
                      <a:pt x="1296" y="96"/>
                    </a:cubicBezTo>
                    <a:cubicBezTo>
                      <a:pt x="1433" y="47"/>
                      <a:pt x="1580" y="4"/>
                      <a:pt x="1680" y="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6160" y="44956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52480" y="43434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52480" y="4038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4760" y="38098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57400" y="34290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6000" y="31240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66880" y="29718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24080" y="2895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3760" y="38862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62360" y="39625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43600" y="396252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38098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00800" y="36576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8168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6256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7480" y="36576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3413160"/>
                <a:ext cx="2209680" cy="563400"/>
              </a:xfrm>
              <a:custGeom>
                <a:avLst/>
                <a:gdLst/>
                <a:ahLst/>
                <a:rect l="l" t="t" r="r" b="b"/>
                <a:pathLst>
                  <a:path w="1392" h="355">
                    <a:moveTo>
                      <a:pt x="0" y="250"/>
                    </a:moveTo>
                    <a:cubicBezTo>
                      <a:pt x="12" y="266"/>
                      <a:pt x="24" y="282"/>
                      <a:pt x="48" y="298"/>
                    </a:cubicBezTo>
                    <a:cubicBezTo>
                      <a:pt x="72" y="314"/>
                      <a:pt x="101" y="337"/>
                      <a:pt x="144" y="346"/>
                    </a:cubicBezTo>
                    <a:cubicBezTo>
                      <a:pt x="187" y="355"/>
                      <a:pt x="261" y="351"/>
                      <a:pt x="309" y="351"/>
                    </a:cubicBezTo>
                    <a:cubicBezTo>
                      <a:pt x="357" y="351"/>
                      <a:pt x="388" y="355"/>
                      <a:pt x="432" y="346"/>
                    </a:cubicBezTo>
                    <a:cubicBezTo>
                      <a:pt x="476" y="337"/>
                      <a:pt x="524" y="326"/>
                      <a:pt x="576" y="298"/>
                    </a:cubicBezTo>
                    <a:cubicBezTo>
                      <a:pt x="628" y="270"/>
                      <a:pt x="691" y="218"/>
                      <a:pt x="746" y="180"/>
                    </a:cubicBezTo>
                    <a:cubicBezTo>
                      <a:pt x="801" y="142"/>
                      <a:pt x="857" y="96"/>
                      <a:pt x="909" y="68"/>
                    </a:cubicBezTo>
                    <a:cubicBezTo>
                      <a:pt x="961" y="40"/>
                      <a:pt x="1008" y="20"/>
                      <a:pt x="1056" y="10"/>
                    </a:cubicBezTo>
                    <a:cubicBezTo>
                      <a:pt x="1104" y="0"/>
                      <a:pt x="1160" y="2"/>
                      <a:pt x="1200" y="10"/>
                    </a:cubicBezTo>
                    <a:cubicBezTo>
                      <a:pt x="1240" y="18"/>
                      <a:pt x="1264" y="34"/>
                      <a:pt x="1296" y="58"/>
                    </a:cubicBezTo>
                    <a:cubicBezTo>
                      <a:pt x="1328" y="82"/>
                      <a:pt x="1360" y="118"/>
                      <a:pt x="1392" y="154"/>
                    </a:cubicBez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2428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858000" y="3581280"/>
                <a:ext cx="0" cy="15264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257440" y="3429000"/>
                <a:ext cx="14475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9680" y="54100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286000" y="3123720"/>
                <a:ext cx="0" cy="213372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990000" y="3200400"/>
                <a:ext cx="129564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066680" y="3429000"/>
                <a:ext cx="129528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895480"/>
                <a:ext cx="609480" cy="86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MBI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n el cauce: embanques, socavaciones, vege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fectos de remansos y otras variaciones del eje hidrául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ones rápidas de nivel durante afo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ón de almacenamiento en 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mbios en las características d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xtrapolación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hez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= coef. rugosidad; A= sección transv.; R= radio hidráulico A/P; P= perímetro mojado; J= pendiente energé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an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unidades S.I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19400" y="1828800"/>
          <a:ext cx="23432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9400" y="1828800"/>
                    <a:ext cx="2343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43200" y="3987720"/>
          <a:ext cx="2811600" cy="11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987720"/>
                    <a:ext cx="28116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terminación Altura Escurr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828800"/>
            <a:ext cx="5181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imnímetros (reglas, cadenas, cables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dicador de Sonda eléctr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nsor de pre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Ultrasoni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122800"/>
            <a:ext cx="70102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Limnígrafo de flotador en pozo de observació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Si pozo de observación antieconómico, puede usarse sensor de nivel de burbu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limnimetros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bic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instrumentos medición a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ón permanente altur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; flujo crítico o sub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restricciones al flujo aguas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cción transversal conocida y est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flujo subsuperficial 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 canales secundar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cce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 ultrasoni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0" t="2085" r="0" b="6089"/>
          <a:stretch/>
        </p:blipFill>
        <p:spPr>
          <a:xfrm>
            <a:off x="2209680" y="1447920"/>
            <a:ext cx="500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8:17:41Z</dcterms:created>
  <dc:creator>nnnn</dc:creator>
  <dc:description/>
  <dc:language>en-US</dc:language>
  <cp:lastModifiedBy>nnnn</cp:lastModifiedBy>
  <dcterms:modified xsi:type="dcterms:W3CDTF">2004-09-20T13:09:56Z</dcterms:modified>
  <cp:revision>28</cp:revision>
  <dc:subject/>
  <dc:title>PowerPoint Presentation</dc:title>
</cp:coreProperties>
</file>