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7.jpeg" ContentType="image/jpeg"/>
  <Override PartName="/ppt/media/image8.wmf" ContentType="image/x-wmf"/>
  <Override PartName="/ppt/media/image32.jpeg" ContentType="image/jpeg"/>
  <Override PartName="/ppt/media/image38.jpeg" ContentType="image/jpeg"/>
  <Override PartName="/ppt/media/image9.png" ContentType="image/png"/>
  <Override PartName="/ppt/media/image33.jpeg" ContentType="image/jpeg"/>
  <Override PartName="/ppt/media/image39.jpeg" ContentType="image/jpeg"/>
  <Override PartName="/ppt/media/image11.jpeg" ContentType="image/jpeg"/>
  <Override PartName="/ppt/media/image30.jpeg" ContentType="image/jpeg"/>
  <Override PartName="/ppt/media/image7.wmf" ContentType="image/x-wmf"/>
  <Override PartName="/ppt/media/image6.wmf" ContentType="image/x-wmf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A90E-90E1-465A-8143-B4E69EC8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B2BA-EEDA-49F7-9749-1ACDDC62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68BB-AC38-4BC5-8A32-DB967D9A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BA77-A4A4-462D-8D2A-7FE0078D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0B84-9A8F-4EAA-9665-60B376D8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1247-2DB2-4E53-8C0C-87431A85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CB8F-761C-4AD6-9C69-A354CAE4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C91F-4926-43E9-8138-2315522C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8A9C-D596-4727-9D64-C3C1E012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CA28-265F-4C21-9624-9024B933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0B7B-1DB1-4980-93FD-2C4C65F0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4F4-5398-4222-8800-397E82B8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DD79-62F2-4D3A-B8CD-2AC8C997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5D19-7C68-4C9B-A9AF-EDFA4437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9CBC-BFEA-496F-BFB4-8C0C8D03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50BE-50C0-45B5-9123-DD850DF3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C3BB-4860-45F6-840A-212FCAAA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DED-7693-4B54-A06F-CC3E70F9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A6F-D4DE-4458-9FC8-D645A8ED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E6A-6D97-47DB-94A5-8C90AD54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686-B6CE-4F2F-9897-9664E412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EE0-3042-4242-8361-672B7A0F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1734-7EEA-41F9-A508-673470A9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2B87-A2A7-4E5E-B7D0-1F80E119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9AF3-FCF4-41A6-B330-4E50FB5F553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3AA7-A3CE-43C7-9C97-919F232CF92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rcamnl.wr.usgs.gov/sws/fieldmethods/Controls/" TargetMode="External"/><Relationship Id="rId3" Type="http://schemas.openxmlformats.org/officeDocument/2006/relationships/hyperlink" Target="http://wwwrcamnl.wr.usgs.gov/sws/fieldmethods/Controls/" TargetMode="External"/><Relationship Id="rId4" Type="http://schemas.openxmlformats.org/officeDocument/2006/relationships/hyperlink" Target="http://wwwrcamnl.wr.usgs.gov/sws/fieldmethods/Controls/" TargetMode="External"/><Relationship Id="rId5" Type="http://schemas.openxmlformats.org/officeDocument/2006/relationships/hyperlink" Target="http://wwwrcamnl.wr.usgs.gov/sws/fieldmethods/Controls/" TargetMode="External"/><Relationship Id="rId6" Type="http://schemas.openxmlformats.org/officeDocument/2006/relationships/hyperlink" Target="http://wwwrcamnl.wr.usgs.gov/sws/fieldmethods/Controls/" TargetMode="External"/><Relationship Id="rId7" Type="http://schemas.openxmlformats.org/officeDocument/2006/relationships/hyperlink" Target="http://wwwrcamnl.wr.usgs.gov/sws/fieldmethods/Controls/" TargetMode="External"/><Relationship Id="rId8" Type="http://schemas.openxmlformats.org/officeDocument/2006/relationships/hyperlink" Target="http://wwwrcamnl.wr.usgs.gov/sws/fieldmethods/Controls/" TargetMode="External"/><Relationship Id="rId9" Type="http://schemas.openxmlformats.org/officeDocument/2006/relationships/hyperlink" Target="http://wwwrcamnl.wr.usgs.gov/sws/fieldmethods/Controls/" TargetMode="External"/><Relationship Id="rId10" Type="http://schemas.openxmlformats.org/officeDocument/2006/relationships/hyperlink" Target="http://wwwrcamnl.wr.usgs.gov/sws/fieldmethods/Controls/" TargetMode="External"/><Relationship Id="rId11" Type="http://schemas.openxmlformats.org/officeDocument/2006/relationships/hyperlink" Target="http://wwwrcamnl.wr.usgs.gov/sws/fieldmethods/Controls/" TargetMode="External"/><Relationship Id="rId12" Type="http://schemas.openxmlformats.org/officeDocument/2006/relationships/hyperlink" Target="http://wwwrcamnl.wr.usgs.gov/sws/fieldmethods/Controls/" TargetMode="External"/><Relationship Id="rId13" Type="http://schemas.openxmlformats.org/officeDocument/2006/relationships/hyperlink" Target="http://wwwrcamnl.wr.usgs.gov/sws/fieldmethods/Controls/" TargetMode="External"/><Relationship Id="rId14" Type="http://schemas.openxmlformats.org/officeDocument/2006/relationships/hyperlink" Target="http://wwwrcamnl.wr.usgs.gov/sws/fieldmethods/Controls/" TargetMode="External"/><Relationship Id="rId15" Type="http://schemas.openxmlformats.org/officeDocument/2006/relationships/hyperlink" Target="http://water.usgs.gov/pubs/of/2004/1015/" TargetMode="External"/><Relationship Id="rId16" Type="http://schemas.openxmlformats.org/officeDocument/2006/relationships/hyperlink" Target="http://water.usgs.gov/pubs/of/2004/1015/" TargetMode="External"/><Relationship Id="rId17" Type="http://schemas.openxmlformats.org/officeDocument/2006/relationships/hyperlink" Target="http://water.usgs.gov/pubs/of/2004/1015/" TargetMode="External"/><Relationship Id="rId18" Type="http://schemas.openxmlformats.org/officeDocument/2006/relationships/hyperlink" Target="http://water.usgs.gov/pubs/of/2004/1015/" TargetMode="External"/><Relationship Id="rId19" Type="http://schemas.openxmlformats.org/officeDocument/2006/relationships/hyperlink" Target="http://water.usgs.gov/pubs/of/2004/1015/" TargetMode="External"/><Relationship Id="rId20" Type="http://schemas.openxmlformats.org/officeDocument/2006/relationships/hyperlink" Target="http://water.usgs.gov/pubs/of/2004/1015/" TargetMode="External"/><Relationship Id="rId2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dici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ón de caud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diciones indirect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otencialmente alta precisión en resulta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 requiere sección de afo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Natur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Artific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ensores de pres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0" name="cs401-b" descr=""/>
          <p:cNvPicPr/>
          <p:nvPr/>
        </p:nvPicPr>
        <p:blipFill>
          <a:blip r:embed="rId2"/>
          <a:stretch/>
        </p:blipFill>
        <p:spPr>
          <a:xfrm>
            <a:off x="2857680" y="2057400"/>
            <a:ext cx="628632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aquarod" descr=""/>
          <p:cNvPicPr/>
          <p:nvPr/>
        </p:nvPicPr>
        <p:blipFill>
          <a:blip r:embed="rId3"/>
          <a:stretch/>
        </p:blipFill>
        <p:spPr>
          <a:xfrm>
            <a:off x="0" y="1981080"/>
            <a:ext cx="312408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ensores de burbuj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rcRect l="0" t="2667" r="0" b="0"/>
          <a:stretch/>
        </p:blipFill>
        <p:spPr>
          <a:xfrm>
            <a:off x="1371600" y="1523880"/>
            <a:ext cx="678960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ensores de burbuj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71578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edición altura: instrumentos precalibrad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erteder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riangular, rectangular, trapezoid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ared angosta/grues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analet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bio en sección/pendiente del canal genera flujo crítico en gargan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ación altura flujo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/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udal es función de la configuración de la canale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Instrumentos medición velocidad del agu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cán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oline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namómetro (péndulo hidrométric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Flotad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0" name="aforo" descr=""/>
          <p:cNvPicPr/>
          <p:nvPr/>
        </p:nvPicPr>
        <p:blipFill>
          <a:blip r:embed="rId2"/>
          <a:stretch/>
        </p:blipFill>
        <p:spPr>
          <a:xfrm>
            <a:off x="7086600" y="2895480"/>
            <a:ext cx="20178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Instrumentos medición velocidad del agu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lectromagnéticos (se induce campo magnético perpendicular a la dirección de la corriente y se capta con electrodo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oppl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ser (Laser Doppler Velocimeter LDV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onido (Acoustic Doppler Velocimeter ADV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coustic Doppler Current Profiler (ADCP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ormas de medi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arro suspendi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Puen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Bo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aball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Vadean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5" name="aforo%20vadeo" descr=""/>
          <p:cNvPicPr/>
          <p:nvPr/>
        </p:nvPicPr>
        <p:blipFill>
          <a:blip r:embed="rId2"/>
          <a:stretch/>
        </p:blipFill>
        <p:spPr>
          <a:xfrm>
            <a:off x="2438280" y="4114800"/>
            <a:ext cx="5124600" cy="2743200"/>
          </a:xfrm>
          <a:prstGeom prst="rect">
            <a:avLst/>
          </a:prstGeom>
          <a:ln w="0">
            <a:noFill/>
          </a:ln>
        </p:spPr>
      </p:pic>
      <p:pic>
        <p:nvPicPr>
          <p:cNvPr id="196" name="Aforo1" descr=""/>
          <p:cNvPicPr/>
          <p:nvPr/>
        </p:nvPicPr>
        <p:blipFill>
          <a:blip r:embed="rId3"/>
          <a:stretch/>
        </p:blipFill>
        <p:spPr>
          <a:xfrm>
            <a:off x="5181480" y="1295280"/>
            <a:ext cx="358164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álculo de Q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urvas isotáquic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Velocidad Med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Integr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9" name="distveloc" descr=""/>
          <p:cNvPicPr/>
          <p:nvPr/>
        </p:nvPicPr>
        <p:blipFill>
          <a:blip r:embed="rId2"/>
          <a:stretch/>
        </p:blipFill>
        <p:spPr>
          <a:xfrm>
            <a:off x="4038480" y="1962000"/>
            <a:ext cx="4734000" cy="2286000"/>
          </a:xfrm>
          <a:prstGeom prst="rect">
            <a:avLst/>
          </a:prstGeom>
          <a:ln w="0">
            <a:noFill/>
          </a:ln>
        </p:spPr>
      </p:pic>
      <p:pic>
        <p:nvPicPr>
          <p:cNvPr id="200" name="ecuacion%20aforo" descr=""/>
          <p:cNvPicPr/>
          <p:nvPr/>
        </p:nvPicPr>
        <p:blipFill>
          <a:blip r:embed="rId3"/>
          <a:stretch/>
        </p:blipFill>
        <p:spPr>
          <a:xfrm>
            <a:off x="304920" y="3657600"/>
            <a:ext cx="3657600" cy="568440"/>
          </a:xfrm>
          <a:prstGeom prst="rect">
            <a:avLst/>
          </a:prstGeom>
          <a:ln w="0">
            <a:noFill/>
          </a:ln>
        </p:spPr>
      </p:pic>
      <p:pic>
        <p:nvPicPr>
          <p:cNvPr id="201" name="seccion%20aforo" descr=""/>
          <p:cNvPicPr/>
          <p:nvPr/>
        </p:nvPicPr>
        <p:blipFill>
          <a:blip r:embed="rId4"/>
          <a:stretch/>
        </p:blipFill>
        <p:spPr>
          <a:xfrm>
            <a:off x="304920" y="4286160"/>
            <a:ext cx="84772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Trazador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olución sal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Isótopos (</a:t>
            </a:r>
            <a:r>
              <a:rPr b="0" lang="es-CL" sz="3200" spc="-1" strike="noStrike" baseline="30000">
                <a:solidFill>
                  <a:srgbClr val="ffffcc"/>
                </a:solidFill>
                <a:latin typeface="Arial"/>
              </a:rPr>
              <a:t>18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O, deuterio </a:t>
            </a:r>
            <a:r>
              <a:rPr b="0" lang="es-CL" sz="32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H, rodamina WT y B, dicromáto de sodio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razadores radioactiv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incipio: tiempo viaje centro masa del trazad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ensores acústico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295280" y="1655640"/>
            <a:ext cx="674388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edición de caud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ncepto: relacionar altura de escurrimiento (h) y caudal (Q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52280" y="3276720"/>
            <a:ext cx="2818800" cy="2593080"/>
            <a:chOff x="152280" y="3276720"/>
            <a:chExt cx="2818800" cy="2593080"/>
          </a:xfrm>
        </p:grpSpPr>
        <p:grpSp>
          <p:nvGrpSpPr>
            <p:cNvPr id="93" name=""/>
            <p:cNvGrpSpPr/>
            <p:nvPr/>
          </p:nvGrpSpPr>
          <p:grpSpPr>
            <a:xfrm>
              <a:off x="152280" y="3276720"/>
              <a:ext cx="2818800" cy="2593080"/>
              <a:chOff x="152280" y="3276720"/>
              <a:chExt cx="2818800" cy="2593080"/>
            </a:xfrm>
          </p:grpSpPr>
          <p:sp>
            <p:nvSpPr>
              <p:cNvPr id="94" name=""/>
              <p:cNvSpPr/>
              <p:nvPr/>
            </p:nvSpPr>
            <p:spPr>
              <a:xfrm>
                <a:off x="532800" y="3352680"/>
                <a:ext cx="0" cy="19044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32800" y="5257440"/>
                <a:ext cx="21333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52280" y="3276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85640" y="541008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761760" y="3911760"/>
              <a:ext cx="1523880" cy="876240"/>
            </a:xfrm>
            <a:custGeom>
              <a:avLst/>
              <a:gdLst/>
              <a:ahLst/>
              <a:rect l="l" t="t" r="r" b="b"/>
              <a:pathLst>
                <a:path w="960" h="552">
                  <a:moveTo>
                    <a:pt x="0" y="272"/>
                  </a:moveTo>
                  <a:cubicBezTo>
                    <a:pt x="32" y="372"/>
                    <a:pt x="64" y="472"/>
                    <a:pt x="96" y="512"/>
                  </a:cubicBezTo>
                  <a:cubicBezTo>
                    <a:pt x="128" y="552"/>
                    <a:pt x="160" y="528"/>
                    <a:pt x="192" y="512"/>
                  </a:cubicBezTo>
                  <a:cubicBezTo>
                    <a:pt x="224" y="496"/>
                    <a:pt x="248" y="472"/>
                    <a:pt x="288" y="416"/>
                  </a:cubicBezTo>
                  <a:cubicBezTo>
                    <a:pt x="328" y="360"/>
                    <a:pt x="392" y="232"/>
                    <a:pt x="432" y="176"/>
                  </a:cubicBezTo>
                  <a:cubicBezTo>
                    <a:pt x="472" y="120"/>
                    <a:pt x="496" y="104"/>
                    <a:pt x="528" y="80"/>
                  </a:cubicBezTo>
                  <a:cubicBezTo>
                    <a:pt x="560" y="56"/>
                    <a:pt x="576" y="0"/>
                    <a:pt x="624" y="32"/>
                  </a:cubicBezTo>
                  <a:cubicBezTo>
                    <a:pt x="672" y="64"/>
                    <a:pt x="760" y="192"/>
                    <a:pt x="816" y="272"/>
                  </a:cubicBezTo>
                  <a:cubicBezTo>
                    <a:pt x="872" y="352"/>
                    <a:pt x="916" y="432"/>
                    <a:pt x="960" y="512"/>
                  </a:cubicBez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819520" y="3276720"/>
            <a:ext cx="2818800" cy="2593080"/>
            <a:chOff x="2819520" y="3276720"/>
            <a:chExt cx="2818800" cy="2593080"/>
          </a:xfrm>
        </p:grpSpPr>
        <p:grpSp>
          <p:nvGrpSpPr>
            <p:cNvPr id="100" name=""/>
            <p:cNvGrpSpPr/>
            <p:nvPr/>
          </p:nvGrpSpPr>
          <p:grpSpPr>
            <a:xfrm>
              <a:off x="2819520" y="3276720"/>
              <a:ext cx="2818800" cy="2593080"/>
              <a:chOff x="2819520" y="3276720"/>
              <a:chExt cx="2818800" cy="2593080"/>
            </a:xfrm>
          </p:grpSpPr>
          <p:sp>
            <p:nvSpPr>
              <p:cNvPr id="101" name=""/>
              <p:cNvSpPr/>
              <p:nvPr/>
            </p:nvSpPr>
            <p:spPr>
              <a:xfrm>
                <a:off x="3200040" y="3352680"/>
                <a:ext cx="0" cy="19044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200040" y="5257440"/>
                <a:ext cx="21333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819520" y="3276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952880" y="541008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568320" y="3429000"/>
              <a:ext cx="1612800" cy="1752120"/>
              <a:chOff x="3568320" y="3429000"/>
              <a:chExt cx="1612800" cy="1752120"/>
            </a:xfrm>
          </p:grpSpPr>
          <p:sp>
            <p:nvSpPr>
              <p:cNvPr id="106" name=""/>
              <p:cNvSpPr/>
              <p:nvPr/>
            </p:nvSpPr>
            <p:spPr>
              <a:xfrm>
                <a:off x="3733200" y="4647600"/>
                <a:ext cx="7596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038120" y="4266720"/>
                <a:ext cx="7560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266720" y="3961800"/>
                <a:ext cx="7560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71280" y="3733200"/>
                <a:ext cx="7596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568320" y="3429000"/>
                <a:ext cx="1612800" cy="1752120"/>
              </a:xfrm>
              <a:custGeom>
                <a:avLst/>
                <a:gdLst/>
                <a:ahLst/>
                <a:rect l="l" t="t" r="r" b="b"/>
                <a:pathLst>
                  <a:path w="1016" h="1104">
                    <a:moveTo>
                      <a:pt x="56" y="960"/>
                    </a:moveTo>
                    <a:cubicBezTo>
                      <a:pt x="28" y="1032"/>
                      <a:pt x="0" y="1104"/>
                      <a:pt x="56" y="1008"/>
                    </a:cubicBezTo>
                    <a:cubicBezTo>
                      <a:pt x="112" y="912"/>
                      <a:pt x="232" y="552"/>
                      <a:pt x="392" y="384"/>
                    </a:cubicBezTo>
                    <a:cubicBezTo>
                      <a:pt x="552" y="216"/>
                      <a:pt x="784" y="108"/>
                      <a:pt x="1016" y="0"/>
                    </a:cubicBezTo>
                  </a:path>
                </a:pathLst>
              </a:custGeom>
              <a:noFill/>
              <a:ln w="2844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" name=""/>
          <p:cNvSpPr/>
          <p:nvPr/>
        </p:nvSpPr>
        <p:spPr>
          <a:xfrm>
            <a:off x="5486400" y="3962520"/>
            <a:ext cx="609480" cy="609480"/>
          </a:xfrm>
          <a:custGeom>
            <a:avLst/>
            <a:gdLst>
              <a:gd name="textAreaLeft" fmla="*/ 75960 w 609480"/>
              <a:gd name="textAreaRight" fmla="*/ 53352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943600" y="3276720"/>
            <a:ext cx="2819520" cy="2593080"/>
            <a:chOff x="5943600" y="3276720"/>
            <a:chExt cx="2819520" cy="2593080"/>
          </a:xfrm>
        </p:grpSpPr>
        <p:grpSp>
          <p:nvGrpSpPr>
            <p:cNvPr id="113" name=""/>
            <p:cNvGrpSpPr/>
            <p:nvPr/>
          </p:nvGrpSpPr>
          <p:grpSpPr>
            <a:xfrm>
              <a:off x="5943600" y="3276720"/>
              <a:ext cx="2819520" cy="2593080"/>
              <a:chOff x="5943600" y="3276720"/>
              <a:chExt cx="2819520" cy="2593080"/>
            </a:xfrm>
          </p:grpSpPr>
          <p:sp>
            <p:nvSpPr>
              <p:cNvPr id="114" name=""/>
              <p:cNvSpPr/>
              <p:nvPr/>
            </p:nvSpPr>
            <p:spPr>
              <a:xfrm>
                <a:off x="6324480" y="3352680"/>
                <a:ext cx="0" cy="19044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324480" y="5257440"/>
                <a:ext cx="213372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943600" y="32767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077320" y="54100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6477120" y="3854160"/>
              <a:ext cx="1828800" cy="1009440"/>
            </a:xfrm>
            <a:custGeom>
              <a:avLst/>
              <a:gdLst/>
              <a:ahLst/>
              <a:rect l="l" t="t" r="r" b="b"/>
              <a:pathLst>
                <a:path w="1152" h="636">
                  <a:moveTo>
                    <a:pt x="0" y="500"/>
                  </a:moveTo>
                  <a:cubicBezTo>
                    <a:pt x="32" y="540"/>
                    <a:pt x="64" y="580"/>
                    <a:pt x="96" y="596"/>
                  </a:cubicBezTo>
                  <a:cubicBezTo>
                    <a:pt x="128" y="612"/>
                    <a:pt x="160" y="596"/>
                    <a:pt x="192" y="596"/>
                  </a:cubicBezTo>
                  <a:cubicBezTo>
                    <a:pt x="224" y="596"/>
                    <a:pt x="240" y="636"/>
                    <a:pt x="288" y="596"/>
                  </a:cubicBezTo>
                  <a:cubicBezTo>
                    <a:pt x="336" y="556"/>
                    <a:pt x="432" y="436"/>
                    <a:pt x="480" y="356"/>
                  </a:cubicBezTo>
                  <a:cubicBezTo>
                    <a:pt x="528" y="276"/>
                    <a:pt x="529" y="172"/>
                    <a:pt x="576" y="116"/>
                  </a:cubicBezTo>
                  <a:cubicBezTo>
                    <a:pt x="623" y="60"/>
                    <a:pt x="699" y="0"/>
                    <a:pt x="763" y="18"/>
                  </a:cubicBezTo>
                  <a:cubicBezTo>
                    <a:pt x="827" y="36"/>
                    <a:pt x="919" y="176"/>
                    <a:pt x="960" y="224"/>
                  </a:cubicBezTo>
                  <a:cubicBezTo>
                    <a:pt x="1001" y="272"/>
                    <a:pt x="976" y="262"/>
                    <a:pt x="1008" y="308"/>
                  </a:cubicBezTo>
                  <a:cubicBezTo>
                    <a:pt x="1040" y="354"/>
                    <a:pt x="1100" y="428"/>
                    <a:pt x="1152" y="500"/>
                  </a:cubicBez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90920" y="6095880"/>
            <a:ext cx="3809880" cy="609840"/>
          </a:xfrm>
          <a:prstGeom prst="wedgeEllipseCallout">
            <a:avLst>
              <a:gd name="adj1" fmla="val -6374"/>
              <a:gd name="adj2" fmla="val -161199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c2c42"/>
                </a:solidFill>
                <a:latin typeface="Arial"/>
              </a:rPr>
              <a:t>curva de descarg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atéli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ase experimental (Alsdorf y Lettenmaier, 2003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ltimetría por rad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elocidad superfi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otencial para medición en lugares inaccesibles o regiones en desarrol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ransferencia tecnológ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uentes de erro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Instrumenta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Metodológic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Persona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álcul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0" name="corecion" descr=""/>
          <p:cNvPicPr/>
          <p:nvPr/>
        </p:nvPicPr>
        <p:blipFill>
          <a:blip r:embed="rId2"/>
          <a:stretch/>
        </p:blipFill>
        <p:spPr>
          <a:xfrm>
            <a:off x="3048120" y="2971800"/>
            <a:ext cx="58672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uentes de erro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nálisis experimental del comportamiento de instrumentos hidrométricos”.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ablo Riquelme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M.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 (INH). VIII Jornadas Francisco Javier Domínguez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3" name="sensor" descr=""/>
          <p:cNvPicPr/>
          <p:nvPr/>
        </p:nvPicPr>
        <p:blipFill>
          <a:blip r:embed="rId2"/>
          <a:srcRect l="1565" t="2087" r="4687" b="16663"/>
          <a:stretch/>
        </p:blipFill>
        <p:spPr>
          <a:xfrm>
            <a:off x="4343400" y="3048120"/>
            <a:ext cx="4572000" cy="2971800"/>
          </a:xfrm>
          <a:prstGeom prst="rect">
            <a:avLst/>
          </a:prstGeom>
          <a:ln w="0">
            <a:noFill/>
          </a:ln>
        </p:spPr>
      </p:pic>
      <p:pic>
        <p:nvPicPr>
          <p:cNvPr id="214" name="canal_calib" descr=""/>
          <p:cNvPicPr/>
          <p:nvPr/>
        </p:nvPicPr>
        <p:blipFill>
          <a:blip r:embed="rId3"/>
          <a:srcRect l="4687" t="2087" r="9375" b="2087"/>
          <a:stretch/>
        </p:blipFill>
        <p:spPr>
          <a:xfrm>
            <a:off x="76320" y="3048120"/>
            <a:ext cx="4190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uentes error (cont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elocidad de fluj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diment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es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7" name="setup_sensor" descr=""/>
          <p:cNvPicPr/>
          <p:nvPr/>
        </p:nvPicPr>
        <p:blipFill>
          <a:blip r:embed="rId2"/>
          <a:stretch/>
        </p:blipFill>
        <p:spPr>
          <a:xfrm>
            <a:off x="4105440" y="1533600"/>
            <a:ext cx="4962240" cy="5172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12760" y="491796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Instalación experimental sensor. Diferentes posiciones y alternativas recubr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sult_calib_sens2" descr=""/>
          <p:cNvPicPr/>
          <p:nvPr/>
        </p:nvPicPr>
        <p:blipFill>
          <a:blip r:embed="rId2"/>
          <a:srcRect l="0" t="0" r="4687" b="0"/>
          <a:stretch/>
        </p:blipFill>
        <p:spPr>
          <a:xfrm>
            <a:off x="4495680" y="609480"/>
            <a:ext cx="4648320" cy="5953320"/>
          </a:xfrm>
          <a:prstGeom prst="rect">
            <a:avLst/>
          </a:prstGeom>
          <a:ln w="0">
            <a:noFill/>
          </a:ln>
        </p:spPr>
      </p:pic>
      <p:pic>
        <p:nvPicPr>
          <p:cNvPr id="220" name="result_calib_sens" descr=""/>
          <p:cNvPicPr/>
          <p:nvPr/>
        </p:nvPicPr>
        <p:blipFill>
          <a:blip r:embed="rId3"/>
          <a:srcRect l="1565" t="0" r="4687" b="0"/>
          <a:stretch/>
        </p:blipFill>
        <p:spPr>
          <a:xfrm>
            <a:off x="0" y="609480"/>
            <a:ext cx="457200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sult_calib_sens3" descr=""/>
          <p:cNvPicPr/>
          <p:nvPr/>
        </p:nvPicPr>
        <p:blipFill>
          <a:blip r:embed="rId2"/>
          <a:srcRect l="0" t="0" r="7810" b="0"/>
          <a:stretch/>
        </p:blipFill>
        <p:spPr>
          <a:xfrm>
            <a:off x="0" y="433440"/>
            <a:ext cx="4495680" cy="5991120"/>
          </a:xfrm>
          <a:prstGeom prst="rect">
            <a:avLst/>
          </a:prstGeom>
          <a:ln w="0">
            <a:noFill/>
          </a:ln>
        </p:spPr>
      </p:pic>
      <p:pic>
        <p:nvPicPr>
          <p:cNvPr id="222" name="result_calib_sens4" descr=""/>
          <p:cNvPicPr/>
          <p:nvPr/>
        </p:nvPicPr>
        <p:blipFill>
          <a:blip r:embed="rId3"/>
          <a:srcRect l="0" t="0" r="3122" b="0"/>
          <a:stretch/>
        </p:blipFill>
        <p:spPr>
          <a:xfrm>
            <a:off x="4419720" y="409680"/>
            <a:ext cx="47242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uentes de error (cont.): sediment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24" name="setup_sensor_sedim2" descr=""/>
          <p:cNvPicPr/>
          <p:nvPr/>
        </p:nvPicPr>
        <p:blipFill>
          <a:blip r:embed="rId2"/>
          <a:srcRect l="3419" t="0" r="0" b="0"/>
          <a:stretch/>
        </p:blipFill>
        <p:spPr>
          <a:xfrm>
            <a:off x="0" y="1447920"/>
            <a:ext cx="5410080" cy="4205160"/>
          </a:xfrm>
          <a:prstGeom prst="rect">
            <a:avLst/>
          </a:prstGeom>
          <a:ln w="0">
            <a:noFill/>
          </a:ln>
        </p:spPr>
      </p:pic>
      <p:pic>
        <p:nvPicPr>
          <p:cNvPr id="225" name="setup_sensor_sedim" descr=""/>
          <p:cNvPicPr/>
          <p:nvPr/>
        </p:nvPicPr>
        <p:blipFill>
          <a:blip r:embed="rId3"/>
          <a:stretch/>
        </p:blipFill>
        <p:spPr>
          <a:xfrm>
            <a:off x="3809880" y="2590920"/>
            <a:ext cx="52578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sult_calib_sens_sedim1" descr=""/>
          <p:cNvPicPr/>
          <p:nvPr/>
        </p:nvPicPr>
        <p:blipFill>
          <a:blip r:embed="rId2"/>
          <a:stretch/>
        </p:blipFill>
        <p:spPr>
          <a:xfrm>
            <a:off x="762120" y="1438200"/>
            <a:ext cx="76197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28" name="DGA_tradicional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69724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0" name="DGA_moderniza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6877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urvas de descar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ípicamente se pueden ajustar por expresiones del tipo (sección uniforme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Q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= caud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K, c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= parámetr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= altura escurrimient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= altura correspondiente a no fluj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8120" y="3048120"/>
          <a:ext cx="2666880" cy="64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3048120"/>
                    <a:ext cx="266688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2" name="DGA_dcp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659124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4" name="DGA_evol_dcp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74106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6" name="DGA_desfase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9153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8" name="DGA_grafico1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65721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40" name="DGA_aforos" descr=""/>
          <p:cNvPicPr/>
          <p:nvPr/>
        </p:nvPicPr>
        <p:blipFill>
          <a:blip r:embed="rId2"/>
          <a:srcRect l="0" t="15071" r="0" b="0"/>
          <a:stretch/>
        </p:blipFill>
        <p:spPr>
          <a:xfrm>
            <a:off x="1295280" y="1523880"/>
            <a:ext cx="67057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odernización red hidrométrica D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42" name="DGA_descarga" descr=""/>
          <p:cNvPicPr/>
          <p:nvPr/>
        </p:nvPicPr>
        <p:blipFill>
          <a:blip r:embed="rId2"/>
          <a:srcRect l="0" t="17160" r="0" b="0"/>
          <a:stretch/>
        </p:blipFill>
        <p:spPr>
          <a:xfrm>
            <a:off x="1219320" y="1828800"/>
            <a:ext cx="66675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íncul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0800" y="1905120"/>
            <a:ext cx="79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3"/>
              </a:rPr>
              <a:t>wwwrcamnl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5"/>
              </a:rPr>
              <a:t>wr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7"/>
              </a:rPr>
              <a:t>usgs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9"/>
              </a:rPr>
              <a:t>gov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1"/>
              </a:rPr>
              <a:t>sws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2"/>
              </a:rPr>
              <a:t>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3"/>
              </a:rPr>
              <a:t>fieldmethods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4"/>
              </a:rPr>
              <a:t>/Controls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>
            <a:hlinkClick r:id="rId15"/>
          </p:cNvPr>
          <p:cNvSpPr/>
          <p:nvPr/>
        </p:nvSpPr>
        <p:spPr>
          <a:xfrm>
            <a:off x="457920" y="259092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6"/>
              </a:rPr>
              <a:t>http://water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7"/>
              </a:rPr>
              <a:t>usgs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8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19"/>
              </a:rPr>
              <a:t>gov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20"/>
              </a:rPr>
              <a:t>/pubs/of/2004/1015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juste manual curva de descar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57200" y="2057400"/>
            <a:ext cx="8458200" cy="3888720"/>
            <a:chOff x="457200" y="2057400"/>
            <a:chExt cx="8458200" cy="3888720"/>
          </a:xfrm>
        </p:grpSpPr>
        <p:sp>
          <p:nvSpPr>
            <p:cNvPr id="126" name=""/>
            <p:cNvSpPr/>
            <p:nvPr/>
          </p:nvSpPr>
          <p:spPr>
            <a:xfrm>
              <a:off x="7696080" y="39625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r>
                <a:rPr b="1" lang="es-ES_tradnl" sz="2400" spc="-1" strike="noStrike" baseline="-25000">
                  <a:solidFill>
                    <a:srgbClr val="ffffcc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57200" y="2057400"/>
              <a:ext cx="7619760" cy="3888720"/>
              <a:chOff x="457200" y="2057400"/>
              <a:chExt cx="7619760" cy="388872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990360" y="2209320"/>
                <a:ext cx="2895480" cy="3048480"/>
                <a:chOff x="990360" y="2209320"/>
                <a:chExt cx="2895480" cy="3048480"/>
              </a:xfrm>
            </p:grpSpPr>
            <p:sp>
              <p:nvSpPr>
                <p:cNvPr id="129" name=""/>
                <p:cNvSpPr/>
                <p:nvPr/>
              </p:nvSpPr>
              <p:spPr>
                <a:xfrm flipV="1">
                  <a:off x="990360" y="2209320"/>
                  <a:ext cx="0" cy="304812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90360" y="5257800"/>
                  <a:ext cx="2895480" cy="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" name=""/>
              <p:cNvSpPr/>
              <p:nvPr/>
            </p:nvSpPr>
            <p:spPr>
              <a:xfrm flipV="1">
                <a:off x="5181480" y="2209320"/>
                <a:ext cx="0" cy="30481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81480" y="3733920"/>
                <a:ext cx="28954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7200" y="2057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504960" y="54864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295280" y="4800600"/>
                <a:ext cx="152280" cy="15228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523880" y="4648320"/>
                <a:ext cx="7632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218960" y="2743200"/>
                <a:ext cx="2667240" cy="2438280"/>
              </a:xfrm>
              <a:custGeom>
                <a:avLst/>
                <a:gdLst/>
                <a:ahLst/>
                <a:rect l="l" t="t" r="r" b="b"/>
                <a:pathLst>
                  <a:path w="1680" h="1536">
                    <a:moveTo>
                      <a:pt x="0" y="1536"/>
                    </a:moveTo>
                    <a:cubicBezTo>
                      <a:pt x="48" y="1404"/>
                      <a:pt x="134" y="1226"/>
                      <a:pt x="192" y="1104"/>
                    </a:cubicBezTo>
                    <a:cubicBezTo>
                      <a:pt x="250" y="982"/>
                      <a:pt x="290" y="902"/>
                      <a:pt x="350" y="807"/>
                    </a:cubicBezTo>
                    <a:cubicBezTo>
                      <a:pt x="410" y="712"/>
                      <a:pt x="471" y="619"/>
                      <a:pt x="555" y="533"/>
                    </a:cubicBezTo>
                    <a:cubicBezTo>
                      <a:pt x="639" y="447"/>
                      <a:pt x="731" y="366"/>
                      <a:pt x="855" y="293"/>
                    </a:cubicBezTo>
                    <a:cubicBezTo>
                      <a:pt x="979" y="220"/>
                      <a:pt x="1159" y="145"/>
                      <a:pt x="1296" y="96"/>
                    </a:cubicBezTo>
                    <a:cubicBezTo>
                      <a:pt x="1433" y="47"/>
                      <a:pt x="1580" y="4"/>
                      <a:pt x="1680" y="0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76160" y="449568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52480" y="434340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52480" y="403848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904760" y="380988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057400" y="3429000"/>
                <a:ext cx="7596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286000" y="3124080"/>
                <a:ext cx="7596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66880" y="297180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24080" y="289548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33760" y="388620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562360" y="3962520"/>
                <a:ext cx="7632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943600" y="3962520"/>
                <a:ext cx="75960" cy="7596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72200" y="3809880"/>
                <a:ext cx="7596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400800" y="3657600"/>
                <a:ext cx="7596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781680" y="342900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62560" y="342900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467480" y="365760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257800" y="3413160"/>
                <a:ext cx="2209680" cy="563400"/>
              </a:xfrm>
              <a:custGeom>
                <a:avLst/>
                <a:gdLst/>
                <a:ahLst/>
                <a:rect l="l" t="t" r="r" b="b"/>
                <a:pathLst>
                  <a:path w="1392" h="355">
                    <a:moveTo>
                      <a:pt x="0" y="250"/>
                    </a:moveTo>
                    <a:cubicBezTo>
                      <a:pt x="12" y="266"/>
                      <a:pt x="24" y="282"/>
                      <a:pt x="48" y="298"/>
                    </a:cubicBezTo>
                    <a:cubicBezTo>
                      <a:pt x="72" y="314"/>
                      <a:pt x="101" y="337"/>
                      <a:pt x="144" y="346"/>
                    </a:cubicBezTo>
                    <a:cubicBezTo>
                      <a:pt x="187" y="355"/>
                      <a:pt x="261" y="351"/>
                      <a:pt x="309" y="351"/>
                    </a:cubicBezTo>
                    <a:cubicBezTo>
                      <a:pt x="357" y="351"/>
                      <a:pt x="388" y="355"/>
                      <a:pt x="432" y="346"/>
                    </a:cubicBezTo>
                    <a:cubicBezTo>
                      <a:pt x="476" y="337"/>
                      <a:pt x="524" y="326"/>
                      <a:pt x="576" y="298"/>
                    </a:cubicBezTo>
                    <a:cubicBezTo>
                      <a:pt x="628" y="270"/>
                      <a:pt x="691" y="218"/>
                      <a:pt x="746" y="180"/>
                    </a:cubicBezTo>
                    <a:cubicBezTo>
                      <a:pt x="801" y="142"/>
                      <a:pt x="857" y="96"/>
                      <a:pt x="909" y="68"/>
                    </a:cubicBezTo>
                    <a:cubicBezTo>
                      <a:pt x="961" y="40"/>
                      <a:pt x="1008" y="20"/>
                      <a:pt x="1056" y="10"/>
                    </a:cubicBezTo>
                    <a:cubicBezTo>
                      <a:pt x="1104" y="0"/>
                      <a:pt x="1160" y="2"/>
                      <a:pt x="1200" y="10"/>
                    </a:cubicBezTo>
                    <a:cubicBezTo>
                      <a:pt x="1240" y="18"/>
                      <a:pt x="1264" y="34"/>
                      <a:pt x="1296" y="58"/>
                    </a:cubicBezTo>
                    <a:cubicBezTo>
                      <a:pt x="1328" y="82"/>
                      <a:pt x="1360" y="118"/>
                      <a:pt x="1392" y="154"/>
                    </a:cubicBezTo>
                  </a:path>
                </a:pathLst>
              </a:custGeom>
              <a:noFill/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24280" y="22096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cc"/>
                    </a:solidFill>
                    <a:latin typeface="Symbol"/>
                    <a:ea typeface="Symbol"/>
                  </a:rPr>
                  <a:t>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6858000" y="3581280"/>
                <a:ext cx="0" cy="152640"/>
              </a:xfrm>
              <a:prstGeom prst="line">
                <a:avLst/>
              </a:prstGeom>
              <a:ln w="2844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5257440" y="3429000"/>
                <a:ext cx="14475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09680" y="5410080"/>
                <a:ext cx="45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r>
                  <a:rPr b="1" lang="es-ES_tradnl" sz="1800" spc="-1" strike="noStrike" baseline="-25000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2286000" y="3123720"/>
                <a:ext cx="0" cy="2133720"/>
              </a:xfrm>
              <a:prstGeom prst="line">
                <a:avLst/>
              </a:prstGeom>
              <a:ln w="2844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990000" y="3200400"/>
                <a:ext cx="129564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1066680" y="3429000"/>
                <a:ext cx="129528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57200" y="2895480"/>
                <a:ext cx="609480" cy="86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cc"/>
                    </a:solidFill>
                    <a:latin typeface="Times New Roman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ffffcc"/>
                    </a:solidFill>
                    <a:latin typeface="Times New Roman"/>
                  </a:rPr>
                  <a:t>L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cc"/>
                    </a:solidFill>
                    <a:latin typeface="Times New Roman"/>
                  </a:rPr>
                  <a:t>H</a:t>
                </a:r>
                <a:r>
                  <a:rPr b="1" lang="es-ES_tradnl" sz="1800" spc="-1" strike="noStrike" baseline="-25000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urva de descar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AMBI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n el cauce: embanques, socavaciones, veget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fectos de remansos y otras variaciones del eje hidráulic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variaciones rápidas de nivel durante afor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variación de almacenamiento en el cau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ambios en las características del cau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xtrapolación curva de descarg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hez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= coef. rugosidad; A= sección transv.; R= radio hidráulico A/P; P= perímetro mojado; J= pendiente energéti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ann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unidades S.I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219400" y="1828800"/>
          <a:ext cx="234324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9400" y="1828800"/>
                    <a:ext cx="23432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743200" y="3987720"/>
          <a:ext cx="2811600" cy="111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3987720"/>
                    <a:ext cx="281160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eterminación Altura Escurrimi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828800"/>
            <a:ext cx="518148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imnímetros (reglas, cadenas, cables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ndicador de Sonda eléctri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Sensor de pres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Ultrasonid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5122800"/>
            <a:ext cx="70102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"/>
              </a:rPr>
              <a:t>Limnígrafo de flotador en pozo de observació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"/>
              </a:rPr>
              <a:t>Si pozo de observación antieconómico, puede usarse sensor de nivel de burbuj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4" name="limnimetros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Ubicaci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ón instrumentos medición a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ación permanente altura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/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lujo; flujo crítico o subcrí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vitar restricciones al flujo aguas abaj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cción transversal conocida y estab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vitar flujo subsuperficial y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/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o canales secundari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ccesibil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ensor ultrasonid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rcRect l="0" t="2085" r="0" b="6089"/>
          <a:stretch/>
        </p:blipFill>
        <p:spPr>
          <a:xfrm>
            <a:off x="2209680" y="1447920"/>
            <a:ext cx="5004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8:17:41Z</dcterms:created>
  <dc:creator>nnnn</dc:creator>
  <dc:description/>
  <dc:language>en-US</dc:language>
  <cp:lastModifiedBy>nnnn</cp:lastModifiedBy>
  <dcterms:modified xsi:type="dcterms:W3CDTF">2004-09-20T13:09:56Z</dcterms:modified>
  <cp:revision>28</cp:revision>
  <dc:subject/>
  <dc:title>PowerPoint Presentation</dc:title>
</cp:coreProperties>
</file>