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6.wmf" ContentType="image/x-wmf"/>
  <Override PartName="/ppt/media/image22.jpeg" ContentType="image/jpeg"/>
  <Override PartName="/ppt/media/image21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CF5-A86A-45B2-8FBF-F5CBDB10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43A-BC09-42AF-B06C-BE9E0E35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CEE-83EF-4E4C-B036-942CEC43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5C0-14BA-4198-A8F3-498A1E21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5E23-B755-4957-9314-476F1708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B80F-550A-4DCB-8948-77CA7821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B620-FCE1-4589-A3D7-85411C01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DB33-A0B8-4316-9C72-3816825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9548-2352-440D-8BCA-DD8AFA6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2D38-DDAD-4692-9316-ACF11522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2DC3-DD4F-4F72-937A-3CADF9F9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37F-477A-4723-A10C-C546565A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BCCD-BD3D-4DAA-A003-E2CBC452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0C68-2F59-4841-98AB-3F37D17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C5EF-3B64-43A2-B693-AB222BA5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5BC6-1D69-4E5A-BAFD-DCE96EAF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93BB-2080-4FB7-83D7-C6B52903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AE5-7566-4D86-B7A2-4366591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EE4-E300-446F-84C8-4B5DBC92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AFB-11A0-43BC-8AD7-926E0AFD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096-6C72-464B-968A-808BADB4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42D-AF65-4C00-9210-21E9E41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E7C-E254-4BDA-B60B-5CAA546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AE7-5BFE-4B86-AB15-A2F3133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E11E-FE13-40E0-B6ED-7676B73ADAA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9A6E-D143-453A-93F2-8F3AF7E34D1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dices de satu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osibilidades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05120" y="2666880"/>
          <a:ext cx="463392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4633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828800" y="3962520"/>
          <a:ext cx="2849400" cy="68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962520"/>
                    <a:ext cx="28494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52480" y="4952880"/>
          <a:ext cx="4253040" cy="129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952880"/>
                    <a:ext cx="42530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156360" y="44956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Tiempo desde lluvia ant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495680"/>
            <a:ext cx="152388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4876920"/>
            <a:ext cx="114300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corrent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a superfici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mcphee2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3152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correntía subterráne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752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ey de Dar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90920" y="2286000"/>
          <a:ext cx="3190680" cy="12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86000"/>
                    <a:ext cx="319068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76320" y="3733920"/>
            <a:ext cx="8991360" cy="2516040"/>
            <a:chOff x="76320" y="3733920"/>
            <a:chExt cx="8991360" cy="2516040"/>
          </a:xfrm>
        </p:grpSpPr>
        <p:pic>
          <p:nvPicPr>
            <p:cNvPr id="184" name="hydrpntel" descr=""/>
            <p:cNvPicPr/>
            <p:nvPr/>
          </p:nvPicPr>
          <p:blipFill>
            <a:blip r:embed="rId4"/>
            <a:stretch/>
          </p:blipFill>
          <p:spPr>
            <a:xfrm>
              <a:off x="76320" y="3733920"/>
              <a:ext cx="899136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47760" y="4876920"/>
              <a:ext cx="167616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160" y="4343400"/>
              <a:ext cx="91404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4343400"/>
              <a:ext cx="91404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ones alternativ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direc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.D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 Esupf + Esubs_rap + Precip_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lujo 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.B. = Esubt + Esubs_l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precipi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ón en Exceso -&gt; esc.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[on efectiva -&gt; esc. direc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71800" y="304920"/>
            <a:ext cx="3200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recipitación tot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990720"/>
            <a:ext cx="0" cy="685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219320"/>
            <a:ext cx="5410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1219320"/>
            <a:ext cx="0" cy="4572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1676520"/>
            <a:ext cx="2895480" cy="99036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Abstracción Inic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+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vapotranspi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1676520"/>
            <a:ext cx="2286000" cy="4572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Infilt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219320"/>
            <a:ext cx="0" cy="13716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133720"/>
            <a:ext cx="0" cy="685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590920"/>
            <a:ext cx="2590920" cy="12952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perficial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(= Precipi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n Exces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3276720"/>
            <a:ext cx="22860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bsuperfic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2819520"/>
            <a:ext cx="358128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2819520"/>
            <a:ext cx="0" cy="4572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86800" y="2819520"/>
            <a:ext cx="0" cy="53316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3352680"/>
            <a:ext cx="18288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ercolació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rofund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4038480"/>
            <a:ext cx="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648320"/>
            <a:ext cx="2057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Inter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Ráp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648320"/>
            <a:ext cx="2057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Inter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L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343400"/>
            <a:ext cx="25146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962520"/>
            <a:ext cx="0" cy="38088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4343400"/>
            <a:ext cx="0" cy="304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343400"/>
            <a:ext cx="0" cy="304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648320"/>
            <a:ext cx="198144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bterráne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5638680"/>
            <a:ext cx="1828800" cy="53352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886200"/>
            <a:ext cx="0" cy="1447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143000" y="4876920"/>
            <a:ext cx="13716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334120"/>
            <a:ext cx="1904760" cy="6094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562360" y="6019920"/>
            <a:ext cx="144756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5715000"/>
            <a:ext cx="2133720" cy="8380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To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7" idx="2"/>
            <a:endCxn id="219" idx="1"/>
          </p:cNvCxnSpPr>
          <p:nvPr/>
        </p:nvCxnSpPr>
        <p:spPr>
          <a:xfrm flipH="1" rot="16200000">
            <a:off x="2247120" y="4971960"/>
            <a:ext cx="172080" cy="2153160"/>
          </a:xfrm>
          <a:prstGeom prst="bentConnector2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8001000" y="5334120"/>
            <a:ext cx="0" cy="30456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actores 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que afectan la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limá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isiográf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get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Climátic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orma, tipo, intensidad, duración,distribución, dirección mov. torment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mperatura, viento, p. atm., calidad agua, supf. evapora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mp., radiación, viento, humedad aire, tipo suelo y veget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fisiográfic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ométricos: area, forma, pediente, orientación, elevación, densidad drena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ísicas: uso suelo, infiltración, tipo suelo, geolog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uces: pendiente, rugosidad, logitud tramos, cu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de vege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tención, intercepción, transpiración, tipo de vegetación, edad, densidad, época del 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égimen hidrológ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gún origen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gímenes simp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la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Niv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uv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gímenes Mix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Nivo-glacial, pluvio-nival, y otras creativas combinaci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dice de Precipitación Antecedente (IPA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09680" y="2133360"/>
            <a:ext cx="1800" cy="3352680"/>
          </a:xfrm>
          <a:prstGeom prst="line">
            <a:avLst/>
          </a:prstGeom>
          <a:ln w="255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486400"/>
            <a:ext cx="5334120" cy="1440"/>
          </a:xfrm>
          <a:prstGeom prst="line">
            <a:avLst/>
          </a:prstGeom>
          <a:ln w="255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14800"/>
            <a:ext cx="60984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3733920"/>
            <a:ext cx="1440" cy="1295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733920"/>
            <a:ext cx="685800" cy="99036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2895480"/>
            <a:ext cx="1440" cy="1828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895480"/>
            <a:ext cx="1828800" cy="12193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191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09680" y="3733920"/>
            <a:ext cx="1447920" cy="14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5812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562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5562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05320" y="4723920"/>
            <a:ext cx="1440" cy="7621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9320" y="4724280"/>
            <a:ext cx="12956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5720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19520" y="4952880"/>
            <a:ext cx="1440" cy="5335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5029200"/>
            <a:ext cx="1524240" cy="14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7339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09680" y="3733920"/>
            <a:ext cx="6098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2371680"/>
          <a:ext cx="403848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371680"/>
                    <a:ext cx="4038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jim_glacier" descr=""/>
          <p:cNvPicPr/>
          <p:nvPr/>
        </p:nvPicPr>
        <p:blipFill>
          <a:blip r:embed="rId2"/>
          <a:stretch/>
        </p:blipFill>
        <p:spPr>
          <a:xfrm>
            <a:off x="609480" y="888840"/>
            <a:ext cx="7696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égimen hidrológ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gún tipo de hidrogra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égimen perenne o de flujo contínuo (climas húme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égimen efímero (climas sec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mcphee1" descr=""/>
          <p:cNvPicPr/>
          <p:nvPr/>
        </p:nvPicPr>
        <p:blipFill>
          <a:blip r:embed="rId2"/>
          <a:stretch/>
        </p:blipFill>
        <p:spPr>
          <a:xfrm>
            <a:off x="2209680" y="76320"/>
            <a:ext cx="4727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eoid_gra_2003" descr=""/>
          <p:cNvPicPr/>
          <p:nvPr/>
        </p:nvPicPr>
        <p:blipFill>
          <a:blip r:embed="rId2"/>
          <a:stretch/>
        </p:blipFill>
        <p:spPr>
          <a:xfrm>
            <a:off x="3479760" y="0"/>
            <a:ext cx="5423040" cy="6477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29592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"/>
              </a:rPr>
              <a:t>Efectos inesperados de la escorrentia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15120" y="6523200"/>
            <a:ext cx="519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ttp://earthobservatory.nasa.gov/Newsroom/NewImages/images.php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SS002-ESC-9147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848360" cy="5742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26320" y="6400800"/>
            <a:ext cx="52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visibleearth.nasa.gov/Hydrospher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ev2303_Egypt.A2000060.0855.900x1175" descr=""/>
          <p:cNvPicPr/>
          <p:nvPr/>
        </p:nvPicPr>
        <p:blipFill>
          <a:blip r:embed="rId2"/>
          <a:srcRect l="0" t="0" r="0" b="24858"/>
          <a:stretch/>
        </p:blipFill>
        <p:spPr>
          <a:xfrm>
            <a:off x="1447920" y="304920"/>
            <a:ext cx="6372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ev5928_China.A2000260.0310.3600x4800_md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4971960" cy="6629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409720" y="838080"/>
            <a:ext cx="349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rastre de sedi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utrie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tamina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ida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útil obras hidráil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ev8389_S2001168162816.L1A_HCHL.Chile.SedimentPlumes_md" descr=""/>
          <p:cNvPicPr/>
          <p:nvPr/>
        </p:nvPicPr>
        <p:blipFill>
          <a:blip r:embed="rId2"/>
          <a:stretch/>
        </p:blipFill>
        <p:spPr>
          <a:xfrm>
            <a:off x="28576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eficientes de Escorrent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defin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0520" y="2517840"/>
          <a:ext cx="372276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0520" y="2517840"/>
                    <a:ext cx="372276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362320" y="4267080"/>
          <a:ext cx="2392200" cy="117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4267080"/>
                    <a:ext cx="239220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canismos de gener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1523880"/>
            <a:ext cx="3127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iempo de empap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olumen escorrentía superfi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asa precipitación equival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mcphee3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361980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74320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escorrent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orrent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23880" y="2286000"/>
            <a:ext cx="129564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3200400"/>
            <a:ext cx="152424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5562720"/>
            <a:ext cx="106704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canismos de gener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6" name="mcphee4" descr=""/>
          <p:cNvPicPr/>
          <p:nvPr/>
        </p:nvPicPr>
        <p:blipFill>
          <a:blip r:embed="rId2"/>
          <a:srcRect l="0" t="0" r="0" b="15755"/>
          <a:stretch/>
        </p:blipFill>
        <p:spPr>
          <a:xfrm>
            <a:off x="1828800" y="1447920"/>
            <a:ext cx="5638680" cy="5306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2760" y="16002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odelo Hor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1600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odelo Dun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066320" y="2666880"/>
            <a:ext cx="914400" cy="533160"/>
          </a:xfrm>
          <a:custGeom>
            <a:avLst/>
            <a:gdLst>
              <a:gd name="textAreaLeft" fmla="*/ 304920 w 914400"/>
              <a:gd name="textAreaRight" fmla="*/ 783360 w 91440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16200000">
            <a:off x="7351920" y="2552400"/>
            <a:ext cx="914400" cy="685800"/>
          </a:xfrm>
          <a:custGeom>
            <a:avLst/>
            <a:gdLst>
              <a:gd name="textAreaLeft" fmla="*/ 305280 w 914400"/>
              <a:gd name="textAreaRight" fmla="*/ 78372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apalmendros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076960" cy="5659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6600"/>
                </a:solidFill>
                <a:latin typeface="Arial"/>
              </a:rPr>
              <a:t>CAPITULO 6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66320" y="3504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6600"/>
                </a:solidFill>
                <a:latin typeface="Arial"/>
              </a:rPr>
              <a:t>ESCORRENTIA SUPERFICI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égimen natu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0680" y="2157480"/>
            <a:ext cx="5210280" cy="3386160"/>
          </a:xfrm>
          <a:custGeom>
            <a:avLst/>
            <a:gdLst/>
            <a:ahLst/>
            <a:rect l="l" t="t" r="r" b="b"/>
            <a:pathLst>
              <a:path w="3282" h="2133">
                <a:moveTo>
                  <a:pt x="0" y="2047"/>
                </a:moveTo>
                <a:cubicBezTo>
                  <a:pt x="18" y="1996"/>
                  <a:pt x="69" y="1952"/>
                  <a:pt x="120" y="1936"/>
                </a:cubicBezTo>
                <a:cubicBezTo>
                  <a:pt x="166" y="1906"/>
                  <a:pt x="195" y="1876"/>
                  <a:pt x="249" y="1859"/>
                </a:cubicBezTo>
                <a:cubicBezTo>
                  <a:pt x="289" y="1829"/>
                  <a:pt x="324" y="1815"/>
                  <a:pt x="352" y="1773"/>
                </a:cubicBezTo>
                <a:cubicBezTo>
                  <a:pt x="369" y="1701"/>
                  <a:pt x="380" y="1626"/>
                  <a:pt x="429" y="1567"/>
                </a:cubicBezTo>
                <a:cubicBezTo>
                  <a:pt x="471" y="1517"/>
                  <a:pt x="538" y="1483"/>
                  <a:pt x="592" y="1447"/>
                </a:cubicBezTo>
                <a:cubicBezTo>
                  <a:pt x="676" y="1391"/>
                  <a:pt x="752" y="1318"/>
                  <a:pt x="849" y="1284"/>
                </a:cubicBezTo>
                <a:cubicBezTo>
                  <a:pt x="884" y="1250"/>
                  <a:pt x="899" y="1207"/>
                  <a:pt x="935" y="1173"/>
                </a:cubicBezTo>
                <a:cubicBezTo>
                  <a:pt x="953" y="1138"/>
                  <a:pt x="962" y="1118"/>
                  <a:pt x="995" y="1096"/>
                </a:cubicBezTo>
                <a:cubicBezTo>
                  <a:pt x="1014" y="1070"/>
                  <a:pt x="1032" y="1049"/>
                  <a:pt x="1055" y="1027"/>
                </a:cubicBezTo>
                <a:cubicBezTo>
                  <a:pt x="1060" y="1012"/>
                  <a:pt x="1074" y="966"/>
                  <a:pt x="1080" y="959"/>
                </a:cubicBezTo>
                <a:cubicBezTo>
                  <a:pt x="1099" y="937"/>
                  <a:pt x="1133" y="932"/>
                  <a:pt x="1157" y="916"/>
                </a:cubicBezTo>
                <a:cubicBezTo>
                  <a:pt x="1208" y="881"/>
                  <a:pt x="1259" y="845"/>
                  <a:pt x="1312" y="813"/>
                </a:cubicBezTo>
                <a:cubicBezTo>
                  <a:pt x="1340" y="771"/>
                  <a:pt x="1359" y="742"/>
                  <a:pt x="1372" y="693"/>
                </a:cubicBezTo>
                <a:cubicBezTo>
                  <a:pt x="1380" y="604"/>
                  <a:pt x="1395" y="564"/>
                  <a:pt x="1432" y="487"/>
                </a:cubicBezTo>
                <a:cubicBezTo>
                  <a:pt x="1467" y="338"/>
                  <a:pt x="1596" y="193"/>
                  <a:pt x="1715" y="102"/>
                </a:cubicBezTo>
                <a:cubicBezTo>
                  <a:pt x="1739" y="84"/>
                  <a:pt x="1850" y="69"/>
                  <a:pt x="1860" y="67"/>
                </a:cubicBezTo>
                <a:cubicBezTo>
                  <a:pt x="1976" y="46"/>
                  <a:pt x="2094" y="41"/>
                  <a:pt x="2212" y="33"/>
                </a:cubicBezTo>
                <a:cubicBezTo>
                  <a:pt x="2375" y="0"/>
                  <a:pt x="2268" y="15"/>
                  <a:pt x="2537" y="24"/>
                </a:cubicBezTo>
                <a:cubicBezTo>
                  <a:pt x="2624" y="42"/>
                  <a:pt x="2803" y="50"/>
                  <a:pt x="2803" y="50"/>
                </a:cubicBezTo>
                <a:cubicBezTo>
                  <a:pt x="2840" y="87"/>
                  <a:pt x="2822" y="61"/>
                  <a:pt x="2837" y="102"/>
                </a:cubicBezTo>
                <a:cubicBezTo>
                  <a:pt x="2845" y="125"/>
                  <a:pt x="2863" y="170"/>
                  <a:pt x="2863" y="170"/>
                </a:cubicBezTo>
                <a:cubicBezTo>
                  <a:pt x="2874" y="256"/>
                  <a:pt x="2885" y="322"/>
                  <a:pt x="2949" y="384"/>
                </a:cubicBezTo>
                <a:cubicBezTo>
                  <a:pt x="2962" y="425"/>
                  <a:pt x="2955" y="436"/>
                  <a:pt x="2992" y="462"/>
                </a:cubicBezTo>
                <a:cubicBezTo>
                  <a:pt x="3034" y="524"/>
                  <a:pt x="3100" y="556"/>
                  <a:pt x="3146" y="616"/>
                </a:cubicBezTo>
                <a:cubicBezTo>
                  <a:pt x="3155" y="651"/>
                  <a:pt x="3165" y="684"/>
                  <a:pt x="3172" y="719"/>
                </a:cubicBezTo>
                <a:cubicBezTo>
                  <a:pt x="3179" y="803"/>
                  <a:pt x="3208" y="919"/>
                  <a:pt x="3180" y="1002"/>
                </a:cubicBezTo>
                <a:cubicBezTo>
                  <a:pt x="3172" y="1025"/>
                  <a:pt x="3137" y="1062"/>
                  <a:pt x="3137" y="1062"/>
                </a:cubicBezTo>
                <a:cubicBezTo>
                  <a:pt x="3128" y="1090"/>
                  <a:pt x="3121" y="1119"/>
                  <a:pt x="3112" y="1147"/>
                </a:cubicBezTo>
                <a:cubicBezTo>
                  <a:pt x="3118" y="1210"/>
                  <a:pt x="3115" y="1274"/>
                  <a:pt x="3129" y="1336"/>
                </a:cubicBezTo>
                <a:cubicBezTo>
                  <a:pt x="3133" y="1354"/>
                  <a:pt x="3153" y="1364"/>
                  <a:pt x="3163" y="1379"/>
                </a:cubicBezTo>
                <a:cubicBezTo>
                  <a:pt x="3191" y="1421"/>
                  <a:pt x="3214" y="1469"/>
                  <a:pt x="3232" y="1516"/>
                </a:cubicBezTo>
                <a:cubicBezTo>
                  <a:pt x="3245" y="1615"/>
                  <a:pt x="3282" y="1761"/>
                  <a:pt x="3232" y="1850"/>
                </a:cubicBezTo>
                <a:cubicBezTo>
                  <a:pt x="3210" y="1889"/>
                  <a:pt x="3194" y="1892"/>
                  <a:pt x="3155" y="1919"/>
                </a:cubicBezTo>
                <a:cubicBezTo>
                  <a:pt x="3142" y="1928"/>
                  <a:pt x="3133" y="1943"/>
                  <a:pt x="3120" y="1953"/>
                </a:cubicBezTo>
                <a:cubicBezTo>
                  <a:pt x="3091" y="1976"/>
                  <a:pt x="3057" y="1992"/>
                  <a:pt x="3026" y="2013"/>
                </a:cubicBezTo>
                <a:cubicBezTo>
                  <a:pt x="3013" y="2022"/>
                  <a:pt x="2997" y="2023"/>
                  <a:pt x="2983" y="2030"/>
                </a:cubicBezTo>
                <a:cubicBezTo>
                  <a:pt x="2876" y="2084"/>
                  <a:pt x="2769" y="2119"/>
                  <a:pt x="2649" y="2133"/>
                </a:cubicBezTo>
                <a:cubicBezTo>
                  <a:pt x="2606" y="2130"/>
                  <a:pt x="2563" y="2131"/>
                  <a:pt x="2520" y="2124"/>
                </a:cubicBezTo>
                <a:cubicBezTo>
                  <a:pt x="2495" y="2120"/>
                  <a:pt x="2481" y="2099"/>
                  <a:pt x="2460" y="2090"/>
                </a:cubicBezTo>
                <a:cubicBezTo>
                  <a:pt x="2436" y="2079"/>
                  <a:pt x="2401" y="2071"/>
                  <a:pt x="2375" y="2064"/>
                </a:cubicBezTo>
                <a:cubicBezTo>
                  <a:pt x="2334" y="2025"/>
                  <a:pt x="2214" y="1995"/>
                  <a:pt x="2160" y="1987"/>
                </a:cubicBezTo>
                <a:cubicBezTo>
                  <a:pt x="2092" y="1964"/>
                  <a:pt x="2042" y="1919"/>
                  <a:pt x="1972" y="1902"/>
                </a:cubicBezTo>
                <a:cubicBezTo>
                  <a:pt x="1938" y="1894"/>
                  <a:pt x="1869" y="1884"/>
                  <a:pt x="1869" y="1884"/>
                </a:cubicBezTo>
                <a:cubicBezTo>
                  <a:pt x="1791" y="1845"/>
                  <a:pt x="1736" y="1817"/>
                  <a:pt x="1646" y="1807"/>
                </a:cubicBezTo>
                <a:cubicBezTo>
                  <a:pt x="1543" y="1810"/>
                  <a:pt x="1440" y="1809"/>
                  <a:pt x="1337" y="1816"/>
                </a:cubicBezTo>
                <a:cubicBezTo>
                  <a:pt x="1333" y="1816"/>
                  <a:pt x="1274" y="1837"/>
                  <a:pt x="1260" y="1842"/>
                </a:cubicBezTo>
                <a:cubicBezTo>
                  <a:pt x="1252" y="1845"/>
                  <a:pt x="1235" y="1850"/>
                  <a:pt x="1235" y="1850"/>
                </a:cubicBezTo>
                <a:cubicBezTo>
                  <a:pt x="1200" y="1873"/>
                  <a:pt x="1164" y="1876"/>
                  <a:pt x="1123" y="1884"/>
                </a:cubicBezTo>
                <a:cubicBezTo>
                  <a:pt x="1080" y="1902"/>
                  <a:pt x="1039" y="1907"/>
                  <a:pt x="995" y="1919"/>
                </a:cubicBezTo>
                <a:cubicBezTo>
                  <a:pt x="886" y="1908"/>
                  <a:pt x="818" y="1904"/>
                  <a:pt x="703" y="1910"/>
                </a:cubicBezTo>
                <a:cubicBezTo>
                  <a:pt x="651" y="1924"/>
                  <a:pt x="604" y="1964"/>
                  <a:pt x="549" y="1970"/>
                </a:cubicBezTo>
                <a:cubicBezTo>
                  <a:pt x="509" y="1975"/>
                  <a:pt x="469" y="1976"/>
                  <a:pt x="429" y="1979"/>
                </a:cubicBezTo>
                <a:cubicBezTo>
                  <a:pt x="330" y="2009"/>
                  <a:pt x="276" y="2016"/>
                  <a:pt x="172" y="2039"/>
                </a:cubicBezTo>
                <a:cubicBezTo>
                  <a:pt x="146" y="2045"/>
                  <a:pt x="121" y="2058"/>
                  <a:pt x="95" y="2056"/>
                </a:cubicBezTo>
                <a:cubicBezTo>
                  <a:pt x="63" y="2053"/>
                  <a:pt x="32" y="2050"/>
                  <a:pt x="0" y="2047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cc"/>
                </a:solidFill>
                <a:uFillTx/>
                <a:latin typeface="Verdana"/>
              </a:rPr>
              <a:t>régimen natural</a:t>
            </a:r>
            <a:r>
              <a:rPr b="1" lang="es-ES_tradnl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718080" y="2590920"/>
            <a:ext cx="4408200" cy="2830320"/>
            <a:chOff x="3718080" y="2590920"/>
            <a:chExt cx="4408200" cy="2830320"/>
          </a:xfrm>
        </p:grpSpPr>
        <p:sp>
          <p:nvSpPr>
            <p:cNvPr id="149" name=""/>
            <p:cNvSpPr/>
            <p:nvPr/>
          </p:nvSpPr>
          <p:spPr>
            <a:xfrm>
              <a:off x="3718080" y="2590920"/>
              <a:ext cx="3958920" cy="2830320"/>
            </a:xfrm>
            <a:custGeom>
              <a:avLst/>
              <a:gdLst/>
              <a:ahLst/>
              <a:rect l="l" t="t" r="r" b="b"/>
              <a:pathLst>
                <a:path w="2494" h="1783">
                  <a:moveTo>
                    <a:pt x="2494" y="0"/>
                  </a:moveTo>
                  <a:cubicBezTo>
                    <a:pt x="2447" y="31"/>
                    <a:pt x="2443" y="76"/>
                    <a:pt x="2434" y="129"/>
                  </a:cubicBezTo>
                  <a:cubicBezTo>
                    <a:pt x="2425" y="284"/>
                    <a:pt x="2441" y="319"/>
                    <a:pt x="2357" y="429"/>
                  </a:cubicBezTo>
                  <a:cubicBezTo>
                    <a:pt x="2330" y="464"/>
                    <a:pt x="2294" y="500"/>
                    <a:pt x="2263" y="531"/>
                  </a:cubicBezTo>
                  <a:cubicBezTo>
                    <a:pt x="2254" y="540"/>
                    <a:pt x="2237" y="557"/>
                    <a:pt x="2237" y="557"/>
                  </a:cubicBezTo>
                  <a:cubicBezTo>
                    <a:pt x="2224" y="594"/>
                    <a:pt x="2216" y="632"/>
                    <a:pt x="2203" y="669"/>
                  </a:cubicBezTo>
                  <a:cubicBezTo>
                    <a:pt x="2197" y="686"/>
                    <a:pt x="2202" y="714"/>
                    <a:pt x="2185" y="720"/>
                  </a:cubicBezTo>
                  <a:cubicBezTo>
                    <a:pt x="2157" y="730"/>
                    <a:pt x="2136" y="745"/>
                    <a:pt x="2108" y="754"/>
                  </a:cubicBezTo>
                  <a:cubicBezTo>
                    <a:pt x="2074" y="805"/>
                    <a:pt x="2026" y="829"/>
                    <a:pt x="1988" y="874"/>
                  </a:cubicBezTo>
                  <a:cubicBezTo>
                    <a:pt x="1921" y="954"/>
                    <a:pt x="1883" y="1007"/>
                    <a:pt x="1774" y="1037"/>
                  </a:cubicBezTo>
                  <a:cubicBezTo>
                    <a:pt x="1706" y="1056"/>
                    <a:pt x="1635" y="1055"/>
                    <a:pt x="1568" y="1080"/>
                  </a:cubicBezTo>
                  <a:cubicBezTo>
                    <a:pt x="1534" y="1093"/>
                    <a:pt x="1488" y="1106"/>
                    <a:pt x="1457" y="1131"/>
                  </a:cubicBezTo>
                  <a:cubicBezTo>
                    <a:pt x="1451" y="1136"/>
                    <a:pt x="1447" y="1145"/>
                    <a:pt x="1440" y="1149"/>
                  </a:cubicBezTo>
                  <a:cubicBezTo>
                    <a:pt x="1419" y="1162"/>
                    <a:pt x="1394" y="1165"/>
                    <a:pt x="1371" y="1174"/>
                  </a:cubicBezTo>
                  <a:cubicBezTo>
                    <a:pt x="1331" y="1207"/>
                    <a:pt x="1309" y="1208"/>
                    <a:pt x="1268" y="1234"/>
                  </a:cubicBezTo>
                  <a:cubicBezTo>
                    <a:pt x="1234" y="1255"/>
                    <a:pt x="1201" y="1285"/>
                    <a:pt x="1165" y="1303"/>
                  </a:cubicBezTo>
                  <a:cubicBezTo>
                    <a:pt x="1120" y="1325"/>
                    <a:pt x="1039" y="1324"/>
                    <a:pt x="994" y="1329"/>
                  </a:cubicBezTo>
                  <a:cubicBezTo>
                    <a:pt x="960" y="1337"/>
                    <a:pt x="923" y="1339"/>
                    <a:pt x="891" y="1354"/>
                  </a:cubicBezTo>
                  <a:cubicBezTo>
                    <a:pt x="882" y="1358"/>
                    <a:pt x="873" y="1364"/>
                    <a:pt x="865" y="1371"/>
                  </a:cubicBezTo>
                  <a:cubicBezTo>
                    <a:pt x="859" y="1376"/>
                    <a:pt x="855" y="1385"/>
                    <a:pt x="848" y="1389"/>
                  </a:cubicBezTo>
                  <a:cubicBezTo>
                    <a:pt x="798" y="1415"/>
                    <a:pt x="753" y="1424"/>
                    <a:pt x="703" y="1457"/>
                  </a:cubicBezTo>
                  <a:cubicBezTo>
                    <a:pt x="668" y="1480"/>
                    <a:pt x="602" y="1517"/>
                    <a:pt x="565" y="1526"/>
                  </a:cubicBezTo>
                  <a:cubicBezTo>
                    <a:pt x="493" y="1543"/>
                    <a:pt x="430" y="1580"/>
                    <a:pt x="360" y="1603"/>
                  </a:cubicBezTo>
                  <a:cubicBezTo>
                    <a:pt x="336" y="1611"/>
                    <a:pt x="289" y="1625"/>
                    <a:pt x="265" y="1637"/>
                  </a:cubicBezTo>
                  <a:cubicBezTo>
                    <a:pt x="235" y="1652"/>
                    <a:pt x="149" y="1714"/>
                    <a:pt x="120" y="1723"/>
                  </a:cubicBezTo>
                  <a:cubicBezTo>
                    <a:pt x="81" y="1735"/>
                    <a:pt x="27" y="1752"/>
                    <a:pt x="0" y="1783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56400" y="4168440"/>
              <a:ext cx="1469880" cy="819000"/>
            </a:xfrm>
            <a:custGeom>
              <a:avLst/>
              <a:gdLst/>
              <a:ahLst/>
              <a:rect l="l" t="t" r="r" b="b"/>
              <a:pathLst>
                <a:path w="926" h="516">
                  <a:moveTo>
                    <a:pt x="926" y="497"/>
                  </a:moveTo>
                  <a:cubicBezTo>
                    <a:pt x="861" y="511"/>
                    <a:pt x="803" y="516"/>
                    <a:pt x="737" y="506"/>
                  </a:cubicBezTo>
                  <a:cubicBezTo>
                    <a:pt x="728" y="478"/>
                    <a:pt x="733" y="446"/>
                    <a:pt x="720" y="420"/>
                  </a:cubicBezTo>
                  <a:cubicBezTo>
                    <a:pt x="712" y="404"/>
                    <a:pt x="686" y="409"/>
                    <a:pt x="669" y="403"/>
                  </a:cubicBezTo>
                  <a:cubicBezTo>
                    <a:pt x="652" y="353"/>
                    <a:pt x="664" y="298"/>
                    <a:pt x="643" y="249"/>
                  </a:cubicBezTo>
                  <a:cubicBezTo>
                    <a:pt x="597" y="144"/>
                    <a:pt x="344" y="166"/>
                    <a:pt x="283" y="163"/>
                  </a:cubicBezTo>
                  <a:cubicBezTo>
                    <a:pt x="268" y="121"/>
                    <a:pt x="250" y="93"/>
                    <a:pt x="214" y="69"/>
                  </a:cubicBezTo>
                  <a:cubicBezTo>
                    <a:pt x="180" y="16"/>
                    <a:pt x="218" y="63"/>
                    <a:pt x="172" y="35"/>
                  </a:cubicBezTo>
                  <a:cubicBezTo>
                    <a:pt x="165" y="31"/>
                    <a:pt x="162" y="21"/>
                    <a:pt x="154" y="17"/>
                  </a:cubicBezTo>
                  <a:cubicBezTo>
                    <a:pt x="138" y="9"/>
                    <a:pt x="103" y="0"/>
                    <a:pt x="103" y="0"/>
                  </a:cubicBezTo>
                  <a:cubicBezTo>
                    <a:pt x="63" y="6"/>
                    <a:pt x="34" y="8"/>
                    <a:pt x="0" y="26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33920" y="5334120"/>
            <a:ext cx="7596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3733920"/>
            <a:ext cx="1067040" cy="1523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737600">
            <a:off x="6781320" y="3809160"/>
            <a:ext cx="228600" cy="2286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embal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352680"/>
            <a:ext cx="76320" cy="3812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95680"/>
            <a:ext cx="304920" cy="1371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trasva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mponentes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bsuperficial (o intermed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áp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en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bterráne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ón directa sobre cau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78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Clasificación de la Escorrentí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520" y="1905120"/>
            <a:ext cx="6171840" cy="1294920"/>
            <a:chOff x="533520" y="1905120"/>
            <a:chExt cx="6171840" cy="1294920"/>
          </a:xfrm>
        </p:grpSpPr>
        <p:sp>
          <p:nvSpPr>
            <p:cNvPr id="162" name=""/>
            <p:cNvSpPr/>
            <p:nvPr/>
          </p:nvSpPr>
          <p:spPr>
            <a:xfrm>
              <a:off x="533520" y="1905120"/>
              <a:ext cx="6171840" cy="642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cc00"/>
                  </a:solidFill>
                  <a:latin typeface="Verdana"/>
                </a:rPr>
                <a:t>Precipitación directa sobre los cauces y sus afluent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6100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364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0628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2928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3652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">
            <a:hlinkClick r:id="" action="ppaction://hlinkshowjump?jump=nextslide"/>
          </p:cNvPr>
          <p:cNvSpPr/>
          <p:nvPr/>
        </p:nvSpPr>
        <p:spPr>
          <a:xfrm rot="1678200">
            <a:off x="990360" y="2819520"/>
            <a:ext cx="2941560" cy="1600200"/>
          </a:xfrm>
          <a:prstGeom prst="rightArrow">
            <a:avLst>
              <a:gd name="adj1" fmla="val 50000"/>
              <a:gd name="adj2" fmla="val 45956"/>
            </a:avLst>
          </a:prstGeom>
          <a:solidFill>
            <a:srgbClr val="00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Flujo superfic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181480"/>
            <a:ext cx="3276360" cy="990720"/>
          </a:xfrm>
          <a:prstGeom prst="rightArrow">
            <a:avLst>
              <a:gd name="adj1" fmla="val 50000"/>
              <a:gd name="adj2" fmla="val 82676"/>
            </a:avLst>
          </a:prstGeom>
          <a:solidFill>
            <a:srgbClr val="99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scorrentía </a:t>
            </a:r>
            <a:r>
              <a:rPr b="0" lang="es-ES_tradnl" sz="1600" spc="-1" strike="noStrike" u="sng">
                <a:solidFill>
                  <a:srgbClr val="cc6600"/>
                </a:solidFill>
                <a:uFillTx/>
                <a:latin typeface="Verdana"/>
                <a:hlinkClick r:id="rId2" action="ppaction://hlinksldjump"/>
              </a:rPr>
              <a:t>Subterránea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880" y="3200400"/>
            <a:ext cx="8534520" cy="2898720"/>
            <a:chOff x="380880" y="3200400"/>
            <a:chExt cx="8534520" cy="2898720"/>
          </a:xfrm>
        </p:grpSpPr>
        <p:sp>
          <p:nvSpPr>
            <p:cNvPr id="171" name=""/>
            <p:cNvSpPr/>
            <p:nvPr/>
          </p:nvSpPr>
          <p:spPr>
            <a:xfrm>
              <a:off x="4572000" y="51084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Verdana"/>
                </a:rPr>
                <a:t>Escorrentía            tot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3200400"/>
              <a:ext cx="7013520" cy="2898720"/>
            </a:xfrm>
            <a:custGeom>
              <a:avLst/>
              <a:gdLst/>
              <a:ahLst/>
              <a:rect l="l" t="t" r="r" b="b"/>
              <a:pathLst>
                <a:path w="4418" h="1826">
                  <a:moveTo>
                    <a:pt x="0" y="426"/>
                  </a:moveTo>
                  <a:cubicBezTo>
                    <a:pt x="73" y="460"/>
                    <a:pt x="153" y="475"/>
                    <a:pt x="225" y="508"/>
                  </a:cubicBezTo>
                  <a:cubicBezTo>
                    <a:pt x="336" y="558"/>
                    <a:pt x="443" y="585"/>
                    <a:pt x="568" y="603"/>
                  </a:cubicBezTo>
                  <a:cubicBezTo>
                    <a:pt x="697" y="642"/>
                    <a:pt x="828" y="674"/>
                    <a:pt x="957" y="710"/>
                  </a:cubicBezTo>
                  <a:cubicBezTo>
                    <a:pt x="1014" y="766"/>
                    <a:pt x="1072" y="831"/>
                    <a:pt x="1105" y="900"/>
                  </a:cubicBezTo>
                  <a:cubicBezTo>
                    <a:pt x="1133" y="957"/>
                    <a:pt x="1140" y="1008"/>
                    <a:pt x="1209" y="1036"/>
                  </a:cubicBezTo>
                  <a:cubicBezTo>
                    <a:pt x="1235" y="1047"/>
                    <a:pt x="1373" y="1062"/>
                    <a:pt x="1389" y="1063"/>
                  </a:cubicBezTo>
                  <a:cubicBezTo>
                    <a:pt x="1505" y="1079"/>
                    <a:pt x="1619" y="1098"/>
                    <a:pt x="1732" y="1131"/>
                  </a:cubicBezTo>
                  <a:cubicBezTo>
                    <a:pt x="1838" y="1195"/>
                    <a:pt x="1857" y="1328"/>
                    <a:pt x="1897" y="1430"/>
                  </a:cubicBezTo>
                  <a:cubicBezTo>
                    <a:pt x="1918" y="1487"/>
                    <a:pt x="2112" y="1541"/>
                    <a:pt x="2166" y="1593"/>
                  </a:cubicBezTo>
                  <a:cubicBezTo>
                    <a:pt x="2176" y="1625"/>
                    <a:pt x="2187" y="1663"/>
                    <a:pt x="2211" y="1688"/>
                  </a:cubicBezTo>
                  <a:cubicBezTo>
                    <a:pt x="2241" y="1720"/>
                    <a:pt x="2310" y="1729"/>
                    <a:pt x="2345" y="1742"/>
                  </a:cubicBezTo>
                  <a:cubicBezTo>
                    <a:pt x="2455" y="1782"/>
                    <a:pt x="2554" y="1810"/>
                    <a:pt x="2673" y="1823"/>
                  </a:cubicBezTo>
                  <a:cubicBezTo>
                    <a:pt x="2743" y="1818"/>
                    <a:pt x="2814" y="1826"/>
                    <a:pt x="2882" y="1810"/>
                  </a:cubicBezTo>
                  <a:cubicBezTo>
                    <a:pt x="2917" y="1802"/>
                    <a:pt x="2972" y="1755"/>
                    <a:pt x="2972" y="1755"/>
                  </a:cubicBezTo>
                  <a:cubicBezTo>
                    <a:pt x="3061" y="1635"/>
                    <a:pt x="3138" y="1546"/>
                    <a:pt x="3300" y="1498"/>
                  </a:cubicBezTo>
                  <a:cubicBezTo>
                    <a:pt x="3352" y="1448"/>
                    <a:pt x="3365" y="1373"/>
                    <a:pt x="3391" y="1309"/>
                  </a:cubicBezTo>
                  <a:cubicBezTo>
                    <a:pt x="3412" y="1184"/>
                    <a:pt x="3453" y="1138"/>
                    <a:pt x="3554" y="1051"/>
                  </a:cubicBezTo>
                  <a:cubicBezTo>
                    <a:pt x="3582" y="1007"/>
                    <a:pt x="3546" y="1069"/>
                    <a:pt x="3561" y="1046"/>
                  </a:cubicBezTo>
                  <a:cubicBezTo>
                    <a:pt x="3576" y="1023"/>
                    <a:pt x="3622" y="973"/>
                    <a:pt x="3643" y="915"/>
                  </a:cubicBezTo>
                  <a:cubicBezTo>
                    <a:pt x="3669" y="845"/>
                    <a:pt x="3649" y="763"/>
                    <a:pt x="3689" y="698"/>
                  </a:cubicBezTo>
                  <a:cubicBezTo>
                    <a:pt x="3701" y="679"/>
                    <a:pt x="3720" y="663"/>
                    <a:pt x="3734" y="644"/>
                  </a:cubicBezTo>
                  <a:cubicBezTo>
                    <a:pt x="3776" y="582"/>
                    <a:pt x="3802" y="511"/>
                    <a:pt x="3852" y="454"/>
                  </a:cubicBezTo>
                  <a:cubicBezTo>
                    <a:pt x="3886" y="418"/>
                    <a:pt x="4207" y="239"/>
                    <a:pt x="4221" y="232"/>
                  </a:cubicBezTo>
                  <a:lnTo>
                    <a:pt x="4418" y="0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5032440"/>
              <a:ext cx="2743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4727520"/>
              <a:ext cx="3505320" cy="304920"/>
            </a:xfrm>
            <a:custGeom>
              <a:avLst/>
              <a:gdLst/>
              <a:ahLst/>
              <a:rect l="l" t="t" r="r" b="b"/>
              <a:pathLst>
                <a:path w="2208" h="192">
                  <a:moveTo>
                    <a:pt x="2208" y="192"/>
                  </a:moveTo>
                  <a:cubicBezTo>
                    <a:pt x="2120" y="180"/>
                    <a:pt x="2032" y="168"/>
                    <a:pt x="1824" y="144"/>
                  </a:cubicBezTo>
                  <a:cubicBezTo>
                    <a:pt x="1616" y="120"/>
                    <a:pt x="1264" y="72"/>
                    <a:pt x="960" y="48"/>
                  </a:cubicBezTo>
                  <a:cubicBezTo>
                    <a:pt x="656" y="24"/>
                    <a:pt x="328" y="12"/>
                    <a:pt x="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4651200"/>
              <a:ext cx="2286000" cy="38124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0" y="240"/>
                  </a:moveTo>
                  <a:cubicBezTo>
                    <a:pt x="44" y="208"/>
                    <a:pt x="88" y="176"/>
                    <a:pt x="240" y="144"/>
                  </a:cubicBezTo>
                  <a:cubicBezTo>
                    <a:pt x="392" y="112"/>
                    <a:pt x="712" y="72"/>
                    <a:pt x="912" y="48"/>
                  </a:cubicBezTo>
                  <a:cubicBezTo>
                    <a:pt x="1112" y="24"/>
                    <a:pt x="1276" y="12"/>
                    <a:pt x="144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>
            <a:hlinkClick r:id="rId3" action="ppaction://hlinksldjump"/>
          </p:cNvPr>
          <p:cNvSpPr/>
          <p:nvPr/>
        </p:nvSpPr>
        <p:spPr>
          <a:xfrm rot="20785800">
            <a:off x="5791320" y="3588840"/>
            <a:ext cx="3047760" cy="1219320"/>
          </a:xfrm>
          <a:prstGeom prst="leftArrow">
            <a:avLst>
              <a:gd name="adj1" fmla="val 50000"/>
              <a:gd name="adj2" fmla="val 62489"/>
            </a:avLst>
          </a:prstGeom>
          <a:solidFill>
            <a:srgbClr val="eaeaea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Escorrentía subsuperfici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10T15:01:57Z</dcterms:modified>
  <cp:revision>22</cp:revision>
  <dc:subject/>
  <dc:title>PowerPoint Presentation</dc:title>
</cp:coreProperties>
</file>