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415-F231-4D73-9CFA-D7747356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246-35BF-490F-ACAB-D86A52A6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EE1F-2869-49A5-BFEA-785EBFC9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21F-FA04-4E13-80DC-BAD4E3AF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AE58-E403-4373-AC33-BFFA2CA9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F9E2-1DF6-41D5-92B7-5D977F08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74B5-B76F-4A17-AF4E-15195785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FABF-24E8-4BB2-BEF9-67D908AF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06A2-3599-4D88-8AD2-55ED3252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2A45-05B5-45A7-AD9B-C9A7845D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DB6D-E245-427B-9868-800707B1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BF4D-4A5D-40EB-B7AC-4810CAAC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2074-B8C1-4CDF-8F74-6D416097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0FCA-4F3C-4402-9999-E30A778D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FA49-3E70-4618-9897-015375A5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9688-B6CD-498A-8250-5A6A5675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BF7E-23A0-4D0C-8AC9-903AD6FA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6E2C-A62D-4E37-87FE-2A2E4073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558-EFBB-4AB3-87B4-BD356A8C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A9D-EB6E-4F0D-979B-C4A7D9F9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28E-17FB-43E8-BB3E-B884C2AE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2AD9-3694-498D-8B37-DAFE0077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D78-1B2A-49AE-A495-0999BC87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5E7B-9CC0-4322-988E-C0A2C807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A6DA-3440-400C-B6E7-97A1F03FCB5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CD87-01C1-4371-BB61-01D0F09033F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Humedad atmosfér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pieda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aneras de expresar la humedad atmosfé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nstrumentos de medi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actores que determinan la variabilidad de la hume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1430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ntidad de vapor de agua  que contiene el aire; es la fuente de precipitaciones; influye en los procesos de evapotranspiración y derretimiento de nie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 la mezcla de aire seco y vapor de agu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057400"/>
            <a:ext cx="7848720" cy="31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1-0,378e/P) P/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sión de aire seco(mb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:presión de vapor(mb)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s: ctte de gases para aire seco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temperatura en ºK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ire húmedo es menos denso que el aire seco a igual temperatura y pre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ESPECÍF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sa de vapor de agua que existe por unidad de masa total de aire húme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: Presión total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00320" y="2573280"/>
                <a:ext cx="616248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ABSOLU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: Humedad absoluta del aire en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(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: temperatura del aire en º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496960" y="1579680"/>
                <a:ext cx="29322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REL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humedad existente con respecto a la humedad máxima que puede tener una cantidad de volumen de aire a la mism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de satu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124080" y="3548160"/>
                <a:ext cx="25146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PRESIÓN DE VA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: Presión de vapor en milibare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de saturación del aire a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temperatura 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total del aire en 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termómetro de bulbo se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rmómetro de bulbo húme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62120" y="1676520"/>
                <a:ext cx="716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TEMPERATURA DE PUNTO DE  ROCÍ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mperatura a la cual debe enfriarse una masa de aire húmedo, para que ésta se sature a la misma presión y contenido de agua inicial que ten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838080" y="4343400"/>
            <a:ext cx="4114800" cy="2545920"/>
            <a:chOff x="838080" y="4343400"/>
            <a:chExt cx="4114800" cy="2545920"/>
          </a:xfrm>
        </p:grpSpPr>
        <p:sp>
          <p:nvSpPr>
            <p:cNvPr id="186" name=""/>
            <p:cNvSpPr/>
            <p:nvPr/>
          </p:nvSpPr>
          <p:spPr>
            <a:xfrm>
              <a:off x="1447560" y="4495680"/>
              <a:ext cx="0" cy="1981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7560" y="6476760"/>
              <a:ext cx="28954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47560" y="487656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1008"/>
                  </a:moveTo>
                  <a:cubicBezTo>
                    <a:pt x="112" y="1020"/>
                    <a:pt x="224" y="1032"/>
                    <a:pt x="384" y="960"/>
                  </a:cubicBezTo>
                  <a:cubicBezTo>
                    <a:pt x="544" y="888"/>
                    <a:pt x="800" y="736"/>
                    <a:pt x="960" y="576"/>
                  </a:cubicBezTo>
                  <a:cubicBezTo>
                    <a:pt x="1120" y="416"/>
                    <a:pt x="1232" y="208"/>
                    <a:pt x="1344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8480" y="6553080"/>
              <a:ext cx="914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T, T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e,e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447560" y="5486400"/>
              <a:ext cx="17524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24080" y="6553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360" y="54100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742840" y="60195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0040" y="54864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742840" y="6019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447560" y="6019560"/>
              <a:ext cx="12952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42640" y="5943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240" y="655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638320" y="4419720"/>
            <a:ext cx="1905480" cy="2469600"/>
            <a:chOff x="5638320" y="4419720"/>
            <a:chExt cx="1905480" cy="2469600"/>
          </a:xfrm>
        </p:grpSpPr>
        <p:sp>
          <p:nvSpPr>
            <p:cNvPr id="201" name=""/>
            <p:cNvSpPr/>
            <p:nvPr/>
          </p:nvSpPr>
          <p:spPr>
            <a:xfrm rot="5400000">
              <a:off x="5638320" y="5104800"/>
              <a:ext cx="761760" cy="762120"/>
            </a:xfrm>
            <a:prstGeom prst="rightArrowCallout">
              <a:avLst>
                <a:gd name="adj1" fmla="val 25014"/>
                <a:gd name="adj2" fmla="val 25012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638680" y="4419720"/>
              <a:ext cx="1905120" cy="2469600"/>
              <a:chOff x="5638680" y="4419720"/>
              <a:chExt cx="1905120" cy="2469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9920" y="5867280"/>
                <a:ext cx="1218960" cy="685440"/>
              </a:xfrm>
              <a:prstGeom prst="downArrowCallout">
                <a:avLst>
                  <a:gd name="adj1" fmla="val 44463"/>
                  <a:gd name="adj2" fmla="val 44459"/>
                  <a:gd name="adj3" fmla="val 16667"/>
                  <a:gd name="adj4" fmla="val 66667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6553080" y="4419720"/>
                <a:ext cx="990720" cy="533160"/>
                <a:chOff x="6553080" y="4419720"/>
                <a:chExt cx="990720" cy="533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553080" y="4419720"/>
                  <a:ext cx="990720" cy="533160"/>
                </a:xfrm>
                <a:prstGeom prst="flowChartAlternateProcess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883200" y="4495680"/>
                  <a:ext cx="528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6934320" y="495288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6781680" y="5257800"/>
                <a:ext cx="685800" cy="609120"/>
                <a:chOff x="6781680" y="5257800"/>
                <a:chExt cx="685800" cy="6091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781680" y="5257800"/>
                  <a:ext cx="685800" cy="609120"/>
                </a:xfrm>
                <a:prstGeom prst="downArrowCallout">
                  <a:avLst>
                    <a:gd name="adj1" fmla="val 28150"/>
                    <a:gd name="adj2" fmla="val 28147"/>
                    <a:gd name="adj3" fmla="val 16667"/>
                    <a:gd name="adj4" fmla="val 6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934320" y="5257800"/>
                  <a:ext cx="380880" cy="3362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1" lang="es-ES_tradnl" sz="14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5638680" y="51051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H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43600" y="6553080"/>
                <a:ext cx="129528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           </a:t>
                </a: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1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3200400" y="6019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80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45720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90920" y="4062240"/>
                <a:ext cx="1371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ALTURA DE AGUA CONDENSABLE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O PRECIPITABL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ámina de agua ( uniforme) que se forma 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superficie producto de la condensación del vapor de agua de la columna de aire húme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masa (dm) de vapor de agua sobre una superficie de 1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ado un incremento d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330280" y="2666880"/>
                <a:ext cx="425484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grando desde la superficie terrestre hasta una altura “h”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924200" y="2313000"/>
                <a:ext cx="45338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662940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[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dos e y T a distintas alturas se integra por ba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143000" y="5361120"/>
                <a:ext cx="25146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Σ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600200" y="1143000"/>
            <a:ext cx="914400" cy="1219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066680"/>
            <a:ext cx="914400" cy="152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2286000"/>
            <a:ext cx="9144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523880" y="2437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2362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57200" y="990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43200" y="2438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743200" y="11430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12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2860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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P,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as Fo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2971800" y="1523520"/>
            <a:ext cx="533520" cy="83844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99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914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828800"/>
            <a:ext cx="9144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752480"/>
            <a:ext cx="91440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572000" y="990720"/>
                <a:ext cx="4000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d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AΔ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537000" y="2971800"/>
                <a:ext cx="407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744560" y="4432320"/>
                <a:ext cx="431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895480" y="6019920"/>
                <a:ext cx="2743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nary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68580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/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029200" y="54864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562360" y="61722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esión de Vap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alor de Condensación y de evapor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nsidad del aire seco y aire húme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7120" y="304920"/>
                <a:ext cx="1895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581280" y="533520"/>
                <a:ext cx="3009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m>
                      <m:mr>
                        <m:e/>
                        <m:e/>
                        <m:e/>
                      </m:mr>
                    </m:m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96720" y="1981080"/>
                <a:ext cx="65516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α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38080" y="4038480"/>
                <a:ext cx="297180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657600" y="5943600"/>
                <a:ext cx="3962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257800" y="3657600"/>
                <a:ext cx="1905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8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esión de Vap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ión parcial ejercida por las moléculas de vapor de a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=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húme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se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990720"/>
            <a:ext cx="82296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sión de vapor saturado(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: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determinado volumen de aire a temperatura T puede absorber una máxima cantidad de vapor de agua (pto. de saturación)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895480" y="3476520"/>
                <a:ext cx="38862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1752480" y="5562720"/>
            <a:ext cx="510552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° en °C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m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762120" y="457200"/>
            <a:ext cx="7543440" cy="6095520"/>
            <a:chOff x="762120" y="457200"/>
            <a:chExt cx="7543440" cy="6095520"/>
          </a:xfrm>
        </p:grpSpPr>
        <p:grpSp>
          <p:nvGrpSpPr>
            <p:cNvPr id="98" name=""/>
            <p:cNvGrpSpPr/>
            <p:nvPr/>
          </p:nvGrpSpPr>
          <p:grpSpPr>
            <a:xfrm>
              <a:off x="768600" y="463320"/>
              <a:ext cx="7529400" cy="6082200"/>
              <a:chOff x="768600" y="463320"/>
              <a:chExt cx="7529400" cy="608220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768600" y="463320"/>
                <a:ext cx="7529400" cy="1116000"/>
                <a:chOff x="768600" y="463320"/>
                <a:chExt cx="7529400" cy="11160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Humedad de saturación del vapor de agua en el air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768600" y="1579680"/>
                <a:ext cx="3612600" cy="620280"/>
                <a:chOff x="768600" y="1579680"/>
                <a:chExt cx="3612600" cy="620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Temperatura º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381560" y="1579680"/>
                <a:ext cx="3916440" cy="620280"/>
                <a:chOff x="4381560" y="1579680"/>
                <a:chExt cx="3916440" cy="620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Saturación g · m</a:t>
                  </a:r>
                  <a:r>
                    <a:rPr b="0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-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768600" y="2200320"/>
                <a:ext cx="3612600" cy="620280"/>
                <a:chOff x="768600" y="2200320"/>
                <a:chExt cx="3612600" cy="620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 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381560" y="2200320"/>
                <a:ext cx="3916440" cy="620280"/>
                <a:chOff x="4381560" y="2200320"/>
                <a:chExt cx="3916440" cy="620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0.89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768600" y="2821320"/>
                <a:ext cx="3612600" cy="620280"/>
                <a:chOff x="768600" y="2821320"/>
                <a:chExt cx="3612600" cy="620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4381560" y="2821320"/>
                <a:ext cx="3916440" cy="620280"/>
                <a:chOff x="4381560" y="2821320"/>
                <a:chExt cx="3916440" cy="620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2.1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68600" y="3441960"/>
                <a:ext cx="3612600" cy="620280"/>
                <a:chOff x="768600" y="3441960"/>
                <a:chExt cx="3612600" cy="620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381560" y="3441960"/>
                <a:ext cx="3916440" cy="620280"/>
                <a:chOff x="4381560" y="3441960"/>
                <a:chExt cx="3916440" cy="620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4.8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768600" y="4062600"/>
                <a:ext cx="3612600" cy="620280"/>
                <a:chOff x="768600" y="4062600"/>
                <a:chExt cx="3612600" cy="620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381560" y="4062600"/>
                <a:ext cx="3916440" cy="620280"/>
                <a:chOff x="4381560" y="4062600"/>
                <a:chExt cx="3916440" cy="620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9.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68600" y="4683600"/>
                <a:ext cx="3612600" cy="620280"/>
                <a:chOff x="768600" y="4683600"/>
                <a:chExt cx="3612600" cy="620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381560" y="4683600"/>
                <a:ext cx="3916440" cy="620280"/>
                <a:chOff x="4381560" y="4683600"/>
                <a:chExt cx="3916440" cy="620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17.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68600" y="5304240"/>
                <a:ext cx="3612600" cy="620280"/>
                <a:chOff x="768600" y="5304240"/>
                <a:chExt cx="3612600" cy="620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381560" y="5304240"/>
                <a:ext cx="3916440" cy="620280"/>
                <a:chOff x="4381560" y="5304240"/>
                <a:chExt cx="3916440" cy="620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30.3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68600" y="5925240"/>
                <a:ext cx="3612600" cy="620280"/>
                <a:chOff x="768600" y="5925240"/>
                <a:chExt cx="3612600" cy="620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381560" y="5925240"/>
                <a:ext cx="3916440" cy="620280"/>
                <a:chOff x="4381560" y="5925240"/>
                <a:chExt cx="3916440" cy="620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51.1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762120" y="457200"/>
              <a:ext cx="7543440" cy="609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alor de Condensación y de Vaporiz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íquido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vap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gr (de agu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vapor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Vapor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Líq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 gr ( de agua condens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281952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6576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7432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1981080"/>
            <a:ext cx="3886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48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-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597-0,57T    para T en 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l Aire Seco y del aire Húme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nsidad aire se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Constante de los gases para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aire se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absoluta  º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141720" y="3105000"/>
                <a:ext cx="22525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el vapor de agu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676520" y="1295280"/>
                <a:ext cx="4114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57800" y="2819520"/>
                <a:ext cx="38574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685800" y="4572000"/>
            <a:ext cx="701028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. Universal de los gases 1,9857cal/(molºK)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 de los gases para el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peso molecular del vapor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: peso molecular del aire se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cte. gas aire seco (2,876*10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/(s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º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52578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76640" y="3103560"/>
                <a:ext cx="3741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15880" y="457200"/>
                <a:ext cx="59756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219320" y="5257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nsidad del vapor o humedad absoluta de la atmósf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362320" y="43430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22:06:38Z</dcterms:created>
  <dc:creator>martinez-pizarro</dc:creator>
  <dc:description/>
  <dc:language>en-US</dc:language>
  <cp:lastModifiedBy>xv</cp:lastModifiedBy>
  <dcterms:modified xsi:type="dcterms:W3CDTF">2004-08-08T20:01:56Z</dcterms:modified>
  <cp:revision>34</cp:revision>
  <dc:subject/>
  <dc:title>Presentación de PowerPoint</dc:title>
</cp:coreProperties>
</file>