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589-57E1-4880-B411-269198B0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739-D305-470E-B4F5-42268F6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D7D-9F0D-4502-BC52-C0C7864B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1A2-1128-4B87-B9A4-04B9EAD0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7C2-2189-4CA7-940F-70D893BF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200-DBD1-487E-9283-F0CC507A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6CD-25BC-465B-8208-29CA1F1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2FE-8D79-484D-BD37-E679352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CC5-691F-400F-B845-74F7179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F76-7728-4098-817E-C742D92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22E-82BA-4EA7-B336-0589F1F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8E6-AB7B-43A6-B285-AFBA0A3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65AB-AB3E-48E6-873A-A7E5B31DCE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45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82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85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88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91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0:42:36Z</dcterms:created>
  <dc:creator>Guillermo Osses</dc:creator>
  <dc:description/>
  <dc:language>en-US</dc:language>
  <cp:lastModifiedBy>xv</cp:lastModifiedBy>
  <dcterms:modified xsi:type="dcterms:W3CDTF">2004-08-18T22:34:25Z</dcterms:modified>
  <cp:revision>11</cp:revision>
  <dc:subject/>
  <dc:title>Presentación de PowerPoint</dc:title>
</cp:coreProperties>
</file>