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1E6-D794-4AB8-989A-4171384F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D98-C886-428E-A908-1043EC0C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FD0-79D4-43D7-83D3-7D053AB0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799-CCB5-473D-AA80-942D1384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297-5721-4367-94DF-DA43B449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A52-D4DB-41EB-85D4-1D21ACD5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086-A06B-409F-9460-B9D4AB75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219-2CFC-4A95-AAED-848A6FD6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B57-4637-44BC-ABF3-30D5F98A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135-D2F7-4E84-86B6-566EC95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2D6-9375-4CB1-970B-5CA5B71D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CA3-D79E-498F-AC5F-1DF81ED0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33A2-55C3-48E3-842B-DE7160597D8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45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80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82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85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88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91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0:42:36Z</dcterms:created>
  <dc:creator>Guillermo Osses</dc:creator>
  <dc:description/>
  <dc:language>en-US</dc:language>
  <cp:lastModifiedBy>xv</cp:lastModifiedBy>
  <dcterms:modified xsi:type="dcterms:W3CDTF">2004-08-18T22:34:25Z</dcterms:modified>
  <cp:revision>11</cp:revision>
  <dc:subject/>
  <dc:title>Presentación de PowerPoint</dc:title>
</cp:coreProperties>
</file>