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theme/theme1.xml" ContentType="application/vnd.openxmlformats-officedocument.theme+xml"/>
  <Override PartName="/ppt/_rels/presentation.xml.rels" ContentType="application/vnd.openxmlformats-package.relationships+xml"/>
  <Override PartName="/ppt/slideLayouts/slideLayout1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6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1.xml.rels" ContentType="application/vnd.openxmlformats-package.relationships+xml"/>
  <Override PartName="/ppt/slideLayouts/slideLayout9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12.xml" ContentType="application/vnd.openxmlformats-officedocument.presentationml.slideLayout+xml"/>
  <Override PartName="/ppt/media/image1.jpeg" ContentType="image/jpeg"/>
  <Override PartName="/ppt/media/image2.png" ContentType="image/png"/>
  <Override PartName="/ppt/media/image3.jpeg" ContentType="image/jpeg"/>
  <Override PartName="/ppt/media/image4.jpeg" ContentType="image/jpeg"/>
  <Override PartName="/ppt/media/image5.wmf" ContentType="image/x-wmf"/>
  <Override PartName="/ppt/embeddings/oleObject1.xlsx" ContentType="application/vnd.openxmlformats-officedocument.spreadsheetml.sheet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8.xml.rels" ContentType="application/vnd.openxmlformats-package.relationships+xml"/>
  <Override PartName="/ppt/slides/_rels/slide7.xml.rels" ContentType="application/vnd.openxmlformats-package.relationships+xml"/>
  <Override PartName="/ppt/slides/_rels/slide6.xml.rels" ContentType="application/vnd.openxmlformats-package.relationships+xml"/>
  <Override PartName="/ppt/slides/_rels/slide3.xml.rels" ContentType="application/vnd.openxmlformats-package.relationships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  <Override PartName="/ppt/slides/slide6.xml" ContentType="application/vnd.openxmlformats-officedocument.presentationml.slide+xml"/>
  <Override PartName="/ppt/slides/slide7.xml" ContentType="application/vnd.openxmlformats-officedocument.presentationml.slide+xml"/>
  <Override PartName="/ppt/slides/slide8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</p:sldMasterIdLst>
  <p:sldIdLst>
    <p:sldId id="256" r:id="rId3"/>
    <p:sldId id="257" r:id="rId4"/>
    <p:sldId id="258" r:id="rId5"/>
    <p:sldId id="259" r:id="rId6"/>
    <p:sldId id="260" r:id="rId7"/>
    <p:sldId id="261" r:id="rId8"/>
    <p:sldId id="262" r:id="rId9"/>
    <p:sldId id="263" r:id="rId10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" Target="slides/slide1.xml"/><Relationship Id="rId4" Type="http://schemas.openxmlformats.org/officeDocument/2006/relationships/slide" Target="slides/slide2.xml"/><Relationship Id="rId5" Type="http://schemas.openxmlformats.org/officeDocument/2006/relationships/slide" Target="slides/slide3.xml"/><Relationship Id="rId6" Type="http://schemas.openxmlformats.org/officeDocument/2006/relationships/slide" Target="slides/slide4.xml"/><Relationship Id="rId7" Type="http://schemas.openxmlformats.org/officeDocument/2006/relationships/slide" Target="slides/slide5.xml"/><Relationship Id="rId8" Type="http://schemas.openxmlformats.org/officeDocument/2006/relationships/slide" Target="slides/slide6.xml"/><Relationship Id="rId9" Type="http://schemas.openxmlformats.org/officeDocument/2006/relationships/slide" Target="slides/slide7.xml"/><Relationship Id="rId10" Type="http://schemas.openxmlformats.org/officeDocument/2006/relationships/slide" Target="slides/slide8.xml"/><Relationship Id="rId11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99CACEAB-4E44-400D-A252-F52D8352A665}" type="slidenum">
              <a:t>&lt;#&gt;</a:t>
            </a:fld>
          </a:p>
        </p:txBody>
      </p:sp>
      <p:sp>
        <p:nvSpPr>
          <p:cNvPr id="4" name="PlaceHolder 3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6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7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8" name="PlaceHolder 3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C2E53BC-016D-4439-9C75-B67C187EEBD2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2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3" name="PlaceHolder 5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C9F2A1DD-3885-4788-A987-609232CEC02C}" type="slidenum">
              <a:t>&lt;#&gt;</a:t>
            </a:fld>
          </a:p>
        </p:txBody>
      </p:sp>
      <p:sp>
        <p:nvSpPr>
          <p:cNvPr id="9" name="PlaceHolder 8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6" name="PlaceHolder 3"/>
          <p:cNvSpPr>
            <a:spLocks noGrp="1"/>
          </p:cNvSpPr>
          <p:nvPr>
            <p:ph/>
          </p:nvPr>
        </p:nvSpPr>
        <p:spPr>
          <a:xfrm>
            <a:off x="331380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7" name="PlaceHolder 4"/>
          <p:cNvSpPr>
            <a:spLocks noGrp="1"/>
          </p:cNvSpPr>
          <p:nvPr>
            <p:ph/>
          </p:nvPr>
        </p:nvSpPr>
        <p:spPr>
          <a:xfrm>
            <a:off x="5941440" y="198108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8" name="PlaceHolder 5"/>
          <p:cNvSpPr>
            <a:spLocks noGrp="1"/>
          </p:cNvSpPr>
          <p:nvPr>
            <p:ph/>
          </p:nvPr>
        </p:nvSpPr>
        <p:spPr>
          <a:xfrm>
            <a:off x="685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9" name="PlaceHolder 6"/>
          <p:cNvSpPr>
            <a:spLocks noGrp="1"/>
          </p:cNvSpPr>
          <p:nvPr>
            <p:ph/>
          </p:nvPr>
        </p:nvSpPr>
        <p:spPr>
          <a:xfrm>
            <a:off x="331380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0" name="PlaceHolder 7"/>
          <p:cNvSpPr>
            <a:spLocks noGrp="1"/>
          </p:cNvSpPr>
          <p:nvPr>
            <p:ph/>
          </p:nvPr>
        </p:nvSpPr>
        <p:spPr>
          <a:xfrm>
            <a:off x="5941440" y="4130640"/>
            <a:ext cx="250236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859D6F-43D5-4BFA-A054-782DF4AACC6D}" type="slidenum">
              <a:t>&lt;#&gt;</a:t>
            </a:fld>
          </a:p>
        </p:txBody>
      </p:sp>
      <p:sp>
        <p:nvSpPr>
          <p:cNvPr id="11" name="PlaceHolder 10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2"/>
          <p:cNvSpPr>
            <a:spLocks noGrp="1"/>
          </p:cNvSpPr>
          <p:nvPr>
            <p:ph type="subTitle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799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192EA6F1-C2B1-4C68-B440-30A680637F09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41C89DEE-2671-4E2C-A215-D65D95554661}" type="slidenum">
              <a:t>&lt;#&gt;</a:t>
            </a:fld>
          </a:p>
        </p:txBody>
      </p:sp>
      <p:sp>
        <p:nvSpPr>
          <p:cNvPr id="6" name="PlaceHolder 5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1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032BE531-026B-4111-8397-AF37A4C53513}" type="slidenum">
              <a:t>&lt;#&gt;</a:t>
            </a:fld>
          </a:p>
        </p:txBody>
      </p:sp>
      <p:sp>
        <p:nvSpPr>
          <p:cNvPr id="7" name="PlaceHolder 6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AA62D403-3CF0-4D73-9B15-714275CCA282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3" name="PlaceHolder 1"/>
          <p:cNvSpPr>
            <a:spLocks noGrp="1"/>
          </p:cNvSpPr>
          <p:nvPr>
            <p:ph type="subTitle"/>
          </p:nvPr>
        </p:nvSpPr>
        <p:spPr>
          <a:xfrm>
            <a:off x="685800" y="609120"/>
            <a:ext cx="77724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79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6BB11DC-343F-4C70-9719-90DCC217A5A9}" type="slidenum">
              <a:t>&lt;#&gt;</a:t>
            </a:fld>
          </a:p>
        </p:txBody>
      </p:sp>
      <p:sp>
        <p:nvSpPr>
          <p:cNvPr id="5" name="PlaceHolder 4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5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6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7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F345BED0-0119-4095-AF89-EE86431E43A2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8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9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0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1" name="PlaceHolder 4"/>
          <p:cNvSpPr>
            <a:spLocks noGrp="1"/>
          </p:cNvSpPr>
          <p:nvPr>
            <p:ph/>
          </p:nvPr>
        </p:nvSpPr>
        <p:spPr>
          <a:xfrm>
            <a:off x="4668480" y="413064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647C264D-7984-43C7-ACC0-DA1D74F7DF8B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2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3" name="PlaceHolder 2"/>
          <p:cNvSpPr>
            <a:spLocks noGrp="1"/>
          </p:cNvSpPr>
          <p:nvPr>
            <p:ph/>
          </p:nvPr>
        </p:nvSpPr>
        <p:spPr>
          <a:xfrm>
            <a:off x="68580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4" name="PlaceHolder 3"/>
          <p:cNvSpPr>
            <a:spLocks noGrp="1"/>
          </p:cNvSpPr>
          <p:nvPr>
            <p:ph/>
          </p:nvPr>
        </p:nvSpPr>
        <p:spPr>
          <a:xfrm>
            <a:off x="4668480" y="1981080"/>
            <a:ext cx="37926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5" name="PlaceHolder 4"/>
          <p:cNvSpPr>
            <a:spLocks noGrp="1"/>
          </p:cNvSpPr>
          <p:nvPr>
            <p:ph/>
          </p:nvPr>
        </p:nvSpPr>
        <p:spPr>
          <a:xfrm>
            <a:off x="685800" y="4130640"/>
            <a:ext cx="7772400" cy="196272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/>
          </a:bodyPr>
          <a:p>
            <a:pPr indent="0">
              <a:spcBef>
                <a:spcPts val="799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2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3"/>
          </p:nvPr>
        </p:nvSpPr>
        <p:spPr/>
        <p:txBody>
          <a:bodyPr/>
          <a:p>
            <a:fld id="{B1843CCF-469B-473D-8504-9878FA89A67D}" type="slidenum">
              <a:t>&lt;#&gt;</a:t>
            </a:fld>
          </a:p>
        </p:txBody>
      </p:sp>
      <p:sp>
        <p:nvSpPr>
          <p:cNvPr id="8" name="PlaceHolder 7"/>
          <p:cNvSpPr>
            <a:spLocks noGrp="1"/>
          </p:cNvSpPr>
          <p:nvPr>
            <p:ph type="dt" idx="1"/>
          </p:nvPr>
        </p:nvSpPr>
        <p:spPr/>
        <p:txBody>
          <a:bodyPr/>
          <a:p>
            <a:r>
              <a:rPr lang="en-US"/>
              <a:t/>
            </a:r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slideLayout" Target="../slideLayouts/slideLayout1.xml"/><Relationship Id="rId3" Type="http://schemas.openxmlformats.org/officeDocument/2006/relationships/slideLayout" Target="../slideLayouts/slideLayout2.xml"/><Relationship Id="rId4" Type="http://schemas.openxmlformats.org/officeDocument/2006/relationships/slideLayout" Target="../slideLayouts/slideLayout3.xml"/><Relationship Id="rId5" Type="http://schemas.openxmlformats.org/officeDocument/2006/relationships/slideLayout" Target="../slideLayouts/slideLayout4.xml"/><Relationship Id="rId6" Type="http://schemas.openxmlformats.org/officeDocument/2006/relationships/slideLayout" Target="../slideLayouts/slideLayout5.xml"/><Relationship Id="rId7" Type="http://schemas.openxmlformats.org/officeDocument/2006/relationships/slideLayout" Target="../slideLayouts/slideLayout6.xml"/><Relationship Id="rId8" Type="http://schemas.openxmlformats.org/officeDocument/2006/relationships/slideLayout" Target="../slideLayouts/slideLayout7.xml"/><Relationship Id="rId9" Type="http://schemas.openxmlformats.org/officeDocument/2006/relationships/slideLayout" Target="../slideLayouts/slideLayout8.xml"/><Relationship Id="rId10" Type="http://schemas.openxmlformats.org/officeDocument/2006/relationships/slideLayout" Target="../slideLayouts/slideLayout9.xml"/><Relationship Id="rId11" Type="http://schemas.openxmlformats.org/officeDocument/2006/relationships/slideLayout" Target="../slideLayouts/slideLayout10.xml"/><Relationship Id="rId12" Type="http://schemas.openxmlformats.org/officeDocument/2006/relationships/slideLayout" Target="../slideLayouts/slideLayout11.xml"/><Relationship Id="rId13" Type="http://schemas.openxmlformats.org/officeDocument/2006/relationships/slideLayout" Target="../slideLayouts/slideLayout12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PlaceHolder 1"/>
          <p:cNvSpPr>
            <a:spLocks noGrp="1"/>
          </p:cNvSpPr>
          <p:nvPr>
            <p:ph type="title"/>
          </p:nvPr>
        </p:nvSpPr>
        <p:spPr>
          <a:xfrm>
            <a:off x="685800" y="60912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ctr">
            <a:noAutofit/>
          </a:bodyPr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4400" spc="-1" strike="noStrike">
                <a:solidFill>
                  <a:srgbClr val="000000"/>
                </a:solidFill>
                <a:latin typeface="Times New Roman"/>
              </a:rPr>
              <a:t>Click to edit the title text format</a:t>
            </a:r>
            <a:endParaRPr b="0" lang="en-US" sz="4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" name="PlaceHolder 2"/>
          <p:cNvSpPr>
            <a:spLocks noGrp="1"/>
          </p:cNvSpPr>
          <p:nvPr>
            <p:ph type="body"/>
          </p:nvPr>
        </p:nvSpPr>
        <p:spPr>
          <a:xfrm>
            <a:off x="685800" y="1981080"/>
            <a:ext cx="7772400" cy="41148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rmAutofit fontScale="99000"/>
          </a:bodyPr>
          <a:p>
            <a:pPr marL="339480" indent="-3394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Click to edit the outline text format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1" marL="735480" indent="-28296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con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2" marL="113148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Third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3" marL="158400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our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4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Fif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5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ix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  <a:p>
            <a:pPr lvl="6" marL="2036520" indent="-226080">
              <a:spcBef>
                <a:spcPts val="799"/>
              </a:spcBef>
              <a:buClr>
                <a:srgbClr val="000000"/>
              </a:buClr>
              <a:buFont typeface="Times New Roman"/>
              <a:buChar char="»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200" spc="-1" strike="noStrike">
                <a:solidFill>
                  <a:srgbClr val="000000"/>
                </a:solidFill>
                <a:latin typeface="Times New Roman"/>
              </a:rPr>
              <a:t>Seventh Outline Level</a:t>
            </a:r>
            <a:endParaRPr b="0" lang="en-US" sz="32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2" name="PlaceHolder 3"/>
          <p:cNvSpPr>
            <a:spLocks noGrp="1"/>
          </p:cNvSpPr>
          <p:nvPr>
            <p:ph type="dt" idx="1"/>
          </p:nvPr>
        </p:nvSpPr>
        <p:spPr>
          <a:xfrm>
            <a:off x="68580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date/time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3" name="PlaceHolder 4"/>
          <p:cNvSpPr>
            <a:spLocks noGrp="1"/>
          </p:cNvSpPr>
          <p:nvPr>
            <p:ph type="ftr" idx="2"/>
          </p:nvPr>
        </p:nvSpPr>
        <p:spPr>
          <a:xfrm>
            <a:off x="3124080" y="6248520"/>
            <a:ext cx="289584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footer&gt;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" name="PlaceHolder 5"/>
          <p:cNvSpPr>
            <a:spLocks noGrp="1"/>
          </p:cNvSpPr>
          <p:nvPr>
            <p:ph type="sldNum" idx="3"/>
          </p:nvPr>
        </p:nvSpPr>
        <p:spPr>
          <a:xfrm>
            <a:off x="6553080" y="6248520"/>
            <a:ext cx="1905120" cy="457200"/>
          </a:xfrm>
          <a:prstGeom prst="rect">
            <a:avLst/>
          </a:prstGeom>
          <a:noFill/>
          <a:ln w="0">
            <a:noFill/>
          </a:ln>
        </p:spPr>
        <p:txBody>
          <a:bodyPr lIns="90000" rIns="90000" tIns="46800" bIns="46800" anchor="t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s-ES" sz="1400" spc="-1" strike="noStrike">
                <a:solidFill>
                  <a:srgbClr val="000000"/>
                </a:solidFill>
                <a:latin typeface="Times New Roman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910BCAA-0752-4FC1-8953-E2CEA23F4A3A}" type="slidenum">
              <a:rPr b="0" lang="es-ES" sz="1400" spc="-1" strike="noStrike">
                <a:solidFill>
                  <a:srgbClr val="000000"/>
                </a:solidFill>
                <a:latin typeface="Times New Roman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2"/>
    <p:sldLayoutId id="2147483650" r:id="rId3"/>
    <p:sldLayoutId id="2147483651" r:id="rId4"/>
    <p:sldLayoutId id="2147483652" r:id="rId5"/>
    <p:sldLayoutId id="2147483653" r:id="rId6"/>
    <p:sldLayoutId id="2147483654" r:id="rId7"/>
    <p:sldLayoutId id="2147483655" r:id="rId8"/>
    <p:sldLayoutId id="2147483656" r:id="rId9"/>
    <p:sldLayoutId id="2147483657" r:id="rId10"/>
    <p:sldLayoutId id="2147483658" r:id="rId11"/>
    <p:sldLayoutId id="2147483659" r:id="rId12"/>
    <p:sldLayoutId id="2147483660" r:id="rId13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1.jpeg"/><Relationship Id="rId2" Type="http://schemas.openxmlformats.org/officeDocument/2006/relationships/slideLayout" Target="../slideLayouts/slideLayout1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2.png"/><Relationship Id="rId2" Type="http://schemas.openxmlformats.org/officeDocument/2006/relationships/slideLayout" Target="../slideLayouts/slideLayout1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3.jpeg"/><Relationship Id="rId2" Type="http://schemas.openxmlformats.org/officeDocument/2006/relationships/slideLayout" Target="../slideLayouts/slideLayout1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4.jpeg"/><Relationship Id="rId2" Type="http://schemas.openxmlformats.org/officeDocument/2006/relationships/slideLayout" Target="../slideLayouts/slideLayout1.xml"/>
</Relationships>
</file>

<file path=ppt/slides/_rels/slide6.xml.rels><?xml version="1.0" encoding="UTF-8"?>
<Relationships xmlns="http://schemas.openxmlformats.org/package/2006/relationships"><Relationship Id="rId1" Type="http://schemas.openxmlformats.org/officeDocument/2006/relationships/package" Target="../embeddings/oleObject1.xlsx"/><Relationship Id="rId2" Type="http://schemas.openxmlformats.org/officeDocument/2006/relationships/image" Target="../media/image5.wmf"/><Relationship Id="rId3" Type="http://schemas.openxmlformats.org/officeDocument/2006/relationships/slideLayout" Target="../slideLayouts/slideLayout1.xml"/>
</Relationships>
</file>

<file path=ppt/slides/_rels/slide7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_rels/slide8.xml.rels><?xml version="1.0" encoding="UTF-8"?>
<Relationships xmlns="http://schemas.openxmlformats.org/package/2006/relationships"><Relationship Id="rId1" Type="http://schemas.openxmlformats.org/officeDocument/2006/relationships/slideLayout" Target="../slideLayouts/slideLayout1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41" name="radar" descr=""/>
          <p:cNvPicPr/>
          <p:nvPr/>
        </p:nvPicPr>
        <p:blipFill>
          <a:blip r:embed="rId1"/>
          <a:stretch/>
        </p:blipFill>
        <p:spPr>
          <a:xfrm>
            <a:off x="1066680" y="1066680"/>
            <a:ext cx="7239240" cy="43833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2" name=""/>
          <p:cNvSpPr/>
          <p:nvPr/>
        </p:nvSpPr>
        <p:spPr>
          <a:xfrm>
            <a:off x="1133640" y="2325600"/>
            <a:ext cx="7457760" cy="1613160"/>
          </a:xfrm>
          <a:custGeom>
            <a:avLst/>
            <a:gdLst/>
            <a:ahLst/>
            <a:rect l="l" t="t" r="r" b="b"/>
            <a:pathLst>
              <a:path w="4698" h="1016">
                <a:moveTo>
                  <a:pt x="0" y="983"/>
                </a:moveTo>
                <a:cubicBezTo>
                  <a:pt x="16" y="978"/>
                  <a:pt x="34" y="976"/>
                  <a:pt x="48" y="967"/>
                </a:cubicBezTo>
                <a:cubicBezTo>
                  <a:pt x="64" y="956"/>
                  <a:pt x="97" y="935"/>
                  <a:pt x="97" y="935"/>
                </a:cubicBezTo>
                <a:cubicBezTo>
                  <a:pt x="115" y="908"/>
                  <a:pt x="127" y="895"/>
                  <a:pt x="154" y="878"/>
                </a:cubicBezTo>
                <a:cubicBezTo>
                  <a:pt x="187" y="828"/>
                  <a:pt x="150" y="874"/>
                  <a:pt x="194" y="846"/>
                </a:cubicBezTo>
                <a:cubicBezTo>
                  <a:pt x="209" y="837"/>
                  <a:pt x="211" y="821"/>
                  <a:pt x="227" y="813"/>
                </a:cubicBezTo>
                <a:cubicBezTo>
                  <a:pt x="242" y="806"/>
                  <a:pt x="275" y="797"/>
                  <a:pt x="275" y="797"/>
                </a:cubicBezTo>
                <a:cubicBezTo>
                  <a:pt x="296" y="799"/>
                  <a:pt x="352" y="799"/>
                  <a:pt x="381" y="813"/>
                </a:cubicBezTo>
                <a:cubicBezTo>
                  <a:pt x="411" y="828"/>
                  <a:pt x="443" y="860"/>
                  <a:pt x="470" y="878"/>
                </a:cubicBezTo>
                <a:cubicBezTo>
                  <a:pt x="510" y="904"/>
                  <a:pt x="555" y="921"/>
                  <a:pt x="600" y="935"/>
                </a:cubicBezTo>
                <a:cubicBezTo>
                  <a:pt x="637" y="960"/>
                  <a:pt x="672" y="963"/>
                  <a:pt x="713" y="975"/>
                </a:cubicBezTo>
                <a:cubicBezTo>
                  <a:pt x="753" y="986"/>
                  <a:pt x="780" y="1007"/>
                  <a:pt x="819" y="1016"/>
                </a:cubicBezTo>
                <a:cubicBezTo>
                  <a:pt x="1077" y="1009"/>
                  <a:pt x="1057" y="1014"/>
                  <a:pt x="1216" y="992"/>
                </a:cubicBezTo>
                <a:cubicBezTo>
                  <a:pt x="1271" y="977"/>
                  <a:pt x="1327" y="953"/>
                  <a:pt x="1378" y="927"/>
                </a:cubicBezTo>
                <a:cubicBezTo>
                  <a:pt x="1413" y="909"/>
                  <a:pt x="1431" y="869"/>
                  <a:pt x="1467" y="854"/>
                </a:cubicBezTo>
                <a:cubicBezTo>
                  <a:pt x="1511" y="835"/>
                  <a:pt x="1542" y="829"/>
                  <a:pt x="1589" y="805"/>
                </a:cubicBezTo>
                <a:cubicBezTo>
                  <a:pt x="1632" y="783"/>
                  <a:pt x="1686" y="800"/>
                  <a:pt x="1735" y="797"/>
                </a:cubicBezTo>
                <a:cubicBezTo>
                  <a:pt x="1781" y="767"/>
                  <a:pt x="1830" y="741"/>
                  <a:pt x="1881" y="724"/>
                </a:cubicBezTo>
                <a:cubicBezTo>
                  <a:pt x="1915" y="673"/>
                  <a:pt x="1978" y="638"/>
                  <a:pt x="2035" y="619"/>
                </a:cubicBezTo>
                <a:cubicBezTo>
                  <a:pt x="2197" y="630"/>
                  <a:pt x="2125" y="625"/>
                  <a:pt x="2230" y="659"/>
                </a:cubicBezTo>
                <a:cubicBezTo>
                  <a:pt x="2285" y="697"/>
                  <a:pt x="2260" y="686"/>
                  <a:pt x="2302" y="700"/>
                </a:cubicBezTo>
                <a:cubicBezTo>
                  <a:pt x="2332" y="728"/>
                  <a:pt x="2351" y="735"/>
                  <a:pt x="2392" y="748"/>
                </a:cubicBezTo>
                <a:cubicBezTo>
                  <a:pt x="2400" y="751"/>
                  <a:pt x="2416" y="756"/>
                  <a:pt x="2416" y="756"/>
                </a:cubicBezTo>
                <a:cubicBezTo>
                  <a:pt x="2448" y="788"/>
                  <a:pt x="2477" y="831"/>
                  <a:pt x="2521" y="846"/>
                </a:cubicBezTo>
                <a:cubicBezTo>
                  <a:pt x="2561" y="883"/>
                  <a:pt x="2637" y="874"/>
                  <a:pt x="2684" y="878"/>
                </a:cubicBezTo>
                <a:cubicBezTo>
                  <a:pt x="2751" y="895"/>
                  <a:pt x="2750" y="893"/>
                  <a:pt x="2838" y="886"/>
                </a:cubicBezTo>
                <a:cubicBezTo>
                  <a:pt x="2886" y="870"/>
                  <a:pt x="2888" y="864"/>
                  <a:pt x="2927" y="838"/>
                </a:cubicBezTo>
                <a:cubicBezTo>
                  <a:pt x="2932" y="830"/>
                  <a:pt x="2936" y="820"/>
                  <a:pt x="2943" y="813"/>
                </a:cubicBezTo>
                <a:cubicBezTo>
                  <a:pt x="2956" y="799"/>
                  <a:pt x="2984" y="773"/>
                  <a:pt x="2984" y="773"/>
                </a:cubicBezTo>
                <a:cubicBezTo>
                  <a:pt x="2994" y="742"/>
                  <a:pt x="3014" y="727"/>
                  <a:pt x="3032" y="700"/>
                </a:cubicBezTo>
                <a:cubicBezTo>
                  <a:pt x="3046" y="657"/>
                  <a:pt x="3035" y="682"/>
                  <a:pt x="3073" y="627"/>
                </a:cubicBezTo>
                <a:cubicBezTo>
                  <a:pt x="3097" y="592"/>
                  <a:pt x="3108" y="551"/>
                  <a:pt x="3138" y="521"/>
                </a:cubicBezTo>
                <a:cubicBezTo>
                  <a:pt x="3158" y="462"/>
                  <a:pt x="3129" y="535"/>
                  <a:pt x="3170" y="473"/>
                </a:cubicBezTo>
                <a:cubicBezTo>
                  <a:pt x="3175" y="466"/>
                  <a:pt x="3174" y="456"/>
                  <a:pt x="3178" y="448"/>
                </a:cubicBezTo>
                <a:cubicBezTo>
                  <a:pt x="3186" y="432"/>
                  <a:pt x="3210" y="405"/>
                  <a:pt x="3219" y="392"/>
                </a:cubicBezTo>
                <a:cubicBezTo>
                  <a:pt x="3230" y="376"/>
                  <a:pt x="3245" y="362"/>
                  <a:pt x="3251" y="343"/>
                </a:cubicBezTo>
                <a:cubicBezTo>
                  <a:pt x="3254" y="335"/>
                  <a:pt x="3255" y="326"/>
                  <a:pt x="3259" y="319"/>
                </a:cubicBezTo>
                <a:cubicBezTo>
                  <a:pt x="3273" y="296"/>
                  <a:pt x="3299" y="276"/>
                  <a:pt x="3316" y="254"/>
                </a:cubicBezTo>
                <a:cubicBezTo>
                  <a:pt x="3319" y="251"/>
                  <a:pt x="3356" y="195"/>
                  <a:pt x="3365" y="181"/>
                </a:cubicBezTo>
                <a:cubicBezTo>
                  <a:pt x="3375" y="167"/>
                  <a:pt x="3393" y="161"/>
                  <a:pt x="3405" y="148"/>
                </a:cubicBezTo>
                <a:cubicBezTo>
                  <a:pt x="3421" y="99"/>
                  <a:pt x="3402" y="146"/>
                  <a:pt x="3430" y="108"/>
                </a:cubicBezTo>
                <a:cubicBezTo>
                  <a:pt x="3464" y="63"/>
                  <a:pt x="3459" y="52"/>
                  <a:pt x="3511" y="35"/>
                </a:cubicBezTo>
                <a:cubicBezTo>
                  <a:pt x="3563" y="0"/>
                  <a:pt x="3573" y="12"/>
                  <a:pt x="3649" y="19"/>
                </a:cubicBezTo>
                <a:cubicBezTo>
                  <a:pt x="3686" y="31"/>
                  <a:pt x="3680" y="45"/>
                  <a:pt x="3697" y="75"/>
                </a:cubicBezTo>
                <a:cubicBezTo>
                  <a:pt x="3724" y="121"/>
                  <a:pt x="3756" y="168"/>
                  <a:pt x="3795" y="205"/>
                </a:cubicBezTo>
                <a:cubicBezTo>
                  <a:pt x="3820" y="256"/>
                  <a:pt x="3866" y="284"/>
                  <a:pt x="3892" y="335"/>
                </a:cubicBezTo>
                <a:cubicBezTo>
                  <a:pt x="3908" y="367"/>
                  <a:pt x="3923" y="408"/>
                  <a:pt x="3949" y="432"/>
                </a:cubicBezTo>
                <a:cubicBezTo>
                  <a:pt x="3960" y="467"/>
                  <a:pt x="3987" y="502"/>
                  <a:pt x="4022" y="513"/>
                </a:cubicBezTo>
                <a:cubicBezTo>
                  <a:pt x="4037" y="559"/>
                  <a:pt x="4067" y="591"/>
                  <a:pt x="4095" y="627"/>
                </a:cubicBezTo>
                <a:cubicBezTo>
                  <a:pt x="4134" y="678"/>
                  <a:pt x="4159" y="734"/>
                  <a:pt x="4224" y="756"/>
                </a:cubicBezTo>
                <a:cubicBezTo>
                  <a:pt x="4259" y="779"/>
                  <a:pt x="4288" y="791"/>
                  <a:pt x="4322" y="813"/>
                </a:cubicBezTo>
                <a:cubicBezTo>
                  <a:pt x="4362" y="810"/>
                  <a:pt x="4403" y="812"/>
                  <a:pt x="4443" y="805"/>
                </a:cubicBezTo>
                <a:cubicBezTo>
                  <a:pt x="4453" y="803"/>
                  <a:pt x="4459" y="793"/>
                  <a:pt x="4468" y="789"/>
                </a:cubicBezTo>
                <a:cubicBezTo>
                  <a:pt x="4517" y="768"/>
                  <a:pt x="4570" y="753"/>
                  <a:pt x="4622" y="740"/>
                </a:cubicBezTo>
                <a:cubicBezTo>
                  <a:pt x="4630" y="735"/>
                  <a:pt x="4637" y="728"/>
                  <a:pt x="4646" y="724"/>
                </a:cubicBezTo>
                <a:cubicBezTo>
                  <a:pt x="4698" y="701"/>
                  <a:pt x="4695" y="726"/>
                  <a:pt x="4695" y="700"/>
                </a:cubicBezTo>
              </a:path>
            </a:pathLst>
          </a:custGeom>
          <a:noFill/>
          <a:ln w="5724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43" name=""/>
          <p:cNvSpPr/>
          <p:nvPr/>
        </p:nvSpPr>
        <p:spPr>
          <a:xfrm>
            <a:off x="1523880" y="3200400"/>
            <a:ext cx="76320" cy="380880"/>
          </a:xfrm>
          <a:prstGeom prst="rect">
            <a:avLst/>
          </a:prstGeom>
          <a:solidFill>
            <a:srgbClr val="00cc99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44" name=""/>
          <p:cNvGrpSpPr/>
          <p:nvPr/>
        </p:nvGrpSpPr>
        <p:grpSpPr>
          <a:xfrm>
            <a:off x="1600200" y="2742840"/>
            <a:ext cx="7010280" cy="686160"/>
            <a:chOff x="1600200" y="2742840"/>
            <a:chExt cx="7010280" cy="686160"/>
          </a:xfrm>
        </p:grpSpPr>
        <p:sp>
          <p:nvSpPr>
            <p:cNvPr id="45" name=""/>
            <p:cNvSpPr/>
            <p:nvPr/>
          </p:nvSpPr>
          <p:spPr>
            <a:xfrm>
              <a:off x="1600200" y="3200400"/>
              <a:ext cx="2666880" cy="15228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6" name=""/>
            <p:cNvSpPr/>
            <p:nvPr/>
          </p:nvSpPr>
          <p:spPr>
            <a:xfrm flipV="1">
              <a:off x="1600200" y="2895120"/>
              <a:ext cx="46483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7" name=""/>
            <p:cNvSpPr/>
            <p:nvPr/>
          </p:nvSpPr>
          <p:spPr>
            <a:xfrm>
              <a:off x="4419720" y="3276720"/>
              <a:ext cx="160020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8" name=""/>
            <p:cNvSpPr/>
            <p:nvPr/>
          </p:nvSpPr>
          <p:spPr>
            <a:xfrm>
              <a:off x="4267080" y="3352680"/>
              <a:ext cx="4191120" cy="7632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29520" bIns="2952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49" name=""/>
            <p:cNvSpPr/>
            <p:nvPr/>
          </p:nvSpPr>
          <p:spPr>
            <a:xfrm flipH="1">
              <a:off x="58669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0" name=""/>
            <p:cNvSpPr/>
            <p:nvPr/>
          </p:nvSpPr>
          <p:spPr>
            <a:xfrm flipH="1">
              <a:off x="5638320" y="2895480"/>
              <a:ext cx="381240" cy="3812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1" name=""/>
            <p:cNvSpPr/>
            <p:nvPr/>
          </p:nvSpPr>
          <p:spPr>
            <a:xfrm flipH="1">
              <a:off x="54097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2" name=""/>
            <p:cNvSpPr/>
            <p:nvPr/>
          </p:nvSpPr>
          <p:spPr>
            <a:xfrm flipH="1">
              <a:off x="5181120" y="2971800"/>
              <a:ext cx="30492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3" name=""/>
            <p:cNvSpPr/>
            <p:nvPr/>
          </p:nvSpPr>
          <p:spPr>
            <a:xfrm flipH="1">
              <a:off x="48769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4" name=""/>
            <p:cNvSpPr/>
            <p:nvPr/>
          </p:nvSpPr>
          <p:spPr>
            <a:xfrm flipH="1">
              <a:off x="4648320" y="2971800"/>
              <a:ext cx="304560" cy="30492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5" name=""/>
            <p:cNvSpPr/>
            <p:nvPr/>
          </p:nvSpPr>
          <p:spPr>
            <a:xfrm flipH="1">
              <a:off x="4191120" y="3048120"/>
              <a:ext cx="30456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6" name=""/>
            <p:cNvSpPr/>
            <p:nvPr/>
          </p:nvSpPr>
          <p:spPr>
            <a:xfrm flipH="1">
              <a:off x="3809520" y="3048120"/>
              <a:ext cx="304920" cy="30456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7" name=""/>
            <p:cNvSpPr/>
            <p:nvPr/>
          </p:nvSpPr>
          <p:spPr>
            <a:xfrm flipH="1">
              <a:off x="3504960" y="3048120"/>
              <a:ext cx="228600" cy="22860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8" name=""/>
            <p:cNvSpPr/>
            <p:nvPr/>
          </p:nvSpPr>
          <p:spPr>
            <a:xfrm flipH="1">
              <a:off x="3200040" y="3124080"/>
              <a:ext cx="15228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59" name=""/>
            <p:cNvSpPr/>
            <p:nvPr/>
          </p:nvSpPr>
          <p:spPr>
            <a:xfrm flipH="1">
              <a:off x="2895480" y="3124080"/>
              <a:ext cx="15264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0" name=""/>
            <p:cNvSpPr/>
            <p:nvPr/>
          </p:nvSpPr>
          <p:spPr>
            <a:xfrm flipH="1">
              <a:off x="2666880" y="3124080"/>
              <a:ext cx="76320" cy="15264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1" name=""/>
            <p:cNvSpPr/>
            <p:nvPr/>
          </p:nvSpPr>
          <p:spPr>
            <a:xfrm>
              <a:off x="2362320" y="3200400"/>
              <a:ext cx="0" cy="0"/>
            </a:xfrm>
            <a:prstGeom prst="line">
              <a:avLst/>
            </a:prstGeom>
            <a:ln w="9360">
              <a:solidFill>
                <a:srgbClr val="ffff66"/>
              </a:solidFill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-46800" bIns="-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62" name=""/>
            <p:cNvSpPr/>
            <p:nvPr/>
          </p:nvSpPr>
          <p:spPr>
            <a:xfrm flipV="1">
              <a:off x="6019920" y="2742840"/>
              <a:ext cx="2590560" cy="152280"/>
            </a:xfrm>
            <a:prstGeom prst="line">
              <a:avLst/>
            </a:prstGeom>
            <a:ln w="9360">
              <a:solidFill>
                <a:srgbClr val="ffff66"/>
              </a:solidFill>
              <a:prstDash val="sysDot"/>
              <a:miter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ctr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sp>
        <p:nvSpPr>
          <p:cNvPr id="63" name=""/>
          <p:cNvSpPr/>
          <p:nvPr/>
        </p:nvSpPr>
        <p:spPr>
          <a:xfrm flipH="1">
            <a:off x="5028840" y="2286000"/>
            <a:ext cx="152280" cy="762120"/>
          </a:xfrm>
          <a:prstGeom prst="line">
            <a:avLst/>
          </a:prstGeom>
          <a:ln w="9360">
            <a:solidFill>
              <a:srgbClr val="ffffff"/>
            </a:solidFill>
            <a:miter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4" name=""/>
          <p:cNvSpPr/>
          <p:nvPr/>
        </p:nvSpPr>
        <p:spPr>
          <a:xfrm>
            <a:off x="4114800" y="1905120"/>
            <a:ext cx="30481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Energía electromagnétic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5" name=""/>
          <p:cNvSpPr/>
          <p:nvPr/>
        </p:nvSpPr>
        <p:spPr>
          <a:xfrm>
            <a:off x="685800" y="228600"/>
            <a:ext cx="14479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000000"/>
                </a:solidFill>
                <a:latin typeface="Verdana"/>
              </a:rPr>
              <a:t>RAD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6" name=""/>
          <p:cNvSpPr/>
          <p:nvPr/>
        </p:nvSpPr>
        <p:spPr>
          <a:xfrm>
            <a:off x="4952880" y="304920"/>
            <a:ext cx="1752840" cy="459720"/>
          </a:xfrm>
          <a:prstGeom prst="rect">
            <a:avLst/>
          </a:prstGeom>
          <a:solidFill>
            <a:srgbClr val="6699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Z=AR</a:t>
            </a:r>
            <a:r>
              <a:rPr b="1" lang="es-ES_tradnl" sz="2400" spc="-1" strike="noStrike" baseline="30000">
                <a:solidFill>
                  <a:srgbClr val="ffffff"/>
                </a:solidFill>
                <a:latin typeface="Verdana"/>
              </a:rPr>
              <a:t>B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7" name=""/>
          <p:cNvSpPr/>
          <p:nvPr/>
        </p:nvSpPr>
        <p:spPr>
          <a:xfrm>
            <a:off x="2514600" y="1066680"/>
            <a:ext cx="373392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Factor de reflectividad=</a:t>
            </a:r>
            <a:r>
              <a:rPr b="1" lang="es-ES_tradnl" sz="1400" spc="-1" strike="noStrike">
                <a:solidFill>
                  <a:srgbClr val="ffffff"/>
                </a:solidFill>
                <a:latin typeface="Symbol"/>
                <a:ea typeface="Symbol"/>
              </a:rPr>
              <a:t>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D</a:t>
            </a:r>
            <a:r>
              <a:rPr b="1" lang="es-ES_tradnl" sz="1400" spc="-1" strike="noStrike" baseline="30000">
                <a:solidFill>
                  <a:srgbClr val="ffffff"/>
                </a:solidFill>
                <a:latin typeface="Verdana"/>
              </a:rPr>
              <a:t>6</a:t>
            </a: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N(D)dD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8" name=""/>
          <p:cNvSpPr/>
          <p:nvPr/>
        </p:nvSpPr>
        <p:spPr>
          <a:xfrm>
            <a:off x="3962520" y="609480"/>
            <a:ext cx="990360" cy="457200"/>
          </a:xfrm>
          <a:custGeom>
            <a:avLst/>
            <a:gdLst/>
            <a:ahLst/>
            <a:rect l="l" t="t" r="r" b="b"/>
            <a:pathLst>
              <a:path w="624" h="288">
                <a:moveTo>
                  <a:pt x="48" y="288"/>
                </a:moveTo>
                <a:cubicBezTo>
                  <a:pt x="24" y="240"/>
                  <a:pt x="0" y="192"/>
                  <a:pt x="96" y="144"/>
                </a:cubicBezTo>
                <a:cubicBezTo>
                  <a:pt x="192" y="96"/>
                  <a:pt x="536" y="24"/>
                  <a:pt x="624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69" name=""/>
          <p:cNvSpPr/>
          <p:nvPr/>
        </p:nvSpPr>
        <p:spPr>
          <a:xfrm>
            <a:off x="6629400" y="838080"/>
            <a:ext cx="2209680" cy="3070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ffffff"/>
                </a:solidFill>
                <a:latin typeface="Verdana"/>
              </a:rPr>
              <a:t>Intensidad de lluvia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0" name=""/>
          <p:cNvSpPr/>
          <p:nvPr/>
        </p:nvSpPr>
        <p:spPr>
          <a:xfrm>
            <a:off x="5867280" y="685800"/>
            <a:ext cx="762120" cy="431640"/>
          </a:xfrm>
          <a:custGeom>
            <a:avLst/>
            <a:gdLst/>
            <a:ahLst/>
            <a:rect l="l" t="t" r="r" b="b"/>
            <a:pathLst>
              <a:path w="480" h="272">
                <a:moveTo>
                  <a:pt x="480" y="192"/>
                </a:moveTo>
                <a:cubicBezTo>
                  <a:pt x="376" y="232"/>
                  <a:pt x="272" y="272"/>
                  <a:pt x="192" y="240"/>
                </a:cubicBezTo>
                <a:cubicBezTo>
                  <a:pt x="112" y="208"/>
                  <a:pt x="56" y="104"/>
                  <a:pt x="0" y="0"/>
                </a:cubicBezTo>
              </a:path>
            </a:pathLst>
          </a:custGeom>
          <a:noFill/>
          <a:ln w="9360">
            <a:solidFill>
              <a:srgbClr val="ffffff"/>
            </a:solidFill>
            <a:round/>
            <a:tailEnd len="med" type="triangle" w="med"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1" name=""/>
          <p:cNvSpPr/>
          <p:nvPr/>
        </p:nvSpPr>
        <p:spPr>
          <a:xfrm>
            <a:off x="533520" y="4495680"/>
            <a:ext cx="7696080" cy="2133720"/>
          </a:xfrm>
          <a:prstGeom prst="flowChartPunchedCard">
            <a:avLst/>
          </a:prstGeom>
          <a:solidFill>
            <a:srgbClr val="6699ff"/>
          </a:solidFill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a bajas altitudes puede no ser detectada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Precipitación detectada a cierta altura puede no llegar al suelo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(vientos y evaporación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variabilidad vertical de forma de precipitación (sólida o líquida)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y de la intensidad puede ocasionar errores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600" spc="-1" strike="noStrike">
                <a:solidFill>
                  <a:srgbClr val="ffffff"/>
                </a:solidFill>
                <a:latin typeface="Verdana"/>
              </a:rPr>
              <a:t>- evaporación desde suelo puede ocasionar falsos ecos de radar</a:t>
            </a: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  <a:p>
            <a:pPr algn="ctr">
              <a:lnSpc>
                <a:spcPct val="100000"/>
              </a:lnSpc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2" name="" descr=""/>
          <p:cNvPicPr/>
          <p:nvPr/>
        </p:nvPicPr>
        <p:blipFill>
          <a:blip r:embed="rId1"/>
          <a:stretch/>
        </p:blipFill>
        <p:spPr>
          <a:xfrm>
            <a:off x="1143000" y="650880"/>
            <a:ext cx="7315200" cy="591660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3" name="distespacial2" descr=""/>
          <p:cNvPicPr/>
          <p:nvPr/>
        </p:nvPicPr>
        <p:blipFill>
          <a:blip r:embed="rId1"/>
          <a:stretch/>
        </p:blipFill>
        <p:spPr>
          <a:xfrm>
            <a:off x="1143000" y="1295280"/>
            <a:ext cx="6781680" cy="3676680"/>
          </a:xfrm>
          <a:prstGeom prst="rect">
            <a:avLst/>
          </a:prstGeom>
          <a:ln w="0">
            <a:noFill/>
          </a:ln>
        </p:spPr>
      </p:pic>
      <p:sp>
        <p:nvSpPr>
          <p:cNvPr id="74" name=""/>
          <p:cNvSpPr/>
          <p:nvPr/>
        </p:nvSpPr>
        <p:spPr>
          <a:xfrm>
            <a:off x="685800" y="23623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0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5" name=""/>
          <p:cNvSpPr/>
          <p:nvPr/>
        </p:nvSpPr>
        <p:spPr>
          <a:xfrm>
            <a:off x="685800" y="15238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1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6" name=""/>
          <p:cNvSpPr/>
          <p:nvPr/>
        </p:nvSpPr>
        <p:spPr>
          <a:xfrm>
            <a:off x="685800" y="312408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6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7" name=""/>
          <p:cNvSpPr/>
          <p:nvPr/>
        </p:nvSpPr>
        <p:spPr>
          <a:xfrm>
            <a:off x="685800" y="3962520"/>
            <a:ext cx="685800" cy="30708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876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1400" spc="-1" strike="noStrike">
                <a:solidFill>
                  <a:srgbClr val="cc3300"/>
                </a:solidFill>
                <a:latin typeface="Verdana"/>
              </a:rPr>
              <a:t>20</a:t>
            </a:r>
            <a:endParaRPr b="0" lang="en-US" sz="1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78" name=""/>
          <p:cNvSpPr/>
          <p:nvPr/>
        </p:nvSpPr>
        <p:spPr>
          <a:xfrm>
            <a:off x="1905120" y="5410080"/>
            <a:ext cx="548640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RECIPITACIÓN MEDI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79" name="DISTCHILE" descr=""/>
          <p:cNvPicPr/>
          <p:nvPr/>
        </p:nvPicPr>
        <p:blipFill>
          <a:blip r:embed="rId1"/>
          <a:stretch/>
        </p:blipFill>
        <p:spPr>
          <a:xfrm>
            <a:off x="380880" y="1398600"/>
            <a:ext cx="8305920" cy="4098960"/>
          </a:xfrm>
          <a:prstGeom prst="rect">
            <a:avLst/>
          </a:prstGeom>
          <a:ln w="9360">
            <a:solidFill>
              <a:srgbClr val="cc3300"/>
            </a:solidFill>
            <a:miter/>
          </a:ln>
          <a:effectLst>
            <a:outerShdw dist="153753" dir="2700000" blurRad="0" rotWithShape="0">
              <a:srgbClr val="808080"/>
            </a:outerShdw>
          </a:effectLst>
        </p:spPr>
      </p:pic>
      <p:sp>
        <p:nvSpPr>
          <p:cNvPr id="80" name=""/>
          <p:cNvSpPr/>
          <p:nvPr/>
        </p:nvSpPr>
        <p:spPr>
          <a:xfrm>
            <a:off x="1828800" y="4724280"/>
            <a:ext cx="3962520" cy="459720"/>
          </a:xfrm>
          <a:prstGeom prst="rect">
            <a:avLst/>
          </a:prstGeom>
          <a:solidFill>
            <a:srgbClr val="ffffff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cc3300"/>
                </a:solidFill>
                <a:latin typeface="Verdana"/>
              </a:rPr>
              <a:t>Perfil pluviométrico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grpSp>
        <p:nvGrpSpPr>
          <p:cNvPr id="81" name=""/>
          <p:cNvGrpSpPr/>
          <p:nvPr/>
        </p:nvGrpSpPr>
        <p:grpSpPr>
          <a:xfrm>
            <a:off x="2612880" y="1905120"/>
            <a:ext cx="4011840" cy="2530440"/>
            <a:chOff x="2612880" y="1905120"/>
            <a:chExt cx="4011840" cy="2530440"/>
          </a:xfrm>
        </p:grpSpPr>
        <p:sp>
          <p:nvSpPr>
            <p:cNvPr id="82" name=""/>
            <p:cNvSpPr/>
            <p:nvPr/>
          </p:nvSpPr>
          <p:spPr>
            <a:xfrm>
              <a:off x="2612880" y="2781360"/>
              <a:ext cx="4011840" cy="1654200"/>
            </a:xfrm>
            <a:custGeom>
              <a:avLst/>
              <a:gdLst/>
              <a:ahLst/>
              <a:rect l="l" t="t" r="r" b="b"/>
              <a:pathLst>
                <a:path w="2527" h="1042">
                  <a:moveTo>
                    <a:pt x="0" y="1022"/>
                  </a:moveTo>
                  <a:cubicBezTo>
                    <a:pt x="59" y="1042"/>
                    <a:pt x="48" y="1017"/>
                    <a:pt x="106" y="999"/>
                  </a:cubicBezTo>
                  <a:cubicBezTo>
                    <a:pt x="114" y="987"/>
                    <a:pt x="119" y="973"/>
                    <a:pt x="129" y="963"/>
                  </a:cubicBezTo>
                  <a:cubicBezTo>
                    <a:pt x="139" y="953"/>
                    <a:pt x="157" y="952"/>
                    <a:pt x="164" y="940"/>
                  </a:cubicBezTo>
                  <a:cubicBezTo>
                    <a:pt x="204" y="876"/>
                    <a:pt x="188" y="823"/>
                    <a:pt x="258" y="775"/>
                  </a:cubicBezTo>
                  <a:cubicBezTo>
                    <a:pt x="289" y="685"/>
                    <a:pt x="243" y="794"/>
                    <a:pt x="305" y="717"/>
                  </a:cubicBezTo>
                  <a:cubicBezTo>
                    <a:pt x="350" y="660"/>
                    <a:pt x="276" y="694"/>
                    <a:pt x="352" y="670"/>
                  </a:cubicBezTo>
                  <a:cubicBezTo>
                    <a:pt x="379" y="590"/>
                    <a:pt x="342" y="669"/>
                    <a:pt x="399" y="623"/>
                  </a:cubicBezTo>
                  <a:cubicBezTo>
                    <a:pt x="475" y="563"/>
                    <a:pt x="371" y="603"/>
                    <a:pt x="458" y="576"/>
                  </a:cubicBezTo>
                  <a:cubicBezTo>
                    <a:pt x="527" y="472"/>
                    <a:pt x="435" y="594"/>
                    <a:pt x="517" y="528"/>
                  </a:cubicBezTo>
                  <a:cubicBezTo>
                    <a:pt x="528" y="519"/>
                    <a:pt x="530" y="503"/>
                    <a:pt x="540" y="493"/>
                  </a:cubicBezTo>
                  <a:cubicBezTo>
                    <a:pt x="550" y="483"/>
                    <a:pt x="564" y="478"/>
                    <a:pt x="576" y="470"/>
                  </a:cubicBezTo>
                  <a:cubicBezTo>
                    <a:pt x="584" y="458"/>
                    <a:pt x="593" y="447"/>
                    <a:pt x="599" y="434"/>
                  </a:cubicBezTo>
                  <a:cubicBezTo>
                    <a:pt x="604" y="423"/>
                    <a:pt x="602" y="408"/>
                    <a:pt x="611" y="399"/>
                  </a:cubicBezTo>
                  <a:cubicBezTo>
                    <a:pt x="614" y="396"/>
                    <a:pt x="679" y="377"/>
                    <a:pt x="682" y="376"/>
                  </a:cubicBezTo>
                  <a:cubicBezTo>
                    <a:pt x="784" y="306"/>
                    <a:pt x="609" y="418"/>
                    <a:pt x="823" y="340"/>
                  </a:cubicBezTo>
                  <a:cubicBezTo>
                    <a:pt x="836" y="335"/>
                    <a:pt x="835" y="314"/>
                    <a:pt x="846" y="305"/>
                  </a:cubicBezTo>
                  <a:cubicBezTo>
                    <a:pt x="849" y="302"/>
                    <a:pt x="913" y="283"/>
                    <a:pt x="917" y="282"/>
                  </a:cubicBezTo>
                  <a:cubicBezTo>
                    <a:pt x="925" y="270"/>
                    <a:pt x="930" y="256"/>
                    <a:pt x="940" y="246"/>
                  </a:cubicBezTo>
                  <a:cubicBezTo>
                    <a:pt x="950" y="236"/>
                    <a:pt x="966" y="234"/>
                    <a:pt x="975" y="223"/>
                  </a:cubicBezTo>
                  <a:cubicBezTo>
                    <a:pt x="983" y="213"/>
                    <a:pt x="981" y="199"/>
                    <a:pt x="987" y="188"/>
                  </a:cubicBezTo>
                  <a:cubicBezTo>
                    <a:pt x="1007" y="148"/>
                    <a:pt x="1010" y="153"/>
                    <a:pt x="1046" y="129"/>
                  </a:cubicBezTo>
                  <a:cubicBezTo>
                    <a:pt x="1054" y="141"/>
                    <a:pt x="1059" y="154"/>
                    <a:pt x="1069" y="164"/>
                  </a:cubicBezTo>
                  <a:cubicBezTo>
                    <a:pt x="1079" y="174"/>
                    <a:pt x="1097" y="176"/>
                    <a:pt x="1105" y="188"/>
                  </a:cubicBezTo>
                  <a:cubicBezTo>
                    <a:pt x="1163" y="280"/>
                    <a:pt x="1089" y="245"/>
                    <a:pt x="1163" y="270"/>
                  </a:cubicBezTo>
                  <a:cubicBezTo>
                    <a:pt x="1183" y="211"/>
                    <a:pt x="1163" y="239"/>
                    <a:pt x="1246" y="211"/>
                  </a:cubicBezTo>
                  <a:cubicBezTo>
                    <a:pt x="1258" y="207"/>
                    <a:pt x="1269" y="203"/>
                    <a:pt x="1281" y="199"/>
                  </a:cubicBezTo>
                  <a:cubicBezTo>
                    <a:pt x="1293" y="195"/>
                    <a:pt x="1316" y="188"/>
                    <a:pt x="1316" y="188"/>
                  </a:cubicBezTo>
                  <a:cubicBezTo>
                    <a:pt x="1383" y="144"/>
                    <a:pt x="1438" y="139"/>
                    <a:pt x="1516" y="129"/>
                  </a:cubicBezTo>
                  <a:cubicBezTo>
                    <a:pt x="1566" y="112"/>
                    <a:pt x="1618" y="110"/>
                    <a:pt x="1669" y="94"/>
                  </a:cubicBezTo>
                  <a:cubicBezTo>
                    <a:pt x="1733" y="50"/>
                    <a:pt x="1806" y="23"/>
                    <a:pt x="1881" y="0"/>
                  </a:cubicBezTo>
                  <a:cubicBezTo>
                    <a:pt x="1938" y="11"/>
                    <a:pt x="1990" y="28"/>
                    <a:pt x="2045" y="47"/>
                  </a:cubicBezTo>
                  <a:cubicBezTo>
                    <a:pt x="2145" y="81"/>
                    <a:pt x="2256" y="54"/>
                    <a:pt x="2362" y="58"/>
                  </a:cubicBezTo>
                  <a:cubicBezTo>
                    <a:pt x="2374" y="66"/>
                    <a:pt x="2385" y="75"/>
                    <a:pt x="2398" y="82"/>
                  </a:cubicBezTo>
                  <a:cubicBezTo>
                    <a:pt x="2409" y="88"/>
                    <a:pt x="2422" y="88"/>
                    <a:pt x="2433" y="94"/>
                  </a:cubicBezTo>
                  <a:cubicBezTo>
                    <a:pt x="2458" y="108"/>
                    <a:pt x="2504" y="141"/>
                    <a:pt x="2504" y="141"/>
                  </a:cubicBezTo>
                  <a:cubicBezTo>
                    <a:pt x="2518" y="184"/>
                    <a:pt x="2509" y="165"/>
                    <a:pt x="2527" y="199"/>
                  </a:cubicBezTo>
                </a:path>
              </a:pathLst>
            </a:custGeom>
            <a:noFill/>
            <a:ln w="76320">
              <a:solidFill>
                <a:srgbClr val="ffccff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3" name=""/>
            <p:cNvSpPr/>
            <p:nvPr/>
          </p:nvSpPr>
          <p:spPr>
            <a:xfrm>
              <a:off x="4952880" y="1905120"/>
              <a:ext cx="160020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ccff"/>
                  </a:solidFill>
                  <a:latin typeface="Verdana"/>
                </a:rPr>
                <a:t>Costero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4" name=""/>
          <p:cNvGrpSpPr/>
          <p:nvPr/>
        </p:nvGrpSpPr>
        <p:grpSpPr>
          <a:xfrm>
            <a:off x="1447920" y="2806560"/>
            <a:ext cx="7238880" cy="1082160"/>
            <a:chOff x="1447920" y="2806560"/>
            <a:chExt cx="7238880" cy="1082160"/>
          </a:xfrm>
        </p:grpSpPr>
        <p:sp>
          <p:nvSpPr>
            <p:cNvPr id="85" name=""/>
            <p:cNvSpPr/>
            <p:nvPr/>
          </p:nvSpPr>
          <p:spPr>
            <a:xfrm>
              <a:off x="1447920" y="2806560"/>
              <a:ext cx="5029200" cy="863640"/>
            </a:xfrm>
            <a:custGeom>
              <a:avLst/>
              <a:gdLst/>
              <a:ahLst/>
              <a:rect l="l" t="t" r="r" b="b"/>
              <a:pathLst>
                <a:path w="3168" h="544">
                  <a:moveTo>
                    <a:pt x="0" y="440"/>
                  </a:moveTo>
                  <a:cubicBezTo>
                    <a:pt x="36" y="456"/>
                    <a:pt x="72" y="472"/>
                    <a:pt x="96" y="488"/>
                  </a:cubicBezTo>
                  <a:cubicBezTo>
                    <a:pt x="120" y="504"/>
                    <a:pt x="112" y="528"/>
                    <a:pt x="144" y="536"/>
                  </a:cubicBezTo>
                  <a:cubicBezTo>
                    <a:pt x="176" y="544"/>
                    <a:pt x="256" y="544"/>
                    <a:pt x="288" y="536"/>
                  </a:cubicBezTo>
                  <a:cubicBezTo>
                    <a:pt x="320" y="528"/>
                    <a:pt x="304" y="496"/>
                    <a:pt x="336" y="488"/>
                  </a:cubicBezTo>
                  <a:cubicBezTo>
                    <a:pt x="368" y="480"/>
                    <a:pt x="448" y="480"/>
                    <a:pt x="480" y="488"/>
                  </a:cubicBezTo>
                  <a:cubicBezTo>
                    <a:pt x="512" y="496"/>
                    <a:pt x="504" y="536"/>
                    <a:pt x="528" y="536"/>
                  </a:cubicBezTo>
                  <a:cubicBezTo>
                    <a:pt x="552" y="536"/>
                    <a:pt x="592" y="488"/>
                    <a:pt x="624" y="488"/>
                  </a:cubicBezTo>
                  <a:cubicBezTo>
                    <a:pt x="656" y="488"/>
                    <a:pt x="688" y="536"/>
                    <a:pt x="720" y="536"/>
                  </a:cubicBezTo>
                  <a:cubicBezTo>
                    <a:pt x="752" y="536"/>
                    <a:pt x="784" y="512"/>
                    <a:pt x="816" y="488"/>
                  </a:cubicBezTo>
                  <a:cubicBezTo>
                    <a:pt x="848" y="464"/>
                    <a:pt x="888" y="416"/>
                    <a:pt x="912" y="392"/>
                  </a:cubicBezTo>
                  <a:cubicBezTo>
                    <a:pt x="936" y="368"/>
                    <a:pt x="936" y="360"/>
                    <a:pt x="960" y="344"/>
                  </a:cubicBezTo>
                  <a:cubicBezTo>
                    <a:pt x="984" y="328"/>
                    <a:pt x="1024" y="296"/>
                    <a:pt x="1056" y="296"/>
                  </a:cubicBezTo>
                  <a:cubicBezTo>
                    <a:pt x="1088" y="296"/>
                    <a:pt x="1120" y="344"/>
                    <a:pt x="1152" y="344"/>
                  </a:cubicBezTo>
                  <a:cubicBezTo>
                    <a:pt x="1184" y="344"/>
                    <a:pt x="1224" y="320"/>
                    <a:pt x="1248" y="296"/>
                  </a:cubicBezTo>
                  <a:cubicBezTo>
                    <a:pt x="1272" y="272"/>
                    <a:pt x="1272" y="224"/>
                    <a:pt x="1296" y="200"/>
                  </a:cubicBezTo>
                  <a:cubicBezTo>
                    <a:pt x="1320" y="176"/>
                    <a:pt x="1360" y="168"/>
                    <a:pt x="1392" y="152"/>
                  </a:cubicBezTo>
                  <a:cubicBezTo>
                    <a:pt x="1424" y="136"/>
                    <a:pt x="1456" y="112"/>
                    <a:pt x="1488" y="104"/>
                  </a:cubicBezTo>
                  <a:cubicBezTo>
                    <a:pt x="1520" y="96"/>
                    <a:pt x="1544" y="104"/>
                    <a:pt x="1584" y="104"/>
                  </a:cubicBezTo>
                  <a:cubicBezTo>
                    <a:pt x="1624" y="104"/>
                    <a:pt x="1688" y="104"/>
                    <a:pt x="1728" y="104"/>
                  </a:cubicBezTo>
                  <a:cubicBezTo>
                    <a:pt x="1768" y="104"/>
                    <a:pt x="1792" y="112"/>
                    <a:pt x="1824" y="104"/>
                  </a:cubicBezTo>
                  <a:cubicBezTo>
                    <a:pt x="1856" y="96"/>
                    <a:pt x="1880" y="64"/>
                    <a:pt x="1920" y="56"/>
                  </a:cubicBezTo>
                  <a:cubicBezTo>
                    <a:pt x="1960" y="48"/>
                    <a:pt x="2024" y="56"/>
                    <a:pt x="2064" y="56"/>
                  </a:cubicBezTo>
                  <a:cubicBezTo>
                    <a:pt x="2104" y="56"/>
                    <a:pt x="2120" y="40"/>
                    <a:pt x="2160" y="56"/>
                  </a:cubicBezTo>
                  <a:cubicBezTo>
                    <a:pt x="2200" y="72"/>
                    <a:pt x="2272" y="128"/>
                    <a:pt x="2304" y="152"/>
                  </a:cubicBezTo>
                  <a:cubicBezTo>
                    <a:pt x="2336" y="176"/>
                    <a:pt x="2344" y="176"/>
                    <a:pt x="2352" y="200"/>
                  </a:cubicBezTo>
                  <a:cubicBezTo>
                    <a:pt x="2360" y="224"/>
                    <a:pt x="2328" y="272"/>
                    <a:pt x="2352" y="296"/>
                  </a:cubicBezTo>
                  <a:cubicBezTo>
                    <a:pt x="2376" y="320"/>
                    <a:pt x="2456" y="344"/>
                    <a:pt x="2496" y="344"/>
                  </a:cubicBezTo>
                  <a:cubicBezTo>
                    <a:pt x="2536" y="344"/>
                    <a:pt x="2568" y="312"/>
                    <a:pt x="2592" y="296"/>
                  </a:cubicBezTo>
                  <a:cubicBezTo>
                    <a:pt x="2616" y="280"/>
                    <a:pt x="2624" y="248"/>
                    <a:pt x="2640" y="248"/>
                  </a:cubicBezTo>
                  <a:cubicBezTo>
                    <a:pt x="2656" y="248"/>
                    <a:pt x="2672" y="304"/>
                    <a:pt x="2688" y="296"/>
                  </a:cubicBezTo>
                  <a:cubicBezTo>
                    <a:pt x="2704" y="288"/>
                    <a:pt x="2720" y="224"/>
                    <a:pt x="2736" y="200"/>
                  </a:cubicBezTo>
                  <a:cubicBezTo>
                    <a:pt x="2752" y="176"/>
                    <a:pt x="2776" y="176"/>
                    <a:pt x="2784" y="152"/>
                  </a:cubicBezTo>
                  <a:cubicBezTo>
                    <a:pt x="2792" y="128"/>
                    <a:pt x="2776" y="80"/>
                    <a:pt x="2784" y="56"/>
                  </a:cubicBezTo>
                  <a:cubicBezTo>
                    <a:pt x="2792" y="32"/>
                    <a:pt x="2816" y="0"/>
                    <a:pt x="2832" y="8"/>
                  </a:cubicBezTo>
                  <a:cubicBezTo>
                    <a:pt x="2848" y="16"/>
                    <a:pt x="2872" y="72"/>
                    <a:pt x="2880" y="104"/>
                  </a:cubicBezTo>
                  <a:cubicBezTo>
                    <a:pt x="2888" y="136"/>
                    <a:pt x="2880" y="168"/>
                    <a:pt x="2880" y="200"/>
                  </a:cubicBezTo>
                  <a:cubicBezTo>
                    <a:pt x="2880" y="232"/>
                    <a:pt x="2872" y="264"/>
                    <a:pt x="2880" y="296"/>
                  </a:cubicBezTo>
                  <a:cubicBezTo>
                    <a:pt x="2888" y="328"/>
                    <a:pt x="2904" y="368"/>
                    <a:pt x="2928" y="392"/>
                  </a:cubicBezTo>
                  <a:cubicBezTo>
                    <a:pt x="2952" y="416"/>
                    <a:pt x="2992" y="448"/>
                    <a:pt x="3024" y="440"/>
                  </a:cubicBezTo>
                  <a:cubicBezTo>
                    <a:pt x="3056" y="432"/>
                    <a:pt x="3096" y="368"/>
                    <a:pt x="3120" y="344"/>
                  </a:cubicBezTo>
                  <a:cubicBezTo>
                    <a:pt x="3144" y="320"/>
                    <a:pt x="3156" y="308"/>
                    <a:pt x="3168" y="296"/>
                  </a:cubicBezTo>
                </a:path>
              </a:pathLst>
            </a:custGeom>
            <a:noFill/>
            <a:ln w="76320">
              <a:solidFill>
                <a:srgbClr val="ffff66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6" name=""/>
            <p:cNvSpPr/>
            <p:nvPr/>
          </p:nvSpPr>
          <p:spPr>
            <a:xfrm>
              <a:off x="6934320" y="3429000"/>
              <a:ext cx="1752480" cy="459720"/>
            </a:xfrm>
            <a:prstGeom prst="rect">
              <a:avLst/>
            </a:prstGeom>
            <a:solidFill>
              <a:srgbClr val="000000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ffff66"/>
                  </a:solidFill>
                  <a:latin typeface="Verdana"/>
                </a:rPr>
                <a:t>Frontera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87" name=""/>
          <p:cNvGrpSpPr/>
          <p:nvPr/>
        </p:nvGrpSpPr>
        <p:grpSpPr>
          <a:xfrm>
            <a:off x="1523880" y="2057400"/>
            <a:ext cx="5105520" cy="2209680"/>
            <a:chOff x="1523880" y="2057400"/>
            <a:chExt cx="5105520" cy="2209680"/>
          </a:xfrm>
        </p:grpSpPr>
        <p:sp>
          <p:nvSpPr>
            <p:cNvPr id="88" name=""/>
            <p:cNvSpPr/>
            <p:nvPr/>
          </p:nvSpPr>
          <p:spPr>
            <a:xfrm>
              <a:off x="1523880" y="3097080"/>
              <a:ext cx="5105520" cy="1170000"/>
            </a:xfrm>
            <a:custGeom>
              <a:avLst/>
              <a:gdLst/>
              <a:ahLst/>
              <a:rect l="l" t="t" r="r" b="b"/>
              <a:pathLst>
                <a:path w="3216" h="737">
                  <a:moveTo>
                    <a:pt x="0" y="113"/>
                  </a:moveTo>
                  <a:cubicBezTo>
                    <a:pt x="32" y="153"/>
                    <a:pt x="64" y="193"/>
                    <a:pt x="96" y="209"/>
                  </a:cubicBezTo>
                  <a:cubicBezTo>
                    <a:pt x="128" y="225"/>
                    <a:pt x="160" y="225"/>
                    <a:pt x="192" y="209"/>
                  </a:cubicBezTo>
                  <a:cubicBezTo>
                    <a:pt x="224" y="193"/>
                    <a:pt x="264" y="137"/>
                    <a:pt x="288" y="113"/>
                  </a:cubicBezTo>
                  <a:cubicBezTo>
                    <a:pt x="312" y="89"/>
                    <a:pt x="312" y="57"/>
                    <a:pt x="336" y="65"/>
                  </a:cubicBezTo>
                  <a:cubicBezTo>
                    <a:pt x="360" y="73"/>
                    <a:pt x="392" y="153"/>
                    <a:pt x="432" y="161"/>
                  </a:cubicBezTo>
                  <a:cubicBezTo>
                    <a:pt x="472" y="169"/>
                    <a:pt x="544" y="113"/>
                    <a:pt x="576" y="113"/>
                  </a:cubicBezTo>
                  <a:cubicBezTo>
                    <a:pt x="608" y="113"/>
                    <a:pt x="608" y="169"/>
                    <a:pt x="624" y="161"/>
                  </a:cubicBezTo>
                  <a:cubicBezTo>
                    <a:pt x="640" y="153"/>
                    <a:pt x="656" y="89"/>
                    <a:pt x="672" y="65"/>
                  </a:cubicBezTo>
                  <a:cubicBezTo>
                    <a:pt x="688" y="41"/>
                    <a:pt x="704" y="9"/>
                    <a:pt x="720" y="17"/>
                  </a:cubicBezTo>
                  <a:cubicBezTo>
                    <a:pt x="736" y="25"/>
                    <a:pt x="752" y="89"/>
                    <a:pt x="768" y="113"/>
                  </a:cubicBezTo>
                  <a:cubicBezTo>
                    <a:pt x="784" y="137"/>
                    <a:pt x="792" y="153"/>
                    <a:pt x="816" y="161"/>
                  </a:cubicBezTo>
                  <a:cubicBezTo>
                    <a:pt x="840" y="169"/>
                    <a:pt x="880" y="161"/>
                    <a:pt x="912" y="161"/>
                  </a:cubicBezTo>
                  <a:cubicBezTo>
                    <a:pt x="944" y="161"/>
                    <a:pt x="976" y="137"/>
                    <a:pt x="1008" y="161"/>
                  </a:cubicBezTo>
                  <a:cubicBezTo>
                    <a:pt x="1040" y="185"/>
                    <a:pt x="1072" y="281"/>
                    <a:pt x="1104" y="305"/>
                  </a:cubicBezTo>
                  <a:cubicBezTo>
                    <a:pt x="1136" y="329"/>
                    <a:pt x="1180" y="318"/>
                    <a:pt x="1200" y="305"/>
                  </a:cubicBezTo>
                  <a:cubicBezTo>
                    <a:pt x="1220" y="292"/>
                    <a:pt x="1214" y="247"/>
                    <a:pt x="1226" y="224"/>
                  </a:cubicBezTo>
                  <a:cubicBezTo>
                    <a:pt x="1238" y="201"/>
                    <a:pt x="1261" y="199"/>
                    <a:pt x="1273" y="165"/>
                  </a:cubicBezTo>
                  <a:cubicBezTo>
                    <a:pt x="1285" y="131"/>
                    <a:pt x="1284" y="34"/>
                    <a:pt x="1296" y="17"/>
                  </a:cubicBezTo>
                  <a:cubicBezTo>
                    <a:pt x="1308" y="0"/>
                    <a:pt x="1332" y="38"/>
                    <a:pt x="1344" y="65"/>
                  </a:cubicBezTo>
                  <a:cubicBezTo>
                    <a:pt x="1356" y="92"/>
                    <a:pt x="1352" y="145"/>
                    <a:pt x="1368" y="177"/>
                  </a:cubicBezTo>
                  <a:cubicBezTo>
                    <a:pt x="1384" y="209"/>
                    <a:pt x="1428" y="228"/>
                    <a:pt x="1440" y="257"/>
                  </a:cubicBezTo>
                  <a:cubicBezTo>
                    <a:pt x="1452" y="286"/>
                    <a:pt x="1432" y="329"/>
                    <a:pt x="1440" y="353"/>
                  </a:cubicBezTo>
                  <a:cubicBezTo>
                    <a:pt x="1448" y="377"/>
                    <a:pt x="1472" y="385"/>
                    <a:pt x="1488" y="401"/>
                  </a:cubicBezTo>
                  <a:cubicBezTo>
                    <a:pt x="1504" y="417"/>
                    <a:pt x="1512" y="433"/>
                    <a:pt x="1536" y="449"/>
                  </a:cubicBezTo>
                  <a:cubicBezTo>
                    <a:pt x="1560" y="465"/>
                    <a:pt x="1600" y="481"/>
                    <a:pt x="1632" y="497"/>
                  </a:cubicBezTo>
                  <a:cubicBezTo>
                    <a:pt x="1664" y="513"/>
                    <a:pt x="1696" y="529"/>
                    <a:pt x="1728" y="545"/>
                  </a:cubicBezTo>
                  <a:cubicBezTo>
                    <a:pt x="1760" y="561"/>
                    <a:pt x="1784" y="585"/>
                    <a:pt x="1824" y="593"/>
                  </a:cubicBezTo>
                  <a:cubicBezTo>
                    <a:pt x="1864" y="601"/>
                    <a:pt x="1936" y="585"/>
                    <a:pt x="1968" y="593"/>
                  </a:cubicBezTo>
                  <a:cubicBezTo>
                    <a:pt x="2000" y="601"/>
                    <a:pt x="1984" y="641"/>
                    <a:pt x="2016" y="641"/>
                  </a:cubicBezTo>
                  <a:cubicBezTo>
                    <a:pt x="2048" y="641"/>
                    <a:pt x="2128" y="593"/>
                    <a:pt x="2160" y="593"/>
                  </a:cubicBezTo>
                  <a:cubicBezTo>
                    <a:pt x="2192" y="593"/>
                    <a:pt x="2160" y="633"/>
                    <a:pt x="2208" y="641"/>
                  </a:cubicBezTo>
                  <a:cubicBezTo>
                    <a:pt x="2256" y="649"/>
                    <a:pt x="2400" y="665"/>
                    <a:pt x="2448" y="641"/>
                  </a:cubicBezTo>
                  <a:cubicBezTo>
                    <a:pt x="2496" y="617"/>
                    <a:pt x="2472" y="500"/>
                    <a:pt x="2496" y="497"/>
                  </a:cubicBezTo>
                  <a:cubicBezTo>
                    <a:pt x="2520" y="494"/>
                    <a:pt x="2558" y="623"/>
                    <a:pt x="2590" y="623"/>
                  </a:cubicBezTo>
                  <a:cubicBezTo>
                    <a:pt x="2622" y="623"/>
                    <a:pt x="2640" y="502"/>
                    <a:pt x="2688" y="497"/>
                  </a:cubicBezTo>
                  <a:cubicBezTo>
                    <a:pt x="2736" y="492"/>
                    <a:pt x="2840" y="569"/>
                    <a:pt x="2880" y="593"/>
                  </a:cubicBezTo>
                  <a:cubicBezTo>
                    <a:pt x="2920" y="617"/>
                    <a:pt x="2904" y="625"/>
                    <a:pt x="2928" y="641"/>
                  </a:cubicBezTo>
                  <a:cubicBezTo>
                    <a:pt x="2952" y="657"/>
                    <a:pt x="2992" y="673"/>
                    <a:pt x="3024" y="689"/>
                  </a:cubicBezTo>
                  <a:cubicBezTo>
                    <a:pt x="3056" y="705"/>
                    <a:pt x="3088" y="737"/>
                    <a:pt x="3120" y="737"/>
                  </a:cubicBezTo>
                  <a:cubicBezTo>
                    <a:pt x="3152" y="737"/>
                    <a:pt x="3200" y="697"/>
                    <a:pt x="3216" y="689"/>
                  </a:cubicBezTo>
                </a:path>
              </a:pathLst>
            </a:custGeom>
            <a:noFill/>
            <a:ln w="76320">
              <a:solidFill>
                <a:srgbClr val="996633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89" name=""/>
            <p:cNvSpPr/>
            <p:nvPr/>
          </p:nvSpPr>
          <p:spPr>
            <a:xfrm>
              <a:off x="2286000" y="2057400"/>
              <a:ext cx="1828800" cy="45972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1500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2400" spc="-1" strike="noStrike">
                  <a:solidFill>
                    <a:srgbClr val="996633"/>
                  </a:solidFill>
                  <a:latin typeface="Verdana"/>
                </a:rPr>
                <a:t>C. Andes</a:t>
              </a:r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  <p:grpSp>
        <p:nvGrpSpPr>
          <p:cNvPr id="90" name=""/>
          <p:cNvGrpSpPr/>
          <p:nvPr/>
        </p:nvGrpSpPr>
        <p:grpSpPr>
          <a:xfrm>
            <a:off x="1371600" y="3733920"/>
            <a:ext cx="3276720" cy="635040"/>
            <a:chOff x="1371600" y="3733920"/>
            <a:chExt cx="3276720" cy="635040"/>
          </a:xfrm>
        </p:grpSpPr>
        <p:sp>
          <p:nvSpPr>
            <p:cNvPr id="91" name=""/>
            <p:cNvSpPr/>
            <p:nvPr/>
          </p:nvSpPr>
          <p:spPr>
            <a:xfrm>
              <a:off x="1371600" y="3733920"/>
              <a:ext cx="1066680" cy="307080"/>
            </a:xfrm>
            <a:prstGeom prst="rect">
              <a:avLst/>
            </a:prstGeom>
            <a:solidFill>
              <a:srgbClr val="ffffff"/>
            </a:solidFill>
            <a:ln w="0">
              <a:noFill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spAutoFit/>
            </a:bodyPr>
            <a:p>
              <a:pPr>
                <a:lnSpc>
                  <a:spcPct val="100000"/>
                </a:lnSpc>
                <a:spcBef>
                  <a:spcPts val="876"/>
                </a:spcBef>
                <a:tabLst>
                  <a:tab algn="l" pos="0"/>
                  <a:tab algn="l" pos="914400"/>
                  <a:tab algn="l" pos="1828800"/>
                  <a:tab algn="l" pos="2743200"/>
                  <a:tab algn="l" pos="3657600"/>
                  <a:tab algn="l" pos="4572000"/>
                  <a:tab algn="l" pos="5486400"/>
                  <a:tab algn="l" pos="6400800"/>
                  <a:tab algn="l" pos="7315200"/>
                  <a:tab algn="l" pos="8229600"/>
                  <a:tab algn="l" pos="9144000"/>
                  <a:tab algn="l" pos="10058400"/>
                </a:tabLst>
              </a:pPr>
              <a:r>
                <a:rPr b="1" lang="es-ES_tradnl" sz="1400" spc="-1" strike="noStrike">
                  <a:solidFill>
                    <a:srgbClr val="000000"/>
                  </a:solidFill>
                  <a:latin typeface="Verdana"/>
                </a:rPr>
                <a:t>C.Costa</a:t>
              </a:r>
              <a:endParaRPr b="0" lang="en-US" sz="1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2" name=""/>
            <p:cNvSpPr/>
            <p:nvPr/>
          </p:nvSpPr>
          <p:spPr>
            <a:xfrm>
              <a:off x="1523880" y="3860640"/>
              <a:ext cx="3124440" cy="508320"/>
            </a:xfrm>
            <a:custGeom>
              <a:avLst/>
              <a:gdLst/>
              <a:ahLst/>
              <a:rect l="l" t="t" r="r" b="b"/>
              <a:pathLst>
                <a:path w="1968" h="320">
                  <a:moveTo>
                    <a:pt x="0" y="208"/>
                  </a:moveTo>
                  <a:cubicBezTo>
                    <a:pt x="52" y="208"/>
                    <a:pt x="104" y="208"/>
                    <a:pt x="144" y="208"/>
                  </a:cubicBezTo>
                  <a:cubicBezTo>
                    <a:pt x="184" y="208"/>
                    <a:pt x="216" y="224"/>
                    <a:pt x="240" y="208"/>
                  </a:cubicBezTo>
                  <a:cubicBezTo>
                    <a:pt x="264" y="192"/>
                    <a:pt x="264" y="120"/>
                    <a:pt x="288" y="112"/>
                  </a:cubicBezTo>
                  <a:cubicBezTo>
                    <a:pt x="312" y="104"/>
                    <a:pt x="352" y="152"/>
                    <a:pt x="384" y="160"/>
                  </a:cubicBezTo>
                  <a:cubicBezTo>
                    <a:pt x="416" y="168"/>
                    <a:pt x="464" y="176"/>
                    <a:pt x="480" y="160"/>
                  </a:cubicBezTo>
                  <a:cubicBezTo>
                    <a:pt x="496" y="144"/>
                    <a:pt x="472" y="88"/>
                    <a:pt x="480" y="64"/>
                  </a:cubicBezTo>
                  <a:cubicBezTo>
                    <a:pt x="488" y="40"/>
                    <a:pt x="512" y="0"/>
                    <a:pt x="528" y="16"/>
                  </a:cubicBezTo>
                  <a:cubicBezTo>
                    <a:pt x="544" y="32"/>
                    <a:pt x="560" y="128"/>
                    <a:pt x="576" y="160"/>
                  </a:cubicBezTo>
                  <a:cubicBezTo>
                    <a:pt x="592" y="192"/>
                    <a:pt x="608" y="208"/>
                    <a:pt x="624" y="208"/>
                  </a:cubicBezTo>
                  <a:cubicBezTo>
                    <a:pt x="640" y="208"/>
                    <a:pt x="664" y="184"/>
                    <a:pt x="672" y="160"/>
                  </a:cubicBezTo>
                  <a:cubicBezTo>
                    <a:pt x="680" y="136"/>
                    <a:pt x="664" y="64"/>
                    <a:pt x="672" y="64"/>
                  </a:cubicBezTo>
                  <a:cubicBezTo>
                    <a:pt x="680" y="64"/>
                    <a:pt x="702" y="137"/>
                    <a:pt x="720" y="160"/>
                  </a:cubicBezTo>
                  <a:cubicBezTo>
                    <a:pt x="738" y="183"/>
                    <a:pt x="747" y="201"/>
                    <a:pt x="779" y="201"/>
                  </a:cubicBezTo>
                  <a:cubicBezTo>
                    <a:pt x="811" y="201"/>
                    <a:pt x="882" y="159"/>
                    <a:pt x="912" y="160"/>
                  </a:cubicBezTo>
                  <a:cubicBezTo>
                    <a:pt x="942" y="161"/>
                    <a:pt x="936" y="200"/>
                    <a:pt x="960" y="208"/>
                  </a:cubicBezTo>
                  <a:cubicBezTo>
                    <a:pt x="984" y="216"/>
                    <a:pt x="1024" y="216"/>
                    <a:pt x="1056" y="208"/>
                  </a:cubicBezTo>
                  <a:cubicBezTo>
                    <a:pt x="1088" y="200"/>
                    <a:pt x="1120" y="176"/>
                    <a:pt x="1152" y="160"/>
                  </a:cubicBezTo>
                  <a:cubicBezTo>
                    <a:pt x="1184" y="144"/>
                    <a:pt x="1232" y="104"/>
                    <a:pt x="1248" y="112"/>
                  </a:cubicBezTo>
                  <a:cubicBezTo>
                    <a:pt x="1264" y="120"/>
                    <a:pt x="1240" y="200"/>
                    <a:pt x="1248" y="208"/>
                  </a:cubicBezTo>
                  <a:cubicBezTo>
                    <a:pt x="1256" y="216"/>
                    <a:pt x="1280" y="160"/>
                    <a:pt x="1296" y="160"/>
                  </a:cubicBezTo>
                  <a:cubicBezTo>
                    <a:pt x="1312" y="160"/>
                    <a:pt x="1328" y="192"/>
                    <a:pt x="1344" y="208"/>
                  </a:cubicBezTo>
                  <a:cubicBezTo>
                    <a:pt x="1360" y="224"/>
                    <a:pt x="1376" y="240"/>
                    <a:pt x="1392" y="256"/>
                  </a:cubicBezTo>
                  <a:cubicBezTo>
                    <a:pt x="1408" y="272"/>
                    <a:pt x="1408" y="296"/>
                    <a:pt x="1440" y="304"/>
                  </a:cubicBezTo>
                  <a:cubicBezTo>
                    <a:pt x="1472" y="312"/>
                    <a:pt x="1552" y="312"/>
                    <a:pt x="1584" y="304"/>
                  </a:cubicBezTo>
                  <a:cubicBezTo>
                    <a:pt x="1616" y="296"/>
                    <a:pt x="1616" y="272"/>
                    <a:pt x="1632" y="256"/>
                  </a:cubicBezTo>
                  <a:cubicBezTo>
                    <a:pt x="1648" y="240"/>
                    <a:pt x="1664" y="200"/>
                    <a:pt x="1680" y="208"/>
                  </a:cubicBezTo>
                  <a:cubicBezTo>
                    <a:pt x="1696" y="216"/>
                    <a:pt x="1704" y="288"/>
                    <a:pt x="1728" y="304"/>
                  </a:cubicBezTo>
                  <a:cubicBezTo>
                    <a:pt x="1752" y="320"/>
                    <a:pt x="1792" y="312"/>
                    <a:pt x="1824" y="304"/>
                  </a:cubicBezTo>
                  <a:cubicBezTo>
                    <a:pt x="1856" y="296"/>
                    <a:pt x="1896" y="256"/>
                    <a:pt x="1920" y="256"/>
                  </a:cubicBezTo>
                  <a:cubicBezTo>
                    <a:pt x="1944" y="256"/>
                    <a:pt x="1960" y="288"/>
                    <a:pt x="1968" y="304"/>
                  </a:cubicBezTo>
                </a:path>
              </a:pathLst>
            </a:custGeom>
            <a:noFill/>
            <a:ln w="76320">
              <a:solidFill>
                <a:srgbClr val="00cc99"/>
              </a:solidFill>
              <a:round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  <p:sp>
          <p:nvSpPr>
            <p:cNvPr id="93" name=""/>
            <p:cNvSpPr/>
            <p:nvPr/>
          </p:nvSpPr>
          <p:spPr>
            <a:xfrm>
              <a:off x="1409760" y="3962520"/>
              <a:ext cx="342720" cy="152280"/>
            </a:xfrm>
            <a:custGeom>
              <a:avLst/>
              <a:gdLst/>
              <a:ahLst/>
              <a:rect l="l" t="t" r="r" b="b"/>
              <a:pathLst>
                <a:path w="216" h="96">
                  <a:moveTo>
                    <a:pt x="72" y="0"/>
                  </a:moveTo>
                  <a:cubicBezTo>
                    <a:pt x="36" y="16"/>
                    <a:pt x="0" y="32"/>
                    <a:pt x="24" y="48"/>
                  </a:cubicBezTo>
                  <a:cubicBezTo>
                    <a:pt x="48" y="64"/>
                    <a:pt x="132" y="80"/>
                    <a:pt x="216" y="96"/>
                  </a:cubicBezTo>
                </a:path>
              </a:pathLst>
            </a:custGeom>
            <a:noFill/>
            <a:ln w="9360">
              <a:solidFill>
                <a:srgbClr val="000000"/>
              </a:solidFill>
              <a:round/>
              <a:tailEnd len="med" type="triangle" w="med"/>
            </a:ln>
          </p:spPr>
          <p:style>
            <a:lnRef idx="0"/>
            <a:fillRef idx="0"/>
            <a:effectRef idx="0"/>
            <a:fontRef idx="minor"/>
          </p:style>
          <p:txBody>
            <a:bodyPr lIns="90000" rIns="90000" tIns="46800" bIns="46800" anchor="t">
              <a:noAutofit/>
            </a:bodyPr>
            <a:p>
              <a:endParaRPr b="0" lang="en-US" sz="2400" spc="-1" strike="noStrike">
                <a:solidFill>
                  <a:srgbClr val="000000"/>
                </a:solidFill>
                <a:latin typeface="Times New Roman"/>
              </a:endParaRPr>
            </a:p>
          </p:txBody>
        </p:sp>
      </p:grp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6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graphicFrame>
        <p:nvGraphicFramePr>
          <p:cNvPr id="94" name=""/>
          <p:cNvGraphicFramePr/>
          <p:nvPr/>
        </p:nvGraphicFramePr>
        <p:xfrm>
          <a:off x="990720" y="76320"/>
          <a:ext cx="7315200" cy="6705360"/>
        </p:xfrm>
        <a:graphic>
          <a:graphicData uri="http://schemas.openxmlformats.org/presentationml/2006/ole">
            <p:oleObj progId="Excel.Sheet.12" r:id="rId1" spid="">
              <p:embed/>
              <p:pic>
                <p:nvPicPr>
                  <p:cNvPr id="95" name="" descr=""/>
                  <p:cNvPicPr/>
                  <p:nvPr/>
                </p:nvPicPr>
                <p:blipFill>
                  <a:blip r:embed="rId2"/>
                  <a:stretch/>
                </p:blipFill>
                <p:spPr>
                  <a:xfrm>
                    <a:off x="990720" y="76320"/>
                    <a:ext cx="7315200" cy="6705360"/>
                  </a:xfrm>
                  <a:prstGeom prst="rect">
                    <a:avLst/>
                  </a:prstGeom>
                  <a:ln w="9360">
                    <a:solidFill>
                      <a:srgbClr val="cc3300"/>
                    </a:solidFill>
                    <a:miter/>
                  </a:ln>
                  <a:effectLst>
                    <a:outerShdw dist="153753" dir="2700000" blurRad="0" rotWithShape="0">
                      <a:srgbClr val="808080"/>
                    </a:outerShdw>
                  </a:effectLst>
                </p:spPr>
              </p:pic>
            </p:oleObj>
          </a:graphicData>
        </a:graphic>
      </p:graphicFrame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7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6" name=""/>
          <p:cNvSpPr/>
          <p:nvPr/>
        </p:nvSpPr>
        <p:spPr>
          <a:xfrm>
            <a:off x="609480" y="609480"/>
            <a:ext cx="7543800" cy="459720"/>
          </a:xfrm>
          <a:prstGeom prst="rect">
            <a:avLst/>
          </a:prstGeom>
          <a:solidFill>
            <a:srgbClr val="000000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ISTANCIA A FUENTES DE HUMEDAD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97" name=""/>
          <p:cNvSpPr/>
          <p:nvPr/>
        </p:nvSpPr>
        <p:spPr>
          <a:xfrm>
            <a:off x="1447920" y="1523880"/>
            <a:ext cx="655308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Pp MAYORES CERCA DE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mc:AlternateContent>
        <mc:Choice xmlns:a14="http://schemas.microsoft.com/office/drawing/2010/main" Requires="a14">
          <p:sp>
            <p:nvSpPr>
              <p:cNvPr id="98" name=""/>
              <p:cNvSpPr txBox="1"/>
              <p:nvPr/>
            </p:nvSpPr>
            <p:spPr>
              <a:xfrm>
                <a:off x="1905120" y="2540160"/>
                <a:ext cx="4267080" cy="1003320"/>
              </a:xfrm>
              <a:prstGeom prst="rect">
                <a:avLst/>
              </a:prstGeom>
            </p:spPr>
            <p:txBody>
              <a:bodyPr/>
              <a:p>
                <a14:m>
                  <m:oMath xmlns:m="http://schemas.openxmlformats.org/officeDocument/2006/math">
                    <m:r>
                      <m:t xml:space="preserve">P</m:t>
                    </m:r>
                    <m:r>
                      <m:t xml:space="preserve">=</m:t>
                    </m:r>
                    <m:sSup>
                      <m:e>
                        <m:r>
                          <m:t xml:space="preserve">λe</m:t>
                        </m:r>
                      </m:e>
                      <m:sup>
                        <m:r>
                          <m:t xml:space="preserve">−</m:t>
                        </m:r>
                        <m:sSup>
                          <m:e>
                            <m:r>
                              <m:t xml:space="preserve">μD</m:t>
                            </m:r>
                          </m:e>
                          <m:sup>
                            <m:r>
                              <m:t xml:space="preserve">2</m:t>
                            </m:r>
                          </m:sup>
                        </m:sSup>
                      </m:sup>
                    </m:sSup>
                  </m:oMath>
                </a14:m>
              </a:p>
            </p:txBody>
          </p:sp>
        </mc:Choice>
        <mc:Fallback/>
      </mc:AlternateContent>
      <p:sp>
        <p:nvSpPr>
          <p:cNvPr id="99" name=""/>
          <p:cNvSpPr/>
          <p:nvPr/>
        </p:nvSpPr>
        <p:spPr>
          <a:xfrm>
            <a:off x="3200400" y="4724280"/>
            <a:ext cx="41148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D: Distancia al mar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slides/slide8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gradFill rotWithShape="0">
          <a:gsLst>
            <a:gs pos="0">
              <a:srgbClr val="b2b2b2"/>
            </a:gs>
            <a:gs pos="50000">
              <a:srgbClr val="3333cc"/>
            </a:gs>
            <a:gs pos="100000">
              <a:srgbClr val="b2b2b2"/>
            </a:gs>
          </a:gsLst>
          <a:lin ang="8100000"/>
        </a:gra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0" name=""/>
          <p:cNvSpPr/>
          <p:nvPr/>
        </p:nvSpPr>
        <p:spPr>
          <a:xfrm>
            <a:off x="838080" y="457200"/>
            <a:ext cx="2743200" cy="45972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Verdana"/>
              </a:rPr>
              <a:t>FISIOGRAFÍ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1" name=""/>
          <p:cNvSpPr/>
          <p:nvPr/>
        </p:nvSpPr>
        <p:spPr>
          <a:xfrm>
            <a:off x="1523880" y="1295280"/>
            <a:ext cx="5715000" cy="459720"/>
          </a:xfrm>
          <a:prstGeom prst="rect">
            <a:avLst/>
          </a:prstGeom>
          <a:solidFill>
            <a:srgbClr val="6699ff"/>
          </a:solidFill>
          <a:ln w="0">
            <a:noFill/>
          </a:ln>
          <a:effectLst>
            <a:outerShdw dist="153753" dir="2700000" blurRad="0" rotWithShape="0">
              <a:srgbClr val="808080"/>
            </a:outerShdw>
          </a:effectLst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spcBef>
                <a:spcPts val="15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2400" spc="-1" strike="noStrike">
                <a:solidFill>
                  <a:srgbClr val="ffffff"/>
                </a:solidFill>
                <a:latin typeface="Times New Roman"/>
              </a:rPr>
              <a:t>Pp Aumenta con la altura</a:t>
            </a:r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2" name=""/>
          <p:cNvSpPr/>
          <p:nvPr/>
        </p:nvSpPr>
        <p:spPr>
          <a:xfrm>
            <a:off x="3048120" y="2971800"/>
            <a:ext cx="3276360" cy="642600"/>
          </a:xfrm>
          <a:prstGeom prst="rect">
            <a:avLst/>
          </a:prstGeom>
          <a:solidFill>
            <a:srgbClr val="000066"/>
          </a:solidFill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spAutoFit/>
          </a:bodyPr>
          <a:p>
            <a:pPr>
              <a:lnSpc>
                <a:spcPct val="100000"/>
              </a:lnSpc>
              <a:spcBef>
                <a:spcPts val="225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s-ES_tradnl" sz="3600" spc="-1" strike="noStrike">
                <a:solidFill>
                  <a:srgbClr val="ffffff"/>
                </a:solidFill>
                <a:latin typeface="Verdana"/>
              </a:rPr>
              <a:t>P=Kz+K´</a:t>
            </a:r>
            <a:endParaRPr b="0" lang="en-US" sz="36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3" name=""/>
          <p:cNvSpPr/>
          <p:nvPr/>
        </p:nvSpPr>
        <p:spPr>
          <a:xfrm>
            <a:off x="652320" y="3975120"/>
            <a:ext cx="8510760" cy="2579760"/>
          </a:xfrm>
          <a:custGeom>
            <a:avLst/>
            <a:gdLst/>
            <a:ahLst/>
            <a:rect l="l" t="t" r="r" b="b"/>
            <a:pathLst>
              <a:path w="5361" h="1625">
                <a:moveTo>
                  <a:pt x="0" y="1587"/>
                </a:moveTo>
                <a:cubicBezTo>
                  <a:pt x="78" y="1625"/>
                  <a:pt x="154" y="1608"/>
                  <a:pt x="236" y="1587"/>
                </a:cubicBezTo>
                <a:cubicBezTo>
                  <a:pt x="303" y="1542"/>
                  <a:pt x="301" y="1535"/>
                  <a:pt x="377" y="1516"/>
                </a:cubicBezTo>
                <a:cubicBezTo>
                  <a:pt x="408" y="1508"/>
                  <a:pt x="471" y="1493"/>
                  <a:pt x="471" y="1493"/>
                </a:cubicBezTo>
                <a:cubicBezTo>
                  <a:pt x="483" y="1481"/>
                  <a:pt x="493" y="1468"/>
                  <a:pt x="506" y="1457"/>
                </a:cubicBezTo>
                <a:cubicBezTo>
                  <a:pt x="517" y="1448"/>
                  <a:pt x="531" y="1444"/>
                  <a:pt x="541" y="1434"/>
                </a:cubicBezTo>
                <a:cubicBezTo>
                  <a:pt x="551" y="1424"/>
                  <a:pt x="554" y="1408"/>
                  <a:pt x="565" y="1399"/>
                </a:cubicBezTo>
                <a:cubicBezTo>
                  <a:pt x="608" y="1363"/>
                  <a:pt x="673" y="1370"/>
                  <a:pt x="717" y="1340"/>
                </a:cubicBezTo>
                <a:cubicBezTo>
                  <a:pt x="763" y="1309"/>
                  <a:pt x="739" y="1320"/>
                  <a:pt x="788" y="1305"/>
                </a:cubicBezTo>
                <a:cubicBezTo>
                  <a:pt x="835" y="1165"/>
                  <a:pt x="1213" y="1212"/>
                  <a:pt x="1246" y="1211"/>
                </a:cubicBezTo>
                <a:cubicBezTo>
                  <a:pt x="1312" y="1189"/>
                  <a:pt x="1357" y="1138"/>
                  <a:pt x="1423" y="1117"/>
                </a:cubicBezTo>
                <a:cubicBezTo>
                  <a:pt x="1502" y="1037"/>
                  <a:pt x="1461" y="1057"/>
                  <a:pt x="1529" y="1034"/>
                </a:cubicBezTo>
                <a:cubicBezTo>
                  <a:pt x="1566" y="977"/>
                  <a:pt x="1608" y="982"/>
                  <a:pt x="1670" y="964"/>
                </a:cubicBezTo>
                <a:cubicBezTo>
                  <a:pt x="1725" y="948"/>
                  <a:pt x="1780" y="934"/>
                  <a:pt x="1834" y="917"/>
                </a:cubicBezTo>
                <a:cubicBezTo>
                  <a:pt x="1846" y="909"/>
                  <a:pt x="1856" y="899"/>
                  <a:pt x="1869" y="893"/>
                </a:cubicBezTo>
                <a:cubicBezTo>
                  <a:pt x="1892" y="883"/>
                  <a:pt x="1940" y="870"/>
                  <a:pt x="1940" y="870"/>
                </a:cubicBezTo>
                <a:cubicBezTo>
                  <a:pt x="1982" y="842"/>
                  <a:pt x="2069" y="768"/>
                  <a:pt x="2116" y="752"/>
                </a:cubicBezTo>
                <a:cubicBezTo>
                  <a:pt x="2179" y="756"/>
                  <a:pt x="2242" y="754"/>
                  <a:pt x="2304" y="764"/>
                </a:cubicBezTo>
                <a:cubicBezTo>
                  <a:pt x="2370" y="774"/>
                  <a:pt x="2319" y="791"/>
                  <a:pt x="2351" y="823"/>
                </a:cubicBezTo>
                <a:cubicBezTo>
                  <a:pt x="2378" y="850"/>
                  <a:pt x="2404" y="842"/>
                  <a:pt x="2434" y="858"/>
                </a:cubicBezTo>
                <a:cubicBezTo>
                  <a:pt x="2459" y="872"/>
                  <a:pt x="2481" y="889"/>
                  <a:pt x="2504" y="905"/>
                </a:cubicBezTo>
                <a:cubicBezTo>
                  <a:pt x="2522" y="917"/>
                  <a:pt x="2585" y="924"/>
                  <a:pt x="2598" y="928"/>
                </a:cubicBezTo>
                <a:cubicBezTo>
                  <a:pt x="2763" y="973"/>
                  <a:pt x="2656" y="961"/>
                  <a:pt x="2892" y="976"/>
                </a:cubicBezTo>
                <a:cubicBezTo>
                  <a:pt x="3048" y="1027"/>
                  <a:pt x="3037" y="1023"/>
                  <a:pt x="3233" y="1034"/>
                </a:cubicBezTo>
                <a:cubicBezTo>
                  <a:pt x="3311" y="1061"/>
                  <a:pt x="3402" y="1031"/>
                  <a:pt x="3480" y="1011"/>
                </a:cubicBezTo>
                <a:cubicBezTo>
                  <a:pt x="3515" y="987"/>
                  <a:pt x="3546" y="954"/>
                  <a:pt x="3586" y="940"/>
                </a:cubicBezTo>
                <a:cubicBezTo>
                  <a:pt x="3663" y="914"/>
                  <a:pt x="3743" y="893"/>
                  <a:pt x="3821" y="870"/>
                </a:cubicBezTo>
                <a:cubicBezTo>
                  <a:pt x="3857" y="859"/>
                  <a:pt x="3892" y="845"/>
                  <a:pt x="3927" y="834"/>
                </a:cubicBezTo>
                <a:cubicBezTo>
                  <a:pt x="3939" y="830"/>
                  <a:pt x="3962" y="823"/>
                  <a:pt x="3962" y="823"/>
                </a:cubicBezTo>
                <a:cubicBezTo>
                  <a:pt x="3974" y="815"/>
                  <a:pt x="3984" y="805"/>
                  <a:pt x="3997" y="799"/>
                </a:cubicBezTo>
                <a:cubicBezTo>
                  <a:pt x="4012" y="793"/>
                  <a:pt x="4031" y="796"/>
                  <a:pt x="4044" y="787"/>
                </a:cubicBezTo>
                <a:cubicBezTo>
                  <a:pt x="4056" y="779"/>
                  <a:pt x="4057" y="761"/>
                  <a:pt x="4068" y="752"/>
                </a:cubicBezTo>
                <a:cubicBezTo>
                  <a:pt x="4079" y="743"/>
                  <a:pt x="4156" y="711"/>
                  <a:pt x="4173" y="705"/>
                </a:cubicBezTo>
                <a:cubicBezTo>
                  <a:pt x="4195" y="684"/>
                  <a:pt x="4225" y="670"/>
                  <a:pt x="4244" y="646"/>
                </a:cubicBezTo>
                <a:cubicBezTo>
                  <a:pt x="4252" y="636"/>
                  <a:pt x="4249" y="621"/>
                  <a:pt x="4256" y="611"/>
                </a:cubicBezTo>
                <a:cubicBezTo>
                  <a:pt x="4274" y="585"/>
                  <a:pt x="4301" y="569"/>
                  <a:pt x="4326" y="552"/>
                </a:cubicBezTo>
                <a:cubicBezTo>
                  <a:pt x="4358" y="459"/>
                  <a:pt x="4310" y="568"/>
                  <a:pt x="4373" y="505"/>
                </a:cubicBezTo>
                <a:cubicBezTo>
                  <a:pt x="4382" y="496"/>
                  <a:pt x="4378" y="480"/>
                  <a:pt x="4385" y="470"/>
                </a:cubicBezTo>
                <a:cubicBezTo>
                  <a:pt x="4417" y="422"/>
                  <a:pt x="4473" y="394"/>
                  <a:pt x="4526" y="376"/>
                </a:cubicBezTo>
                <a:cubicBezTo>
                  <a:pt x="4560" y="342"/>
                  <a:pt x="4580" y="308"/>
                  <a:pt x="4620" y="282"/>
                </a:cubicBezTo>
                <a:cubicBezTo>
                  <a:pt x="4655" y="231"/>
                  <a:pt x="4670" y="248"/>
                  <a:pt x="4714" y="211"/>
                </a:cubicBezTo>
                <a:cubicBezTo>
                  <a:pt x="4737" y="191"/>
                  <a:pt x="4749" y="160"/>
                  <a:pt x="4773" y="141"/>
                </a:cubicBezTo>
                <a:cubicBezTo>
                  <a:pt x="4794" y="125"/>
                  <a:pt x="4822" y="120"/>
                  <a:pt x="4844" y="106"/>
                </a:cubicBezTo>
                <a:cubicBezTo>
                  <a:pt x="4852" y="94"/>
                  <a:pt x="4855" y="78"/>
                  <a:pt x="4867" y="70"/>
                </a:cubicBezTo>
                <a:cubicBezTo>
                  <a:pt x="4888" y="57"/>
                  <a:pt x="4914" y="55"/>
                  <a:pt x="4938" y="47"/>
                </a:cubicBezTo>
                <a:cubicBezTo>
                  <a:pt x="4976" y="34"/>
                  <a:pt x="5005" y="13"/>
                  <a:pt x="5043" y="0"/>
                </a:cubicBezTo>
                <a:cubicBezTo>
                  <a:pt x="5086" y="4"/>
                  <a:pt x="5130" y="6"/>
                  <a:pt x="5173" y="12"/>
                </a:cubicBezTo>
                <a:cubicBezTo>
                  <a:pt x="5185" y="14"/>
                  <a:pt x="5199" y="14"/>
                  <a:pt x="5208" y="23"/>
                </a:cubicBezTo>
                <a:cubicBezTo>
                  <a:pt x="5217" y="32"/>
                  <a:pt x="5214" y="48"/>
                  <a:pt x="5220" y="59"/>
                </a:cubicBezTo>
                <a:cubicBezTo>
                  <a:pt x="5239" y="98"/>
                  <a:pt x="5243" y="94"/>
                  <a:pt x="5278" y="117"/>
                </a:cubicBezTo>
                <a:cubicBezTo>
                  <a:pt x="5340" y="211"/>
                  <a:pt x="5260" y="101"/>
                  <a:pt x="5337" y="176"/>
                </a:cubicBezTo>
                <a:cubicBezTo>
                  <a:pt x="5347" y="186"/>
                  <a:pt x="5361" y="211"/>
                  <a:pt x="5361" y="211"/>
                </a:cubicBezTo>
              </a:path>
            </a:pathLst>
          </a:custGeom>
          <a:noFill/>
          <a:ln w="76320">
            <a:solidFill>
              <a:srgbClr val="996633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4" name=""/>
          <p:cNvSpPr/>
          <p:nvPr/>
        </p:nvSpPr>
        <p:spPr>
          <a:xfrm>
            <a:off x="609480" y="5867280"/>
            <a:ext cx="1447920" cy="622440"/>
          </a:xfrm>
          <a:custGeom>
            <a:avLst/>
            <a:gdLst/>
            <a:ahLst/>
            <a:rect l="l" t="t" r="r" b="b"/>
            <a:pathLst>
              <a:path w="816" h="264">
                <a:moveTo>
                  <a:pt x="0" y="16"/>
                </a:moveTo>
                <a:cubicBezTo>
                  <a:pt x="312" y="8"/>
                  <a:pt x="624" y="0"/>
                  <a:pt x="720" y="16"/>
                </a:cubicBezTo>
                <a:cubicBezTo>
                  <a:pt x="816" y="32"/>
                  <a:pt x="616" y="88"/>
                  <a:pt x="576" y="112"/>
                </a:cubicBezTo>
                <a:cubicBezTo>
                  <a:pt x="536" y="136"/>
                  <a:pt x="512" y="144"/>
                  <a:pt x="480" y="160"/>
                </a:cubicBezTo>
                <a:cubicBezTo>
                  <a:pt x="448" y="176"/>
                  <a:pt x="424" y="192"/>
                  <a:pt x="384" y="208"/>
                </a:cubicBezTo>
                <a:cubicBezTo>
                  <a:pt x="344" y="224"/>
                  <a:pt x="280" y="248"/>
                  <a:pt x="240" y="256"/>
                </a:cubicBezTo>
                <a:cubicBezTo>
                  <a:pt x="200" y="264"/>
                  <a:pt x="184" y="256"/>
                  <a:pt x="144" y="256"/>
                </a:cubicBezTo>
                <a:cubicBezTo>
                  <a:pt x="104" y="256"/>
                  <a:pt x="52" y="256"/>
                  <a:pt x="0" y="256"/>
                </a:cubicBezTo>
              </a:path>
            </a:pathLst>
          </a:custGeom>
          <a:solidFill>
            <a:srgbClr val="6699ff"/>
          </a:solidFill>
          <a:ln w="9360">
            <a:solidFill>
              <a:srgbClr val="000000"/>
            </a:solidFill>
            <a:round/>
          </a:ln>
        </p:spPr>
        <p:style>
          <a:lnRef idx="0"/>
          <a:fillRef idx="0"/>
          <a:effectRef idx="0"/>
          <a:fontRef idx="minor"/>
        </p:style>
        <p:txBody>
          <a:bodyPr lIns="90000" rIns="90000" tIns="46800" bIns="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5" name=""/>
          <p:cNvSpPr/>
          <p:nvPr/>
        </p:nvSpPr>
        <p:spPr>
          <a:xfrm>
            <a:off x="838080" y="6019920"/>
            <a:ext cx="30492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  <p:sp>
        <p:nvSpPr>
          <p:cNvPr id="106" name=""/>
          <p:cNvSpPr/>
          <p:nvPr/>
        </p:nvSpPr>
        <p:spPr>
          <a:xfrm>
            <a:off x="838080" y="6172200"/>
            <a:ext cx="228600" cy="0"/>
          </a:xfrm>
          <a:prstGeom prst="line">
            <a:avLst/>
          </a:prstGeom>
          <a:ln w="9360">
            <a:solidFill>
              <a:srgbClr val="000000"/>
            </a:solidFill>
            <a:miter/>
          </a:ln>
        </p:spPr>
        <p:style>
          <a:lnRef idx="0"/>
          <a:fillRef idx="0"/>
          <a:effectRef idx="0"/>
          <a:fontRef idx="minor"/>
        </p:style>
        <p:txBody>
          <a:bodyPr lIns="90000" rIns="90000" tIns="-46800" bIns="-46800" anchor="t">
            <a:noAutofit/>
          </a:bodyPr>
          <a:p>
            <a:endParaRPr b="0" lang="en-US" sz="2400" spc="-1" strike="noStrike">
              <a:solidFill>
                <a:srgbClr val="000000"/>
              </a:solidFill>
              <a:latin typeface="Times New Roman"/>
            </a:endParaRPr>
          </a:p>
        </p:txBody>
      </p:sp>
    </p:spTree>
  </p:cSld>
  <mc:AlternateContent>
    <mc:Choice Requires="p14">
      <p:transition spd="slow" p14:dur="2000"/>
    </mc:Choice>
    <mc:Fallback>
      <p:transition spd="slow"/>
    </mc:Fallback>
  </mc:AlternateContent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247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1-08-21T00:42:36Z</dcterms:created>
  <dc:creator>Guillermo Osses</dc:creator>
  <dc:description/>
  <dc:language>en-US</dc:language>
  <cp:lastModifiedBy>xv</cp:lastModifiedBy>
  <dcterms:modified xsi:type="dcterms:W3CDTF">2004-08-18T22:34:25Z</dcterms:modified>
  <cp:revision>11</cp:revision>
  <dc:subject/>
  <dc:title>Presentación de PowerPoint</dc:title>
</cp:coreProperties>
</file>