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314-DAAD-485A-83B9-EB9B1051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047-A04E-47D2-B171-96981FC1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788-F4B7-47FA-800C-4D16BB4C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B03-3ECB-437D-8AE2-DDF7E39D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29C-2FC7-446A-9C5D-DF6D9C7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F28-C714-4C23-9E2F-70179BAC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FC0-4907-40B6-982F-35667F0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AEB-63E6-4EDD-8F23-01F9E58A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D7E-5C30-4AE4-839E-F44386B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743-5279-4C38-BEB8-CF30578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09C-F54B-4DE2-ADF5-D7FC28E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F08-2F1E-4FBE-BD70-596457DC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CEE-5E11-4FAD-A980-81DCBB74907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4-08-18T22:20:34Z</dcterms:modified>
  <cp:revision>9</cp:revision>
  <dc:subject/>
  <dc:title>CURVAS PDA</dc:title>
</cp:coreProperties>
</file>