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78B-EC8B-4912-9921-885000E2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B1AA-C040-4247-83F1-AAA9F481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15B7-58A2-4C31-A583-23DCE0F9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AFD-424A-43D4-B2F9-396EFA47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448-777D-40C8-BB83-0A0815B3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7704-AB1C-4469-8ACD-3D5964CA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5E0-8DF0-4F72-9267-96FD6E05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C0B-D113-448C-81DA-9DB5AC2E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6C8-527B-4671-B640-D508D223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C96-4F65-45F4-ACD4-BB3C3C11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5911-D11F-40EE-8B9A-7B14620A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DA4A-1118-4ED2-A2D7-71CC8AF4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60E7-3673-4862-9EF4-50D639A0670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172200"/>
            <a:ext cx="670572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URVAS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cip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762120" y="304920"/>
          <a:ext cx="7696080" cy="59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769608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457200"/>
            <a:ext cx="746748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emplean para analizar la distribución espacial y temporal de la precipitación caída durante una torme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048120"/>
            <a:ext cx="7467480" cy="247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on familias de curvas que indican la precipitación (o intensidad) media máxima caída sobre distintas magnitudes de área de la cuenca, llevando como parámetro el intervalo de tiempo o duración de la lluv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838080"/>
            <a:ext cx="7315200" cy="192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Implican un trabajo laborioso y tedioso, aún con computador resulta a menudo impracticable por limitaciones en la calidad y cantidad de la información pluviométrica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962520"/>
            <a:ext cx="670536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étodo simplificado (algo arbitrario) que tiene ventaja de ser normalizado permitiendo comparar entre los distintos resul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819520"/>
            <a:ext cx="152388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85800" y="685800"/>
            <a:ext cx="655308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un plano de la cuenca, se ubican estaciones pluviométricas. Se indica cantidad total de precipitación caída durante tormenta en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1828800" y="2895480"/>
            <a:ext cx="6172200" cy="11912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ediante algún criterio (polígonos de Thiessen) se determina zona representativa de cada es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419720"/>
            <a:ext cx="8229600" cy="825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33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 dibuja un plano de isoyetas de la precipitación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8610480" y="5943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572000" y="914400"/>
            <a:ext cx="53352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85345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33920" y="3581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4876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72000" y="304920"/>
            <a:ext cx="838080" cy="16761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3808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En tormentas simples la distribución de Pp tiende a forma gauss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388620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soyetas tienden a ser elíp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5510400">
            <a:off x="7600680" y="2381040"/>
            <a:ext cx="1181160" cy="1295280"/>
          </a:xfrm>
          <a:custGeom>
            <a:avLst/>
            <a:gdLst>
              <a:gd name="textAreaLeft" fmla="*/ 184320 w 1181160"/>
              <a:gd name="textAreaRight" fmla="*/ 1033560 w 11811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27040" y="-647280"/>
            <a:ext cx="6863040" cy="7803720"/>
            <a:chOff x="527040" y="-647280"/>
            <a:chExt cx="6863040" cy="7803720"/>
          </a:xfrm>
        </p:grpSpPr>
        <p:sp>
          <p:nvSpPr>
            <p:cNvPr id="189" name=""/>
            <p:cNvSpPr/>
            <p:nvPr/>
          </p:nvSpPr>
          <p:spPr>
            <a:xfrm rot="17959800">
              <a:off x="649800" y="1177200"/>
              <a:ext cx="6616800" cy="41544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5280" y="396252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684440" y="981360"/>
            <a:ext cx="4538880" cy="4897080"/>
            <a:chOff x="1684440" y="981360"/>
            <a:chExt cx="4538880" cy="4897080"/>
          </a:xfrm>
        </p:grpSpPr>
        <p:sp>
          <p:nvSpPr>
            <p:cNvPr id="192" name=""/>
            <p:cNvSpPr/>
            <p:nvPr/>
          </p:nvSpPr>
          <p:spPr>
            <a:xfrm rot="18298800">
              <a:off x="1895400" y="2099880"/>
              <a:ext cx="4116240" cy="26593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38480" y="137160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563560" y="2128320"/>
            <a:ext cx="2596320" cy="2867040"/>
            <a:chOff x="2563560" y="2128320"/>
            <a:chExt cx="2596320" cy="2867040"/>
          </a:xfrm>
        </p:grpSpPr>
        <p:sp>
          <p:nvSpPr>
            <p:cNvPr id="195" name=""/>
            <p:cNvSpPr/>
            <p:nvPr/>
          </p:nvSpPr>
          <p:spPr>
            <a:xfrm rot="18298800">
              <a:off x="2605680" y="2856240"/>
              <a:ext cx="2511720" cy="1411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76720" y="2514600"/>
              <a:ext cx="5331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505320" y="3291840"/>
            <a:ext cx="727920" cy="855360"/>
            <a:chOff x="3505320" y="3291840"/>
            <a:chExt cx="727920" cy="855360"/>
          </a:xfrm>
        </p:grpSpPr>
        <p:sp>
          <p:nvSpPr>
            <p:cNvPr id="198" name=""/>
            <p:cNvSpPr/>
            <p:nvPr/>
          </p:nvSpPr>
          <p:spPr>
            <a:xfrm rot="18298800">
              <a:off x="3657600" y="3429000"/>
              <a:ext cx="533520" cy="3808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3809880"/>
              <a:ext cx="533160" cy="337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4400" y="685800"/>
            <a:ext cx="7010280" cy="1557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 adoptan arbitrariamente como magnitudes de área para el análisis, las encerradas por las isoyetas. Se calcula P en cada 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8305920" y="16002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743200"/>
            <a:ext cx="8153280" cy="4353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Zon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soyeta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re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P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mm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9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25*110+65*105)/90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6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2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90*106,4+1160*87,5)/1250 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8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33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71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01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54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4419720"/>
            <a:ext cx="3962520" cy="22096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5029200"/>
            <a:ext cx="4419360" cy="16765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34520" y="228600"/>
            <a:ext cx="380880" cy="4572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19320" y="228600"/>
            <a:ext cx="5257800" cy="657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stació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or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219320"/>
            <a:ext cx="5181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838080"/>
            <a:ext cx="0" cy="58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762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1:14:08Z</dcterms:created>
  <dc:creator>Ximena Vargas</dc:creator>
  <dc:description/>
  <dc:language>en-US</dc:language>
  <cp:lastModifiedBy>xv</cp:lastModifiedBy>
  <dcterms:modified xsi:type="dcterms:W3CDTF">2004-08-18T22:20:34Z</dcterms:modified>
  <cp:revision>9</cp:revision>
  <dc:subject/>
  <dc:title>CURVAS PDA</dc:title>
</cp:coreProperties>
</file>