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248-5FDE-4467-A5C4-D0049AD6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F08-24A5-4A86-A7D2-F3BB1A7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C0A-4418-476F-B159-99FE1673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867-EB56-44B7-9D18-B69D2B58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AD2-9FD6-476A-B273-F29115B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2E1-4E4A-4E11-8B1A-B4D1B35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FCC-FBF5-4A50-814D-83E1A136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581-6572-4EEF-8BE9-E699934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D36-09E9-4CCF-ACA2-2FE6532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AEE-E06A-44EA-8193-5D03A10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7E3-BF72-45F6-86A9-1A126DB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073-E472-4F36-906E-2C81968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1A7-36F4-406D-B286-511209870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5400" y="365040"/>
            <a:ext cx="7365960" cy="124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iempo de concentración: tiempo que demor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lcanzar la salida la partícula que cae en el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ás alejado de la cuenca, t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120" y="1905120"/>
            <a:ext cx="22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Para una tor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2815920"/>
            <a:ext cx="7746840" cy="3813480"/>
            <a:chOff x="609480" y="2815920"/>
            <a:chExt cx="7746840" cy="3813480"/>
          </a:xfrm>
        </p:grpSpPr>
        <p:sp>
          <p:nvSpPr>
            <p:cNvPr id="44" name=""/>
            <p:cNvSpPr/>
            <p:nvPr/>
          </p:nvSpPr>
          <p:spPr>
            <a:xfrm>
              <a:off x="609480" y="2895480"/>
              <a:ext cx="7467840" cy="37339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2200" y="3902040"/>
              <a:ext cx="0" cy="17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2200" y="5616720"/>
              <a:ext cx="386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73320" y="2815920"/>
              <a:ext cx="5283000" cy="251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7880" y="3809880"/>
              <a:ext cx="10890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i </a:t>
              </a: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1/2 má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mm/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3120" y="5695920"/>
              <a:ext cx="42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1200" y="3809880"/>
              <a:ext cx="3066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=5,10,...45,60,80,100,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      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y 18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380880"/>
            <a:ext cx="5105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8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 flipV="1">
            <a:off x="2514240" y="2742840"/>
            <a:ext cx="1066680" cy="1066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3809880"/>
            <a:ext cx="1219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2361960"/>
            <a:ext cx="685800" cy="1447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09880"/>
            <a:ext cx="60948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4800600"/>
            <a:ext cx="9907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800600"/>
            <a:ext cx="220968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809520"/>
            <a:ext cx="2057400" cy="1676520"/>
            <a:chOff x="3809880" y="3809520"/>
            <a:chExt cx="2057400" cy="1676520"/>
          </a:xfrm>
        </p:grpSpPr>
        <p:sp>
          <p:nvSpPr>
            <p:cNvPr id="205" name=""/>
            <p:cNvSpPr/>
            <p:nvPr/>
          </p:nvSpPr>
          <p:spPr>
            <a:xfrm>
              <a:off x="4876920" y="46483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809880" y="3809520"/>
              <a:ext cx="20574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10080" y="5334120"/>
            <a:ext cx="53352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3809880"/>
            <a:ext cx="2209680" cy="152424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624"/>
                </a:moveTo>
                <a:lnTo>
                  <a:pt x="240" y="0"/>
                </a:lnTo>
                <a:lnTo>
                  <a:pt x="1008" y="0"/>
                </a:lnTo>
                <a:lnTo>
                  <a:pt x="1392" y="960"/>
                </a:lnTo>
                <a:lnTo>
                  <a:pt x="48" y="624"/>
                </a:ln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191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72160" y="2351160"/>
            <a:ext cx="2886120" cy="3711600"/>
          </a:xfrm>
          <a:custGeom>
            <a:avLst/>
            <a:gdLst/>
            <a:ahLst/>
            <a:rect l="l" t="t" r="r" b="b"/>
            <a:pathLst>
              <a:path w="1818" h="2338">
                <a:moveTo>
                  <a:pt x="18" y="904"/>
                </a:moveTo>
                <a:cubicBezTo>
                  <a:pt x="61" y="889"/>
                  <a:pt x="38" y="882"/>
                  <a:pt x="56" y="849"/>
                </a:cubicBezTo>
                <a:cubicBezTo>
                  <a:pt x="65" y="832"/>
                  <a:pt x="88" y="802"/>
                  <a:pt x="88" y="802"/>
                </a:cubicBezTo>
                <a:cubicBezTo>
                  <a:pt x="108" y="737"/>
                  <a:pt x="137" y="679"/>
                  <a:pt x="158" y="615"/>
                </a:cubicBezTo>
                <a:cubicBezTo>
                  <a:pt x="164" y="597"/>
                  <a:pt x="179" y="584"/>
                  <a:pt x="189" y="569"/>
                </a:cubicBezTo>
                <a:cubicBezTo>
                  <a:pt x="194" y="561"/>
                  <a:pt x="205" y="545"/>
                  <a:pt x="205" y="545"/>
                </a:cubicBezTo>
                <a:cubicBezTo>
                  <a:pt x="220" y="496"/>
                  <a:pt x="250" y="454"/>
                  <a:pt x="267" y="405"/>
                </a:cubicBezTo>
                <a:cubicBezTo>
                  <a:pt x="273" y="387"/>
                  <a:pt x="292" y="376"/>
                  <a:pt x="298" y="358"/>
                </a:cubicBezTo>
                <a:cubicBezTo>
                  <a:pt x="311" y="319"/>
                  <a:pt x="324" y="280"/>
                  <a:pt x="337" y="241"/>
                </a:cubicBezTo>
                <a:cubicBezTo>
                  <a:pt x="349" y="206"/>
                  <a:pt x="381" y="184"/>
                  <a:pt x="392" y="148"/>
                </a:cubicBezTo>
                <a:cubicBezTo>
                  <a:pt x="419" y="62"/>
                  <a:pt x="374" y="190"/>
                  <a:pt x="415" y="101"/>
                </a:cubicBezTo>
                <a:cubicBezTo>
                  <a:pt x="434" y="59"/>
                  <a:pt x="428" y="15"/>
                  <a:pt x="477" y="0"/>
                </a:cubicBezTo>
                <a:cubicBezTo>
                  <a:pt x="521" y="28"/>
                  <a:pt x="569" y="62"/>
                  <a:pt x="618" y="78"/>
                </a:cubicBezTo>
                <a:cubicBezTo>
                  <a:pt x="641" y="101"/>
                  <a:pt x="656" y="115"/>
                  <a:pt x="688" y="124"/>
                </a:cubicBezTo>
                <a:cubicBezTo>
                  <a:pt x="754" y="170"/>
                  <a:pt x="845" y="182"/>
                  <a:pt x="921" y="202"/>
                </a:cubicBezTo>
                <a:cubicBezTo>
                  <a:pt x="945" y="208"/>
                  <a:pt x="968" y="218"/>
                  <a:pt x="992" y="226"/>
                </a:cubicBezTo>
                <a:cubicBezTo>
                  <a:pt x="1000" y="228"/>
                  <a:pt x="1015" y="233"/>
                  <a:pt x="1015" y="233"/>
                </a:cubicBezTo>
                <a:cubicBezTo>
                  <a:pt x="1069" y="270"/>
                  <a:pt x="1044" y="259"/>
                  <a:pt x="1085" y="272"/>
                </a:cubicBezTo>
                <a:cubicBezTo>
                  <a:pt x="1090" y="280"/>
                  <a:pt x="1094" y="289"/>
                  <a:pt x="1101" y="296"/>
                </a:cubicBezTo>
                <a:cubicBezTo>
                  <a:pt x="1107" y="302"/>
                  <a:pt x="1118" y="304"/>
                  <a:pt x="1124" y="311"/>
                </a:cubicBezTo>
                <a:cubicBezTo>
                  <a:pt x="1155" y="350"/>
                  <a:pt x="1105" y="325"/>
                  <a:pt x="1155" y="343"/>
                </a:cubicBezTo>
                <a:cubicBezTo>
                  <a:pt x="1179" y="366"/>
                  <a:pt x="1187" y="387"/>
                  <a:pt x="1218" y="397"/>
                </a:cubicBezTo>
                <a:cubicBezTo>
                  <a:pt x="1261" y="465"/>
                  <a:pt x="1203" y="385"/>
                  <a:pt x="1257" y="428"/>
                </a:cubicBezTo>
                <a:cubicBezTo>
                  <a:pt x="1308" y="468"/>
                  <a:pt x="1236" y="441"/>
                  <a:pt x="1295" y="459"/>
                </a:cubicBezTo>
                <a:cubicBezTo>
                  <a:pt x="1349" y="496"/>
                  <a:pt x="1324" y="486"/>
                  <a:pt x="1366" y="498"/>
                </a:cubicBezTo>
                <a:cubicBezTo>
                  <a:pt x="1412" y="530"/>
                  <a:pt x="1469" y="547"/>
                  <a:pt x="1506" y="592"/>
                </a:cubicBezTo>
                <a:cubicBezTo>
                  <a:pt x="1539" y="632"/>
                  <a:pt x="1506" y="597"/>
                  <a:pt x="1529" y="639"/>
                </a:cubicBezTo>
                <a:cubicBezTo>
                  <a:pt x="1545" y="667"/>
                  <a:pt x="1566" y="706"/>
                  <a:pt x="1584" y="732"/>
                </a:cubicBezTo>
                <a:cubicBezTo>
                  <a:pt x="1613" y="818"/>
                  <a:pt x="1568" y="691"/>
                  <a:pt x="1607" y="779"/>
                </a:cubicBezTo>
                <a:cubicBezTo>
                  <a:pt x="1628" y="826"/>
                  <a:pt x="1633" y="877"/>
                  <a:pt x="1662" y="919"/>
                </a:cubicBezTo>
                <a:cubicBezTo>
                  <a:pt x="1691" y="1005"/>
                  <a:pt x="1646" y="878"/>
                  <a:pt x="1685" y="966"/>
                </a:cubicBezTo>
                <a:cubicBezTo>
                  <a:pt x="1704" y="1009"/>
                  <a:pt x="1714" y="1052"/>
                  <a:pt x="1740" y="1091"/>
                </a:cubicBezTo>
                <a:cubicBezTo>
                  <a:pt x="1751" y="1128"/>
                  <a:pt x="1745" y="1110"/>
                  <a:pt x="1763" y="1161"/>
                </a:cubicBezTo>
                <a:cubicBezTo>
                  <a:pt x="1766" y="1169"/>
                  <a:pt x="1771" y="1184"/>
                  <a:pt x="1771" y="1184"/>
                </a:cubicBezTo>
                <a:cubicBezTo>
                  <a:pt x="1788" y="1283"/>
                  <a:pt x="1805" y="1381"/>
                  <a:pt x="1818" y="1480"/>
                </a:cubicBezTo>
                <a:cubicBezTo>
                  <a:pt x="1810" y="1572"/>
                  <a:pt x="1789" y="1656"/>
                  <a:pt x="1771" y="1745"/>
                </a:cubicBezTo>
                <a:cubicBezTo>
                  <a:pt x="1759" y="1806"/>
                  <a:pt x="1751" y="1866"/>
                  <a:pt x="1732" y="1925"/>
                </a:cubicBezTo>
                <a:cubicBezTo>
                  <a:pt x="1715" y="1978"/>
                  <a:pt x="1709" y="2042"/>
                  <a:pt x="1677" y="2088"/>
                </a:cubicBezTo>
                <a:cubicBezTo>
                  <a:pt x="1656" y="2159"/>
                  <a:pt x="1687" y="2062"/>
                  <a:pt x="1654" y="2135"/>
                </a:cubicBezTo>
                <a:cubicBezTo>
                  <a:pt x="1628" y="2192"/>
                  <a:pt x="1657" y="2175"/>
                  <a:pt x="1615" y="2190"/>
                </a:cubicBezTo>
                <a:cubicBezTo>
                  <a:pt x="1586" y="2219"/>
                  <a:pt x="1532" y="2270"/>
                  <a:pt x="1498" y="2291"/>
                </a:cubicBezTo>
                <a:cubicBezTo>
                  <a:pt x="1478" y="2303"/>
                  <a:pt x="1455" y="2309"/>
                  <a:pt x="1436" y="2322"/>
                </a:cubicBezTo>
                <a:cubicBezTo>
                  <a:pt x="1428" y="2327"/>
                  <a:pt x="1420" y="2333"/>
                  <a:pt x="1412" y="2338"/>
                </a:cubicBezTo>
                <a:cubicBezTo>
                  <a:pt x="1332" y="2333"/>
                  <a:pt x="1268" y="2333"/>
                  <a:pt x="1194" y="2314"/>
                </a:cubicBezTo>
                <a:cubicBezTo>
                  <a:pt x="1069" y="2318"/>
                  <a:pt x="943" y="2317"/>
                  <a:pt x="820" y="2338"/>
                </a:cubicBezTo>
                <a:cubicBezTo>
                  <a:pt x="804" y="2336"/>
                  <a:pt x="751" y="2335"/>
                  <a:pt x="727" y="2322"/>
                </a:cubicBezTo>
                <a:cubicBezTo>
                  <a:pt x="711" y="2313"/>
                  <a:pt x="680" y="2291"/>
                  <a:pt x="680" y="2291"/>
                </a:cubicBezTo>
                <a:cubicBezTo>
                  <a:pt x="669" y="2260"/>
                  <a:pt x="657" y="2244"/>
                  <a:pt x="633" y="2221"/>
                </a:cubicBezTo>
                <a:cubicBezTo>
                  <a:pt x="620" y="2183"/>
                  <a:pt x="603" y="2157"/>
                  <a:pt x="571" y="2135"/>
                </a:cubicBezTo>
                <a:cubicBezTo>
                  <a:pt x="560" y="2105"/>
                  <a:pt x="551" y="2091"/>
                  <a:pt x="524" y="2073"/>
                </a:cubicBezTo>
                <a:cubicBezTo>
                  <a:pt x="503" y="2011"/>
                  <a:pt x="534" y="2085"/>
                  <a:pt x="493" y="2034"/>
                </a:cubicBezTo>
                <a:cubicBezTo>
                  <a:pt x="488" y="2027"/>
                  <a:pt x="489" y="2017"/>
                  <a:pt x="485" y="2010"/>
                </a:cubicBezTo>
                <a:cubicBezTo>
                  <a:pt x="476" y="1994"/>
                  <a:pt x="464" y="1979"/>
                  <a:pt x="454" y="1964"/>
                </a:cubicBezTo>
                <a:cubicBezTo>
                  <a:pt x="449" y="1957"/>
                  <a:pt x="451" y="1947"/>
                  <a:pt x="446" y="1940"/>
                </a:cubicBezTo>
                <a:cubicBezTo>
                  <a:pt x="440" y="1933"/>
                  <a:pt x="431" y="1930"/>
                  <a:pt x="423" y="1925"/>
                </a:cubicBezTo>
                <a:cubicBezTo>
                  <a:pt x="414" y="1897"/>
                  <a:pt x="396" y="1880"/>
                  <a:pt x="384" y="1854"/>
                </a:cubicBezTo>
                <a:cubicBezTo>
                  <a:pt x="366" y="1813"/>
                  <a:pt x="355" y="1775"/>
                  <a:pt x="329" y="1738"/>
                </a:cubicBezTo>
                <a:cubicBezTo>
                  <a:pt x="318" y="1694"/>
                  <a:pt x="308" y="1651"/>
                  <a:pt x="282" y="1613"/>
                </a:cubicBezTo>
                <a:cubicBezTo>
                  <a:pt x="274" y="1586"/>
                  <a:pt x="267" y="1567"/>
                  <a:pt x="251" y="1543"/>
                </a:cubicBezTo>
                <a:cubicBezTo>
                  <a:pt x="230" y="1463"/>
                  <a:pt x="258" y="1556"/>
                  <a:pt x="228" y="1488"/>
                </a:cubicBezTo>
                <a:cubicBezTo>
                  <a:pt x="212" y="1452"/>
                  <a:pt x="211" y="1426"/>
                  <a:pt x="189" y="1395"/>
                </a:cubicBezTo>
                <a:cubicBezTo>
                  <a:pt x="157" y="1302"/>
                  <a:pt x="127" y="1211"/>
                  <a:pt x="88" y="1122"/>
                </a:cubicBezTo>
                <a:cubicBezTo>
                  <a:pt x="78" y="1099"/>
                  <a:pt x="77" y="1073"/>
                  <a:pt x="64" y="1052"/>
                </a:cubicBezTo>
                <a:cubicBezTo>
                  <a:pt x="48" y="1027"/>
                  <a:pt x="40" y="1000"/>
                  <a:pt x="25" y="974"/>
                </a:cubicBezTo>
                <a:cubicBezTo>
                  <a:pt x="21" y="967"/>
                  <a:pt x="0" y="939"/>
                  <a:pt x="2" y="927"/>
                </a:cubicBezTo>
                <a:cubicBezTo>
                  <a:pt x="4" y="918"/>
                  <a:pt x="13" y="912"/>
                  <a:pt x="18" y="904"/>
                </a:cubicBez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1148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1143000"/>
            <a:ext cx="259092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219320" y="1523880"/>
            <a:ext cx="6933600" cy="4573080"/>
            <a:chOff x="1219320" y="1523880"/>
            <a:chExt cx="6933600" cy="4573080"/>
          </a:xfrm>
        </p:grpSpPr>
        <p:sp>
          <p:nvSpPr>
            <p:cNvPr id="214" name=""/>
            <p:cNvSpPr/>
            <p:nvPr/>
          </p:nvSpPr>
          <p:spPr>
            <a:xfrm>
              <a:off x="1219320" y="1727640"/>
              <a:ext cx="6933600" cy="43693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19840" y="2592720"/>
              <a:ext cx="4189680" cy="303120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08360" y="3931200"/>
              <a:ext cx="2646000" cy="167184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5240" y="19047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3880" y="38091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79760" y="533304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56520" y="3428280"/>
              <a:ext cx="12312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26360" y="241272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6360" y="431748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2160" y="34282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6960" y="31744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4040" y="203184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4040" y="4317480"/>
              <a:ext cx="27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6360" y="520596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32200" y="152388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914400" y="380880"/>
            <a:ext cx="2057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SOY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905120"/>
            <a:ext cx="2336760" cy="4610160"/>
          </a:xfrm>
          <a:custGeom>
            <a:avLst/>
            <a:gdLst/>
            <a:ahLst/>
            <a:rect l="l" t="t" r="r" b="b"/>
            <a:pathLst>
              <a:path w="1472" h="2904">
                <a:moveTo>
                  <a:pt x="0" y="0"/>
                </a:moveTo>
                <a:cubicBezTo>
                  <a:pt x="16" y="88"/>
                  <a:pt x="32" y="176"/>
                  <a:pt x="96" y="240"/>
                </a:cubicBezTo>
                <a:cubicBezTo>
                  <a:pt x="160" y="304"/>
                  <a:pt x="288" y="344"/>
                  <a:pt x="384" y="384"/>
                </a:cubicBezTo>
                <a:cubicBezTo>
                  <a:pt x="480" y="424"/>
                  <a:pt x="600" y="408"/>
                  <a:pt x="672" y="480"/>
                </a:cubicBezTo>
                <a:cubicBezTo>
                  <a:pt x="744" y="552"/>
                  <a:pt x="776" y="688"/>
                  <a:pt x="816" y="816"/>
                </a:cubicBezTo>
                <a:cubicBezTo>
                  <a:pt x="856" y="944"/>
                  <a:pt x="816" y="1120"/>
                  <a:pt x="912" y="1248"/>
                </a:cubicBezTo>
                <a:cubicBezTo>
                  <a:pt x="1008" y="1376"/>
                  <a:pt x="1312" y="1432"/>
                  <a:pt x="1392" y="1584"/>
                </a:cubicBezTo>
                <a:cubicBezTo>
                  <a:pt x="1472" y="1736"/>
                  <a:pt x="1448" y="2016"/>
                  <a:pt x="1392" y="2160"/>
                </a:cubicBezTo>
                <a:cubicBezTo>
                  <a:pt x="1336" y="2304"/>
                  <a:pt x="1176" y="2336"/>
                  <a:pt x="1056" y="2448"/>
                </a:cubicBezTo>
                <a:cubicBezTo>
                  <a:pt x="936" y="2560"/>
                  <a:pt x="736" y="2760"/>
                  <a:pt x="672" y="2832"/>
                </a:cubicBezTo>
                <a:cubicBezTo>
                  <a:pt x="608" y="2904"/>
                  <a:pt x="672" y="2872"/>
                  <a:pt x="672" y="288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590920"/>
            <a:ext cx="2527200" cy="3352680"/>
          </a:xfrm>
          <a:custGeom>
            <a:avLst/>
            <a:gdLst/>
            <a:ahLst/>
            <a:rect l="l" t="t" r="r" b="b"/>
            <a:pathLst>
              <a:path w="1592" h="2112">
                <a:moveTo>
                  <a:pt x="0" y="0"/>
                </a:moveTo>
                <a:cubicBezTo>
                  <a:pt x="44" y="92"/>
                  <a:pt x="88" y="184"/>
                  <a:pt x="192" y="240"/>
                </a:cubicBezTo>
                <a:cubicBezTo>
                  <a:pt x="296" y="296"/>
                  <a:pt x="472" y="312"/>
                  <a:pt x="624" y="336"/>
                </a:cubicBezTo>
                <a:cubicBezTo>
                  <a:pt x="776" y="360"/>
                  <a:pt x="1000" y="352"/>
                  <a:pt x="1104" y="384"/>
                </a:cubicBezTo>
                <a:cubicBezTo>
                  <a:pt x="1208" y="416"/>
                  <a:pt x="1224" y="472"/>
                  <a:pt x="1248" y="528"/>
                </a:cubicBezTo>
                <a:cubicBezTo>
                  <a:pt x="1272" y="584"/>
                  <a:pt x="1240" y="648"/>
                  <a:pt x="1248" y="720"/>
                </a:cubicBezTo>
                <a:cubicBezTo>
                  <a:pt x="1256" y="792"/>
                  <a:pt x="1240" y="880"/>
                  <a:pt x="1296" y="960"/>
                </a:cubicBezTo>
                <a:cubicBezTo>
                  <a:pt x="1352" y="1040"/>
                  <a:pt x="1576" y="1096"/>
                  <a:pt x="1584" y="1200"/>
                </a:cubicBezTo>
                <a:cubicBezTo>
                  <a:pt x="1592" y="1304"/>
                  <a:pt x="1408" y="1488"/>
                  <a:pt x="1344" y="1584"/>
                </a:cubicBezTo>
                <a:cubicBezTo>
                  <a:pt x="1280" y="1680"/>
                  <a:pt x="1248" y="1688"/>
                  <a:pt x="1200" y="1776"/>
                </a:cubicBezTo>
                <a:cubicBezTo>
                  <a:pt x="1152" y="1864"/>
                  <a:pt x="1104" y="1988"/>
                  <a:pt x="1056" y="211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200400"/>
            <a:ext cx="1841760" cy="3263760"/>
          </a:xfrm>
          <a:custGeom>
            <a:avLst/>
            <a:gdLst/>
            <a:ahLst/>
            <a:rect l="l" t="t" r="r" b="b"/>
            <a:pathLst>
              <a:path w="1160" h="2056">
                <a:moveTo>
                  <a:pt x="0" y="0"/>
                </a:moveTo>
                <a:cubicBezTo>
                  <a:pt x="36" y="104"/>
                  <a:pt x="72" y="208"/>
                  <a:pt x="144" y="288"/>
                </a:cubicBezTo>
                <a:cubicBezTo>
                  <a:pt x="216" y="368"/>
                  <a:pt x="304" y="440"/>
                  <a:pt x="432" y="480"/>
                </a:cubicBezTo>
                <a:cubicBezTo>
                  <a:pt x="560" y="520"/>
                  <a:pt x="824" y="488"/>
                  <a:pt x="912" y="528"/>
                </a:cubicBezTo>
                <a:cubicBezTo>
                  <a:pt x="1000" y="568"/>
                  <a:pt x="960" y="616"/>
                  <a:pt x="960" y="720"/>
                </a:cubicBezTo>
                <a:cubicBezTo>
                  <a:pt x="960" y="824"/>
                  <a:pt x="904" y="1056"/>
                  <a:pt x="912" y="1152"/>
                </a:cubicBezTo>
                <a:cubicBezTo>
                  <a:pt x="920" y="1248"/>
                  <a:pt x="968" y="1240"/>
                  <a:pt x="1008" y="1296"/>
                </a:cubicBezTo>
                <a:cubicBezTo>
                  <a:pt x="1048" y="1352"/>
                  <a:pt x="1144" y="1376"/>
                  <a:pt x="1152" y="1488"/>
                </a:cubicBezTo>
                <a:cubicBezTo>
                  <a:pt x="1160" y="1600"/>
                  <a:pt x="1072" y="1880"/>
                  <a:pt x="1056" y="1968"/>
                </a:cubicBezTo>
                <a:cubicBezTo>
                  <a:pt x="1040" y="2056"/>
                  <a:pt x="1056" y="2008"/>
                  <a:pt x="1056" y="201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1900080"/>
            <a:ext cx="3249720" cy="3980160"/>
          </a:xfrm>
          <a:custGeom>
            <a:avLst/>
            <a:gdLst/>
            <a:ahLst/>
            <a:rect l="l" t="t" r="r" b="b"/>
            <a:pathLst>
              <a:path w="2047" h="2507">
                <a:moveTo>
                  <a:pt x="575" y="3"/>
                </a:moveTo>
                <a:cubicBezTo>
                  <a:pt x="619" y="0"/>
                  <a:pt x="607" y="179"/>
                  <a:pt x="671" y="243"/>
                </a:cubicBezTo>
                <a:cubicBezTo>
                  <a:pt x="735" y="307"/>
                  <a:pt x="863" y="347"/>
                  <a:pt x="959" y="387"/>
                </a:cubicBezTo>
                <a:cubicBezTo>
                  <a:pt x="1055" y="427"/>
                  <a:pt x="1175" y="411"/>
                  <a:pt x="1247" y="483"/>
                </a:cubicBezTo>
                <a:cubicBezTo>
                  <a:pt x="1319" y="555"/>
                  <a:pt x="1351" y="691"/>
                  <a:pt x="1391" y="819"/>
                </a:cubicBezTo>
                <a:cubicBezTo>
                  <a:pt x="1431" y="947"/>
                  <a:pt x="1391" y="1123"/>
                  <a:pt x="1487" y="1251"/>
                </a:cubicBezTo>
                <a:cubicBezTo>
                  <a:pt x="1583" y="1379"/>
                  <a:pt x="1887" y="1435"/>
                  <a:pt x="1967" y="1587"/>
                </a:cubicBezTo>
                <a:cubicBezTo>
                  <a:pt x="2047" y="1739"/>
                  <a:pt x="2023" y="2019"/>
                  <a:pt x="1967" y="2163"/>
                </a:cubicBezTo>
                <a:cubicBezTo>
                  <a:pt x="1911" y="2307"/>
                  <a:pt x="1699" y="2395"/>
                  <a:pt x="1631" y="2451"/>
                </a:cubicBezTo>
                <a:cubicBezTo>
                  <a:pt x="1563" y="2507"/>
                  <a:pt x="1585" y="2504"/>
                  <a:pt x="1559" y="2497"/>
                </a:cubicBezTo>
                <a:cubicBezTo>
                  <a:pt x="1533" y="2490"/>
                  <a:pt x="1513" y="2428"/>
                  <a:pt x="1473" y="2411"/>
                </a:cubicBezTo>
                <a:lnTo>
                  <a:pt x="1317" y="2396"/>
                </a:lnTo>
                <a:lnTo>
                  <a:pt x="1169" y="2403"/>
                </a:lnTo>
                <a:lnTo>
                  <a:pt x="1052" y="2411"/>
                </a:lnTo>
                <a:lnTo>
                  <a:pt x="1208" y="2138"/>
                </a:lnTo>
                <a:lnTo>
                  <a:pt x="1419" y="1858"/>
                </a:lnTo>
                <a:lnTo>
                  <a:pt x="1535" y="1679"/>
                </a:lnTo>
                <a:lnTo>
                  <a:pt x="1520" y="1601"/>
                </a:lnTo>
                <a:lnTo>
                  <a:pt x="1341" y="1476"/>
                </a:lnTo>
                <a:lnTo>
                  <a:pt x="1239" y="1390"/>
                </a:lnTo>
                <a:lnTo>
                  <a:pt x="1193" y="1234"/>
                </a:lnTo>
                <a:lnTo>
                  <a:pt x="1200" y="1016"/>
                </a:lnTo>
                <a:lnTo>
                  <a:pt x="1099" y="853"/>
                </a:lnTo>
                <a:lnTo>
                  <a:pt x="1037" y="829"/>
                </a:lnTo>
                <a:lnTo>
                  <a:pt x="858" y="806"/>
                </a:lnTo>
                <a:lnTo>
                  <a:pt x="515" y="767"/>
                </a:lnTo>
                <a:lnTo>
                  <a:pt x="250" y="720"/>
                </a:lnTo>
                <a:lnTo>
                  <a:pt x="86" y="642"/>
                </a:lnTo>
                <a:lnTo>
                  <a:pt x="0" y="533"/>
                </a:lnTo>
                <a:lnTo>
                  <a:pt x="265" y="175"/>
                </a:lnTo>
                <a:lnTo>
                  <a:pt x="575" y="3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6019920"/>
            <a:ext cx="53316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6324480"/>
            <a:ext cx="45720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57200"/>
            <a:ext cx="380988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S(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*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380880"/>
            <a:ext cx="32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80773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en una región, el régimen de precipitaciones y su variación espacial está condicionada por efectos topográficos, la variación de la precipitación en el espacio durante un tormenta es generalmente similar a la variabilidad que presenta la precipitación anual nor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86200"/>
            <a:ext cx="8077320" cy="1241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Distribución espacial de 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anu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, puede usarse como modelo para estudiar la variabilidad espacial de una tormenta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1120" y="5791320"/>
            <a:ext cx="3256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5181480"/>
            <a:ext cx="1066680" cy="609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380880"/>
            <a:ext cx="78487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calculan los coeficientes entre la precipitación observada en cada estación y la de la precipitación anual normal resp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905120"/>
            <a:ext cx="74678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lluvia en estudio sigue la configuración espacial de la anual norm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200400"/>
            <a:ext cx="72388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s serán prácticamente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029200"/>
            <a:ext cx="64008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soyetas serán prácticamente constantes y, por lo tanto, las isoyetas de la precipitación anual normal serán una versión amplificada de la lluvi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337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629040" y="3733920"/>
            <a:ext cx="1523880" cy="10666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1143000"/>
            <a:ext cx="4572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i los cuocientes dif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981080"/>
            <a:ext cx="66294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versión distorsionada de las isoyetas de la precipitación normal anual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505320"/>
            <a:ext cx="62485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uniendo los puntos con igual porcentaje de la precipitación normal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5334120"/>
            <a:ext cx="800100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Si los porcentajes varían al azar no es posible trazar estas curvas y ello representa una tormenta de características atípicas para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7719800">
            <a:off x="6400800" y="365724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80808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4114800"/>
            <a:ext cx="175284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90720" y="457200"/>
            <a:ext cx="41907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Mapa de Curvas Isóc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1430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unen los puntos de igual tiempo, en que el elemento tiempo se refiere a un tiempo de referencia, que puede ser el inicio o el término de la lluv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00600"/>
            <a:ext cx="78483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rregidos los errores, el mapa de Isócronas se puede usar para estudiar el movimiento de la tormenta o para interpolar datos que fal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81536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ara construir estas curvas se utilizan los datos de pluviógrafos de buena calidad y otras observaciones meteorológicas en la zona, que permitan visualizar errores o contradicciones que presenten los datos dispon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6781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tensidad-Duración-Frecuencia (curvas I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503360"/>
          <a:ext cx="7543800" cy="531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03360"/>
                    <a:ext cx="75438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3657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ALTA DE 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914400"/>
            <a:ext cx="1600200" cy="12193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2480"/>
            <a:ext cx="3505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eficientes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533520" cy="2361960"/>
          </a:xfrm>
          <a:custGeom>
            <a:avLst/>
            <a:gdLst>
              <a:gd name="textAreaLeft" fmla="*/ 71280 w 533520"/>
              <a:gd name="textAreaRight" fmla="*/ 462240 w 53352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195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órmula de 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3526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4495680"/>
            <a:ext cx="1905120" cy="510120"/>
            <a:chOff x="838080" y="4495680"/>
            <a:chExt cx="1905120" cy="510120"/>
          </a:xfrm>
        </p:grpSpPr>
        <p:sp>
          <p:nvSpPr>
            <p:cNvPr id="61" name=""/>
            <p:cNvSpPr/>
            <p:nvPr/>
          </p:nvSpPr>
          <p:spPr>
            <a:xfrm>
              <a:off x="838080" y="4495680"/>
              <a:ext cx="190512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=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4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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24/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4572000"/>
              <a:ext cx="685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2655600">
            <a:off x="4419360" y="25480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657600"/>
            <a:ext cx="541008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1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30/P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26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53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57913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HILE: 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1 hr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24 hrs / 4,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3886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PERI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8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gradFill rotWithShape="0">
            <a:gsLst>
              <a:gs pos="0">
                <a:srgbClr val="ffffcc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80880"/>
            <a:ext cx="175284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 = 1/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91440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ff"/>
              </a:gs>
              <a:gs pos="50000">
                <a:srgbClr val="000099"/>
              </a:gs>
              <a:gs pos="100000">
                <a:srgbClr val="99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INTERVALO DE TIEMPO </a:t>
            </a:r>
            <a:r>
              <a:rPr b="1" lang="es-ES_tradnl" sz="2400" spc="-1" strike="noStrike" u="sng">
                <a:solidFill>
                  <a:srgbClr val="ff3300"/>
                </a:solidFill>
                <a:uFillTx/>
                <a:latin typeface="Times New Roman"/>
              </a:rPr>
              <a:t>PROMEDIO</a:t>
            </a: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 (AÑOS) EN QUE UN EVENTO DADO ES IGUALADO O SUPERADO AL MENOS UN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200400"/>
            <a:ext cx="5867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OEFICIENTES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588800">
            <a:off x="1676160" y="3581280"/>
            <a:ext cx="16002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00600"/>
            <a:ext cx="67816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4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3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19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6172200"/>
            <a:ext cx="525780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=(0,21LnT+0,52)(0,54t 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,25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-0,50)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60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48520" y="5715000"/>
            <a:ext cx="190476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48320" y="5638680"/>
            <a:ext cx="266688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86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91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97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09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119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entación y Análisis de Datos de Precipitación en una Cuenca o Reg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 de los Promedios Aritm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429000"/>
            <a:ext cx="4276800" cy="2744640"/>
            <a:chOff x="1143000" y="3429000"/>
            <a:chExt cx="4276800" cy="2744640"/>
          </a:xfrm>
        </p:grpSpPr>
        <p:sp>
          <p:nvSpPr>
            <p:cNvPr id="134" name=""/>
            <p:cNvSpPr/>
            <p:nvPr/>
          </p:nvSpPr>
          <p:spPr>
            <a:xfrm>
              <a:off x="1143000" y="3551400"/>
              <a:ext cx="4276800" cy="262224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6840" y="4070520"/>
              <a:ext cx="2584440" cy="18190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33520" y="4873680"/>
              <a:ext cx="1632240" cy="10033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3657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30280" y="4800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92400" y="57150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45720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4680" y="3962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4680" y="5105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0760" y="457200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40320" y="44197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7320" y="37339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97320" y="5105520"/>
              <a:ext cx="16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5638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44480" y="34290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15000" y="3352680"/>
            <a:ext cx="220968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/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1143000"/>
            <a:ext cx="5790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5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V="1">
            <a:off x="2554200" y="2842920"/>
            <a:ext cx="15145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4200" y="4187880"/>
            <a:ext cx="151452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8720" y="2843280"/>
            <a:ext cx="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68720" y="2843280"/>
            <a:ext cx="17686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816360" y="3851280"/>
            <a:ext cx="202104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816360" y="4636800"/>
            <a:ext cx="25236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514600" y="4114800"/>
            <a:ext cx="1301760" cy="14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165320" y="2394000"/>
            <a:ext cx="1425600" cy="17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038240" y="2394000"/>
            <a:ext cx="303048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514600" y="2742840"/>
            <a:ext cx="1185840" cy="1197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09880"/>
            <a:ext cx="1067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68720" y="3850920"/>
            <a:ext cx="176868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1:31:04Z</dcterms:created>
  <dc:creator>Ximena Vargas</dc:creator>
  <dc:description/>
  <dc:language>en-US</dc:language>
  <cp:lastModifiedBy>xv</cp:lastModifiedBy>
  <dcterms:modified xsi:type="dcterms:W3CDTF">2004-08-13T15:05:20Z</dcterms:modified>
  <cp:revision>7</cp:revision>
  <dc:subject/>
  <dc:title>Sin título de diapositiva</dc:title>
</cp:coreProperties>
</file>