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5943-6B79-48A6-9747-7FB42B640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F0FB-D502-4E4D-8856-AA6C913D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F93A-1730-46EC-A8A0-38380FF7B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5E22-FA5E-44EB-980A-7231EABC3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0B0A-2547-4F25-B619-501EDEB4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FCE2-9136-47BD-A6F1-07F07270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CBB1-595F-4ED6-A580-72FCD763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811B-488D-42BC-86AC-6DA65C84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0C37-2497-4DA5-842B-503BF9FA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161B-CEF3-478F-A749-F48907FA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F476-28DB-4137-8D31-7FAD0F5D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712A-5E0D-41FE-9827-72328EE2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EDD2-5C94-4BFB-BD8A-320BA7110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5400" y="365040"/>
            <a:ext cx="7365960" cy="1240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iempo de concentración: tiempo que demora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alcanzar la salida la partícula que cae en el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más alejado de la cuenca, t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5120" y="1905120"/>
            <a:ext cx="225468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Para una torm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09480" y="2815920"/>
            <a:ext cx="7746840" cy="3813480"/>
            <a:chOff x="609480" y="2815920"/>
            <a:chExt cx="7746840" cy="3813480"/>
          </a:xfrm>
        </p:grpSpPr>
        <p:sp>
          <p:nvSpPr>
            <p:cNvPr id="44" name=""/>
            <p:cNvSpPr/>
            <p:nvPr/>
          </p:nvSpPr>
          <p:spPr>
            <a:xfrm>
              <a:off x="609480" y="2895480"/>
              <a:ext cx="7467840" cy="37339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662200" y="3902040"/>
              <a:ext cx="0" cy="171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662200" y="5616720"/>
              <a:ext cx="3861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73320" y="2815920"/>
              <a:ext cx="5283000" cy="251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17880" y="3809880"/>
              <a:ext cx="108900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cc99"/>
                  </a:solidFill>
                  <a:latin typeface="Times New Roman"/>
                </a:rPr>
                <a:t>i </a:t>
              </a:r>
              <a:r>
                <a:rPr b="1" lang="es-ES_tradnl" sz="1800" spc="-1" strike="noStrike">
                  <a:solidFill>
                    <a:srgbClr val="00cc99"/>
                  </a:solidFill>
                  <a:latin typeface="Times New Roman"/>
                </a:rPr>
                <a:t>1/2 má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cc99"/>
                  </a:solidFill>
                  <a:latin typeface="Times New Roman"/>
                </a:rPr>
                <a:t>mm/h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603120" y="5695920"/>
              <a:ext cx="425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cc99"/>
                  </a:solidFill>
                  <a:latin typeface="Symbol"/>
                  <a:ea typeface="Symbol"/>
                </a:rPr>
                <a:t></a:t>
              </a:r>
              <a:r>
                <a:rPr b="1" lang="es-ES_tradnl" sz="2000" spc="-1" strike="noStrike">
                  <a:solidFill>
                    <a:srgbClr val="00cc99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61200" y="3809880"/>
              <a:ext cx="30668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cc99"/>
                  </a:solidFill>
                  <a:latin typeface="Symbol"/>
                  <a:ea typeface="Symbol"/>
                </a:rPr>
                <a:t></a:t>
              </a:r>
              <a:r>
                <a:rPr b="1" lang="es-ES_tradnl" sz="2000" spc="-1" strike="noStrike">
                  <a:solidFill>
                    <a:srgbClr val="00cc99"/>
                  </a:solidFill>
                  <a:latin typeface="Times New Roman"/>
                </a:rPr>
                <a:t>t=5,10,...45,60,80,100,1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cc99"/>
                  </a:solidFill>
                  <a:latin typeface="Times New Roman"/>
                </a:rPr>
                <a:t>      </a:t>
              </a:r>
              <a:r>
                <a:rPr b="1" lang="es-ES_tradnl" sz="2000" spc="-1" strike="noStrike">
                  <a:solidFill>
                    <a:srgbClr val="00cc99"/>
                  </a:solidFill>
                  <a:latin typeface="Times New Roman"/>
                </a:rPr>
                <a:t>y 180 m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52280" y="380880"/>
            <a:ext cx="51055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Método de los Polígonos de Thi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33520" y="2057400"/>
            <a:ext cx="7086240" cy="4039920"/>
            <a:chOff x="533520" y="2057400"/>
            <a:chExt cx="7086240" cy="4039920"/>
          </a:xfrm>
        </p:grpSpPr>
        <p:sp>
          <p:nvSpPr>
            <p:cNvPr id="182" name=""/>
            <p:cNvSpPr/>
            <p:nvPr/>
          </p:nvSpPr>
          <p:spPr>
            <a:xfrm>
              <a:off x="533520" y="2237400"/>
              <a:ext cx="7086240" cy="3859920"/>
            </a:xfrm>
            <a:custGeom>
              <a:avLst/>
              <a:gdLst/>
              <a:ahLst/>
              <a:rect l="l" t="t" r="r" b="b"/>
              <a:pathLst>
                <a:path w="2694" h="1652">
                  <a:moveTo>
                    <a:pt x="0" y="1512"/>
                  </a:moveTo>
                  <a:cubicBezTo>
                    <a:pt x="24" y="1508"/>
                    <a:pt x="53" y="1513"/>
                    <a:pt x="70" y="1496"/>
                  </a:cubicBezTo>
                  <a:cubicBezTo>
                    <a:pt x="83" y="1483"/>
                    <a:pt x="88" y="1462"/>
                    <a:pt x="101" y="1449"/>
                  </a:cubicBezTo>
                  <a:cubicBezTo>
                    <a:pt x="136" y="1414"/>
                    <a:pt x="151" y="1373"/>
                    <a:pt x="179" y="1332"/>
                  </a:cubicBezTo>
                  <a:cubicBezTo>
                    <a:pt x="209" y="1287"/>
                    <a:pt x="247" y="1243"/>
                    <a:pt x="265" y="1192"/>
                  </a:cubicBezTo>
                  <a:cubicBezTo>
                    <a:pt x="267" y="1132"/>
                    <a:pt x="266" y="1072"/>
                    <a:pt x="272" y="1013"/>
                  </a:cubicBezTo>
                  <a:cubicBezTo>
                    <a:pt x="276" y="973"/>
                    <a:pt x="300" y="926"/>
                    <a:pt x="311" y="888"/>
                  </a:cubicBezTo>
                  <a:cubicBezTo>
                    <a:pt x="329" y="825"/>
                    <a:pt x="356" y="752"/>
                    <a:pt x="428" y="732"/>
                  </a:cubicBezTo>
                  <a:cubicBezTo>
                    <a:pt x="481" y="717"/>
                    <a:pt x="538" y="715"/>
                    <a:pt x="592" y="701"/>
                  </a:cubicBezTo>
                  <a:cubicBezTo>
                    <a:pt x="609" y="653"/>
                    <a:pt x="647" y="620"/>
                    <a:pt x="670" y="576"/>
                  </a:cubicBezTo>
                  <a:cubicBezTo>
                    <a:pt x="683" y="550"/>
                    <a:pt x="683" y="522"/>
                    <a:pt x="701" y="498"/>
                  </a:cubicBezTo>
                  <a:cubicBezTo>
                    <a:pt x="721" y="471"/>
                    <a:pt x="757" y="443"/>
                    <a:pt x="787" y="428"/>
                  </a:cubicBezTo>
                  <a:cubicBezTo>
                    <a:pt x="811" y="416"/>
                    <a:pt x="839" y="417"/>
                    <a:pt x="865" y="413"/>
                  </a:cubicBezTo>
                  <a:cubicBezTo>
                    <a:pt x="905" y="407"/>
                    <a:pt x="944" y="394"/>
                    <a:pt x="982" y="381"/>
                  </a:cubicBezTo>
                  <a:cubicBezTo>
                    <a:pt x="1008" y="355"/>
                    <a:pt x="1016" y="334"/>
                    <a:pt x="1036" y="304"/>
                  </a:cubicBezTo>
                  <a:cubicBezTo>
                    <a:pt x="1050" y="283"/>
                    <a:pt x="1071" y="264"/>
                    <a:pt x="1083" y="241"/>
                  </a:cubicBezTo>
                  <a:cubicBezTo>
                    <a:pt x="1104" y="201"/>
                    <a:pt x="1130" y="158"/>
                    <a:pt x="1176" y="148"/>
                  </a:cubicBezTo>
                  <a:cubicBezTo>
                    <a:pt x="1232" y="111"/>
                    <a:pt x="1205" y="122"/>
                    <a:pt x="1254" y="109"/>
                  </a:cubicBezTo>
                  <a:cubicBezTo>
                    <a:pt x="1302" y="77"/>
                    <a:pt x="1348" y="66"/>
                    <a:pt x="1402" y="54"/>
                  </a:cubicBezTo>
                  <a:cubicBezTo>
                    <a:pt x="1418" y="50"/>
                    <a:pt x="1454" y="34"/>
                    <a:pt x="1465" y="31"/>
                  </a:cubicBezTo>
                  <a:cubicBezTo>
                    <a:pt x="1527" y="12"/>
                    <a:pt x="1571" y="6"/>
                    <a:pt x="1636" y="0"/>
                  </a:cubicBezTo>
                  <a:cubicBezTo>
                    <a:pt x="1703" y="5"/>
                    <a:pt x="1759" y="17"/>
                    <a:pt x="1823" y="31"/>
                  </a:cubicBezTo>
                  <a:cubicBezTo>
                    <a:pt x="1844" y="36"/>
                    <a:pt x="1864" y="40"/>
                    <a:pt x="1885" y="46"/>
                  </a:cubicBezTo>
                  <a:cubicBezTo>
                    <a:pt x="1901" y="50"/>
                    <a:pt x="1932" y="62"/>
                    <a:pt x="1932" y="62"/>
                  </a:cubicBezTo>
                  <a:cubicBezTo>
                    <a:pt x="1963" y="92"/>
                    <a:pt x="1999" y="115"/>
                    <a:pt x="2034" y="140"/>
                  </a:cubicBezTo>
                  <a:cubicBezTo>
                    <a:pt x="2049" y="151"/>
                    <a:pt x="2070" y="150"/>
                    <a:pt x="2088" y="155"/>
                  </a:cubicBezTo>
                  <a:cubicBezTo>
                    <a:pt x="2139" y="169"/>
                    <a:pt x="2167" y="170"/>
                    <a:pt x="2213" y="202"/>
                  </a:cubicBezTo>
                  <a:cubicBezTo>
                    <a:pt x="2257" y="233"/>
                    <a:pt x="2286" y="275"/>
                    <a:pt x="2322" y="311"/>
                  </a:cubicBezTo>
                  <a:cubicBezTo>
                    <a:pt x="2363" y="352"/>
                    <a:pt x="2416" y="386"/>
                    <a:pt x="2462" y="420"/>
                  </a:cubicBezTo>
                  <a:cubicBezTo>
                    <a:pt x="2473" y="428"/>
                    <a:pt x="2477" y="443"/>
                    <a:pt x="2486" y="452"/>
                  </a:cubicBezTo>
                  <a:cubicBezTo>
                    <a:pt x="2492" y="458"/>
                    <a:pt x="2501" y="462"/>
                    <a:pt x="2509" y="467"/>
                  </a:cubicBezTo>
                  <a:cubicBezTo>
                    <a:pt x="2524" y="498"/>
                    <a:pt x="2549" y="522"/>
                    <a:pt x="2563" y="553"/>
                  </a:cubicBezTo>
                  <a:cubicBezTo>
                    <a:pt x="2570" y="568"/>
                    <a:pt x="2575" y="584"/>
                    <a:pt x="2579" y="600"/>
                  </a:cubicBezTo>
                  <a:cubicBezTo>
                    <a:pt x="2582" y="610"/>
                    <a:pt x="2583" y="621"/>
                    <a:pt x="2587" y="631"/>
                  </a:cubicBezTo>
                  <a:cubicBezTo>
                    <a:pt x="2606" y="676"/>
                    <a:pt x="2632" y="717"/>
                    <a:pt x="2649" y="763"/>
                  </a:cubicBezTo>
                  <a:cubicBezTo>
                    <a:pt x="2672" y="826"/>
                    <a:pt x="2681" y="901"/>
                    <a:pt x="2688" y="966"/>
                  </a:cubicBezTo>
                  <a:cubicBezTo>
                    <a:pt x="2682" y="1092"/>
                    <a:pt x="2694" y="1298"/>
                    <a:pt x="2634" y="1434"/>
                  </a:cubicBezTo>
                  <a:cubicBezTo>
                    <a:pt x="2614" y="1479"/>
                    <a:pt x="2579" y="1513"/>
                    <a:pt x="2548" y="1550"/>
                  </a:cubicBezTo>
                  <a:cubicBezTo>
                    <a:pt x="2542" y="1557"/>
                    <a:pt x="2539" y="1568"/>
                    <a:pt x="2532" y="1574"/>
                  </a:cubicBezTo>
                  <a:cubicBezTo>
                    <a:pt x="2485" y="1612"/>
                    <a:pt x="2404" y="1619"/>
                    <a:pt x="2345" y="1628"/>
                  </a:cubicBezTo>
                  <a:cubicBezTo>
                    <a:pt x="2218" y="1622"/>
                    <a:pt x="2089" y="1633"/>
                    <a:pt x="1963" y="1613"/>
                  </a:cubicBezTo>
                  <a:cubicBezTo>
                    <a:pt x="1953" y="1611"/>
                    <a:pt x="1961" y="1591"/>
                    <a:pt x="1956" y="1582"/>
                  </a:cubicBezTo>
                  <a:cubicBezTo>
                    <a:pt x="1946" y="1564"/>
                    <a:pt x="1933" y="1548"/>
                    <a:pt x="1917" y="1535"/>
                  </a:cubicBezTo>
                  <a:cubicBezTo>
                    <a:pt x="1891" y="1514"/>
                    <a:pt x="1845" y="1508"/>
                    <a:pt x="1815" y="1504"/>
                  </a:cubicBezTo>
                  <a:cubicBezTo>
                    <a:pt x="1702" y="1509"/>
                    <a:pt x="1654" y="1500"/>
                    <a:pt x="1566" y="1527"/>
                  </a:cubicBezTo>
                  <a:cubicBezTo>
                    <a:pt x="1550" y="1532"/>
                    <a:pt x="1535" y="1539"/>
                    <a:pt x="1519" y="1543"/>
                  </a:cubicBezTo>
                  <a:cubicBezTo>
                    <a:pt x="1491" y="1550"/>
                    <a:pt x="1434" y="1558"/>
                    <a:pt x="1434" y="1558"/>
                  </a:cubicBezTo>
                  <a:cubicBezTo>
                    <a:pt x="1373" y="1583"/>
                    <a:pt x="1311" y="1605"/>
                    <a:pt x="1247" y="1621"/>
                  </a:cubicBezTo>
                  <a:cubicBezTo>
                    <a:pt x="1221" y="1637"/>
                    <a:pt x="1161" y="1652"/>
                    <a:pt x="1161" y="1652"/>
                  </a:cubicBezTo>
                  <a:cubicBezTo>
                    <a:pt x="1051" y="1638"/>
                    <a:pt x="939" y="1602"/>
                    <a:pt x="834" y="1566"/>
                  </a:cubicBezTo>
                  <a:cubicBezTo>
                    <a:pt x="809" y="1557"/>
                    <a:pt x="782" y="1560"/>
                    <a:pt x="756" y="1558"/>
                  </a:cubicBezTo>
                  <a:cubicBezTo>
                    <a:pt x="691" y="1554"/>
                    <a:pt x="626" y="1553"/>
                    <a:pt x="561" y="1550"/>
                  </a:cubicBezTo>
                  <a:cubicBezTo>
                    <a:pt x="466" y="1522"/>
                    <a:pt x="380" y="1480"/>
                    <a:pt x="280" y="1465"/>
                  </a:cubicBezTo>
                  <a:cubicBezTo>
                    <a:pt x="90" y="1473"/>
                    <a:pt x="155" y="1473"/>
                    <a:pt x="85" y="1473"/>
                  </a:cubicBezTo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8360" y="3001680"/>
              <a:ext cx="4282200" cy="2677680"/>
            </a:xfrm>
            <a:custGeom>
              <a:avLst/>
              <a:gdLst/>
              <a:ahLst/>
              <a:rect l="l" t="t" r="r" b="b"/>
              <a:pathLst>
                <a:path w="1628" h="1146">
                  <a:moveTo>
                    <a:pt x="1597" y="0"/>
                  </a:moveTo>
                  <a:cubicBezTo>
                    <a:pt x="1576" y="62"/>
                    <a:pt x="1594" y="140"/>
                    <a:pt x="1628" y="195"/>
                  </a:cubicBezTo>
                  <a:cubicBezTo>
                    <a:pt x="1625" y="214"/>
                    <a:pt x="1622" y="279"/>
                    <a:pt x="1605" y="296"/>
                  </a:cubicBezTo>
                  <a:cubicBezTo>
                    <a:pt x="1593" y="308"/>
                    <a:pt x="1573" y="310"/>
                    <a:pt x="1558" y="319"/>
                  </a:cubicBezTo>
                  <a:cubicBezTo>
                    <a:pt x="1518" y="383"/>
                    <a:pt x="1571" y="306"/>
                    <a:pt x="1519" y="358"/>
                  </a:cubicBezTo>
                  <a:cubicBezTo>
                    <a:pt x="1506" y="371"/>
                    <a:pt x="1499" y="390"/>
                    <a:pt x="1488" y="405"/>
                  </a:cubicBezTo>
                  <a:cubicBezTo>
                    <a:pt x="1456" y="500"/>
                    <a:pt x="1354" y="486"/>
                    <a:pt x="1270" y="491"/>
                  </a:cubicBezTo>
                  <a:cubicBezTo>
                    <a:pt x="1242" y="505"/>
                    <a:pt x="1211" y="514"/>
                    <a:pt x="1184" y="530"/>
                  </a:cubicBezTo>
                  <a:cubicBezTo>
                    <a:pt x="1168" y="540"/>
                    <a:pt x="1150" y="548"/>
                    <a:pt x="1137" y="561"/>
                  </a:cubicBezTo>
                  <a:cubicBezTo>
                    <a:pt x="1129" y="569"/>
                    <a:pt x="1123" y="578"/>
                    <a:pt x="1114" y="584"/>
                  </a:cubicBezTo>
                  <a:cubicBezTo>
                    <a:pt x="1107" y="589"/>
                    <a:pt x="1098" y="588"/>
                    <a:pt x="1091" y="592"/>
                  </a:cubicBezTo>
                  <a:cubicBezTo>
                    <a:pt x="1075" y="601"/>
                    <a:pt x="1044" y="623"/>
                    <a:pt x="1044" y="623"/>
                  </a:cubicBezTo>
                  <a:cubicBezTo>
                    <a:pt x="1018" y="663"/>
                    <a:pt x="990" y="706"/>
                    <a:pt x="950" y="733"/>
                  </a:cubicBezTo>
                  <a:cubicBezTo>
                    <a:pt x="932" y="761"/>
                    <a:pt x="924" y="784"/>
                    <a:pt x="896" y="803"/>
                  </a:cubicBezTo>
                  <a:cubicBezTo>
                    <a:pt x="848" y="872"/>
                    <a:pt x="750" y="839"/>
                    <a:pt x="670" y="842"/>
                  </a:cubicBezTo>
                  <a:cubicBezTo>
                    <a:pt x="611" y="855"/>
                    <a:pt x="572" y="885"/>
                    <a:pt x="522" y="920"/>
                  </a:cubicBezTo>
                  <a:cubicBezTo>
                    <a:pt x="504" y="933"/>
                    <a:pt x="464" y="937"/>
                    <a:pt x="444" y="943"/>
                  </a:cubicBezTo>
                  <a:cubicBezTo>
                    <a:pt x="389" y="960"/>
                    <a:pt x="335" y="981"/>
                    <a:pt x="280" y="997"/>
                  </a:cubicBezTo>
                  <a:cubicBezTo>
                    <a:pt x="242" y="1023"/>
                    <a:pt x="184" y="1045"/>
                    <a:pt x="140" y="1060"/>
                  </a:cubicBezTo>
                  <a:cubicBezTo>
                    <a:pt x="96" y="1075"/>
                    <a:pt x="60" y="1107"/>
                    <a:pt x="15" y="1122"/>
                  </a:cubicBezTo>
                  <a:cubicBezTo>
                    <a:pt x="10" y="1130"/>
                    <a:pt x="0" y="1146"/>
                    <a:pt x="0" y="1146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97080" y="4183920"/>
              <a:ext cx="2704320" cy="1476720"/>
            </a:xfrm>
            <a:custGeom>
              <a:avLst/>
              <a:gdLst/>
              <a:ahLst/>
              <a:rect l="l" t="t" r="r" b="b"/>
              <a:pathLst>
                <a:path w="1028" h="632">
                  <a:moveTo>
                    <a:pt x="880" y="632"/>
                  </a:moveTo>
                  <a:cubicBezTo>
                    <a:pt x="990" y="621"/>
                    <a:pt x="956" y="632"/>
                    <a:pt x="1005" y="562"/>
                  </a:cubicBezTo>
                  <a:cubicBezTo>
                    <a:pt x="1010" y="546"/>
                    <a:pt x="1015" y="531"/>
                    <a:pt x="1020" y="515"/>
                  </a:cubicBezTo>
                  <a:cubicBezTo>
                    <a:pt x="1023" y="507"/>
                    <a:pt x="1028" y="491"/>
                    <a:pt x="1028" y="491"/>
                  </a:cubicBezTo>
                  <a:cubicBezTo>
                    <a:pt x="1024" y="479"/>
                    <a:pt x="1017" y="453"/>
                    <a:pt x="1005" y="445"/>
                  </a:cubicBezTo>
                  <a:cubicBezTo>
                    <a:pt x="978" y="426"/>
                    <a:pt x="900" y="418"/>
                    <a:pt x="865" y="406"/>
                  </a:cubicBezTo>
                  <a:cubicBezTo>
                    <a:pt x="851" y="392"/>
                    <a:pt x="831" y="382"/>
                    <a:pt x="818" y="367"/>
                  </a:cubicBezTo>
                  <a:cubicBezTo>
                    <a:pt x="806" y="353"/>
                    <a:pt x="803" y="330"/>
                    <a:pt x="787" y="320"/>
                  </a:cubicBezTo>
                  <a:cubicBezTo>
                    <a:pt x="762" y="303"/>
                    <a:pt x="733" y="293"/>
                    <a:pt x="709" y="273"/>
                  </a:cubicBezTo>
                  <a:cubicBezTo>
                    <a:pt x="649" y="223"/>
                    <a:pt x="585" y="161"/>
                    <a:pt x="506" y="141"/>
                  </a:cubicBezTo>
                  <a:cubicBezTo>
                    <a:pt x="424" y="121"/>
                    <a:pt x="333" y="116"/>
                    <a:pt x="249" y="110"/>
                  </a:cubicBezTo>
                  <a:cubicBezTo>
                    <a:pt x="220" y="103"/>
                    <a:pt x="190" y="99"/>
                    <a:pt x="163" y="86"/>
                  </a:cubicBezTo>
                  <a:cubicBezTo>
                    <a:pt x="99" y="55"/>
                    <a:pt x="179" y="85"/>
                    <a:pt x="117" y="63"/>
                  </a:cubicBezTo>
                  <a:cubicBezTo>
                    <a:pt x="112" y="55"/>
                    <a:pt x="109" y="45"/>
                    <a:pt x="101" y="39"/>
                  </a:cubicBezTo>
                  <a:cubicBezTo>
                    <a:pt x="95" y="34"/>
                    <a:pt x="85" y="36"/>
                    <a:pt x="78" y="32"/>
                  </a:cubicBezTo>
                  <a:cubicBezTo>
                    <a:pt x="52" y="19"/>
                    <a:pt x="32" y="0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12040" y="2393640"/>
              <a:ext cx="126360" cy="112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00560" y="4076280"/>
              <a:ext cx="126360" cy="112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63440" y="5422320"/>
              <a:ext cx="126360" cy="112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83760" y="3739680"/>
              <a:ext cx="125640" cy="112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15800" y="2842560"/>
              <a:ext cx="126360" cy="111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15800" y="4525200"/>
              <a:ext cx="126360" cy="111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00640" y="37396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62480" y="35154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68520" y="250596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68520" y="452520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15800" y="5310000"/>
              <a:ext cx="30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64400" y="2057400"/>
              <a:ext cx="30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 flipH="1" flipV="1">
            <a:off x="2514240" y="2742840"/>
            <a:ext cx="1066680" cy="10666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200400" y="3733560"/>
            <a:ext cx="412920" cy="1136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3809880"/>
            <a:ext cx="12193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800600" y="2361960"/>
            <a:ext cx="685800" cy="14475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3809880"/>
            <a:ext cx="609480" cy="1524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209680" y="4800600"/>
            <a:ext cx="990720" cy="990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00400" y="4800600"/>
            <a:ext cx="220968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809880" y="3809520"/>
            <a:ext cx="2057400" cy="1676520"/>
            <a:chOff x="3809880" y="3809520"/>
            <a:chExt cx="2057400" cy="1676520"/>
          </a:xfrm>
        </p:grpSpPr>
        <p:sp>
          <p:nvSpPr>
            <p:cNvPr id="205" name=""/>
            <p:cNvSpPr/>
            <p:nvPr/>
          </p:nvSpPr>
          <p:spPr>
            <a:xfrm>
              <a:off x="4876920" y="4648320"/>
              <a:ext cx="457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3809880" y="3809520"/>
              <a:ext cx="20574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5410080" y="5334120"/>
            <a:ext cx="533520" cy="685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3809880"/>
            <a:ext cx="2209680" cy="1524240"/>
          </a:xfrm>
          <a:custGeom>
            <a:avLst/>
            <a:gdLst/>
            <a:ahLst/>
            <a:rect l="l" t="t" r="r" b="b"/>
            <a:pathLst>
              <a:path w="1392" h="960">
                <a:moveTo>
                  <a:pt x="0" y="624"/>
                </a:moveTo>
                <a:lnTo>
                  <a:pt x="240" y="0"/>
                </a:lnTo>
                <a:lnTo>
                  <a:pt x="1008" y="0"/>
                </a:lnTo>
                <a:lnTo>
                  <a:pt x="1392" y="960"/>
                </a:lnTo>
                <a:lnTo>
                  <a:pt x="48" y="624"/>
                </a:lnTo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41911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72160" y="2351160"/>
            <a:ext cx="2886120" cy="3711600"/>
          </a:xfrm>
          <a:custGeom>
            <a:avLst/>
            <a:gdLst/>
            <a:ahLst/>
            <a:rect l="l" t="t" r="r" b="b"/>
            <a:pathLst>
              <a:path w="1818" h="2338">
                <a:moveTo>
                  <a:pt x="18" y="904"/>
                </a:moveTo>
                <a:cubicBezTo>
                  <a:pt x="61" y="889"/>
                  <a:pt x="38" y="882"/>
                  <a:pt x="56" y="849"/>
                </a:cubicBezTo>
                <a:cubicBezTo>
                  <a:pt x="65" y="832"/>
                  <a:pt x="88" y="802"/>
                  <a:pt x="88" y="802"/>
                </a:cubicBezTo>
                <a:cubicBezTo>
                  <a:pt x="108" y="737"/>
                  <a:pt x="137" y="679"/>
                  <a:pt x="158" y="615"/>
                </a:cubicBezTo>
                <a:cubicBezTo>
                  <a:pt x="164" y="597"/>
                  <a:pt x="179" y="584"/>
                  <a:pt x="189" y="569"/>
                </a:cubicBezTo>
                <a:cubicBezTo>
                  <a:pt x="194" y="561"/>
                  <a:pt x="205" y="545"/>
                  <a:pt x="205" y="545"/>
                </a:cubicBezTo>
                <a:cubicBezTo>
                  <a:pt x="220" y="496"/>
                  <a:pt x="250" y="454"/>
                  <a:pt x="267" y="405"/>
                </a:cubicBezTo>
                <a:cubicBezTo>
                  <a:pt x="273" y="387"/>
                  <a:pt x="292" y="376"/>
                  <a:pt x="298" y="358"/>
                </a:cubicBezTo>
                <a:cubicBezTo>
                  <a:pt x="311" y="319"/>
                  <a:pt x="324" y="280"/>
                  <a:pt x="337" y="241"/>
                </a:cubicBezTo>
                <a:cubicBezTo>
                  <a:pt x="349" y="206"/>
                  <a:pt x="381" y="184"/>
                  <a:pt x="392" y="148"/>
                </a:cubicBezTo>
                <a:cubicBezTo>
                  <a:pt x="419" y="62"/>
                  <a:pt x="374" y="190"/>
                  <a:pt x="415" y="101"/>
                </a:cubicBezTo>
                <a:cubicBezTo>
                  <a:pt x="434" y="59"/>
                  <a:pt x="428" y="15"/>
                  <a:pt x="477" y="0"/>
                </a:cubicBezTo>
                <a:cubicBezTo>
                  <a:pt x="521" y="28"/>
                  <a:pt x="569" y="62"/>
                  <a:pt x="618" y="78"/>
                </a:cubicBezTo>
                <a:cubicBezTo>
                  <a:pt x="641" y="101"/>
                  <a:pt x="656" y="115"/>
                  <a:pt x="688" y="124"/>
                </a:cubicBezTo>
                <a:cubicBezTo>
                  <a:pt x="754" y="170"/>
                  <a:pt x="845" y="182"/>
                  <a:pt x="921" y="202"/>
                </a:cubicBezTo>
                <a:cubicBezTo>
                  <a:pt x="945" y="208"/>
                  <a:pt x="968" y="218"/>
                  <a:pt x="992" y="226"/>
                </a:cubicBezTo>
                <a:cubicBezTo>
                  <a:pt x="1000" y="228"/>
                  <a:pt x="1015" y="233"/>
                  <a:pt x="1015" y="233"/>
                </a:cubicBezTo>
                <a:cubicBezTo>
                  <a:pt x="1069" y="270"/>
                  <a:pt x="1044" y="259"/>
                  <a:pt x="1085" y="272"/>
                </a:cubicBezTo>
                <a:cubicBezTo>
                  <a:pt x="1090" y="280"/>
                  <a:pt x="1094" y="289"/>
                  <a:pt x="1101" y="296"/>
                </a:cubicBezTo>
                <a:cubicBezTo>
                  <a:pt x="1107" y="302"/>
                  <a:pt x="1118" y="304"/>
                  <a:pt x="1124" y="311"/>
                </a:cubicBezTo>
                <a:cubicBezTo>
                  <a:pt x="1155" y="350"/>
                  <a:pt x="1105" y="325"/>
                  <a:pt x="1155" y="343"/>
                </a:cubicBezTo>
                <a:cubicBezTo>
                  <a:pt x="1179" y="366"/>
                  <a:pt x="1187" y="387"/>
                  <a:pt x="1218" y="397"/>
                </a:cubicBezTo>
                <a:cubicBezTo>
                  <a:pt x="1261" y="465"/>
                  <a:pt x="1203" y="385"/>
                  <a:pt x="1257" y="428"/>
                </a:cubicBezTo>
                <a:cubicBezTo>
                  <a:pt x="1308" y="468"/>
                  <a:pt x="1236" y="441"/>
                  <a:pt x="1295" y="459"/>
                </a:cubicBezTo>
                <a:cubicBezTo>
                  <a:pt x="1349" y="496"/>
                  <a:pt x="1324" y="486"/>
                  <a:pt x="1366" y="498"/>
                </a:cubicBezTo>
                <a:cubicBezTo>
                  <a:pt x="1412" y="530"/>
                  <a:pt x="1469" y="547"/>
                  <a:pt x="1506" y="592"/>
                </a:cubicBezTo>
                <a:cubicBezTo>
                  <a:pt x="1539" y="632"/>
                  <a:pt x="1506" y="597"/>
                  <a:pt x="1529" y="639"/>
                </a:cubicBezTo>
                <a:cubicBezTo>
                  <a:pt x="1545" y="667"/>
                  <a:pt x="1566" y="706"/>
                  <a:pt x="1584" y="732"/>
                </a:cubicBezTo>
                <a:cubicBezTo>
                  <a:pt x="1613" y="818"/>
                  <a:pt x="1568" y="691"/>
                  <a:pt x="1607" y="779"/>
                </a:cubicBezTo>
                <a:cubicBezTo>
                  <a:pt x="1628" y="826"/>
                  <a:pt x="1633" y="877"/>
                  <a:pt x="1662" y="919"/>
                </a:cubicBezTo>
                <a:cubicBezTo>
                  <a:pt x="1691" y="1005"/>
                  <a:pt x="1646" y="878"/>
                  <a:pt x="1685" y="966"/>
                </a:cubicBezTo>
                <a:cubicBezTo>
                  <a:pt x="1704" y="1009"/>
                  <a:pt x="1714" y="1052"/>
                  <a:pt x="1740" y="1091"/>
                </a:cubicBezTo>
                <a:cubicBezTo>
                  <a:pt x="1751" y="1128"/>
                  <a:pt x="1745" y="1110"/>
                  <a:pt x="1763" y="1161"/>
                </a:cubicBezTo>
                <a:cubicBezTo>
                  <a:pt x="1766" y="1169"/>
                  <a:pt x="1771" y="1184"/>
                  <a:pt x="1771" y="1184"/>
                </a:cubicBezTo>
                <a:cubicBezTo>
                  <a:pt x="1788" y="1283"/>
                  <a:pt x="1805" y="1381"/>
                  <a:pt x="1818" y="1480"/>
                </a:cubicBezTo>
                <a:cubicBezTo>
                  <a:pt x="1810" y="1572"/>
                  <a:pt x="1789" y="1656"/>
                  <a:pt x="1771" y="1745"/>
                </a:cubicBezTo>
                <a:cubicBezTo>
                  <a:pt x="1759" y="1806"/>
                  <a:pt x="1751" y="1866"/>
                  <a:pt x="1732" y="1925"/>
                </a:cubicBezTo>
                <a:cubicBezTo>
                  <a:pt x="1715" y="1978"/>
                  <a:pt x="1709" y="2042"/>
                  <a:pt x="1677" y="2088"/>
                </a:cubicBezTo>
                <a:cubicBezTo>
                  <a:pt x="1656" y="2159"/>
                  <a:pt x="1687" y="2062"/>
                  <a:pt x="1654" y="2135"/>
                </a:cubicBezTo>
                <a:cubicBezTo>
                  <a:pt x="1628" y="2192"/>
                  <a:pt x="1657" y="2175"/>
                  <a:pt x="1615" y="2190"/>
                </a:cubicBezTo>
                <a:cubicBezTo>
                  <a:pt x="1586" y="2219"/>
                  <a:pt x="1532" y="2270"/>
                  <a:pt x="1498" y="2291"/>
                </a:cubicBezTo>
                <a:cubicBezTo>
                  <a:pt x="1478" y="2303"/>
                  <a:pt x="1455" y="2309"/>
                  <a:pt x="1436" y="2322"/>
                </a:cubicBezTo>
                <a:cubicBezTo>
                  <a:pt x="1428" y="2327"/>
                  <a:pt x="1420" y="2333"/>
                  <a:pt x="1412" y="2338"/>
                </a:cubicBezTo>
                <a:cubicBezTo>
                  <a:pt x="1332" y="2333"/>
                  <a:pt x="1268" y="2333"/>
                  <a:pt x="1194" y="2314"/>
                </a:cubicBezTo>
                <a:cubicBezTo>
                  <a:pt x="1069" y="2318"/>
                  <a:pt x="943" y="2317"/>
                  <a:pt x="820" y="2338"/>
                </a:cubicBezTo>
                <a:cubicBezTo>
                  <a:pt x="804" y="2336"/>
                  <a:pt x="751" y="2335"/>
                  <a:pt x="727" y="2322"/>
                </a:cubicBezTo>
                <a:cubicBezTo>
                  <a:pt x="711" y="2313"/>
                  <a:pt x="680" y="2291"/>
                  <a:pt x="680" y="2291"/>
                </a:cubicBezTo>
                <a:cubicBezTo>
                  <a:pt x="669" y="2260"/>
                  <a:pt x="657" y="2244"/>
                  <a:pt x="633" y="2221"/>
                </a:cubicBezTo>
                <a:cubicBezTo>
                  <a:pt x="620" y="2183"/>
                  <a:pt x="603" y="2157"/>
                  <a:pt x="571" y="2135"/>
                </a:cubicBezTo>
                <a:cubicBezTo>
                  <a:pt x="560" y="2105"/>
                  <a:pt x="551" y="2091"/>
                  <a:pt x="524" y="2073"/>
                </a:cubicBezTo>
                <a:cubicBezTo>
                  <a:pt x="503" y="2011"/>
                  <a:pt x="534" y="2085"/>
                  <a:pt x="493" y="2034"/>
                </a:cubicBezTo>
                <a:cubicBezTo>
                  <a:pt x="488" y="2027"/>
                  <a:pt x="489" y="2017"/>
                  <a:pt x="485" y="2010"/>
                </a:cubicBezTo>
                <a:cubicBezTo>
                  <a:pt x="476" y="1994"/>
                  <a:pt x="464" y="1979"/>
                  <a:pt x="454" y="1964"/>
                </a:cubicBezTo>
                <a:cubicBezTo>
                  <a:pt x="449" y="1957"/>
                  <a:pt x="451" y="1947"/>
                  <a:pt x="446" y="1940"/>
                </a:cubicBezTo>
                <a:cubicBezTo>
                  <a:pt x="440" y="1933"/>
                  <a:pt x="431" y="1930"/>
                  <a:pt x="423" y="1925"/>
                </a:cubicBezTo>
                <a:cubicBezTo>
                  <a:pt x="414" y="1897"/>
                  <a:pt x="396" y="1880"/>
                  <a:pt x="384" y="1854"/>
                </a:cubicBezTo>
                <a:cubicBezTo>
                  <a:pt x="366" y="1813"/>
                  <a:pt x="355" y="1775"/>
                  <a:pt x="329" y="1738"/>
                </a:cubicBezTo>
                <a:cubicBezTo>
                  <a:pt x="318" y="1694"/>
                  <a:pt x="308" y="1651"/>
                  <a:pt x="282" y="1613"/>
                </a:cubicBezTo>
                <a:cubicBezTo>
                  <a:pt x="274" y="1586"/>
                  <a:pt x="267" y="1567"/>
                  <a:pt x="251" y="1543"/>
                </a:cubicBezTo>
                <a:cubicBezTo>
                  <a:pt x="230" y="1463"/>
                  <a:pt x="258" y="1556"/>
                  <a:pt x="228" y="1488"/>
                </a:cubicBezTo>
                <a:cubicBezTo>
                  <a:pt x="212" y="1452"/>
                  <a:pt x="211" y="1426"/>
                  <a:pt x="189" y="1395"/>
                </a:cubicBezTo>
                <a:cubicBezTo>
                  <a:pt x="157" y="1302"/>
                  <a:pt x="127" y="1211"/>
                  <a:pt x="88" y="1122"/>
                </a:cubicBezTo>
                <a:cubicBezTo>
                  <a:pt x="78" y="1099"/>
                  <a:pt x="77" y="1073"/>
                  <a:pt x="64" y="1052"/>
                </a:cubicBezTo>
                <a:cubicBezTo>
                  <a:pt x="48" y="1027"/>
                  <a:pt x="40" y="1000"/>
                  <a:pt x="25" y="974"/>
                </a:cubicBezTo>
                <a:cubicBezTo>
                  <a:pt x="21" y="967"/>
                  <a:pt x="0" y="939"/>
                  <a:pt x="2" y="927"/>
                </a:cubicBezTo>
                <a:cubicBezTo>
                  <a:pt x="4" y="918"/>
                  <a:pt x="13" y="912"/>
                  <a:pt x="18" y="904"/>
                </a:cubicBez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411480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43600" y="1143000"/>
            <a:ext cx="2590920" cy="718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s-ES_tradnl" sz="36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s-ES_tradnl" sz="36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1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s-ES_tradnl" sz="3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s-ES_tradnl" sz="3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1219320" y="1523880"/>
            <a:ext cx="6933600" cy="4573080"/>
            <a:chOff x="1219320" y="1523880"/>
            <a:chExt cx="6933600" cy="4573080"/>
          </a:xfrm>
        </p:grpSpPr>
        <p:sp>
          <p:nvSpPr>
            <p:cNvPr id="214" name=""/>
            <p:cNvSpPr/>
            <p:nvPr/>
          </p:nvSpPr>
          <p:spPr>
            <a:xfrm>
              <a:off x="1219320" y="1727640"/>
              <a:ext cx="6933600" cy="4369320"/>
            </a:xfrm>
            <a:custGeom>
              <a:avLst/>
              <a:gdLst/>
              <a:ahLst/>
              <a:rect l="l" t="t" r="r" b="b"/>
              <a:pathLst>
                <a:path w="2694" h="1652">
                  <a:moveTo>
                    <a:pt x="0" y="1512"/>
                  </a:moveTo>
                  <a:cubicBezTo>
                    <a:pt x="24" y="1508"/>
                    <a:pt x="53" y="1513"/>
                    <a:pt x="70" y="1496"/>
                  </a:cubicBezTo>
                  <a:cubicBezTo>
                    <a:pt x="83" y="1483"/>
                    <a:pt x="88" y="1462"/>
                    <a:pt x="101" y="1449"/>
                  </a:cubicBezTo>
                  <a:cubicBezTo>
                    <a:pt x="136" y="1414"/>
                    <a:pt x="151" y="1373"/>
                    <a:pt x="179" y="1332"/>
                  </a:cubicBezTo>
                  <a:cubicBezTo>
                    <a:pt x="209" y="1287"/>
                    <a:pt x="247" y="1243"/>
                    <a:pt x="265" y="1192"/>
                  </a:cubicBezTo>
                  <a:cubicBezTo>
                    <a:pt x="267" y="1132"/>
                    <a:pt x="266" y="1072"/>
                    <a:pt x="272" y="1013"/>
                  </a:cubicBezTo>
                  <a:cubicBezTo>
                    <a:pt x="276" y="973"/>
                    <a:pt x="300" y="926"/>
                    <a:pt x="311" y="888"/>
                  </a:cubicBezTo>
                  <a:cubicBezTo>
                    <a:pt x="329" y="825"/>
                    <a:pt x="356" y="752"/>
                    <a:pt x="428" y="732"/>
                  </a:cubicBezTo>
                  <a:cubicBezTo>
                    <a:pt x="481" y="717"/>
                    <a:pt x="538" y="715"/>
                    <a:pt x="592" y="701"/>
                  </a:cubicBezTo>
                  <a:cubicBezTo>
                    <a:pt x="609" y="653"/>
                    <a:pt x="647" y="620"/>
                    <a:pt x="670" y="576"/>
                  </a:cubicBezTo>
                  <a:cubicBezTo>
                    <a:pt x="683" y="550"/>
                    <a:pt x="683" y="522"/>
                    <a:pt x="701" y="498"/>
                  </a:cubicBezTo>
                  <a:cubicBezTo>
                    <a:pt x="721" y="471"/>
                    <a:pt x="757" y="443"/>
                    <a:pt x="787" y="428"/>
                  </a:cubicBezTo>
                  <a:cubicBezTo>
                    <a:pt x="811" y="416"/>
                    <a:pt x="839" y="417"/>
                    <a:pt x="865" y="413"/>
                  </a:cubicBezTo>
                  <a:cubicBezTo>
                    <a:pt x="905" y="407"/>
                    <a:pt x="944" y="394"/>
                    <a:pt x="982" y="381"/>
                  </a:cubicBezTo>
                  <a:cubicBezTo>
                    <a:pt x="1008" y="355"/>
                    <a:pt x="1016" y="334"/>
                    <a:pt x="1036" y="304"/>
                  </a:cubicBezTo>
                  <a:cubicBezTo>
                    <a:pt x="1050" y="283"/>
                    <a:pt x="1071" y="264"/>
                    <a:pt x="1083" y="241"/>
                  </a:cubicBezTo>
                  <a:cubicBezTo>
                    <a:pt x="1104" y="201"/>
                    <a:pt x="1130" y="158"/>
                    <a:pt x="1176" y="148"/>
                  </a:cubicBezTo>
                  <a:cubicBezTo>
                    <a:pt x="1232" y="111"/>
                    <a:pt x="1205" y="122"/>
                    <a:pt x="1254" y="109"/>
                  </a:cubicBezTo>
                  <a:cubicBezTo>
                    <a:pt x="1302" y="77"/>
                    <a:pt x="1348" y="66"/>
                    <a:pt x="1402" y="54"/>
                  </a:cubicBezTo>
                  <a:cubicBezTo>
                    <a:pt x="1418" y="50"/>
                    <a:pt x="1454" y="34"/>
                    <a:pt x="1465" y="31"/>
                  </a:cubicBezTo>
                  <a:cubicBezTo>
                    <a:pt x="1527" y="12"/>
                    <a:pt x="1571" y="6"/>
                    <a:pt x="1636" y="0"/>
                  </a:cubicBezTo>
                  <a:cubicBezTo>
                    <a:pt x="1703" y="5"/>
                    <a:pt x="1759" y="17"/>
                    <a:pt x="1823" y="31"/>
                  </a:cubicBezTo>
                  <a:cubicBezTo>
                    <a:pt x="1844" y="36"/>
                    <a:pt x="1864" y="40"/>
                    <a:pt x="1885" y="46"/>
                  </a:cubicBezTo>
                  <a:cubicBezTo>
                    <a:pt x="1901" y="50"/>
                    <a:pt x="1932" y="62"/>
                    <a:pt x="1932" y="62"/>
                  </a:cubicBezTo>
                  <a:cubicBezTo>
                    <a:pt x="1963" y="92"/>
                    <a:pt x="1999" y="115"/>
                    <a:pt x="2034" y="140"/>
                  </a:cubicBezTo>
                  <a:cubicBezTo>
                    <a:pt x="2049" y="151"/>
                    <a:pt x="2070" y="150"/>
                    <a:pt x="2088" y="155"/>
                  </a:cubicBezTo>
                  <a:cubicBezTo>
                    <a:pt x="2139" y="169"/>
                    <a:pt x="2167" y="170"/>
                    <a:pt x="2213" y="202"/>
                  </a:cubicBezTo>
                  <a:cubicBezTo>
                    <a:pt x="2257" y="233"/>
                    <a:pt x="2286" y="275"/>
                    <a:pt x="2322" y="311"/>
                  </a:cubicBezTo>
                  <a:cubicBezTo>
                    <a:pt x="2363" y="352"/>
                    <a:pt x="2416" y="386"/>
                    <a:pt x="2462" y="420"/>
                  </a:cubicBezTo>
                  <a:cubicBezTo>
                    <a:pt x="2473" y="428"/>
                    <a:pt x="2477" y="443"/>
                    <a:pt x="2486" y="452"/>
                  </a:cubicBezTo>
                  <a:cubicBezTo>
                    <a:pt x="2492" y="458"/>
                    <a:pt x="2501" y="462"/>
                    <a:pt x="2509" y="467"/>
                  </a:cubicBezTo>
                  <a:cubicBezTo>
                    <a:pt x="2524" y="498"/>
                    <a:pt x="2549" y="522"/>
                    <a:pt x="2563" y="553"/>
                  </a:cubicBezTo>
                  <a:cubicBezTo>
                    <a:pt x="2570" y="568"/>
                    <a:pt x="2575" y="584"/>
                    <a:pt x="2579" y="600"/>
                  </a:cubicBezTo>
                  <a:cubicBezTo>
                    <a:pt x="2582" y="610"/>
                    <a:pt x="2583" y="621"/>
                    <a:pt x="2587" y="631"/>
                  </a:cubicBezTo>
                  <a:cubicBezTo>
                    <a:pt x="2606" y="676"/>
                    <a:pt x="2632" y="717"/>
                    <a:pt x="2649" y="763"/>
                  </a:cubicBezTo>
                  <a:cubicBezTo>
                    <a:pt x="2672" y="826"/>
                    <a:pt x="2681" y="901"/>
                    <a:pt x="2688" y="966"/>
                  </a:cubicBezTo>
                  <a:cubicBezTo>
                    <a:pt x="2682" y="1092"/>
                    <a:pt x="2694" y="1298"/>
                    <a:pt x="2634" y="1434"/>
                  </a:cubicBezTo>
                  <a:cubicBezTo>
                    <a:pt x="2614" y="1479"/>
                    <a:pt x="2579" y="1513"/>
                    <a:pt x="2548" y="1550"/>
                  </a:cubicBezTo>
                  <a:cubicBezTo>
                    <a:pt x="2542" y="1557"/>
                    <a:pt x="2539" y="1568"/>
                    <a:pt x="2532" y="1574"/>
                  </a:cubicBezTo>
                  <a:cubicBezTo>
                    <a:pt x="2485" y="1612"/>
                    <a:pt x="2404" y="1619"/>
                    <a:pt x="2345" y="1628"/>
                  </a:cubicBezTo>
                  <a:cubicBezTo>
                    <a:pt x="2218" y="1622"/>
                    <a:pt x="2089" y="1633"/>
                    <a:pt x="1963" y="1613"/>
                  </a:cubicBezTo>
                  <a:cubicBezTo>
                    <a:pt x="1953" y="1611"/>
                    <a:pt x="1961" y="1591"/>
                    <a:pt x="1956" y="1582"/>
                  </a:cubicBezTo>
                  <a:cubicBezTo>
                    <a:pt x="1946" y="1564"/>
                    <a:pt x="1933" y="1548"/>
                    <a:pt x="1917" y="1535"/>
                  </a:cubicBezTo>
                  <a:cubicBezTo>
                    <a:pt x="1891" y="1514"/>
                    <a:pt x="1845" y="1508"/>
                    <a:pt x="1815" y="1504"/>
                  </a:cubicBezTo>
                  <a:cubicBezTo>
                    <a:pt x="1702" y="1509"/>
                    <a:pt x="1654" y="1500"/>
                    <a:pt x="1566" y="1527"/>
                  </a:cubicBezTo>
                  <a:cubicBezTo>
                    <a:pt x="1550" y="1532"/>
                    <a:pt x="1535" y="1539"/>
                    <a:pt x="1519" y="1543"/>
                  </a:cubicBezTo>
                  <a:cubicBezTo>
                    <a:pt x="1491" y="1550"/>
                    <a:pt x="1434" y="1558"/>
                    <a:pt x="1434" y="1558"/>
                  </a:cubicBezTo>
                  <a:cubicBezTo>
                    <a:pt x="1373" y="1583"/>
                    <a:pt x="1311" y="1605"/>
                    <a:pt x="1247" y="1621"/>
                  </a:cubicBezTo>
                  <a:cubicBezTo>
                    <a:pt x="1221" y="1637"/>
                    <a:pt x="1161" y="1652"/>
                    <a:pt x="1161" y="1652"/>
                  </a:cubicBezTo>
                  <a:cubicBezTo>
                    <a:pt x="1051" y="1638"/>
                    <a:pt x="939" y="1602"/>
                    <a:pt x="834" y="1566"/>
                  </a:cubicBezTo>
                  <a:cubicBezTo>
                    <a:pt x="809" y="1557"/>
                    <a:pt x="782" y="1560"/>
                    <a:pt x="756" y="1558"/>
                  </a:cubicBezTo>
                  <a:cubicBezTo>
                    <a:pt x="691" y="1554"/>
                    <a:pt x="626" y="1553"/>
                    <a:pt x="561" y="1550"/>
                  </a:cubicBezTo>
                  <a:cubicBezTo>
                    <a:pt x="466" y="1522"/>
                    <a:pt x="380" y="1480"/>
                    <a:pt x="280" y="1465"/>
                  </a:cubicBezTo>
                  <a:cubicBezTo>
                    <a:pt x="90" y="1473"/>
                    <a:pt x="155" y="1473"/>
                    <a:pt x="85" y="1473"/>
                  </a:cubicBezTo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19840" y="2592720"/>
              <a:ext cx="4189680" cy="3031200"/>
            </a:xfrm>
            <a:custGeom>
              <a:avLst/>
              <a:gdLst/>
              <a:ahLst/>
              <a:rect l="l" t="t" r="r" b="b"/>
              <a:pathLst>
                <a:path w="1628" h="1146">
                  <a:moveTo>
                    <a:pt x="1597" y="0"/>
                  </a:moveTo>
                  <a:cubicBezTo>
                    <a:pt x="1576" y="62"/>
                    <a:pt x="1594" y="140"/>
                    <a:pt x="1628" y="195"/>
                  </a:cubicBezTo>
                  <a:cubicBezTo>
                    <a:pt x="1625" y="214"/>
                    <a:pt x="1622" y="279"/>
                    <a:pt x="1605" y="296"/>
                  </a:cubicBezTo>
                  <a:cubicBezTo>
                    <a:pt x="1593" y="308"/>
                    <a:pt x="1573" y="310"/>
                    <a:pt x="1558" y="319"/>
                  </a:cubicBezTo>
                  <a:cubicBezTo>
                    <a:pt x="1518" y="383"/>
                    <a:pt x="1571" y="306"/>
                    <a:pt x="1519" y="358"/>
                  </a:cubicBezTo>
                  <a:cubicBezTo>
                    <a:pt x="1506" y="371"/>
                    <a:pt x="1499" y="390"/>
                    <a:pt x="1488" y="405"/>
                  </a:cubicBezTo>
                  <a:cubicBezTo>
                    <a:pt x="1456" y="500"/>
                    <a:pt x="1354" y="486"/>
                    <a:pt x="1270" y="491"/>
                  </a:cubicBezTo>
                  <a:cubicBezTo>
                    <a:pt x="1242" y="505"/>
                    <a:pt x="1211" y="514"/>
                    <a:pt x="1184" y="530"/>
                  </a:cubicBezTo>
                  <a:cubicBezTo>
                    <a:pt x="1168" y="540"/>
                    <a:pt x="1150" y="548"/>
                    <a:pt x="1137" y="561"/>
                  </a:cubicBezTo>
                  <a:cubicBezTo>
                    <a:pt x="1129" y="569"/>
                    <a:pt x="1123" y="578"/>
                    <a:pt x="1114" y="584"/>
                  </a:cubicBezTo>
                  <a:cubicBezTo>
                    <a:pt x="1107" y="589"/>
                    <a:pt x="1098" y="588"/>
                    <a:pt x="1091" y="592"/>
                  </a:cubicBezTo>
                  <a:cubicBezTo>
                    <a:pt x="1075" y="601"/>
                    <a:pt x="1044" y="623"/>
                    <a:pt x="1044" y="623"/>
                  </a:cubicBezTo>
                  <a:cubicBezTo>
                    <a:pt x="1018" y="663"/>
                    <a:pt x="990" y="706"/>
                    <a:pt x="950" y="733"/>
                  </a:cubicBezTo>
                  <a:cubicBezTo>
                    <a:pt x="932" y="761"/>
                    <a:pt x="924" y="784"/>
                    <a:pt x="896" y="803"/>
                  </a:cubicBezTo>
                  <a:cubicBezTo>
                    <a:pt x="848" y="872"/>
                    <a:pt x="750" y="839"/>
                    <a:pt x="670" y="842"/>
                  </a:cubicBezTo>
                  <a:cubicBezTo>
                    <a:pt x="611" y="855"/>
                    <a:pt x="572" y="885"/>
                    <a:pt x="522" y="920"/>
                  </a:cubicBezTo>
                  <a:cubicBezTo>
                    <a:pt x="504" y="933"/>
                    <a:pt x="464" y="937"/>
                    <a:pt x="444" y="943"/>
                  </a:cubicBezTo>
                  <a:cubicBezTo>
                    <a:pt x="389" y="960"/>
                    <a:pt x="335" y="981"/>
                    <a:pt x="280" y="997"/>
                  </a:cubicBezTo>
                  <a:cubicBezTo>
                    <a:pt x="242" y="1023"/>
                    <a:pt x="184" y="1045"/>
                    <a:pt x="140" y="1060"/>
                  </a:cubicBezTo>
                  <a:cubicBezTo>
                    <a:pt x="96" y="1075"/>
                    <a:pt x="60" y="1107"/>
                    <a:pt x="15" y="1122"/>
                  </a:cubicBezTo>
                  <a:cubicBezTo>
                    <a:pt x="10" y="1130"/>
                    <a:pt x="0" y="1146"/>
                    <a:pt x="0" y="1146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08360" y="3931200"/>
              <a:ext cx="2646000" cy="1671840"/>
            </a:xfrm>
            <a:custGeom>
              <a:avLst/>
              <a:gdLst/>
              <a:ahLst/>
              <a:rect l="l" t="t" r="r" b="b"/>
              <a:pathLst>
                <a:path w="1028" h="632">
                  <a:moveTo>
                    <a:pt x="880" y="632"/>
                  </a:moveTo>
                  <a:cubicBezTo>
                    <a:pt x="990" y="621"/>
                    <a:pt x="956" y="632"/>
                    <a:pt x="1005" y="562"/>
                  </a:cubicBezTo>
                  <a:cubicBezTo>
                    <a:pt x="1010" y="546"/>
                    <a:pt x="1015" y="531"/>
                    <a:pt x="1020" y="515"/>
                  </a:cubicBezTo>
                  <a:cubicBezTo>
                    <a:pt x="1023" y="507"/>
                    <a:pt x="1028" y="491"/>
                    <a:pt x="1028" y="491"/>
                  </a:cubicBezTo>
                  <a:cubicBezTo>
                    <a:pt x="1024" y="479"/>
                    <a:pt x="1017" y="453"/>
                    <a:pt x="1005" y="445"/>
                  </a:cubicBezTo>
                  <a:cubicBezTo>
                    <a:pt x="978" y="426"/>
                    <a:pt x="900" y="418"/>
                    <a:pt x="865" y="406"/>
                  </a:cubicBezTo>
                  <a:cubicBezTo>
                    <a:pt x="851" y="392"/>
                    <a:pt x="831" y="382"/>
                    <a:pt x="818" y="367"/>
                  </a:cubicBezTo>
                  <a:cubicBezTo>
                    <a:pt x="806" y="353"/>
                    <a:pt x="803" y="330"/>
                    <a:pt x="787" y="320"/>
                  </a:cubicBezTo>
                  <a:cubicBezTo>
                    <a:pt x="762" y="303"/>
                    <a:pt x="733" y="293"/>
                    <a:pt x="709" y="273"/>
                  </a:cubicBezTo>
                  <a:cubicBezTo>
                    <a:pt x="649" y="223"/>
                    <a:pt x="585" y="161"/>
                    <a:pt x="506" y="141"/>
                  </a:cubicBezTo>
                  <a:cubicBezTo>
                    <a:pt x="424" y="121"/>
                    <a:pt x="333" y="116"/>
                    <a:pt x="249" y="110"/>
                  </a:cubicBezTo>
                  <a:cubicBezTo>
                    <a:pt x="220" y="103"/>
                    <a:pt x="190" y="99"/>
                    <a:pt x="163" y="86"/>
                  </a:cubicBezTo>
                  <a:cubicBezTo>
                    <a:pt x="99" y="55"/>
                    <a:pt x="179" y="85"/>
                    <a:pt x="117" y="63"/>
                  </a:cubicBezTo>
                  <a:cubicBezTo>
                    <a:pt x="112" y="55"/>
                    <a:pt x="109" y="45"/>
                    <a:pt x="101" y="39"/>
                  </a:cubicBezTo>
                  <a:cubicBezTo>
                    <a:pt x="95" y="34"/>
                    <a:pt x="85" y="36"/>
                    <a:pt x="78" y="32"/>
                  </a:cubicBezTo>
                  <a:cubicBezTo>
                    <a:pt x="52" y="19"/>
                    <a:pt x="32" y="0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85240" y="1904760"/>
              <a:ext cx="123480" cy="127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43880" y="3809160"/>
              <a:ext cx="123480" cy="127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79760" y="5333040"/>
              <a:ext cx="123480" cy="127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56520" y="3428280"/>
              <a:ext cx="123120" cy="127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626360" y="2412720"/>
              <a:ext cx="123480" cy="126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626360" y="4317480"/>
              <a:ext cx="123480" cy="126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42160" y="3428280"/>
              <a:ext cx="29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26960" y="3174480"/>
              <a:ext cx="29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74040" y="2031840"/>
              <a:ext cx="29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74040" y="4317480"/>
              <a:ext cx="27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26360" y="5205960"/>
              <a:ext cx="29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32200" y="1523880"/>
              <a:ext cx="29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914400" y="380880"/>
            <a:ext cx="20574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ISOY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48320" y="1905120"/>
            <a:ext cx="2336760" cy="4610160"/>
          </a:xfrm>
          <a:custGeom>
            <a:avLst/>
            <a:gdLst/>
            <a:ahLst/>
            <a:rect l="l" t="t" r="r" b="b"/>
            <a:pathLst>
              <a:path w="1472" h="2904">
                <a:moveTo>
                  <a:pt x="0" y="0"/>
                </a:moveTo>
                <a:cubicBezTo>
                  <a:pt x="16" y="88"/>
                  <a:pt x="32" y="176"/>
                  <a:pt x="96" y="240"/>
                </a:cubicBezTo>
                <a:cubicBezTo>
                  <a:pt x="160" y="304"/>
                  <a:pt x="288" y="344"/>
                  <a:pt x="384" y="384"/>
                </a:cubicBezTo>
                <a:cubicBezTo>
                  <a:pt x="480" y="424"/>
                  <a:pt x="600" y="408"/>
                  <a:pt x="672" y="480"/>
                </a:cubicBezTo>
                <a:cubicBezTo>
                  <a:pt x="744" y="552"/>
                  <a:pt x="776" y="688"/>
                  <a:pt x="816" y="816"/>
                </a:cubicBezTo>
                <a:cubicBezTo>
                  <a:pt x="856" y="944"/>
                  <a:pt x="816" y="1120"/>
                  <a:pt x="912" y="1248"/>
                </a:cubicBezTo>
                <a:cubicBezTo>
                  <a:pt x="1008" y="1376"/>
                  <a:pt x="1312" y="1432"/>
                  <a:pt x="1392" y="1584"/>
                </a:cubicBezTo>
                <a:cubicBezTo>
                  <a:pt x="1472" y="1736"/>
                  <a:pt x="1448" y="2016"/>
                  <a:pt x="1392" y="2160"/>
                </a:cubicBezTo>
                <a:cubicBezTo>
                  <a:pt x="1336" y="2304"/>
                  <a:pt x="1176" y="2336"/>
                  <a:pt x="1056" y="2448"/>
                </a:cubicBezTo>
                <a:cubicBezTo>
                  <a:pt x="936" y="2560"/>
                  <a:pt x="736" y="2760"/>
                  <a:pt x="672" y="2832"/>
                </a:cubicBezTo>
                <a:cubicBezTo>
                  <a:pt x="608" y="2904"/>
                  <a:pt x="672" y="2872"/>
                  <a:pt x="672" y="288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657600" y="2590920"/>
            <a:ext cx="2527200" cy="3352680"/>
          </a:xfrm>
          <a:custGeom>
            <a:avLst/>
            <a:gdLst/>
            <a:ahLst/>
            <a:rect l="l" t="t" r="r" b="b"/>
            <a:pathLst>
              <a:path w="1592" h="2112">
                <a:moveTo>
                  <a:pt x="0" y="0"/>
                </a:moveTo>
                <a:cubicBezTo>
                  <a:pt x="44" y="92"/>
                  <a:pt x="88" y="184"/>
                  <a:pt x="192" y="240"/>
                </a:cubicBezTo>
                <a:cubicBezTo>
                  <a:pt x="296" y="296"/>
                  <a:pt x="472" y="312"/>
                  <a:pt x="624" y="336"/>
                </a:cubicBezTo>
                <a:cubicBezTo>
                  <a:pt x="776" y="360"/>
                  <a:pt x="1000" y="352"/>
                  <a:pt x="1104" y="384"/>
                </a:cubicBezTo>
                <a:cubicBezTo>
                  <a:pt x="1208" y="416"/>
                  <a:pt x="1224" y="472"/>
                  <a:pt x="1248" y="528"/>
                </a:cubicBezTo>
                <a:cubicBezTo>
                  <a:pt x="1272" y="584"/>
                  <a:pt x="1240" y="648"/>
                  <a:pt x="1248" y="720"/>
                </a:cubicBezTo>
                <a:cubicBezTo>
                  <a:pt x="1256" y="792"/>
                  <a:pt x="1240" y="880"/>
                  <a:pt x="1296" y="960"/>
                </a:cubicBezTo>
                <a:cubicBezTo>
                  <a:pt x="1352" y="1040"/>
                  <a:pt x="1576" y="1096"/>
                  <a:pt x="1584" y="1200"/>
                </a:cubicBezTo>
                <a:cubicBezTo>
                  <a:pt x="1592" y="1304"/>
                  <a:pt x="1408" y="1488"/>
                  <a:pt x="1344" y="1584"/>
                </a:cubicBezTo>
                <a:cubicBezTo>
                  <a:pt x="1280" y="1680"/>
                  <a:pt x="1248" y="1688"/>
                  <a:pt x="1200" y="1776"/>
                </a:cubicBezTo>
                <a:cubicBezTo>
                  <a:pt x="1152" y="1864"/>
                  <a:pt x="1104" y="1988"/>
                  <a:pt x="1056" y="2112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95480" y="3200400"/>
            <a:ext cx="1841760" cy="3263760"/>
          </a:xfrm>
          <a:custGeom>
            <a:avLst/>
            <a:gdLst/>
            <a:ahLst/>
            <a:rect l="l" t="t" r="r" b="b"/>
            <a:pathLst>
              <a:path w="1160" h="2056">
                <a:moveTo>
                  <a:pt x="0" y="0"/>
                </a:moveTo>
                <a:cubicBezTo>
                  <a:pt x="36" y="104"/>
                  <a:pt x="72" y="208"/>
                  <a:pt x="144" y="288"/>
                </a:cubicBezTo>
                <a:cubicBezTo>
                  <a:pt x="216" y="368"/>
                  <a:pt x="304" y="440"/>
                  <a:pt x="432" y="480"/>
                </a:cubicBezTo>
                <a:cubicBezTo>
                  <a:pt x="560" y="520"/>
                  <a:pt x="824" y="488"/>
                  <a:pt x="912" y="528"/>
                </a:cubicBezTo>
                <a:cubicBezTo>
                  <a:pt x="1000" y="568"/>
                  <a:pt x="960" y="616"/>
                  <a:pt x="960" y="720"/>
                </a:cubicBezTo>
                <a:cubicBezTo>
                  <a:pt x="960" y="824"/>
                  <a:pt x="904" y="1056"/>
                  <a:pt x="912" y="1152"/>
                </a:cubicBezTo>
                <a:cubicBezTo>
                  <a:pt x="920" y="1248"/>
                  <a:pt x="968" y="1240"/>
                  <a:pt x="1008" y="1296"/>
                </a:cubicBezTo>
                <a:cubicBezTo>
                  <a:pt x="1048" y="1352"/>
                  <a:pt x="1144" y="1376"/>
                  <a:pt x="1152" y="1488"/>
                </a:cubicBezTo>
                <a:cubicBezTo>
                  <a:pt x="1160" y="1600"/>
                  <a:pt x="1072" y="1880"/>
                  <a:pt x="1056" y="1968"/>
                </a:cubicBezTo>
                <a:cubicBezTo>
                  <a:pt x="1040" y="2056"/>
                  <a:pt x="1056" y="2008"/>
                  <a:pt x="1056" y="2016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1900080"/>
            <a:ext cx="3249720" cy="3980160"/>
          </a:xfrm>
          <a:custGeom>
            <a:avLst/>
            <a:gdLst/>
            <a:ahLst/>
            <a:rect l="l" t="t" r="r" b="b"/>
            <a:pathLst>
              <a:path w="2047" h="2507">
                <a:moveTo>
                  <a:pt x="575" y="3"/>
                </a:moveTo>
                <a:cubicBezTo>
                  <a:pt x="619" y="0"/>
                  <a:pt x="607" y="179"/>
                  <a:pt x="671" y="243"/>
                </a:cubicBezTo>
                <a:cubicBezTo>
                  <a:pt x="735" y="307"/>
                  <a:pt x="863" y="347"/>
                  <a:pt x="959" y="387"/>
                </a:cubicBezTo>
                <a:cubicBezTo>
                  <a:pt x="1055" y="427"/>
                  <a:pt x="1175" y="411"/>
                  <a:pt x="1247" y="483"/>
                </a:cubicBezTo>
                <a:cubicBezTo>
                  <a:pt x="1319" y="555"/>
                  <a:pt x="1351" y="691"/>
                  <a:pt x="1391" y="819"/>
                </a:cubicBezTo>
                <a:cubicBezTo>
                  <a:pt x="1431" y="947"/>
                  <a:pt x="1391" y="1123"/>
                  <a:pt x="1487" y="1251"/>
                </a:cubicBezTo>
                <a:cubicBezTo>
                  <a:pt x="1583" y="1379"/>
                  <a:pt x="1887" y="1435"/>
                  <a:pt x="1967" y="1587"/>
                </a:cubicBezTo>
                <a:cubicBezTo>
                  <a:pt x="2047" y="1739"/>
                  <a:pt x="2023" y="2019"/>
                  <a:pt x="1967" y="2163"/>
                </a:cubicBezTo>
                <a:cubicBezTo>
                  <a:pt x="1911" y="2307"/>
                  <a:pt x="1699" y="2395"/>
                  <a:pt x="1631" y="2451"/>
                </a:cubicBezTo>
                <a:cubicBezTo>
                  <a:pt x="1563" y="2507"/>
                  <a:pt x="1585" y="2504"/>
                  <a:pt x="1559" y="2497"/>
                </a:cubicBezTo>
                <a:cubicBezTo>
                  <a:pt x="1533" y="2490"/>
                  <a:pt x="1513" y="2428"/>
                  <a:pt x="1473" y="2411"/>
                </a:cubicBezTo>
                <a:lnTo>
                  <a:pt x="1317" y="2396"/>
                </a:lnTo>
                <a:lnTo>
                  <a:pt x="1169" y="2403"/>
                </a:lnTo>
                <a:lnTo>
                  <a:pt x="1052" y="2411"/>
                </a:lnTo>
                <a:lnTo>
                  <a:pt x="1208" y="2138"/>
                </a:lnTo>
                <a:lnTo>
                  <a:pt x="1419" y="1858"/>
                </a:lnTo>
                <a:lnTo>
                  <a:pt x="1535" y="1679"/>
                </a:lnTo>
                <a:lnTo>
                  <a:pt x="1520" y="1601"/>
                </a:lnTo>
                <a:lnTo>
                  <a:pt x="1341" y="1476"/>
                </a:lnTo>
                <a:lnTo>
                  <a:pt x="1239" y="1390"/>
                </a:lnTo>
                <a:lnTo>
                  <a:pt x="1193" y="1234"/>
                </a:lnTo>
                <a:lnTo>
                  <a:pt x="1200" y="1016"/>
                </a:lnTo>
                <a:lnTo>
                  <a:pt x="1099" y="853"/>
                </a:lnTo>
                <a:lnTo>
                  <a:pt x="1037" y="829"/>
                </a:lnTo>
                <a:lnTo>
                  <a:pt x="858" y="806"/>
                </a:lnTo>
                <a:lnTo>
                  <a:pt x="515" y="767"/>
                </a:lnTo>
                <a:lnTo>
                  <a:pt x="250" y="720"/>
                </a:lnTo>
                <a:lnTo>
                  <a:pt x="86" y="642"/>
                </a:lnTo>
                <a:lnTo>
                  <a:pt x="0" y="533"/>
                </a:lnTo>
                <a:lnTo>
                  <a:pt x="265" y="175"/>
                </a:lnTo>
                <a:lnTo>
                  <a:pt x="575" y="3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6019920"/>
            <a:ext cx="533160" cy="51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943600" y="6324480"/>
            <a:ext cx="457200" cy="51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457200"/>
            <a:ext cx="3809880" cy="510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=S(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)*A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48520" y="49528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380880"/>
            <a:ext cx="32767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Curvas Isoporce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1371600"/>
            <a:ext cx="807732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Si en una región, el régimen de precipitaciones y su variación espacial está condicionada por efectos topográficos, la variación de la precipitación en el espacio durante un tormenta es generalmente similar a la variabilidad que presenta la precipitación anual norm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3886200"/>
            <a:ext cx="8077320" cy="124164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Distribución espacial de P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Times New Roman"/>
              </a:rPr>
              <a:t>anual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, puede usarse como modelo para estudiar la variabilidad espacial de una tormenta partic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11120" y="5791320"/>
            <a:ext cx="32562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Curvas Isoporce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57600" y="5181480"/>
            <a:ext cx="1066680" cy="6098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cc99"/>
              </a:gs>
              <a:gs pos="100000">
                <a:srgbClr val="0000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914400" y="380880"/>
            <a:ext cx="7848720" cy="1191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cc"/>
                </a:solidFill>
                <a:latin typeface="Times New Roman"/>
              </a:rPr>
              <a:t>Se calculan los coeficientes entre la precipitación observada en cada estación y la de la precipitación anual normal respecti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1905120"/>
            <a:ext cx="746784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Si lluvia en estudio sigue la configuración espacial de la anual norm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3200400"/>
            <a:ext cx="723888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oeficientes serán prácticamente cons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029200"/>
            <a:ext cx="6400800" cy="1557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Isoyetas serán prácticamente constantes y, por lo tanto, las isoyetas de la precipitación anual normal serán una versión amplificada de la lluvi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213372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6629040" y="3733920"/>
            <a:ext cx="1523880" cy="106668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465e75"/>
              </a:gs>
              <a:gs pos="100000">
                <a:srgbClr val="99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676520" y="1143000"/>
            <a:ext cx="45720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cc"/>
                </a:solidFill>
                <a:latin typeface="Times New Roman"/>
              </a:rPr>
              <a:t>Si los cuocientes dif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0200" y="1981080"/>
            <a:ext cx="662940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versión distorsionada de las isoyetas de la precipitación normal anual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3505320"/>
            <a:ext cx="624852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uniendo los puntos con igual porcentaje de la precipitación normal a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14400" y="5334120"/>
            <a:ext cx="8001000" cy="1191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Si los porcentajes varían al azar no es posible trazar estas curvas y ello representa una tormenta de características atípicas para la reg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17719800">
            <a:off x="6400800" y="3657240"/>
            <a:ext cx="83844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cc"/>
              </a:gs>
              <a:gs pos="50000">
                <a:srgbClr val="808080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238880" y="4114800"/>
            <a:ext cx="1752840" cy="51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1219320"/>
            <a:ext cx="914400" cy="1600200"/>
          </a:xfrm>
          <a:custGeom>
            <a:avLst/>
            <a:gdLst>
              <a:gd name="textAreaLeft" fmla="*/ 122400 w 914400"/>
              <a:gd name="textAreaRight" fmla="*/ 792000 w 91440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66ffcc"/>
              </a:gs>
              <a:gs pos="100000">
                <a:srgbClr val="0000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990720" y="457200"/>
            <a:ext cx="419076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Mapa de Curvas Isócr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143000"/>
            <a:ext cx="8077320" cy="1191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cc"/>
                </a:solidFill>
                <a:latin typeface="Times New Roman"/>
              </a:rPr>
              <a:t>Se unen los puntos de igual tiempo, en que el elemento tiempo se refiere a un tiempo de referencia, que puede ser el inicio o el término de la lluv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4800600"/>
            <a:ext cx="7848360" cy="119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orregidos los errores, el mapa de Isócronas se puede usar para estudiar el movimiento de la tormenta o para interpolar datos que falt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2743200"/>
            <a:ext cx="815364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Para construir estas curvas se utilizan los datos de pluviógrafos de buena calidad y otras observaciones meteorológicas en la zona, que permitan visualizar errores o contradicciones que presenten los datos dispon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09480"/>
            <a:ext cx="678168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Intensidad-Duración-Frecuencia (curvas ID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5800" y="1503360"/>
          <a:ext cx="7543800" cy="531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03360"/>
                    <a:ext cx="7543800" cy="53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762120"/>
            <a:ext cx="36576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FALTA DE REGIS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914400"/>
            <a:ext cx="1600200" cy="12193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213120 h 1219320"/>
              <a:gd name="textAreaBottom" fmla="*/ 884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1752480"/>
            <a:ext cx="35053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eficientes de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990720"/>
            <a:ext cx="533520" cy="2361960"/>
          </a:xfrm>
          <a:custGeom>
            <a:avLst/>
            <a:gdLst>
              <a:gd name="textAreaLeft" fmla="*/ 71280 w 533520"/>
              <a:gd name="textAreaRight" fmla="*/ 462240 w 533520"/>
              <a:gd name="textAreaTop" fmla="*/ 413280 h 2361960"/>
              <a:gd name="textAreaBottom" fmla="*/ 171252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819520"/>
            <a:ext cx="29718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Fórmula de Grun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352680"/>
            <a:ext cx="1066680" cy="9907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cc"/>
              </a:gs>
              <a:gs pos="5000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838080" y="4495680"/>
            <a:ext cx="1905120" cy="510120"/>
            <a:chOff x="838080" y="4495680"/>
            <a:chExt cx="1905120" cy="510120"/>
          </a:xfrm>
        </p:grpSpPr>
        <p:sp>
          <p:nvSpPr>
            <p:cNvPr id="61" name=""/>
            <p:cNvSpPr/>
            <p:nvPr/>
          </p:nvSpPr>
          <p:spPr>
            <a:xfrm>
              <a:off x="838080" y="4495680"/>
              <a:ext cx="1905120" cy="510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Times New Roman"/>
                </a:rPr>
                <a:t>I</a:t>
              </a:r>
              <a:r>
                <a:rPr b="1" lang="es-ES_tradnl" sz="2400" spc="-1" strike="noStrike" baseline="-25000">
                  <a:solidFill>
                    <a:srgbClr val="000099"/>
                  </a:solidFill>
                  <a:latin typeface="Times New Roman"/>
                </a:rPr>
                <a:t>t</a:t>
              </a:r>
              <a:r>
                <a:rPr b="1" lang="es-ES_tradnl" sz="2400" spc="-1" strike="noStrike">
                  <a:solidFill>
                    <a:srgbClr val="000099"/>
                  </a:solidFill>
                  <a:latin typeface="Times New Roman"/>
                </a:rPr>
                <a:t>=I</a:t>
              </a:r>
              <a:r>
                <a:rPr b="1" lang="es-ES_tradnl" sz="2400" spc="-1" strike="noStrike" baseline="-25000">
                  <a:solidFill>
                    <a:srgbClr val="000099"/>
                  </a:solidFill>
                  <a:latin typeface="Times New Roman"/>
                </a:rPr>
                <a:t>24</a:t>
              </a:r>
              <a:r>
                <a:rPr b="1" lang="es-ES_tradnl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</a:t>
              </a:r>
              <a:r>
                <a:rPr b="1" lang="es-ES_tradnl" sz="2400" spc="-1" strike="noStrike">
                  <a:solidFill>
                    <a:srgbClr val="000099"/>
                  </a:solidFill>
                  <a:latin typeface="Times New Roman"/>
                </a:rPr>
                <a:t>(24/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752480" y="4572000"/>
              <a:ext cx="6858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 rot="2655600">
            <a:off x="4419360" y="2548080"/>
            <a:ext cx="1371600" cy="914400"/>
          </a:xfrm>
          <a:prstGeom prst="rightArrow">
            <a:avLst>
              <a:gd name="adj1" fmla="val 50000"/>
              <a:gd name="adj2" fmla="val 37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3657600"/>
            <a:ext cx="5410080" cy="1937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P5/P60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P15/P60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P30/P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0,26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0,53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0,7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5715000"/>
            <a:ext cx="5791320" cy="510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CHILE:  P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imes New Roman"/>
              </a:rPr>
              <a:t>max</a:t>
            </a: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 1 hr 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 P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imes New Roman"/>
              </a:rPr>
              <a:t>max </a:t>
            </a: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24 hrs / 4,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380880"/>
            <a:ext cx="38862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PERIODO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228600"/>
            <a:ext cx="914400" cy="838080"/>
          </a:xfrm>
          <a:prstGeom prst="rightArrow">
            <a:avLst>
              <a:gd name="adj1" fmla="val 50000"/>
              <a:gd name="adj2" fmla="val 27277"/>
            </a:avLst>
          </a:prstGeom>
          <a:gradFill rotWithShape="0">
            <a:gsLst>
              <a:gs pos="0">
                <a:srgbClr val="ffffcc"/>
              </a:gs>
              <a:gs pos="100000">
                <a:srgbClr val="000099"/>
              </a:gs>
            </a:gsLst>
            <a:lin ang="81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380880"/>
            <a:ext cx="1752840" cy="510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 = 1/P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imes New Roman"/>
              </a:rPr>
              <a:t>ex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914400"/>
            <a:ext cx="1219320" cy="9144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9ccff"/>
              </a:gs>
              <a:gs pos="50000">
                <a:srgbClr val="000099"/>
              </a:gs>
              <a:gs pos="100000">
                <a:srgbClr val="99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828800"/>
            <a:ext cx="8077320" cy="1191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ccff"/>
                </a:solidFill>
                <a:latin typeface="Times New Roman"/>
              </a:rPr>
              <a:t>INTERVALO DE TIEMPO </a:t>
            </a:r>
            <a:r>
              <a:rPr b="1" lang="es-ES_tradnl" sz="2400" spc="-1" strike="noStrike" u="sng">
                <a:solidFill>
                  <a:srgbClr val="ff3300"/>
                </a:solidFill>
                <a:uFillTx/>
                <a:latin typeface="Times New Roman"/>
              </a:rPr>
              <a:t>PROMEDIO</a:t>
            </a:r>
            <a:r>
              <a:rPr b="1" lang="es-ES_tradnl" sz="2400" spc="-1" strike="noStrike">
                <a:solidFill>
                  <a:srgbClr val="99ccff"/>
                </a:solidFill>
                <a:latin typeface="Times New Roman"/>
              </a:rPr>
              <a:t> (AÑOS) EN QUE UN EVENTO DADO ES IGUALADO O SUPERADO AL MENOS UNA VE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200400"/>
            <a:ext cx="586764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OEFICIENTES DE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588800">
            <a:off x="1676160" y="3581280"/>
            <a:ext cx="1600200" cy="1143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cc"/>
              </a:gs>
              <a:gs pos="100000">
                <a:srgbClr val="ff33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800600"/>
            <a:ext cx="678168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imes New Roman"/>
              </a:rPr>
              <a:t>100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/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imes New Roman"/>
              </a:rPr>
              <a:t>10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imes New Roman"/>
              </a:rPr>
              <a:t>50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/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imes New Roman"/>
              </a:rPr>
              <a:t>10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imes New Roman"/>
              </a:rPr>
              <a:t>25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/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imes New Roman"/>
              </a:rPr>
              <a:t>10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/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1,4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1,3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1,19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0,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6172200"/>
            <a:ext cx="5257800" cy="510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cc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66ffcc"/>
                </a:solidFill>
                <a:latin typeface="Times New Roman"/>
              </a:rPr>
              <a:t>t</a:t>
            </a:r>
            <a:r>
              <a:rPr b="1" lang="es-ES_tradnl" sz="2400" spc="-1" strike="noStrike" baseline="30000">
                <a:solidFill>
                  <a:srgbClr val="66ffcc"/>
                </a:solidFill>
                <a:latin typeface="Times New Roman"/>
              </a:rPr>
              <a:t>T</a:t>
            </a:r>
            <a:r>
              <a:rPr b="1" lang="es-ES_tradnl" sz="2400" spc="-1" strike="noStrike">
                <a:solidFill>
                  <a:srgbClr val="66ffcc"/>
                </a:solidFill>
                <a:latin typeface="Times New Roman"/>
              </a:rPr>
              <a:t>=(0,21LnT+0,52)(0,54t </a:t>
            </a:r>
            <a:r>
              <a:rPr b="1" lang="es-ES_tradnl" sz="2400" spc="-1" strike="noStrike" baseline="30000">
                <a:solidFill>
                  <a:srgbClr val="66ffcc"/>
                </a:solidFill>
                <a:latin typeface="Times New Roman"/>
              </a:rPr>
              <a:t>,25</a:t>
            </a:r>
            <a:r>
              <a:rPr b="1" lang="es-ES_tradnl" sz="2400" spc="-1" strike="noStrike">
                <a:solidFill>
                  <a:srgbClr val="66ffcc"/>
                </a:solidFill>
                <a:latin typeface="Times New Roman"/>
              </a:rPr>
              <a:t>-0,50)P</a:t>
            </a:r>
            <a:r>
              <a:rPr b="1" lang="es-ES_tradnl" sz="2400" spc="-1" strike="noStrike" baseline="-25000">
                <a:solidFill>
                  <a:srgbClr val="66ffcc"/>
                </a:solidFill>
                <a:latin typeface="Times New Roman"/>
              </a:rPr>
              <a:t>60</a:t>
            </a:r>
            <a:r>
              <a:rPr b="1" lang="es-ES_tradnl" sz="2400" spc="-1" strike="noStrike" baseline="30000">
                <a:solidFill>
                  <a:srgbClr val="66ff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248520" y="5715000"/>
            <a:ext cx="1904760" cy="5335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23888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648320" y="5638680"/>
            <a:ext cx="2666880" cy="6098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01000" y="5562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83480" y="422280"/>
            <a:ext cx="629460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INSTALACIÓN YUBICACIÓN DE PLUVIÓME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00320" y="993600"/>
            <a:ext cx="6624360" cy="1617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Considerar: 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Operación y Man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Factores climá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Condiciones Físicas y Topográf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Tipo de Observ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Objetivo de los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289160" y="1428840"/>
          <a:ext cx="1508040" cy="12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9160" y="1428840"/>
                    <a:ext cx="150804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6014520" y="2590920"/>
            <a:ext cx="2646360" cy="100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efectos de intercep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captación insu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represent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7960" y="2936880"/>
            <a:ext cx="161316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Precau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76520" y="3371760"/>
            <a:ext cx="1375920" cy="666720"/>
            <a:chOff x="1676520" y="3371760"/>
            <a:chExt cx="1375920" cy="666720"/>
          </a:xfrm>
        </p:grpSpPr>
        <p:sp>
          <p:nvSpPr>
            <p:cNvPr id="86" name=""/>
            <p:cNvSpPr/>
            <p:nvPr/>
          </p:nvSpPr>
          <p:spPr>
            <a:xfrm>
              <a:off x="1676520" y="3371760"/>
              <a:ext cx="1295280" cy="666720"/>
            </a:xfrm>
            <a:custGeom>
              <a:avLst/>
              <a:gdLst/>
              <a:ahLst/>
              <a:rect l="l" t="t" r="r" b="b"/>
              <a:pathLst>
                <a:path w="709" h="385">
                  <a:moveTo>
                    <a:pt x="24" y="192"/>
                  </a:moveTo>
                  <a:lnTo>
                    <a:pt x="36" y="144"/>
                  </a:lnTo>
                  <a:lnTo>
                    <a:pt x="72" y="120"/>
                  </a:lnTo>
                  <a:lnTo>
                    <a:pt x="108" y="120"/>
                  </a:lnTo>
                  <a:lnTo>
                    <a:pt x="144" y="108"/>
                  </a:lnTo>
                  <a:lnTo>
                    <a:pt x="180" y="84"/>
                  </a:lnTo>
                  <a:lnTo>
                    <a:pt x="216" y="72"/>
                  </a:lnTo>
                  <a:lnTo>
                    <a:pt x="252" y="72"/>
                  </a:lnTo>
                  <a:lnTo>
                    <a:pt x="288" y="48"/>
                  </a:lnTo>
                  <a:lnTo>
                    <a:pt x="324" y="24"/>
                  </a:lnTo>
                  <a:lnTo>
                    <a:pt x="360" y="24"/>
                  </a:lnTo>
                  <a:lnTo>
                    <a:pt x="396" y="24"/>
                  </a:lnTo>
                  <a:lnTo>
                    <a:pt x="432" y="24"/>
                  </a:lnTo>
                  <a:lnTo>
                    <a:pt x="468" y="12"/>
                  </a:lnTo>
                  <a:lnTo>
                    <a:pt x="504" y="0"/>
                  </a:lnTo>
                  <a:lnTo>
                    <a:pt x="540" y="12"/>
                  </a:lnTo>
                  <a:lnTo>
                    <a:pt x="576" y="24"/>
                  </a:lnTo>
                  <a:lnTo>
                    <a:pt x="612" y="12"/>
                  </a:lnTo>
                  <a:lnTo>
                    <a:pt x="660" y="12"/>
                  </a:lnTo>
                  <a:lnTo>
                    <a:pt x="684" y="84"/>
                  </a:lnTo>
                  <a:lnTo>
                    <a:pt x="696" y="120"/>
                  </a:lnTo>
                  <a:lnTo>
                    <a:pt x="696" y="156"/>
                  </a:lnTo>
                  <a:lnTo>
                    <a:pt x="696" y="192"/>
                  </a:lnTo>
                  <a:lnTo>
                    <a:pt x="660" y="216"/>
                  </a:lnTo>
                  <a:lnTo>
                    <a:pt x="624" y="216"/>
                  </a:lnTo>
                  <a:lnTo>
                    <a:pt x="588" y="204"/>
                  </a:lnTo>
                  <a:lnTo>
                    <a:pt x="552" y="204"/>
                  </a:lnTo>
                  <a:lnTo>
                    <a:pt x="552" y="240"/>
                  </a:lnTo>
                  <a:lnTo>
                    <a:pt x="552" y="276"/>
                  </a:lnTo>
                  <a:lnTo>
                    <a:pt x="564" y="312"/>
                  </a:lnTo>
                  <a:lnTo>
                    <a:pt x="600" y="312"/>
                  </a:lnTo>
                  <a:lnTo>
                    <a:pt x="636" y="300"/>
                  </a:lnTo>
                  <a:lnTo>
                    <a:pt x="672" y="276"/>
                  </a:lnTo>
                  <a:lnTo>
                    <a:pt x="708" y="288"/>
                  </a:lnTo>
                  <a:lnTo>
                    <a:pt x="708" y="324"/>
                  </a:lnTo>
                  <a:lnTo>
                    <a:pt x="672" y="348"/>
                  </a:lnTo>
                  <a:lnTo>
                    <a:pt x="636" y="360"/>
                  </a:lnTo>
                  <a:lnTo>
                    <a:pt x="600" y="372"/>
                  </a:lnTo>
                  <a:lnTo>
                    <a:pt x="564" y="384"/>
                  </a:lnTo>
                  <a:lnTo>
                    <a:pt x="528" y="384"/>
                  </a:lnTo>
                  <a:lnTo>
                    <a:pt x="492" y="384"/>
                  </a:lnTo>
                  <a:lnTo>
                    <a:pt x="456" y="384"/>
                  </a:lnTo>
                  <a:lnTo>
                    <a:pt x="432" y="348"/>
                  </a:lnTo>
                  <a:lnTo>
                    <a:pt x="396" y="348"/>
                  </a:lnTo>
                  <a:lnTo>
                    <a:pt x="360" y="348"/>
                  </a:lnTo>
                  <a:lnTo>
                    <a:pt x="324" y="348"/>
                  </a:lnTo>
                  <a:lnTo>
                    <a:pt x="288" y="360"/>
                  </a:lnTo>
                  <a:lnTo>
                    <a:pt x="252" y="372"/>
                  </a:lnTo>
                  <a:lnTo>
                    <a:pt x="216" y="372"/>
                  </a:lnTo>
                  <a:lnTo>
                    <a:pt x="204" y="336"/>
                  </a:lnTo>
                  <a:lnTo>
                    <a:pt x="168" y="336"/>
                  </a:lnTo>
                  <a:lnTo>
                    <a:pt x="132" y="348"/>
                  </a:lnTo>
                  <a:lnTo>
                    <a:pt x="96" y="348"/>
                  </a:lnTo>
                  <a:lnTo>
                    <a:pt x="60" y="348"/>
                  </a:lnTo>
                  <a:lnTo>
                    <a:pt x="24" y="348"/>
                  </a:lnTo>
                  <a:lnTo>
                    <a:pt x="0" y="312"/>
                  </a:lnTo>
                  <a:lnTo>
                    <a:pt x="0" y="276"/>
                  </a:lnTo>
                  <a:lnTo>
                    <a:pt x="0" y="240"/>
                  </a:lnTo>
                  <a:lnTo>
                    <a:pt x="24" y="192"/>
                  </a:lnTo>
                  <a:lnTo>
                    <a:pt x="72" y="168"/>
                  </a:lnTo>
                  <a:lnTo>
                    <a:pt x="84" y="204"/>
                  </a:lnTo>
                  <a:lnTo>
                    <a:pt x="84" y="240"/>
                  </a:lnTo>
                  <a:lnTo>
                    <a:pt x="72" y="24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51120" y="3490920"/>
              <a:ext cx="85680" cy="1047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35000" y="3659040"/>
              <a:ext cx="40644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8"/>
                  </a:moveTo>
                  <a:arcTo wR="10800" hR="10800" stAng="-10764191" swAng="53283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8"/>
                  </a:moveTo>
                  <a:arcTo wR="10800" hR="10800" stAng="-10764191" swAng="532838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036880" y="3487680"/>
              <a:ext cx="101556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8"/>
                  </a:moveTo>
                  <a:arcTo wR="10800" hR="10800" stAng="-10764191" swAng="53498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8"/>
                  </a:moveTo>
                  <a:arcTo wR="10800" hR="10800" stAng="-10764191" swAng="53498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352680" y="3600360"/>
            <a:ext cx="507960" cy="114480"/>
            <a:chOff x="3352680" y="3600360"/>
            <a:chExt cx="507960" cy="114480"/>
          </a:xfrm>
        </p:grpSpPr>
        <p:sp>
          <p:nvSpPr>
            <p:cNvPr id="91" name=""/>
            <p:cNvSpPr/>
            <p:nvPr/>
          </p:nvSpPr>
          <p:spPr>
            <a:xfrm>
              <a:off x="3352680" y="360036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352680" y="365760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52680" y="3714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4549320" y="3565440"/>
            <a:ext cx="1018800" cy="397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mín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365760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267080" y="3371760"/>
            <a:ext cx="203400" cy="285840"/>
            <a:chOff x="4267080" y="3371760"/>
            <a:chExt cx="203400" cy="285840"/>
          </a:xfrm>
        </p:grpSpPr>
        <p:sp>
          <p:nvSpPr>
            <p:cNvPr id="97" name=""/>
            <p:cNvSpPr/>
            <p:nvPr/>
          </p:nvSpPr>
          <p:spPr>
            <a:xfrm flipV="1">
              <a:off x="4267080" y="33717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470480" y="33717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609480" y="43434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135160" y="4057560"/>
          <a:ext cx="741240" cy="154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4057560"/>
                    <a:ext cx="74124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502280" y="5737320"/>
            <a:ext cx="56772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860640" y="4286160"/>
            <a:ext cx="71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39400" y="5394240"/>
            <a:ext cx="32688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53440" y="5680080"/>
            <a:ext cx="45468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4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470480" y="5829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87240" y="5794200"/>
            <a:ext cx="106740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h&gt;1,5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73480" y="4457880"/>
            <a:ext cx="4872240" cy="1252440"/>
            <a:chOff x="4173480" y="4457880"/>
            <a:chExt cx="4872240" cy="1252440"/>
          </a:xfrm>
        </p:grpSpPr>
        <p:sp>
          <p:nvSpPr>
            <p:cNvPr id="109" name=""/>
            <p:cNvSpPr/>
            <p:nvPr/>
          </p:nvSpPr>
          <p:spPr>
            <a:xfrm>
              <a:off x="5207040" y="4614840"/>
              <a:ext cx="1476360" cy="716040"/>
            </a:xfrm>
            <a:custGeom>
              <a:avLst/>
              <a:gdLst/>
              <a:ahLst/>
              <a:rect l="l" t="t" r="r" b="b"/>
              <a:pathLst>
                <a:path w="697" h="601">
                  <a:moveTo>
                    <a:pt x="372" y="492"/>
                  </a:moveTo>
                  <a:lnTo>
                    <a:pt x="348" y="540"/>
                  </a:lnTo>
                  <a:lnTo>
                    <a:pt x="312" y="564"/>
                  </a:lnTo>
                  <a:lnTo>
                    <a:pt x="276" y="576"/>
                  </a:lnTo>
                  <a:lnTo>
                    <a:pt x="240" y="576"/>
                  </a:lnTo>
                  <a:lnTo>
                    <a:pt x="204" y="600"/>
                  </a:lnTo>
                  <a:lnTo>
                    <a:pt x="192" y="564"/>
                  </a:lnTo>
                  <a:lnTo>
                    <a:pt x="156" y="540"/>
                  </a:lnTo>
                  <a:lnTo>
                    <a:pt x="120" y="540"/>
                  </a:lnTo>
                  <a:lnTo>
                    <a:pt x="120" y="504"/>
                  </a:lnTo>
                  <a:lnTo>
                    <a:pt x="84" y="504"/>
                  </a:lnTo>
                  <a:lnTo>
                    <a:pt x="60" y="468"/>
                  </a:lnTo>
                  <a:lnTo>
                    <a:pt x="60" y="432"/>
                  </a:lnTo>
                  <a:lnTo>
                    <a:pt x="24" y="408"/>
                  </a:lnTo>
                  <a:lnTo>
                    <a:pt x="12" y="372"/>
                  </a:lnTo>
                  <a:lnTo>
                    <a:pt x="0" y="336"/>
                  </a:lnTo>
                  <a:lnTo>
                    <a:pt x="0" y="300"/>
                  </a:lnTo>
                  <a:lnTo>
                    <a:pt x="12" y="264"/>
                  </a:lnTo>
                  <a:lnTo>
                    <a:pt x="48" y="264"/>
                  </a:lnTo>
                  <a:lnTo>
                    <a:pt x="48" y="228"/>
                  </a:lnTo>
                  <a:lnTo>
                    <a:pt x="24" y="192"/>
                  </a:lnTo>
                  <a:lnTo>
                    <a:pt x="24" y="156"/>
                  </a:lnTo>
                  <a:lnTo>
                    <a:pt x="36" y="120"/>
                  </a:lnTo>
                  <a:lnTo>
                    <a:pt x="84" y="108"/>
                  </a:lnTo>
                  <a:lnTo>
                    <a:pt x="120" y="108"/>
                  </a:lnTo>
                  <a:lnTo>
                    <a:pt x="156" y="84"/>
                  </a:lnTo>
                  <a:lnTo>
                    <a:pt x="204" y="60"/>
                  </a:lnTo>
                  <a:lnTo>
                    <a:pt x="240" y="48"/>
                  </a:lnTo>
                  <a:lnTo>
                    <a:pt x="276" y="48"/>
                  </a:lnTo>
                  <a:lnTo>
                    <a:pt x="300" y="84"/>
                  </a:lnTo>
                  <a:lnTo>
                    <a:pt x="324" y="48"/>
                  </a:lnTo>
                  <a:lnTo>
                    <a:pt x="348" y="12"/>
                  </a:lnTo>
                  <a:lnTo>
                    <a:pt x="384" y="0"/>
                  </a:lnTo>
                  <a:lnTo>
                    <a:pt x="420" y="0"/>
                  </a:lnTo>
                  <a:lnTo>
                    <a:pt x="456" y="12"/>
                  </a:lnTo>
                  <a:lnTo>
                    <a:pt x="480" y="48"/>
                  </a:lnTo>
                  <a:lnTo>
                    <a:pt x="516" y="72"/>
                  </a:lnTo>
                  <a:lnTo>
                    <a:pt x="552" y="72"/>
                  </a:lnTo>
                  <a:lnTo>
                    <a:pt x="576" y="108"/>
                  </a:lnTo>
                  <a:lnTo>
                    <a:pt x="576" y="144"/>
                  </a:lnTo>
                  <a:lnTo>
                    <a:pt x="612" y="144"/>
                  </a:lnTo>
                  <a:lnTo>
                    <a:pt x="648" y="156"/>
                  </a:lnTo>
                  <a:lnTo>
                    <a:pt x="648" y="192"/>
                  </a:lnTo>
                  <a:lnTo>
                    <a:pt x="660" y="228"/>
                  </a:lnTo>
                  <a:lnTo>
                    <a:pt x="684" y="264"/>
                  </a:lnTo>
                  <a:lnTo>
                    <a:pt x="696" y="300"/>
                  </a:lnTo>
                  <a:lnTo>
                    <a:pt x="696" y="336"/>
                  </a:lnTo>
                  <a:lnTo>
                    <a:pt x="684" y="372"/>
                  </a:lnTo>
                  <a:lnTo>
                    <a:pt x="672" y="408"/>
                  </a:lnTo>
                  <a:lnTo>
                    <a:pt x="636" y="432"/>
                  </a:lnTo>
                  <a:lnTo>
                    <a:pt x="600" y="432"/>
                  </a:lnTo>
                  <a:lnTo>
                    <a:pt x="576" y="468"/>
                  </a:lnTo>
                  <a:lnTo>
                    <a:pt x="540" y="480"/>
                  </a:lnTo>
                  <a:lnTo>
                    <a:pt x="504" y="492"/>
                  </a:lnTo>
                  <a:lnTo>
                    <a:pt x="468" y="492"/>
                  </a:lnTo>
                </a:path>
              </a:pathLst>
            </a:custGeom>
            <a:solidFill>
              <a:srgbClr val="0066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67080" y="4457880"/>
              <a:ext cx="4778640" cy="1144440"/>
            </a:xfrm>
            <a:custGeom>
              <a:avLst/>
              <a:gdLst/>
              <a:ahLst/>
              <a:rect l="l" t="t" r="r" b="b"/>
              <a:pathLst>
                <a:path w="2257" h="961">
                  <a:moveTo>
                    <a:pt x="0" y="960"/>
                  </a:moveTo>
                  <a:lnTo>
                    <a:pt x="48" y="948"/>
                  </a:lnTo>
                  <a:lnTo>
                    <a:pt x="84" y="948"/>
                  </a:lnTo>
                  <a:lnTo>
                    <a:pt x="144" y="948"/>
                  </a:lnTo>
                  <a:lnTo>
                    <a:pt x="180" y="948"/>
                  </a:lnTo>
                  <a:lnTo>
                    <a:pt x="216" y="948"/>
                  </a:lnTo>
                  <a:lnTo>
                    <a:pt x="252" y="948"/>
                  </a:lnTo>
                  <a:lnTo>
                    <a:pt x="288" y="948"/>
                  </a:lnTo>
                  <a:lnTo>
                    <a:pt x="324" y="948"/>
                  </a:lnTo>
                  <a:lnTo>
                    <a:pt x="360" y="948"/>
                  </a:lnTo>
                  <a:lnTo>
                    <a:pt x="396" y="948"/>
                  </a:lnTo>
                  <a:lnTo>
                    <a:pt x="432" y="948"/>
                  </a:lnTo>
                  <a:lnTo>
                    <a:pt x="468" y="948"/>
                  </a:lnTo>
                  <a:lnTo>
                    <a:pt x="504" y="948"/>
                  </a:lnTo>
                  <a:lnTo>
                    <a:pt x="540" y="948"/>
                  </a:lnTo>
                  <a:lnTo>
                    <a:pt x="576" y="936"/>
                  </a:lnTo>
                  <a:lnTo>
                    <a:pt x="612" y="936"/>
                  </a:lnTo>
                  <a:lnTo>
                    <a:pt x="648" y="924"/>
                  </a:lnTo>
                  <a:lnTo>
                    <a:pt x="684" y="924"/>
                  </a:lnTo>
                  <a:lnTo>
                    <a:pt x="720" y="912"/>
                  </a:lnTo>
                  <a:lnTo>
                    <a:pt x="756" y="900"/>
                  </a:lnTo>
                  <a:lnTo>
                    <a:pt x="792" y="876"/>
                  </a:lnTo>
                  <a:lnTo>
                    <a:pt x="828" y="876"/>
                  </a:lnTo>
                  <a:lnTo>
                    <a:pt x="864" y="852"/>
                  </a:lnTo>
                  <a:lnTo>
                    <a:pt x="900" y="828"/>
                  </a:lnTo>
                  <a:lnTo>
                    <a:pt x="936" y="816"/>
                  </a:lnTo>
                  <a:lnTo>
                    <a:pt x="972" y="804"/>
                  </a:lnTo>
                  <a:lnTo>
                    <a:pt x="1008" y="792"/>
                  </a:lnTo>
                  <a:lnTo>
                    <a:pt x="1044" y="792"/>
                  </a:lnTo>
                  <a:lnTo>
                    <a:pt x="1080" y="792"/>
                  </a:lnTo>
                  <a:lnTo>
                    <a:pt x="1116" y="780"/>
                  </a:lnTo>
                  <a:lnTo>
                    <a:pt x="1152" y="768"/>
                  </a:lnTo>
                  <a:lnTo>
                    <a:pt x="1188" y="756"/>
                  </a:lnTo>
                  <a:lnTo>
                    <a:pt x="1224" y="744"/>
                  </a:lnTo>
                  <a:lnTo>
                    <a:pt x="1248" y="708"/>
                  </a:lnTo>
                  <a:lnTo>
                    <a:pt x="1284" y="684"/>
                  </a:lnTo>
                  <a:lnTo>
                    <a:pt x="1320" y="648"/>
                  </a:lnTo>
                  <a:lnTo>
                    <a:pt x="1356" y="612"/>
                  </a:lnTo>
                  <a:lnTo>
                    <a:pt x="1368" y="576"/>
                  </a:lnTo>
                  <a:lnTo>
                    <a:pt x="1404" y="540"/>
                  </a:lnTo>
                  <a:lnTo>
                    <a:pt x="1440" y="516"/>
                  </a:lnTo>
                  <a:lnTo>
                    <a:pt x="1464" y="480"/>
                  </a:lnTo>
                  <a:lnTo>
                    <a:pt x="1488" y="444"/>
                  </a:lnTo>
                  <a:lnTo>
                    <a:pt x="1524" y="420"/>
                  </a:lnTo>
                  <a:lnTo>
                    <a:pt x="1560" y="408"/>
                  </a:lnTo>
                  <a:lnTo>
                    <a:pt x="1608" y="396"/>
                  </a:lnTo>
                  <a:lnTo>
                    <a:pt x="1656" y="384"/>
                  </a:lnTo>
                  <a:lnTo>
                    <a:pt x="1692" y="372"/>
                  </a:lnTo>
                  <a:lnTo>
                    <a:pt x="1728" y="324"/>
                  </a:lnTo>
                  <a:lnTo>
                    <a:pt x="1764" y="276"/>
                  </a:lnTo>
                  <a:lnTo>
                    <a:pt x="1800" y="264"/>
                  </a:lnTo>
                  <a:lnTo>
                    <a:pt x="1836" y="240"/>
                  </a:lnTo>
                  <a:lnTo>
                    <a:pt x="1872" y="216"/>
                  </a:lnTo>
                  <a:lnTo>
                    <a:pt x="1896" y="180"/>
                  </a:lnTo>
                  <a:lnTo>
                    <a:pt x="1944" y="156"/>
                  </a:lnTo>
                  <a:lnTo>
                    <a:pt x="1980" y="144"/>
                  </a:lnTo>
                  <a:lnTo>
                    <a:pt x="2016" y="132"/>
                  </a:lnTo>
                  <a:lnTo>
                    <a:pt x="2052" y="96"/>
                  </a:lnTo>
                  <a:lnTo>
                    <a:pt x="2064" y="60"/>
                  </a:lnTo>
                  <a:lnTo>
                    <a:pt x="2100" y="36"/>
                  </a:lnTo>
                  <a:lnTo>
                    <a:pt x="2136" y="36"/>
                  </a:lnTo>
                  <a:lnTo>
                    <a:pt x="2172" y="24"/>
                  </a:lnTo>
                  <a:lnTo>
                    <a:pt x="2208" y="24"/>
                  </a:lnTo>
                  <a:lnTo>
                    <a:pt x="2244" y="12"/>
                  </a:lnTo>
                  <a:lnTo>
                    <a:pt x="2256" y="0"/>
                  </a:lnTo>
                </a:path>
              </a:pathLst>
            </a:custGeom>
            <a:noFill/>
            <a:ln cap="rnd" w="507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37160" y="4900680"/>
              <a:ext cx="942840" cy="587160"/>
            </a:xfrm>
            <a:custGeom>
              <a:avLst/>
              <a:gdLst/>
              <a:ahLst/>
              <a:rect l="l" t="t" r="r" b="b"/>
              <a:pathLst>
                <a:path w="445" h="493">
                  <a:moveTo>
                    <a:pt x="168" y="492"/>
                  </a:moveTo>
                  <a:lnTo>
                    <a:pt x="180" y="444"/>
                  </a:lnTo>
                  <a:lnTo>
                    <a:pt x="180" y="408"/>
                  </a:lnTo>
                  <a:lnTo>
                    <a:pt x="192" y="372"/>
                  </a:lnTo>
                  <a:lnTo>
                    <a:pt x="192" y="336"/>
                  </a:lnTo>
                  <a:lnTo>
                    <a:pt x="204" y="300"/>
                  </a:lnTo>
                  <a:lnTo>
                    <a:pt x="204" y="264"/>
                  </a:lnTo>
                  <a:lnTo>
                    <a:pt x="168" y="252"/>
                  </a:lnTo>
                  <a:lnTo>
                    <a:pt x="132" y="228"/>
                  </a:lnTo>
                  <a:lnTo>
                    <a:pt x="120" y="192"/>
                  </a:lnTo>
                  <a:lnTo>
                    <a:pt x="120" y="156"/>
                  </a:lnTo>
                  <a:lnTo>
                    <a:pt x="84" y="132"/>
                  </a:lnTo>
                  <a:lnTo>
                    <a:pt x="60" y="96"/>
                  </a:lnTo>
                  <a:lnTo>
                    <a:pt x="24" y="84"/>
                  </a:lnTo>
                  <a:lnTo>
                    <a:pt x="0" y="48"/>
                  </a:lnTo>
                  <a:lnTo>
                    <a:pt x="0" y="12"/>
                  </a:lnTo>
                  <a:lnTo>
                    <a:pt x="36" y="0"/>
                  </a:lnTo>
                  <a:lnTo>
                    <a:pt x="60" y="36"/>
                  </a:lnTo>
                  <a:lnTo>
                    <a:pt x="96" y="60"/>
                  </a:lnTo>
                  <a:lnTo>
                    <a:pt x="132" y="72"/>
                  </a:lnTo>
                  <a:lnTo>
                    <a:pt x="156" y="108"/>
                  </a:lnTo>
                  <a:lnTo>
                    <a:pt x="192" y="132"/>
                  </a:lnTo>
                  <a:lnTo>
                    <a:pt x="228" y="168"/>
                  </a:lnTo>
                  <a:lnTo>
                    <a:pt x="252" y="132"/>
                  </a:lnTo>
                  <a:lnTo>
                    <a:pt x="252" y="96"/>
                  </a:lnTo>
                  <a:lnTo>
                    <a:pt x="252" y="60"/>
                  </a:lnTo>
                  <a:lnTo>
                    <a:pt x="252" y="24"/>
                  </a:lnTo>
                  <a:lnTo>
                    <a:pt x="288" y="24"/>
                  </a:lnTo>
                  <a:lnTo>
                    <a:pt x="300" y="60"/>
                  </a:lnTo>
                  <a:lnTo>
                    <a:pt x="336" y="84"/>
                  </a:lnTo>
                  <a:lnTo>
                    <a:pt x="372" y="84"/>
                  </a:lnTo>
                  <a:lnTo>
                    <a:pt x="384" y="48"/>
                  </a:lnTo>
                  <a:lnTo>
                    <a:pt x="396" y="12"/>
                  </a:lnTo>
                  <a:lnTo>
                    <a:pt x="432" y="0"/>
                  </a:lnTo>
                  <a:lnTo>
                    <a:pt x="444" y="36"/>
                  </a:lnTo>
                  <a:lnTo>
                    <a:pt x="444" y="72"/>
                  </a:lnTo>
                  <a:lnTo>
                    <a:pt x="420" y="108"/>
                  </a:lnTo>
                  <a:lnTo>
                    <a:pt x="384" y="132"/>
                  </a:lnTo>
                  <a:lnTo>
                    <a:pt x="372" y="168"/>
                  </a:lnTo>
                  <a:lnTo>
                    <a:pt x="336" y="192"/>
                  </a:lnTo>
                  <a:lnTo>
                    <a:pt x="324" y="228"/>
                  </a:lnTo>
                  <a:lnTo>
                    <a:pt x="312" y="264"/>
                  </a:lnTo>
                  <a:lnTo>
                    <a:pt x="300" y="300"/>
                  </a:lnTo>
                  <a:lnTo>
                    <a:pt x="288" y="336"/>
                  </a:lnTo>
                  <a:lnTo>
                    <a:pt x="276" y="372"/>
                  </a:lnTo>
                  <a:lnTo>
                    <a:pt x="276" y="408"/>
                  </a:lnTo>
                  <a:lnTo>
                    <a:pt x="264" y="444"/>
                  </a:lnTo>
                  <a:lnTo>
                    <a:pt x="264" y="480"/>
                  </a:lnTo>
                  <a:lnTo>
                    <a:pt x="228" y="492"/>
                  </a:lnTo>
                  <a:lnTo>
                    <a:pt x="168" y="492"/>
                  </a:lnTo>
                </a:path>
              </a:pathLst>
            </a:custGeom>
            <a:solidFill>
              <a:srgbClr val="9966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75000" y="5433840"/>
              <a:ext cx="187560" cy="162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73480" y="5605560"/>
              <a:ext cx="492120" cy="1047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800600" y="5029200"/>
            <a:ext cx="4343400" cy="1828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37840" y="304920"/>
            <a:ext cx="4519440" cy="2226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Representatividad de las Med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amaño del á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ipo de Precip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Forma de la Precipi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Efectos Topográ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Efecto vege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Efecto de la Distancia al Centro Cuen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12600" y="3657600"/>
            <a:ext cx="5305680" cy="192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Errores en Medida de 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-lectura (reglilla, gráfic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-instrumentales (oscilación balde, mecan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relojería, escapes de agua, evaporación, reb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gotas, inerc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-exposición e insta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3048120"/>
            <a:ext cx="843264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876920" y="4952880"/>
            <a:ext cx="4267080" cy="1657080"/>
            <a:chOff x="4876920" y="4952880"/>
            <a:chExt cx="4267080" cy="1657080"/>
          </a:xfrm>
        </p:grpSpPr>
        <p:sp>
          <p:nvSpPr>
            <p:cNvPr id="119" name=""/>
            <p:cNvSpPr/>
            <p:nvPr/>
          </p:nvSpPr>
          <p:spPr>
            <a:xfrm flipV="1">
              <a:off x="5384880" y="6095520"/>
              <a:ext cx="3759120" cy="51444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47120" y="5457960"/>
              <a:ext cx="583920" cy="809640"/>
            </a:xfrm>
            <a:custGeom>
              <a:avLst/>
              <a:gdLst/>
              <a:ahLst/>
              <a:rect l="l" t="t" r="r" b="b"/>
              <a:pathLst>
                <a:path w="368" h="510">
                  <a:moveTo>
                    <a:pt x="93" y="510"/>
                  </a:moveTo>
                  <a:lnTo>
                    <a:pt x="0" y="32"/>
                  </a:lnTo>
                  <a:lnTo>
                    <a:pt x="259" y="0"/>
                  </a:lnTo>
                  <a:lnTo>
                    <a:pt x="368" y="475"/>
                  </a:lnTo>
                </a:path>
              </a:pathLst>
            </a:custGeom>
            <a:solidFill>
              <a:srgbClr val="ffffcc"/>
            </a:solidFill>
            <a:ln cap="rnd" w="1260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892840" y="5638680"/>
              <a:ext cx="409680" cy="916200"/>
            </a:xfrm>
            <a:custGeom>
              <a:avLst/>
              <a:gdLst/>
              <a:ahLst/>
              <a:rect l="l" t="t" r="r" b="b"/>
              <a:pathLst>
                <a:path w="193" h="769">
                  <a:moveTo>
                    <a:pt x="0" y="768"/>
                  </a:moveTo>
                  <a:lnTo>
                    <a:pt x="0" y="0"/>
                  </a:lnTo>
                  <a:lnTo>
                    <a:pt x="192" y="0"/>
                  </a:lnTo>
                  <a:lnTo>
                    <a:pt x="192" y="720"/>
                  </a:lnTo>
                  <a:lnTo>
                    <a:pt x="192" y="672"/>
                  </a:lnTo>
                </a:path>
              </a:pathLst>
            </a:custGeom>
            <a:solidFill>
              <a:srgbClr val="ffff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76920" y="5124600"/>
              <a:ext cx="406440" cy="2854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83360" y="5124600"/>
              <a:ext cx="406080" cy="2854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92840" y="5010120"/>
              <a:ext cx="406440" cy="2858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05720" y="5010120"/>
              <a:ext cx="406440" cy="2858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13680" y="4952880"/>
              <a:ext cx="406440" cy="2858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892880" y="304920"/>
            <a:ext cx="3893040" cy="3141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En áreas agrícolas (Holtan, 1962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Area (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)      Mín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0-0,12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0,12-0,4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0,4-0,8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0,8-2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 c/0,4 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2-10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 c/1 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0-20 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 c/2,59 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&gt;20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 c/7,8 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3809880"/>
            <a:ext cx="7209000" cy="2836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Densidad Mínima (Gray, 1979; WMO, 198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-Regiones </a:t>
            </a:r>
            <a:r>
              <a:rPr b="1" lang="es-ES_tradnl" sz="2000" spc="-1" strike="noStrike" u="sng">
                <a:solidFill>
                  <a:srgbClr val="ff3300"/>
                </a:solidFill>
                <a:uFillTx/>
                <a:latin typeface="Times New Roman"/>
              </a:rPr>
              <a:t>Planas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de Zonas Templadas, mediterráneas y   tropicales: 600 a 900 K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por est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-Regiones </a:t>
            </a:r>
            <a:r>
              <a:rPr b="1" lang="es-ES_tradnl" sz="2000" spc="-1" strike="noStrike" u="sng">
                <a:solidFill>
                  <a:srgbClr val="ff3300"/>
                </a:solidFill>
                <a:uFillTx/>
                <a:latin typeface="Times New Roman"/>
              </a:rPr>
              <a:t>Montañosas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de Zonas Templadas, mediterráneas y tropicales: 100 a 250 K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por 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- Islas montañosas pequeñas con precipitación irregular: 25 K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por 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- Zonas Áridas y Polares: 1.500 a 10.000 K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por es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848720" y="6019920"/>
          <a:ext cx="97452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6019920"/>
                    <a:ext cx="97452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62120" y="1219320"/>
            <a:ext cx="7238880" cy="825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esentación y Análisis de Datos de Precipitación en una Cuenca o Región Ge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23623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étodo de los Promedios Aritmé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143000" y="3429000"/>
            <a:ext cx="4276800" cy="2744640"/>
            <a:chOff x="1143000" y="3429000"/>
            <a:chExt cx="4276800" cy="2744640"/>
          </a:xfrm>
        </p:grpSpPr>
        <p:sp>
          <p:nvSpPr>
            <p:cNvPr id="134" name=""/>
            <p:cNvSpPr/>
            <p:nvPr/>
          </p:nvSpPr>
          <p:spPr>
            <a:xfrm>
              <a:off x="1143000" y="3551400"/>
              <a:ext cx="4276800" cy="2622240"/>
            </a:xfrm>
            <a:custGeom>
              <a:avLst/>
              <a:gdLst/>
              <a:ahLst/>
              <a:rect l="l" t="t" r="r" b="b"/>
              <a:pathLst>
                <a:path w="2694" h="1652">
                  <a:moveTo>
                    <a:pt x="0" y="1512"/>
                  </a:moveTo>
                  <a:cubicBezTo>
                    <a:pt x="24" y="1508"/>
                    <a:pt x="53" y="1513"/>
                    <a:pt x="70" y="1496"/>
                  </a:cubicBezTo>
                  <a:cubicBezTo>
                    <a:pt x="83" y="1483"/>
                    <a:pt x="88" y="1462"/>
                    <a:pt x="101" y="1449"/>
                  </a:cubicBezTo>
                  <a:cubicBezTo>
                    <a:pt x="136" y="1414"/>
                    <a:pt x="151" y="1373"/>
                    <a:pt x="179" y="1332"/>
                  </a:cubicBezTo>
                  <a:cubicBezTo>
                    <a:pt x="209" y="1287"/>
                    <a:pt x="247" y="1243"/>
                    <a:pt x="265" y="1192"/>
                  </a:cubicBezTo>
                  <a:cubicBezTo>
                    <a:pt x="267" y="1132"/>
                    <a:pt x="266" y="1072"/>
                    <a:pt x="272" y="1013"/>
                  </a:cubicBezTo>
                  <a:cubicBezTo>
                    <a:pt x="276" y="973"/>
                    <a:pt x="300" y="926"/>
                    <a:pt x="311" y="888"/>
                  </a:cubicBezTo>
                  <a:cubicBezTo>
                    <a:pt x="329" y="825"/>
                    <a:pt x="356" y="752"/>
                    <a:pt x="428" y="732"/>
                  </a:cubicBezTo>
                  <a:cubicBezTo>
                    <a:pt x="481" y="717"/>
                    <a:pt x="538" y="715"/>
                    <a:pt x="592" y="701"/>
                  </a:cubicBezTo>
                  <a:cubicBezTo>
                    <a:pt x="609" y="653"/>
                    <a:pt x="647" y="620"/>
                    <a:pt x="670" y="576"/>
                  </a:cubicBezTo>
                  <a:cubicBezTo>
                    <a:pt x="683" y="550"/>
                    <a:pt x="683" y="522"/>
                    <a:pt x="701" y="498"/>
                  </a:cubicBezTo>
                  <a:cubicBezTo>
                    <a:pt x="721" y="471"/>
                    <a:pt x="757" y="443"/>
                    <a:pt x="787" y="428"/>
                  </a:cubicBezTo>
                  <a:cubicBezTo>
                    <a:pt x="811" y="416"/>
                    <a:pt x="839" y="417"/>
                    <a:pt x="865" y="413"/>
                  </a:cubicBezTo>
                  <a:cubicBezTo>
                    <a:pt x="905" y="407"/>
                    <a:pt x="944" y="394"/>
                    <a:pt x="982" y="381"/>
                  </a:cubicBezTo>
                  <a:cubicBezTo>
                    <a:pt x="1008" y="355"/>
                    <a:pt x="1016" y="334"/>
                    <a:pt x="1036" y="304"/>
                  </a:cubicBezTo>
                  <a:cubicBezTo>
                    <a:pt x="1050" y="283"/>
                    <a:pt x="1071" y="264"/>
                    <a:pt x="1083" y="241"/>
                  </a:cubicBezTo>
                  <a:cubicBezTo>
                    <a:pt x="1104" y="201"/>
                    <a:pt x="1130" y="158"/>
                    <a:pt x="1176" y="148"/>
                  </a:cubicBezTo>
                  <a:cubicBezTo>
                    <a:pt x="1232" y="111"/>
                    <a:pt x="1205" y="122"/>
                    <a:pt x="1254" y="109"/>
                  </a:cubicBezTo>
                  <a:cubicBezTo>
                    <a:pt x="1302" y="77"/>
                    <a:pt x="1348" y="66"/>
                    <a:pt x="1402" y="54"/>
                  </a:cubicBezTo>
                  <a:cubicBezTo>
                    <a:pt x="1418" y="50"/>
                    <a:pt x="1454" y="34"/>
                    <a:pt x="1465" y="31"/>
                  </a:cubicBezTo>
                  <a:cubicBezTo>
                    <a:pt x="1527" y="12"/>
                    <a:pt x="1571" y="6"/>
                    <a:pt x="1636" y="0"/>
                  </a:cubicBezTo>
                  <a:cubicBezTo>
                    <a:pt x="1703" y="5"/>
                    <a:pt x="1759" y="17"/>
                    <a:pt x="1823" y="31"/>
                  </a:cubicBezTo>
                  <a:cubicBezTo>
                    <a:pt x="1844" y="36"/>
                    <a:pt x="1864" y="40"/>
                    <a:pt x="1885" y="46"/>
                  </a:cubicBezTo>
                  <a:cubicBezTo>
                    <a:pt x="1901" y="50"/>
                    <a:pt x="1932" y="62"/>
                    <a:pt x="1932" y="62"/>
                  </a:cubicBezTo>
                  <a:cubicBezTo>
                    <a:pt x="1963" y="92"/>
                    <a:pt x="1999" y="115"/>
                    <a:pt x="2034" y="140"/>
                  </a:cubicBezTo>
                  <a:cubicBezTo>
                    <a:pt x="2049" y="151"/>
                    <a:pt x="2070" y="150"/>
                    <a:pt x="2088" y="155"/>
                  </a:cubicBezTo>
                  <a:cubicBezTo>
                    <a:pt x="2139" y="169"/>
                    <a:pt x="2167" y="170"/>
                    <a:pt x="2213" y="202"/>
                  </a:cubicBezTo>
                  <a:cubicBezTo>
                    <a:pt x="2257" y="233"/>
                    <a:pt x="2286" y="275"/>
                    <a:pt x="2322" y="311"/>
                  </a:cubicBezTo>
                  <a:cubicBezTo>
                    <a:pt x="2363" y="352"/>
                    <a:pt x="2416" y="386"/>
                    <a:pt x="2462" y="420"/>
                  </a:cubicBezTo>
                  <a:cubicBezTo>
                    <a:pt x="2473" y="428"/>
                    <a:pt x="2477" y="443"/>
                    <a:pt x="2486" y="452"/>
                  </a:cubicBezTo>
                  <a:cubicBezTo>
                    <a:pt x="2492" y="458"/>
                    <a:pt x="2501" y="462"/>
                    <a:pt x="2509" y="467"/>
                  </a:cubicBezTo>
                  <a:cubicBezTo>
                    <a:pt x="2524" y="498"/>
                    <a:pt x="2549" y="522"/>
                    <a:pt x="2563" y="553"/>
                  </a:cubicBezTo>
                  <a:cubicBezTo>
                    <a:pt x="2570" y="568"/>
                    <a:pt x="2575" y="584"/>
                    <a:pt x="2579" y="600"/>
                  </a:cubicBezTo>
                  <a:cubicBezTo>
                    <a:pt x="2582" y="610"/>
                    <a:pt x="2583" y="621"/>
                    <a:pt x="2587" y="631"/>
                  </a:cubicBezTo>
                  <a:cubicBezTo>
                    <a:pt x="2606" y="676"/>
                    <a:pt x="2632" y="717"/>
                    <a:pt x="2649" y="763"/>
                  </a:cubicBezTo>
                  <a:cubicBezTo>
                    <a:pt x="2672" y="826"/>
                    <a:pt x="2681" y="901"/>
                    <a:pt x="2688" y="966"/>
                  </a:cubicBezTo>
                  <a:cubicBezTo>
                    <a:pt x="2682" y="1092"/>
                    <a:pt x="2694" y="1298"/>
                    <a:pt x="2634" y="1434"/>
                  </a:cubicBezTo>
                  <a:cubicBezTo>
                    <a:pt x="2614" y="1479"/>
                    <a:pt x="2579" y="1513"/>
                    <a:pt x="2548" y="1550"/>
                  </a:cubicBezTo>
                  <a:cubicBezTo>
                    <a:pt x="2542" y="1557"/>
                    <a:pt x="2539" y="1568"/>
                    <a:pt x="2532" y="1574"/>
                  </a:cubicBezTo>
                  <a:cubicBezTo>
                    <a:pt x="2485" y="1612"/>
                    <a:pt x="2404" y="1619"/>
                    <a:pt x="2345" y="1628"/>
                  </a:cubicBezTo>
                  <a:cubicBezTo>
                    <a:pt x="2218" y="1622"/>
                    <a:pt x="2089" y="1633"/>
                    <a:pt x="1963" y="1613"/>
                  </a:cubicBezTo>
                  <a:cubicBezTo>
                    <a:pt x="1953" y="1611"/>
                    <a:pt x="1961" y="1591"/>
                    <a:pt x="1956" y="1582"/>
                  </a:cubicBezTo>
                  <a:cubicBezTo>
                    <a:pt x="1946" y="1564"/>
                    <a:pt x="1933" y="1548"/>
                    <a:pt x="1917" y="1535"/>
                  </a:cubicBezTo>
                  <a:cubicBezTo>
                    <a:pt x="1891" y="1514"/>
                    <a:pt x="1845" y="1508"/>
                    <a:pt x="1815" y="1504"/>
                  </a:cubicBezTo>
                  <a:cubicBezTo>
                    <a:pt x="1702" y="1509"/>
                    <a:pt x="1654" y="1500"/>
                    <a:pt x="1566" y="1527"/>
                  </a:cubicBezTo>
                  <a:cubicBezTo>
                    <a:pt x="1550" y="1532"/>
                    <a:pt x="1535" y="1539"/>
                    <a:pt x="1519" y="1543"/>
                  </a:cubicBezTo>
                  <a:cubicBezTo>
                    <a:pt x="1491" y="1550"/>
                    <a:pt x="1434" y="1558"/>
                    <a:pt x="1434" y="1558"/>
                  </a:cubicBezTo>
                  <a:cubicBezTo>
                    <a:pt x="1373" y="1583"/>
                    <a:pt x="1311" y="1605"/>
                    <a:pt x="1247" y="1621"/>
                  </a:cubicBezTo>
                  <a:cubicBezTo>
                    <a:pt x="1221" y="1637"/>
                    <a:pt x="1161" y="1652"/>
                    <a:pt x="1161" y="1652"/>
                  </a:cubicBezTo>
                  <a:cubicBezTo>
                    <a:pt x="1051" y="1638"/>
                    <a:pt x="939" y="1602"/>
                    <a:pt x="834" y="1566"/>
                  </a:cubicBezTo>
                  <a:cubicBezTo>
                    <a:pt x="809" y="1557"/>
                    <a:pt x="782" y="1560"/>
                    <a:pt x="756" y="1558"/>
                  </a:cubicBezTo>
                  <a:cubicBezTo>
                    <a:pt x="691" y="1554"/>
                    <a:pt x="626" y="1553"/>
                    <a:pt x="561" y="1550"/>
                  </a:cubicBezTo>
                  <a:cubicBezTo>
                    <a:pt x="466" y="1522"/>
                    <a:pt x="380" y="1480"/>
                    <a:pt x="280" y="1465"/>
                  </a:cubicBezTo>
                  <a:cubicBezTo>
                    <a:pt x="90" y="1473"/>
                    <a:pt x="155" y="1473"/>
                    <a:pt x="85" y="1473"/>
                  </a:cubicBezTo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66840" y="4070520"/>
              <a:ext cx="2584440" cy="1819080"/>
            </a:xfrm>
            <a:custGeom>
              <a:avLst/>
              <a:gdLst/>
              <a:ahLst/>
              <a:rect l="l" t="t" r="r" b="b"/>
              <a:pathLst>
                <a:path w="1628" h="1146">
                  <a:moveTo>
                    <a:pt x="1597" y="0"/>
                  </a:moveTo>
                  <a:cubicBezTo>
                    <a:pt x="1576" y="62"/>
                    <a:pt x="1594" y="140"/>
                    <a:pt x="1628" y="195"/>
                  </a:cubicBezTo>
                  <a:cubicBezTo>
                    <a:pt x="1625" y="214"/>
                    <a:pt x="1622" y="279"/>
                    <a:pt x="1605" y="296"/>
                  </a:cubicBezTo>
                  <a:cubicBezTo>
                    <a:pt x="1593" y="308"/>
                    <a:pt x="1573" y="310"/>
                    <a:pt x="1558" y="319"/>
                  </a:cubicBezTo>
                  <a:cubicBezTo>
                    <a:pt x="1518" y="383"/>
                    <a:pt x="1571" y="306"/>
                    <a:pt x="1519" y="358"/>
                  </a:cubicBezTo>
                  <a:cubicBezTo>
                    <a:pt x="1506" y="371"/>
                    <a:pt x="1499" y="390"/>
                    <a:pt x="1488" y="405"/>
                  </a:cubicBezTo>
                  <a:cubicBezTo>
                    <a:pt x="1456" y="500"/>
                    <a:pt x="1354" y="486"/>
                    <a:pt x="1270" y="491"/>
                  </a:cubicBezTo>
                  <a:cubicBezTo>
                    <a:pt x="1242" y="505"/>
                    <a:pt x="1211" y="514"/>
                    <a:pt x="1184" y="530"/>
                  </a:cubicBezTo>
                  <a:cubicBezTo>
                    <a:pt x="1168" y="540"/>
                    <a:pt x="1150" y="548"/>
                    <a:pt x="1137" y="561"/>
                  </a:cubicBezTo>
                  <a:cubicBezTo>
                    <a:pt x="1129" y="569"/>
                    <a:pt x="1123" y="578"/>
                    <a:pt x="1114" y="584"/>
                  </a:cubicBezTo>
                  <a:cubicBezTo>
                    <a:pt x="1107" y="589"/>
                    <a:pt x="1098" y="588"/>
                    <a:pt x="1091" y="592"/>
                  </a:cubicBezTo>
                  <a:cubicBezTo>
                    <a:pt x="1075" y="601"/>
                    <a:pt x="1044" y="623"/>
                    <a:pt x="1044" y="623"/>
                  </a:cubicBezTo>
                  <a:cubicBezTo>
                    <a:pt x="1018" y="663"/>
                    <a:pt x="990" y="706"/>
                    <a:pt x="950" y="733"/>
                  </a:cubicBezTo>
                  <a:cubicBezTo>
                    <a:pt x="932" y="761"/>
                    <a:pt x="924" y="784"/>
                    <a:pt x="896" y="803"/>
                  </a:cubicBezTo>
                  <a:cubicBezTo>
                    <a:pt x="848" y="872"/>
                    <a:pt x="750" y="839"/>
                    <a:pt x="670" y="842"/>
                  </a:cubicBezTo>
                  <a:cubicBezTo>
                    <a:pt x="611" y="855"/>
                    <a:pt x="572" y="885"/>
                    <a:pt x="522" y="920"/>
                  </a:cubicBezTo>
                  <a:cubicBezTo>
                    <a:pt x="504" y="933"/>
                    <a:pt x="464" y="937"/>
                    <a:pt x="444" y="943"/>
                  </a:cubicBezTo>
                  <a:cubicBezTo>
                    <a:pt x="389" y="960"/>
                    <a:pt x="335" y="981"/>
                    <a:pt x="280" y="997"/>
                  </a:cubicBezTo>
                  <a:cubicBezTo>
                    <a:pt x="242" y="1023"/>
                    <a:pt x="184" y="1045"/>
                    <a:pt x="140" y="1060"/>
                  </a:cubicBezTo>
                  <a:cubicBezTo>
                    <a:pt x="96" y="1075"/>
                    <a:pt x="60" y="1107"/>
                    <a:pt x="15" y="1122"/>
                  </a:cubicBezTo>
                  <a:cubicBezTo>
                    <a:pt x="10" y="1130"/>
                    <a:pt x="0" y="1146"/>
                    <a:pt x="0" y="1146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33520" y="4873680"/>
              <a:ext cx="1632240" cy="1003320"/>
            </a:xfrm>
            <a:custGeom>
              <a:avLst/>
              <a:gdLst/>
              <a:ahLst/>
              <a:rect l="l" t="t" r="r" b="b"/>
              <a:pathLst>
                <a:path w="1028" h="632">
                  <a:moveTo>
                    <a:pt x="880" y="632"/>
                  </a:moveTo>
                  <a:cubicBezTo>
                    <a:pt x="990" y="621"/>
                    <a:pt x="956" y="632"/>
                    <a:pt x="1005" y="562"/>
                  </a:cubicBezTo>
                  <a:cubicBezTo>
                    <a:pt x="1010" y="546"/>
                    <a:pt x="1015" y="531"/>
                    <a:pt x="1020" y="515"/>
                  </a:cubicBezTo>
                  <a:cubicBezTo>
                    <a:pt x="1023" y="507"/>
                    <a:pt x="1028" y="491"/>
                    <a:pt x="1028" y="491"/>
                  </a:cubicBezTo>
                  <a:cubicBezTo>
                    <a:pt x="1024" y="479"/>
                    <a:pt x="1017" y="453"/>
                    <a:pt x="1005" y="445"/>
                  </a:cubicBezTo>
                  <a:cubicBezTo>
                    <a:pt x="978" y="426"/>
                    <a:pt x="900" y="418"/>
                    <a:pt x="865" y="406"/>
                  </a:cubicBezTo>
                  <a:cubicBezTo>
                    <a:pt x="851" y="392"/>
                    <a:pt x="831" y="382"/>
                    <a:pt x="818" y="367"/>
                  </a:cubicBezTo>
                  <a:cubicBezTo>
                    <a:pt x="806" y="353"/>
                    <a:pt x="803" y="330"/>
                    <a:pt x="787" y="320"/>
                  </a:cubicBezTo>
                  <a:cubicBezTo>
                    <a:pt x="762" y="303"/>
                    <a:pt x="733" y="293"/>
                    <a:pt x="709" y="273"/>
                  </a:cubicBezTo>
                  <a:cubicBezTo>
                    <a:pt x="649" y="223"/>
                    <a:pt x="585" y="161"/>
                    <a:pt x="506" y="141"/>
                  </a:cubicBezTo>
                  <a:cubicBezTo>
                    <a:pt x="424" y="121"/>
                    <a:pt x="333" y="116"/>
                    <a:pt x="249" y="110"/>
                  </a:cubicBezTo>
                  <a:cubicBezTo>
                    <a:pt x="220" y="103"/>
                    <a:pt x="190" y="99"/>
                    <a:pt x="163" y="86"/>
                  </a:cubicBezTo>
                  <a:cubicBezTo>
                    <a:pt x="99" y="55"/>
                    <a:pt x="179" y="85"/>
                    <a:pt x="117" y="63"/>
                  </a:cubicBezTo>
                  <a:cubicBezTo>
                    <a:pt x="112" y="55"/>
                    <a:pt x="109" y="45"/>
                    <a:pt x="101" y="39"/>
                  </a:cubicBezTo>
                  <a:cubicBezTo>
                    <a:pt x="95" y="34"/>
                    <a:pt x="85" y="36"/>
                    <a:pt x="78" y="32"/>
                  </a:cubicBezTo>
                  <a:cubicBezTo>
                    <a:pt x="52" y="19"/>
                    <a:pt x="32" y="0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92200" y="365760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30280" y="480060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92400" y="571500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1720" y="457200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44680" y="396252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44680" y="510552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90760" y="4572000"/>
              <a:ext cx="18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40320" y="4419720"/>
              <a:ext cx="18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97320" y="3733920"/>
              <a:ext cx="18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97320" y="5105520"/>
              <a:ext cx="16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44680" y="5638680"/>
              <a:ext cx="18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44480" y="3429000"/>
              <a:ext cx="18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5715000" y="3352680"/>
            <a:ext cx="2209680" cy="718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s-ES_tradnl" sz="36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1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s-ES_tradnl" sz="3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/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62120" y="1143000"/>
            <a:ext cx="57909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Método de los Polígonos de Thi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33520" y="2057400"/>
            <a:ext cx="7086240" cy="4039920"/>
            <a:chOff x="533520" y="2057400"/>
            <a:chExt cx="7086240" cy="4039920"/>
          </a:xfrm>
        </p:grpSpPr>
        <p:sp>
          <p:nvSpPr>
            <p:cNvPr id="152" name=""/>
            <p:cNvSpPr/>
            <p:nvPr/>
          </p:nvSpPr>
          <p:spPr>
            <a:xfrm>
              <a:off x="533520" y="2237400"/>
              <a:ext cx="7086240" cy="3859920"/>
            </a:xfrm>
            <a:custGeom>
              <a:avLst/>
              <a:gdLst/>
              <a:ahLst/>
              <a:rect l="l" t="t" r="r" b="b"/>
              <a:pathLst>
                <a:path w="2694" h="1652">
                  <a:moveTo>
                    <a:pt x="0" y="1512"/>
                  </a:moveTo>
                  <a:cubicBezTo>
                    <a:pt x="24" y="1508"/>
                    <a:pt x="53" y="1513"/>
                    <a:pt x="70" y="1496"/>
                  </a:cubicBezTo>
                  <a:cubicBezTo>
                    <a:pt x="83" y="1483"/>
                    <a:pt x="88" y="1462"/>
                    <a:pt x="101" y="1449"/>
                  </a:cubicBezTo>
                  <a:cubicBezTo>
                    <a:pt x="136" y="1414"/>
                    <a:pt x="151" y="1373"/>
                    <a:pt x="179" y="1332"/>
                  </a:cubicBezTo>
                  <a:cubicBezTo>
                    <a:pt x="209" y="1287"/>
                    <a:pt x="247" y="1243"/>
                    <a:pt x="265" y="1192"/>
                  </a:cubicBezTo>
                  <a:cubicBezTo>
                    <a:pt x="267" y="1132"/>
                    <a:pt x="266" y="1072"/>
                    <a:pt x="272" y="1013"/>
                  </a:cubicBezTo>
                  <a:cubicBezTo>
                    <a:pt x="276" y="973"/>
                    <a:pt x="300" y="926"/>
                    <a:pt x="311" y="888"/>
                  </a:cubicBezTo>
                  <a:cubicBezTo>
                    <a:pt x="329" y="825"/>
                    <a:pt x="356" y="752"/>
                    <a:pt x="428" y="732"/>
                  </a:cubicBezTo>
                  <a:cubicBezTo>
                    <a:pt x="481" y="717"/>
                    <a:pt x="538" y="715"/>
                    <a:pt x="592" y="701"/>
                  </a:cubicBezTo>
                  <a:cubicBezTo>
                    <a:pt x="609" y="653"/>
                    <a:pt x="647" y="620"/>
                    <a:pt x="670" y="576"/>
                  </a:cubicBezTo>
                  <a:cubicBezTo>
                    <a:pt x="683" y="550"/>
                    <a:pt x="683" y="522"/>
                    <a:pt x="701" y="498"/>
                  </a:cubicBezTo>
                  <a:cubicBezTo>
                    <a:pt x="721" y="471"/>
                    <a:pt x="757" y="443"/>
                    <a:pt x="787" y="428"/>
                  </a:cubicBezTo>
                  <a:cubicBezTo>
                    <a:pt x="811" y="416"/>
                    <a:pt x="839" y="417"/>
                    <a:pt x="865" y="413"/>
                  </a:cubicBezTo>
                  <a:cubicBezTo>
                    <a:pt x="905" y="407"/>
                    <a:pt x="944" y="394"/>
                    <a:pt x="982" y="381"/>
                  </a:cubicBezTo>
                  <a:cubicBezTo>
                    <a:pt x="1008" y="355"/>
                    <a:pt x="1016" y="334"/>
                    <a:pt x="1036" y="304"/>
                  </a:cubicBezTo>
                  <a:cubicBezTo>
                    <a:pt x="1050" y="283"/>
                    <a:pt x="1071" y="264"/>
                    <a:pt x="1083" y="241"/>
                  </a:cubicBezTo>
                  <a:cubicBezTo>
                    <a:pt x="1104" y="201"/>
                    <a:pt x="1130" y="158"/>
                    <a:pt x="1176" y="148"/>
                  </a:cubicBezTo>
                  <a:cubicBezTo>
                    <a:pt x="1232" y="111"/>
                    <a:pt x="1205" y="122"/>
                    <a:pt x="1254" y="109"/>
                  </a:cubicBezTo>
                  <a:cubicBezTo>
                    <a:pt x="1302" y="77"/>
                    <a:pt x="1348" y="66"/>
                    <a:pt x="1402" y="54"/>
                  </a:cubicBezTo>
                  <a:cubicBezTo>
                    <a:pt x="1418" y="50"/>
                    <a:pt x="1454" y="34"/>
                    <a:pt x="1465" y="31"/>
                  </a:cubicBezTo>
                  <a:cubicBezTo>
                    <a:pt x="1527" y="12"/>
                    <a:pt x="1571" y="6"/>
                    <a:pt x="1636" y="0"/>
                  </a:cubicBezTo>
                  <a:cubicBezTo>
                    <a:pt x="1703" y="5"/>
                    <a:pt x="1759" y="17"/>
                    <a:pt x="1823" y="31"/>
                  </a:cubicBezTo>
                  <a:cubicBezTo>
                    <a:pt x="1844" y="36"/>
                    <a:pt x="1864" y="40"/>
                    <a:pt x="1885" y="46"/>
                  </a:cubicBezTo>
                  <a:cubicBezTo>
                    <a:pt x="1901" y="50"/>
                    <a:pt x="1932" y="62"/>
                    <a:pt x="1932" y="62"/>
                  </a:cubicBezTo>
                  <a:cubicBezTo>
                    <a:pt x="1963" y="92"/>
                    <a:pt x="1999" y="115"/>
                    <a:pt x="2034" y="140"/>
                  </a:cubicBezTo>
                  <a:cubicBezTo>
                    <a:pt x="2049" y="151"/>
                    <a:pt x="2070" y="150"/>
                    <a:pt x="2088" y="155"/>
                  </a:cubicBezTo>
                  <a:cubicBezTo>
                    <a:pt x="2139" y="169"/>
                    <a:pt x="2167" y="170"/>
                    <a:pt x="2213" y="202"/>
                  </a:cubicBezTo>
                  <a:cubicBezTo>
                    <a:pt x="2257" y="233"/>
                    <a:pt x="2286" y="275"/>
                    <a:pt x="2322" y="311"/>
                  </a:cubicBezTo>
                  <a:cubicBezTo>
                    <a:pt x="2363" y="352"/>
                    <a:pt x="2416" y="386"/>
                    <a:pt x="2462" y="420"/>
                  </a:cubicBezTo>
                  <a:cubicBezTo>
                    <a:pt x="2473" y="428"/>
                    <a:pt x="2477" y="443"/>
                    <a:pt x="2486" y="452"/>
                  </a:cubicBezTo>
                  <a:cubicBezTo>
                    <a:pt x="2492" y="458"/>
                    <a:pt x="2501" y="462"/>
                    <a:pt x="2509" y="467"/>
                  </a:cubicBezTo>
                  <a:cubicBezTo>
                    <a:pt x="2524" y="498"/>
                    <a:pt x="2549" y="522"/>
                    <a:pt x="2563" y="553"/>
                  </a:cubicBezTo>
                  <a:cubicBezTo>
                    <a:pt x="2570" y="568"/>
                    <a:pt x="2575" y="584"/>
                    <a:pt x="2579" y="600"/>
                  </a:cubicBezTo>
                  <a:cubicBezTo>
                    <a:pt x="2582" y="610"/>
                    <a:pt x="2583" y="621"/>
                    <a:pt x="2587" y="631"/>
                  </a:cubicBezTo>
                  <a:cubicBezTo>
                    <a:pt x="2606" y="676"/>
                    <a:pt x="2632" y="717"/>
                    <a:pt x="2649" y="763"/>
                  </a:cubicBezTo>
                  <a:cubicBezTo>
                    <a:pt x="2672" y="826"/>
                    <a:pt x="2681" y="901"/>
                    <a:pt x="2688" y="966"/>
                  </a:cubicBezTo>
                  <a:cubicBezTo>
                    <a:pt x="2682" y="1092"/>
                    <a:pt x="2694" y="1298"/>
                    <a:pt x="2634" y="1434"/>
                  </a:cubicBezTo>
                  <a:cubicBezTo>
                    <a:pt x="2614" y="1479"/>
                    <a:pt x="2579" y="1513"/>
                    <a:pt x="2548" y="1550"/>
                  </a:cubicBezTo>
                  <a:cubicBezTo>
                    <a:pt x="2542" y="1557"/>
                    <a:pt x="2539" y="1568"/>
                    <a:pt x="2532" y="1574"/>
                  </a:cubicBezTo>
                  <a:cubicBezTo>
                    <a:pt x="2485" y="1612"/>
                    <a:pt x="2404" y="1619"/>
                    <a:pt x="2345" y="1628"/>
                  </a:cubicBezTo>
                  <a:cubicBezTo>
                    <a:pt x="2218" y="1622"/>
                    <a:pt x="2089" y="1633"/>
                    <a:pt x="1963" y="1613"/>
                  </a:cubicBezTo>
                  <a:cubicBezTo>
                    <a:pt x="1953" y="1611"/>
                    <a:pt x="1961" y="1591"/>
                    <a:pt x="1956" y="1582"/>
                  </a:cubicBezTo>
                  <a:cubicBezTo>
                    <a:pt x="1946" y="1564"/>
                    <a:pt x="1933" y="1548"/>
                    <a:pt x="1917" y="1535"/>
                  </a:cubicBezTo>
                  <a:cubicBezTo>
                    <a:pt x="1891" y="1514"/>
                    <a:pt x="1845" y="1508"/>
                    <a:pt x="1815" y="1504"/>
                  </a:cubicBezTo>
                  <a:cubicBezTo>
                    <a:pt x="1702" y="1509"/>
                    <a:pt x="1654" y="1500"/>
                    <a:pt x="1566" y="1527"/>
                  </a:cubicBezTo>
                  <a:cubicBezTo>
                    <a:pt x="1550" y="1532"/>
                    <a:pt x="1535" y="1539"/>
                    <a:pt x="1519" y="1543"/>
                  </a:cubicBezTo>
                  <a:cubicBezTo>
                    <a:pt x="1491" y="1550"/>
                    <a:pt x="1434" y="1558"/>
                    <a:pt x="1434" y="1558"/>
                  </a:cubicBezTo>
                  <a:cubicBezTo>
                    <a:pt x="1373" y="1583"/>
                    <a:pt x="1311" y="1605"/>
                    <a:pt x="1247" y="1621"/>
                  </a:cubicBezTo>
                  <a:cubicBezTo>
                    <a:pt x="1221" y="1637"/>
                    <a:pt x="1161" y="1652"/>
                    <a:pt x="1161" y="1652"/>
                  </a:cubicBezTo>
                  <a:cubicBezTo>
                    <a:pt x="1051" y="1638"/>
                    <a:pt x="939" y="1602"/>
                    <a:pt x="834" y="1566"/>
                  </a:cubicBezTo>
                  <a:cubicBezTo>
                    <a:pt x="809" y="1557"/>
                    <a:pt x="782" y="1560"/>
                    <a:pt x="756" y="1558"/>
                  </a:cubicBezTo>
                  <a:cubicBezTo>
                    <a:pt x="691" y="1554"/>
                    <a:pt x="626" y="1553"/>
                    <a:pt x="561" y="1550"/>
                  </a:cubicBezTo>
                  <a:cubicBezTo>
                    <a:pt x="466" y="1522"/>
                    <a:pt x="380" y="1480"/>
                    <a:pt x="280" y="1465"/>
                  </a:cubicBezTo>
                  <a:cubicBezTo>
                    <a:pt x="90" y="1473"/>
                    <a:pt x="155" y="1473"/>
                    <a:pt x="85" y="1473"/>
                  </a:cubicBezTo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8360" y="3001680"/>
              <a:ext cx="4282200" cy="2677680"/>
            </a:xfrm>
            <a:custGeom>
              <a:avLst/>
              <a:gdLst/>
              <a:ahLst/>
              <a:rect l="l" t="t" r="r" b="b"/>
              <a:pathLst>
                <a:path w="1628" h="1146">
                  <a:moveTo>
                    <a:pt x="1597" y="0"/>
                  </a:moveTo>
                  <a:cubicBezTo>
                    <a:pt x="1576" y="62"/>
                    <a:pt x="1594" y="140"/>
                    <a:pt x="1628" y="195"/>
                  </a:cubicBezTo>
                  <a:cubicBezTo>
                    <a:pt x="1625" y="214"/>
                    <a:pt x="1622" y="279"/>
                    <a:pt x="1605" y="296"/>
                  </a:cubicBezTo>
                  <a:cubicBezTo>
                    <a:pt x="1593" y="308"/>
                    <a:pt x="1573" y="310"/>
                    <a:pt x="1558" y="319"/>
                  </a:cubicBezTo>
                  <a:cubicBezTo>
                    <a:pt x="1518" y="383"/>
                    <a:pt x="1571" y="306"/>
                    <a:pt x="1519" y="358"/>
                  </a:cubicBezTo>
                  <a:cubicBezTo>
                    <a:pt x="1506" y="371"/>
                    <a:pt x="1499" y="390"/>
                    <a:pt x="1488" y="405"/>
                  </a:cubicBezTo>
                  <a:cubicBezTo>
                    <a:pt x="1456" y="500"/>
                    <a:pt x="1354" y="486"/>
                    <a:pt x="1270" y="491"/>
                  </a:cubicBezTo>
                  <a:cubicBezTo>
                    <a:pt x="1242" y="505"/>
                    <a:pt x="1211" y="514"/>
                    <a:pt x="1184" y="530"/>
                  </a:cubicBezTo>
                  <a:cubicBezTo>
                    <a:pt x="1168" y="540"/>
                    <a:pt x="1150" y="548"/>
                    <a:pt x="1137" y="561"/>
                  </a:cubicBezTo>
                  <a:cubicBezTo>
                    <a:pt x="1129" y="569"/>
                    <a:pt x="1123" y="578"/>
                    <a:pt x="1114" y="584"/>
                  </a:cubicBezTo>
                  <a:cubicBezTo>
                    <a:pt x="1107" y="589"/>
                    <a:pt x="1098" y="588"/>
                    <a:pt x="1091" y="592"/>
                  </a:cubicBezTo>
                  <a:cubicBezTo>
                    <a:pt x="1075" y="601"/>
                    <a:pt x="1044" y="623"/>
                    <a:pt x="1044" y="623"/>
                  </a:cubicBezTo>
                  <a:cubicBezTo>
                    <a:pt x="1018" y="663"/>
                    <a:pt x="990" y="706"/>
                    <a:pt x="950" y="733"/>
                  </a:cubicBezTo>
                  <a:cubicBezTo>
                    <a:pt x="932" y="761"/>
                    <a:pt x="924" y="784"/>
                    <a:pt x="896" y="803"/>
                  </a:cubicBezTo>
                  <a:cubicBezTo>
                    <a:pt x="848" y="872"/>
                    <a:pt x="750" y="839"/>
                    <a:pt x="670" y="842"/>
                  </a:cubicBezTo>
                  <a:cubicBezTo>
                    <a:pt x="611" y="855"/>
                    <a:pt x="572" y="885"/>
                    <a:pt x="522" y="920"/>
                  </a:cubicBezTo>
                  <a:cubicBezTo>
                    <a:pt x="504" y="933"/>
                    <a:pt x="464" y="937"/>
                    <a:pt x="444" y="943"/>
                  </a:cubicBezTo>
                  <a:cubicBezTo>
                    <a:pt x="389" y="960"/>
                    <a:pt x="335" y="981"/>
                    <a:pt x="280" y="997"/>
                  </a:cubicBezTo>
                  <a:cubicBezTo>
                    <a:pt x="242" y="1023"/>
                    <a:pt x="184" y="1045"/>
                    <a:pt x="140" y="1060"/>
                  </a:cubicBezTo>
                  <a:cubicBezTo>
                    <a:pt x="96" y="1075"/>
                    <a:pt x="60" y="1107"/>
                    <a:pt x="15" y="1122"/>
                  </a:cubicBezTo>
                  <a:cubicBezTo>
                    <a:pt x="10" y="1130"/>
                    <a:pt x="0" y="1146"/>
                    <a:pt x="0" y="1146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97080" y="4183920"/>
              <a:ext cx="2704320" cy="1476720"/>
            </a:xfrm>
            <a:custGeom>
              <a:avLst/>
              <a:gdLst/>
              <a:ahLst/>
              <a:rect l="l" t="t" r="r" b="b"/>
              <a:pathLst>
                <a:path w="1028" h="632">
                  <a:moveTo>
                    <a:pt x="880" y="632"/>
                  </a:moveTo>
                  <a:cubicBezTo>
                    <a:pt x="990" y="621"/>
                    <a:pt x="956" y="632"/>
                    <a:pt x="1005" y="562"/>
                  </a:cubicBezTo>
                  <a:cubicBezTo>
                    <a:pt x="1010" y="546"/>
                    <a:pt x="1015" y="531"/>
                    <a:pt x="1020" y="515"/>
                  </a:cubicBezTo>
                  <a:cubicBezTo>
                    <a:pt x="1023" y="507"/>
                    <a:pt x="1028" y="491"/>
                    <a:pt x="1028" y="491"/>
                  </a:cubicBezTo>
                  <a:cubicBezTo>
                    <a:pt x="1024" y="479"/>
                    <a:pt x="1017" y="453"/>
                    <a:pt x="1005" y="445"/>
                  </a:cubicBezTo>
                  <a:cubicBezTo>
                    <a:pt x="978" y="426"/>
                    <a:pt x="900" y="418"/>
                    <a:pt x="865" y="406"/>
                  </a:cubicBezTo>
                  <a:cubicBezTo>
                    <a:pt x="851" y="392"/>
                    <a:pt x="831" y="382"/>
                    <a:pt x="818" y="367"/>
                  </a:cubicBezTo>
                  <a:cubicBezTo>
                    <a:pt x="806" y="353"/>
                    <a:pt x="803" y="330"/>
                    <a:pt x="787" y="320"/>
                  </a:cubicBezTo>
                  <a:cubicBezTo>
                    <a:pt x="762" y="303"/>
                    <a:pt x="733" y="293"/>
                    <a:pt x="709" y="273"/>
                  </a:cubicBezTo>
                  <a:cubicBezTo>
                    <a:pt x="649" y="223"/>
                    <a:pt x="585" y="161"/>
                    <a:pt x="506" y="141"/>
                  </a:cubicBezTo>
                  <a:cubicBezTo>
                    <a:pt x="424" y="121"/>
                    <a:pt x="333" y="116"/>
                    <a:pt x="249" y="110"/>
                  </a:cubicBezTo>
                  <a:cubicBezTo>
                    <a:pt x="220" y="103"/>
                    <a:pt x="190" y="99"/>
                    <a:pt x="163" y="86"/>
                  </a:cubicBezTo>
                  <a:cubicBezTo>
                    <a:pt x="99" y="55"/>
                    <a:pt x="179" y="85"/>
                    <a:pt x="117" y="63"/>
                  </a:cubicBezTo>
                  <a:cubicBezTo>
                    <a:pt x="112" y="55"/>
                    <a:pt x="109" y="45"/>
                    <a:pt x="101" y="39"/>
                  </a:cubicBezTo>
                  <a:cubicBezTo>
                    <a:pt x="95" y="34"/>
                    <a:pt x="85" y="36"/>
                    <a:pt x="78" y="32"/>
                  </a:cubicBezTo>
                  <a:cubicBezTo>
                    <a:pt x="52" y="19"/>
                    <a:pt x="32" y="0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12040" y="2393640"/>
              <a:ext cx="126360" cy="112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00560" y="4076280"/>
              <a:ext cx="126360" cy="112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63440" y="5422320"/>
              <a:ext cx="126360" cy="112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83760" y="3739680"/>
              <a:ext cx="125640" cy="112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15800" y="2842560"/>
              <a:ext cx="126360" cy="111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15800" y="4525200"/>
              <a:ext cx="126360" cy="111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00640" y="37396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62480" y="35154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68520" y="250596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68520" y="452520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15800" y="5310000"/>
              <a:ext cx="30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64400" y="2057400"/>
              <a:ext cx="30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V="1">
            <a:off x="2554200" y="2842920"/>
            <a:ext cx="1514520" cy="13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54200" y="4187880"/>
            <a:ext cx="1514520" cy="44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68720" y="2843280"/>
            <a:ext cx="0" cy="179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68720" y="2843280"/>
            <a:ext cx="17686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816360" y="3851280"/>
            <a:ext cx="2021040" cy="168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816360" y="4636800"/>
            <a:ext cx="252360" cy="78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2514600" y="4114800"/>
            <a:ext cx="1301760" cy="14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1165320" y="2394000"/>
            <a:ext cx="1425600" cy="179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1038240" y="2394000"/>
            <a:ext cx="3030480" cy="44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2514600" y="2742840"/>
            <a:ext cx="1185840" cy="119700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200400" y="3733560"/>
            <a:ext cx="412920" cy="1136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3809880"/>
            <a:ext cx="10670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068720" y="3850920"/>
            <a:ext cx="1768680" cy="78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2T21:31:04Z</dcterms:created>
  <dc:creator>Ximena Vargas</dc:creator>
  <dc:description/>
  <dc:language>en-US</dc:language>
  <cp:lastModifiedBy>xv</cp:lastModifiedBy>
  <dcterms:modified xsi:type="dcterms:W3CDTF">2004-08-13T15:05:20Z</dcterms:modified>
  <cp:revision>7</cp:revision>
  <dc:subject/>
  <dc:title>Sin título de diapositiva</dc:title>
</cp:coreProperties>
</file>