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046D-7A19-49D7-809C-7F3A74EA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4585-9F8D-4323-976F-4228F4F3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7276-C9E0-4782-9E6C-A7F03B6D1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63E2-04BE-40A6-90EE-0FEEEFA53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1F00-89C3-40AA-8970-182A8FBF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3934-2DBC-43CB-82B0-DEA41B40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D260-1C32-4BE4-92FF-9C63596A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B6A8-F5F2-4382-AE23-976048A5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47E5-775B-4082-98B8-A207E72A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87D9-CC95-42A5-AD9E-E25A9254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0DFC-321E-4B75-9F0B-FBA79EA6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3BFC-7244-47A5-9BF8-C8B10EC1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A06E-2D6B-436B-B93E-2A61EF48F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0840" y="762120"/>
            <a:ext cx="8991720" cy="5779800"/>
            <a:chOff x="150840" y="762120"/>
            <a:chExt cx="8991720" cy="5779800"/>
          </a:xfrm>
        </p:grpSpPr>
        <p:sp>
          <p:nvSpPr>
            <p:cNvPr id="42" name=""/>
            <p:cNvSpPr/>
            <p:nvPr/>
          </p:nvSpPr>
          <p:spPr>
            <a:xfrm>
              <a:off x="227160" y="762120"/>
              <a:ext cx="83059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Presentación de los Datos de una</a:t>
              </a:r>
              <a:r>
                <a:rPr b="0" lang="es-ES_tradnl" sz="24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 </a:t>
              </a:r>
              <a:r>
                <a:rPr b="1" lang="es-ES_tradnl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stación Pluviométri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60680" y="1676520"/>
              <a:ext cx="7086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cc"/>
                  </a:solidFill>
                  <a:latin typeface="Times New Roman"/>
                </a:rPr>
                <a:t>Precipitaciones mensuale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84360" y="2590920"/>
              <a:ext cx="411480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cc"/>
                  </a:solidFill>
                  <a:latin typeface="Times New Roman"/>
                </a:rPr>
                <a:t>tablas o gráficos cronológic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970360" y="2209680"/>
              <a:ext cx="609480" cy="3812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50840" y="3581280"/>
              <a:ext cx="4419720" cy="4590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 algn="just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Times New Roman"/>
                </a:rPr>
                <a:t>valores medios, máximos y mínimos, en el período mensual u ot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51440" y="3429000"/>
              <a:ext cx="3353040" cy="641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 algn="just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Times New Roman"/>
                </a:rPr>
                <a:t>Intervalo de variación (diferencia entre el máximo valor y el mínim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08040" y="4495680"/>
              <a:ext cx="3276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 algn="just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Times New Roman"/>
                </a:rPr>
                <a:t>Desviaciones estándar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293840" y="5564160"/>
                  <a:ext cx="2133720" cy="86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 </m:t>
                          </m:r>
                          <m:f>
                            <m:num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bar>
                                            <m:barPr>
                                              <m:pos m:val="top"/>
                                            </m:bar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ba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nary>
                            </m:num>
                            <m:den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den>
                          </m:f>
                          <m:r>
                            <m:t xml:space="preserve"> 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5332680" y="4800600"/>
              <a:ext cx="1752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Times New Roman"/>
                </a:rPr>
                <a:t>coeficiente de vari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360880" y="4876920"/>
              <a:ext cx="609480" cy="6094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7390080" y="5486400"/>
                  <a:ext cx="1295280" cy="105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3" name=""/>
            <p:cNvSpPr/>
            <p:nvPr/>
          </p:nvSpPr>
          <p:spPr>
            <a:xfrm rot="19283400">
              <a:off x="6704280" y="5181120"/>
              <a:ext cx="609480" cy="685800"/>
            </a:xfrm>
            <a:prstGeom prst="downArrow">
              <a:avLst>
                <a:gd name="adj1" fmla="val 50000"/>
                <a:gd name="adj2" fmla="val 281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7160" y="2057400"/>
              <a:ext cx="380880" cy="1905120"/>
            </a:xfrm>
            <a:custGeom>
              <a:avLst/>
              <a:gdLst>
                <a:gd name="textAreaLeft" fmla="*/ 50760 w 380880"/>
                <a:gd name="textAreaRight" fmla="*/ 330120 w 380880"/>
                <a:gd name="textAreaTop" fmla="*/ 333360 h 1905120"/>
                <a:gd name="textAreaBottom" fmla="*/ 138132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99560" y="1752480"/>
              <a:ext cx="1143000" cy="2514600"/>
            </a:xfrm>
            <a:custGeom>
              <a:avLst/>
              <a:gdLst>
                <a:gd name="textAreaLeft" fmla="*/ 153000 w 1143000"/>
                <a:gd name="textAreaRight" fmla="*/ 990000 w 1143000"/>
                <a:gd name="textAreaTop" fmla="*/ 439920 h 2514600"/>
                <a:gd name="textAreaBottom" fmla="*/ 182304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3884760" y="2133720"/>
              <a:ext cx="1371600" cy="2819160"/>
              <a:chOff x="3884760" y="2133720"/>
              <a:chExt cx="1371600" cy="2819160"/>
            </a:xfrm>
          </p:grpSpPr>
          <p:sp>
            <p:nvSpPr>
              <p:cNvPr id="57" name=""/>
              <p:cNvSpPr/>
              <p:nvPr/>
            </p:nvSpPr>
            <p:spPr>
              <a:xfrm>
                <a:off x="3884760" y="2133720"/>
                <a:ext cx="1231920" cy="2654280"/>
              </a:xfrm>
              <a:custGeom>
                <a:avLst/>
                <a:gdLst/>
                <a:ahLst/>
                <a:rect l="l" t="t" r="r" b="b"/>
                <a:pathLst>
                  <a:path w="776" h="1672">
                    <a:moveTo>
                      <a:pt x="480" y="0"/>
                    </a:moveTo>
                    <a:cubicBezTo>
                      <a:pt x="628" y="0"/>
                      <a:pt x="776" y="0"/>
                      <a:pt x="768" y="240"/>
                    </a:cubicBezTo>
                    <a:cubicBezTo>
                      <a:pt x="760" y="480"/>
                      <a:pt x="560" y="1208"/>
                      <a:pt x="432" y="1440"/>
                    </a:cubicBezTo>
                    <a:cubicBezTo>
                      <a:pt x="304" y="1672"/>
                      <a:pt x="152" y="1652"/>
                      <a:pt x="0" y="1632"/>
                    </a:cubicBezTo>
                  </a:path>
                </a:pathLst>
              </a:custGeom>
              <a:noFill/>
              <a:ln w="5724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710240" y="3962520"/>
                <a:ext cx="546120" cy="990360"/>
              </a:xfrm>
              <a:custGeom>
                <a:avLst/>
                <a:gdLst/>
                <a:ahLst/>
                <a:rect l="l" t="t" r="r" b="b"/>
                <a:pathLst>
                  <a:path w="344" h="624">
                    <a:moveTo>
                      <a:pt x="8" y="0"/>
                    </a:moveTo>
                    <a:cubicBezTo>
                      <a:pt x="4" y="116"/>
                      <a:pt x="0" y="232"/>
                      <a:pt x="56" y="336"/>
                    </a:cubicBezTo>
                    <a:cubicBezTo>
                      <a:pt x="112" y="440"/>
                      <a:pt x="228" y="532"/>
                      <a:pt x="344" y="624"/>
                    </a:cubicBezTo>
                  </a:path>
                </a:pathLst>
              </a:custGeom>
              <a:noFill/>
              <a:ln w="5724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228600" y="304920"/>
          <a:ext cx="8035920" cy="5526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04920"/>
                    <a:ext cx="80359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80880" y="5813280"/>
          <a:ext cx="7315200" cy="892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5813280"/>
                    <a:ext cx="7315200" cy="8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14400" y="304920"/>
            <a:ext cx="24382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Hiet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1295280"/>
            <a:ext cx="72388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Times New Roman"/>
              </a:rPr>
              <a:t>Gráfico que expresa la distribución en el tiempo de las intensidades de lluv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2475000"/>
          <a:ext cx="7010640" cy="4038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475000"/>
                    <a:ext cx="70106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95280" y="380880"/>
            <a:ext cx="6248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nálisis de frecuencias de la se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1295280"/>
            <a:ext cx="5410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Curvas de variación es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371600" y="2057400"/>
          <a:ext cx="6781680" cy="4597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2057400"/>
                    <a:ext cx="6781680" cy="45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543800" y="609480"/>
            <a:ext cx="762120" cy="1143000"/>
          </a:xfrm>
          <a:custGeom>
            <a:avLst/>
            <a:gdLst>
              <a:gd name="textAreaLeft" fmla="*/ 101880 w 762120"/>
              <a:gd name="textAreaRight" fmla="*/ 660240 w 7621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757575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66680" y="152280"/>
            <a:ext cx="7620120" cy="160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ara la caracterización global de la serie hay que adoptar un valor representativo de la normalidad del fenómeno, P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, para luego analizar las variaciones con respecto a ese val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133720"/>
            <a:ext cx="7924680" cy="3852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s condiciones que debe cumplir el valor normal son las sigui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f (Pi), es decir debe ser función de cada uno de los valores de la ser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depender de la misma forma de cada uno de los valores de la ser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calcularse de tal forma que si todos los montos anuales fueran iguales, entonces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be ser igual a ese val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3200400"/>
            <a:ext cx="1143000" cy="243828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426600 h 2438280"/>
              <a:gd name="textAreaBottom" fmla="*/ 176796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143000"/>
            <a:ext cx="16761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Med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304920"/>
            <a:ext cx="5791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como concepto es satisfactorio para medir normalidad pero no cumple con dichas condi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38280" y="3733920"/>
            <a:ext cx="6477120" cy="1557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resulta inconveniente cuando el régimen pluviométrico es de gran variabilidad ya que el valor promedio es “arrastrado” por lo valores extremos difiriendo bastante de la median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95280" y="2666880"/>
            <a:ext cx="17528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omedio aritm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1676520"/>
            <a:ext cx="1981080" cy="38088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838080"/>
            <a:ext cx="175248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Media Geomé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295280"/>
            <a:ext cx="381240" cy="1524240"/>
          </a:xfrm>
          <a:custGeom>
            <a:avLst/>
            <a:gdLst>
              <a:gd name="textAreaLeft" fmla="*/ 51120 w 381240"/>
              <a:gd name="textAreaRight" fmla="*/ 330120 w 381240"/>
              <a:gd name="textAreaTop" fmla="*/ 266760 h 1524240"/>
              <a:gd name="textAreaBottom" fmla="*/ 110520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2286000"/>
            <a:ext cx="7162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mayor similitud con la mediana, especialmente cuando el número de observaciones es gran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0" y="3611520"/>
          <a:ext cx="9144000" cy="2560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611520"/>
                    <a:ext cx="9144000" cy="25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43000" y="1143000"/>
            <a:ext cx="5181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ecipitaciones Di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2971800"/>
            <a:ext cx="7238880" cy="3385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Número promedio de días con precip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Número promedio de días con precipitación igual o mayor a un valor  d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Número promedio de veces en que la precipitación del mes ha estado comprendida entre ciertos ran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obabilidad de que la precipitación sea mayor o igual a diversas cantidades en 1, 2 y 3 días consecu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4098000">
            <a:off x="3733920" y="1828800"/>
            <a:ext cx="1295280" cy="9144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295280" y="685800"/>
            <a:ext cx="4953240" cy="825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Cálculo y Presentación de Datos de Intensidades de Llu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1905120"/>
            <a:ext cx="7772400" cy="8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Times New Roman"/>
              </a:rPr>
              <a:t>Intensidad</a:t>
            </a:r>
            <a:r>
              <a:rPr b="1" lang="es-ES_tradnl" sz="2400" spc="-1" strike="noStrike">
                <a:solidFill>
                  <a:srgbClr val="000066"/>
                </a:solidFill>
                <a:latin typeface="Times New Roman"/>
              </a:rPr>
              <a:t> : lluvia caída en un cierto intervalo de tiempo,  se expresa generalmente en mm/h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3124080"/>
            <a:ext cx="7467480" cy="16178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USO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: diseño de las obras hidráulicas que permiten resolver problemas como evacuación de aguas lluvias, drenaje urbano o agrícola y evacuación de crecidas en embalses, entre 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2362320"/>
            <a:ext cx="380880" cy="1676160"/>
          </a:xfrm>
          <a:custGeom>
            <a:avLst/>
            <a:gdLst>
              <a:gd name="textAreaLeft" fmla="*/ 50760 w 380880"/>
              <a:gd name="textAreaRight" fmla="*/ 330120 w 380880"/>
              <a:gd name="textAreaTop" fmla="*/ 293040 h 1676160"/>
              <a:gd name="textAreaBottom" fmla="*/ 121536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0000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029200"/>
            <a:ext cx="8305920" cy="1617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Causa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: no se dispone de estadística de caudales (Q) o éstos son de corta duración, en las zonas donde se realizan los estudios, lo que imposibilita realizar directamente los análisis de frecuencia para esta últim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33520" y="804960"/>
          <a:ext cx="8153280" cy="5607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804960"/>
                    <a:ext cx="815328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3352680" y="457200"/>
            <a:ext cx="5562720" cy="6095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228600" y="598320"/>
          <a:ext cx="8458200" cy="5816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598320"/>
                    <a:ext cx="8458200" cy="581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4724280" y="838080"/>
            <a:ext cx="3581640" cy="5410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2T15:29:00Z</dcterms:created>
  <dc:creator>Ximena Vargas</dc:creator>
  <dc:description/>
  <dc:language>en-US</dc:language>
  <cp:lastModifiedBy>xv</cp:lastModifiedBy>
  <dcterms:modified xsi:type="dcterms:W3CDTF">2004-08-13T15:04:20Z</dcterms:modified>
  <cp:revision>1</cp:revision>
  <dc:subject/>
  <dc:title>Sin título de diapositiva</dc:title>
</cp:coreProperties>
</file>