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8D5-8CA5-4F14-8097-BE23F83C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A0F-1622-4BA4-84D6-25D95AF3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668-26BE-4323-B954-63837971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E28-DCAB-4C0D-A4AB-7764254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AE5-ED10-412F-9754-42C904F7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7B3-642E-4EAD-B731-7E935E3A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0C2-5C73-4873-93F2-9943FF12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A47-7946-4010-8AD2-8EEC327A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436-72D6-4FBE-9DF5-DB6872B8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C7D-D5F6-4CC8-B57E-47002C9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861-0B52-4708-9200-1713A06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8E5-2D2B-4B4E-8B70-F9C012C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A69-521D-4495-91AB-C240A7575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0840" y="762120"/>
            <a:ext cx="8991720" cy="5779800"/>
            <a:chOff x="150840" y="762120"/>
            <a:chExt cx="8991720" cy="5779800"/>
          </a:xfrm>
        </p:grpSpPr>
        <p:sp>
          <p:nvSpPr>
            <p:cNvPr id="42" name=""/>
            <p:cNvSpPr/>
            <p:nvPr/>
          </p:nvSpPr>
          <p:spPr>
            <a:xfrm>
              <a:off x="227160" y="762120"/>
              <a:ext cx="8305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resentación de los Datos de una</a:t>
              </a:r>
              <a:r>
                <a:rPr b="0" lang="es-ES_tradnl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</a:t>
              </a:r>
              <a:r>
                <a:rPr b="1" lang="es-ES_tradnl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stación Pluviomét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0680" y="1676520"/>
              <a:ext cx="708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Precipitaciones mensual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4360" y="2590920"/>
              <a:ext cx="41148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tablas o gráficos cronológ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0360" y="2209680"/>
              <a:ext cx="60948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0840" y="3581280"/>
              <a:ext cx="4419720" cy="459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valores medios, máximos y mínimos, en el período mensual u o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1440" y="3429000"/>
              <a:ext cx="335304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Intervalo de variación (diferencia entre el máximo valor y el mínim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8040" y="4495680"/>
              <a:ext cx="3276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Desviaciones estánda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293840" y="5564160"/>
                  <a:ext cx="21337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 </m:t>
                          </m:r>
                          <m:f>
                            <m:num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bar>
                                            <m:barPr>
                                              <m:pos m:val="top"/>
                                            </m:bar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ba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5332680" y="4800600"/>
              <a:ext cx="1752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coeficiente de vari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0880" y="4876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7390080" y="5486400"/>
                  <a:ext cx="129528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 rot="19283400">
              <a:off x="6704280" y="5181120"/>
              <a:ext cx="609480" cy="685800"/>
            </a:xfrm>
            <a:prstGeom prst="downArrow">
              <a:avLst>
                <a:gd name="adj1" fmla="val 50000"/>
                <a:gd name="adj2" fmla="val 28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7160" y="2057400"/>
              <a:ext cx="380880" cy="190512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99560" y="1752480"/>
              <a:ext cx="1143000" cy="251460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439920 h 2514600"/>
                <a:gd name="textAreaBottom" fmla="*/ 182304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884760" y="2133720"/>
              <a:ext cx="1371600" cy="2819160"/>
              <a:chOff x="3884760" y="2133720"/>
              <a:chExt cx="1371600" cy="2819160"/>
            </a:xfrm>
          </p:grpSpPr>
          <p:sp>
            <p:nvSpPr>
              <p:cNvPr id="57" name=""/>
              <p:cNvSpPr/>
              <p:nvPr/>
            </p:nvSpPr>
            <p:spPr>
              <a:xfrm>
                <a:off x="3884760" y="2133720"/>
                <a:ext cx="1231920" cy="2654280"/>
              </a:xfrm>
              <a:custGeom>
                <a:avLst/>
                <a:gdLst/>
                <a:ahLst/>
                <a:rect l="l" t="t" r="r" b="b"/>
                <a:pathLst>
                  <a:path w="776" h="1672">
                    <a:moveTo>
                      <a:pt x="480" y="0"/>
                    </a:moveTo>
                    <a:cubicBezTo>
                      <a:pt x="628" y="0"/>
                      <a:pt x="776" y="0"/>
                      <a:pt x="768" y="240"/>
                    </a:cubicBezTo>
                    <a:cubicBezTo>
                      <a:pt x="760" y="480"/>
                      <a:pt x="560" y="1208"/>
                      <a:pt x="432" y="1440"/>
                    </a:cubicBezTo>
                    <a:cubicBezTo>
                      <a:pt x="304" y="1672"/>
                      <a:pt x="152" y="1652"/>
                      <a:pt x="0" y="1632"/>
                    </a:cubicBez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710240" y="3962520"/>
                <a:ext cx="546120" cy="990360"/>
              </a:xfrm>
              <a:custGeom>
                <a:avLst/>
                <a:gdLst/>
                <a:ahLst/>
                <a:rect l="l" t="t" r="r" b="b"/>
                <a:pathLst>
                  <a:path w="344" h="624">
                    <a:moveTo>
                      <a:pt x="8" y="0"/>
                    </a:moveTo>
                    <a:cubicBezTo>
                      <a:pt x="4" y="116"/>
                      <a:pt x="0" y="232"/>
                      <a:pt x="56" y="336"/>
                    </a:cubicBezTo>
                    <a:cubicBezTo>
                      <a:pt x="112" y="440"/>
                      <a:pt x="228" y="532"/>
                      <a:pt x="344" y="624"/>
                    </a:cubicBez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28600" y="304920"/>
          <a:ext cx="8035920" cy="552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8035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0880" y="5813280"/>
          <a:ext cx="7315200" cy="89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813280"/>
                    <a:ext cx="731520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304920"/>
            <a:ext cx="2438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ie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295280"/>
            <a:ext cx="7238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Gráfico que expresa la distribución en el tiempo de las intensidades de lluv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475000"/>
          <a:ext cx="7010640" cy="403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75000"/>
                    <a:ext cx="7010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95280" y="380880"/>
            <a:ext cx="6248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nálisis de frecuencias de la 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129528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rvas de variación es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1600" y="2057400"/>
          <a:ext cx="6781680" cy="459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057400"/>
                    <a:ext cx="678168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543800" y="609480"/>
            <a:ext cx="762120" cy="1143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152280"/>
            <a:ext cx="762012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ara la caracterización global de la serie hay que adoptar un valor representativo de la normalidad del fenómeno, 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, para luego analizar las variaciones con respecto a es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3720"/>
            <a:ext cx="7924680" cy="3852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ondiciones que debe cumplir el valor normal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f (Pi), es decir debe ser función de cada uno de los valores de la s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depender de la misma forma de cada uno de los valores de la s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calcularse de tal forma que si todos los montos anuales fueran iguales,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be ser igual a es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3200400"/>
            <a:ext cx="1143000" cy="2438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143000"/>
            <a:ext cx="1676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04920"/>
            <a:ext cx="5791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concepto es satisfactorio para medir normalidad pero no cumple con dichas condi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733920"/>
            <a:ext cx="64771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ulta inconveniente cuando el régimen pluviométrico es de gran variabilidad ya que el valor promedio es “arrastrado” por lo valores extremos difiriendo bastante de la medi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66688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medio aritm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676520"/>
            <a:ext cx="1981080" cy="3808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838080"/>
            <a:ext cx="17524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95280"/>
            <a:ext cx="381240" cy="1524240"/>
          </a:xfrm>
          <a:custGeom>
            <a:avLst/>
            <a:gdLst>
              <a:gd name="textAreaLeft" fmla="*/ 51120 w 381240"/>
              <a:gd name="textAreaRight" fmla="*/ 330120 w 38124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286000"/>
            <a:ext cx="7162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ayor similitud con la mediana, especialmente cuando el número de observaciones es gra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3611520"/>
          <a:ext cx="9144000" cy="256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11520"/>
                    <a:ext cx="9144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143000"/>
            <a:ext cx="518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cipitaciones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238880" cy="33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días con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días con precipitación igual o mayor a un valor 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veces en que la precipitación del mes ha estado comprendida entre ciertos ra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babilidad de que la precipitación sea mayor o igual a diversas cantidades en 1, 2 y 3 días consec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098000">
            <a:off x="3733920" y="182880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685800"/>
            <a:ext cx="49532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álculo y Presentación de Datos de Intensidades de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05120"/>
            <a:ext cx="777240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Intens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: lluvia caída en un cierto intervalo de tiempo,  se expresa generalmente en mm/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124080"/>
            <a:ext cx="7467480" cy="1617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S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diseño de las obras hidráulicas que permiten resolver problemas como evacuación de aguas lluvias, drenaje urbano o agrícola y evacuación de crecidas en embalses, entr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362320"/>
            <a:ext cx="380880" cy="1676160"/>
          </a:xfrm>
          <a:custGeom>
            <a:avLst/>
            <a:gdLst>
              <a:gd name="textAreaLeft" fmla="*/ 50760 w 380880"/>
              <a:gd name="textAreaRight" fmla="*/ 330120 w 3808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00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029200"/>
            <a:ext cx="8305920" cy="1617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aus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no se dispone de estadística de caudales (Q) o éstos son de corta duración, en las zonas donde se realizan los estudios, lo que imposibilita realizar directamente los análisis de frecuencia para esta últim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3520" y="804960"/>
          <a:ext cx="8153280" cy="560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804960"/>
                    <a:ext cx="815328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352680" y="457200"/>
            <a:ext cx="5562720" cy="6095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598320"/>
          <a:ext cx="8458200" cy="581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8320"/>
                    <a:ext cx="8458200" cy="58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724280" y="838080"/>
            <a:ext cx="3581640" cy="5410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5:29:00Z</dcterms:created>
  <dc:creator>Ximena Vargas</dc:creator>
  <dc:description/>
  <dc:language>en-US</dc:language>
  <cp:lastModifiedBy>xv</cp:lastModifiedBy>
  <dcterms:modified xsi:type="dcterms:W3CDTF">2004-08-13T15:04:20Z</dcterms:modified>
  <cp:revision>1</cp:revision>
  <dc:subject/>
  <dc:title>Sin título de diapositiva</dc:title>
</cp:coreProperties>
</file>