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133-BA0A-4EF7-8618-E0F1C091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5CB-B404-45ED-BEF8-1095B542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7FD-A5B2-41C0-A782-C2C28E44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3D8-C644-4DAE-A256-055A2EC4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311-6DA6-40FF-AC0B-95B3256D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515-D004-431B-9DF3-B1EB5489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C00-D942-466F-BA0D-1065F31E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42A-EC11-47DE-9CD1-981F2928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926-E727-404A-9D25-1F76B7D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053-D3EA-4C10-A951-A80FAD4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7E4-7718-43E1-8A83-248A92EF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79B-4F8C-4CC7-8F30-E08BD66D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D77B-B2AF-496D-8056-9C3DF6D5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Ximena Vargas</cp:lastModifiedBy>
  <dcterms:modified xsi:type="dcterms:W3CDTF">2003-03-03T15:14:54Z</dcterms:modified>
  <cp:revision>5</cp:revision>
  <dc:subject/>
  <dc:title>Diapositiva 1</dc:title>
</cp:coreProperties>
</file>