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081-64DB-4A1B-BCBB-DBE28A82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CD5-BF12-4D3F-BAD0-1D03ED1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D8F-B87B-44DE-947A-93DC9A5B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BAB-A1BB-4CBA-AD35-1B0BF4F0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8DB-FBBD-48E7-ADD1-793302B4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233-33F4-40D6-AAB0-55980EE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53A-DF35-4984-AB09-4A43407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D69-3B3B-482A-B96D-86990BB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7C8-8827-4B80-A72E-7606486E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DAB-BA18-4F4E-BC60-A54733D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406-B8BE-435B-872B-2A0D3F1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B21-BBCC-4B4B-B547-759F6FE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6BC1-617E-46F3-B20F-98E02DB3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imena Vargas</cp:lastModifiedBy>
  <dcterms:modified xsi:type="dcterms:W3CDTF">2003-03-03T15:14:54Z</dcterms:modified>
  <cp:revision>5</cp:revision>
  <dc:subject/>
  <dc:title>Diapositiva 1</dc:title>
</cp:coreProperties>
</file>