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886-57BE-4EAC-A74A-C3DEB8A1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361-F91C-4D89-8696-20D23E93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E87-4FEC-451C-B53B-E7B47910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688-5AB4-438E-A509-434B0C15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A4C-FA40-4277-92CE-2E4072A2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3D5-6187-40DA-B378-0AD23B18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15C-E2B4-4B1F-AA71-07A93E5F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3DA-36FA-4EBD-BFAB-56873230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235-EC3B-4BE6-9762-75A5FEA3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283-CE1B-499F-A22C-79EA43BC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EF0-7B3D-4263-8780-726C6E87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117-ED70-4F75-8AC5-B6175B9B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EBDD-C0EB-466C-B940-0871E15C0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03280" y="692280"/>
            <a:ext cx="6624720" cy="6097320"/>
            <a:chOff x="1403280" y="692280"/>
            <a:chExt cx="662472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403280" y="692280"/>
              <a:ext cx="662472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20050200">
              <a:off x="2341080" y="2899800"/>
              <a:ext cx="144000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lu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perfi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39920" y="3443040"/>
              <a:ext cx="642960" cy="241200"/>
            </a:xfrm>
            <a:custGeom>
              <a:avLst/>
              <a:gdLst/>
              <a:ahLst/>
              <a:rect l="l" t="t" r="r" b="b"/>
              <a:pathLst>
                <a:path w="405" h="152">
                  <a:moveTo>
                    <a:pt x="4" y="152"/>
                  </a:moveTo>
                  <a:cubicBezTo>
                    <a:pt x="79" y="79"/>
                    <a:pt x="0" y="141"/>
                    <a:pt x="142" y="102"/>
                  </a:cubicBezTo>
                  <a:cubicBezTo>
                    <a:pt x="156" y="98"/>
                    <a:pt x="165" y="82"/>
                    <a:pt x="179" y="77"/>
                  </a:cubicBezTo>
                  <a:cubicBezTo>
                    <a:pt x="203" y="69"/>
                    <a:pt x="229" y="69"/>
                    <a:pt x="254" y="65"/>
                  </a:cubicBezTo>
                  <a:cubicBezTo>
                    <a:pt x="264" y="37"/>
                    <a:pt x="265" y="8"/>
                    <a:pt x="304" y="2"/>
                  </a:cubicBezTo>
                  <a:cubicBezTo>
                    <a:pt x="317" y="0"/>
                    <a:pt x="329" y="13"/>
                    <a:pt x="342" y="15"/>
                  </a:cubicBezTo>
                  <a:cubicBezTo>
                    <a:pt x="363" y="18"/>
                    <a:pt x="384" y="15"/>
                    <a:pt x="405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372360" y="4437000"/>
            <a:ext cx="107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068640"/>
            <a:ext cx="10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456200">
            <a:off x="4168800" y="3039840"/>
            <a:ext cx="793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uj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283400">
            <a:off x="4501080" y="2565000"/>
            <a:ext cx="64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692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2:53:21Z</dcterms:created>
  <dc:creator>Usuario</dc:creator>
  <dc:description/>
  <dc:language>en-US</dc:language>
  <cp:lastModifiedBy>Ximena Vargas</cp:lastModifiedBy>
  <dcterms:modified xsi:type="dcterms:W3CDTF">2003-03-03T15:14:54Z</dcterms:modified>
  <cp:revision>5</cp:revision>
  <dc:subject/>
  <dc:title>Diapositiva 1</dc:title>
</cp:coreProperties>
</file>