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C3CD-1E10-441B-854B-950CC389D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772F-8468-427E-9B9D-864CDEEC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9773-CF69-4C2C-A33A-641FCE4C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85F3-B4C5-4DFE-90BD-A77766E4D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70AC-0986-46B5-94B5-2E3FFB576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96AE-1566-42CF-B90D-61193D96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77D5-D9CC-4928-AE2B-6BC24E7D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9CAA-7F9C-48EA-9BA6-A942921E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A47B-FE28-4D43-A590-DC4CEAC8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4567-0327-421D-A3CB-EE02C03E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53C8-2330-4AF1-8666-990008DF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D647-B256-4929-88E7-942C3F79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AACF-8DC8-441C-9722-72FCE458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DBF1-3E71-480A-9BF5-DFBA1A3C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1ADC-74EE-4DAB-A765-25ECA671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86D8-A6CD-421D-BC9D-32FC6BCA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E4CD-6552-4BE7-ACA6-EFC637D3B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4BE1-7370-4E45-8188-EA5235C6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8B53-4F5E-4EF8-B3BB-F234F726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384B-0FFA-406D-A6A6-82294307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9105-904F-472E-A1F7-E8F0EA2A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F9CE-26FD-4497-B8FB-18B1682D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F3C6-8F61-4490-8CC5-46658E49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3EA9-EACA-42C1-8A5B-847585E5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6924-7B0F-4CF9-AE9D-FB0AF387EBE0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2169-66EB-4FAB-A79C-5B15E772F3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7C46-A06B-492F-84CB-291E56041630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3CBC-86E7-4B87-94B4-71AEE26686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477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Universidad de Chile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440" y="762120"/>
            <a:ext cx="74674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ecff"/>
                </a:solidFill>
                <a:latin typeface="Tahoma"/>
              </a:rPr>
              <a:t> 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Facultad de Ciencias Físicas y Matemática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Departamento de Ingeniería Civi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plicaciones de la Tecnología Multihaz en Levantamientos Batimétricos”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22400" y="260280"/>
            <a:ext cx="664920" cy="1424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2216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EQUIPOS COMPONENTES (CONTINUACION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4948200" cy="34160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Perfilador de velocidad del sonido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Perfilador de velocidad del sonido superficial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Software de proceso: Se crea el “DTM” y se obtienen productos como planos de veriles y cálculo de volúmene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Tahoma"/>
              </a:rPr>
              <a:t>Envío de Ondas Sonor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8610480" cy="4735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42184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Tahoma"/>
              </a:rPr>
              <a:t>Funcionamiento de Equipos Multihaz en San Vicente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7696080" cy="524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Tahoma"/>
              </a:rPr>
              <a:t>Vuelo Virtual del Fondo Mari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62120" y="750960"/>
            <a:ext cx="7619760" cy="592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Tahoma"/>
              </a:rPr>
              <a:t>Análisis Comparativ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04920" y="2286000"/>
          <a:ext cx="4267080" cy="3897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286000"/>
                    <a:ext cx="4267080" cy="38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181480" y="2286000"/>
          <a:ext cx="3668760" cy="3962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2286000"/>
                    <a:ext cx="36687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09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ahoma"/>
              </a:rPr>
              <a:t>San Vicent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52880" y="1371600"/>
            <a:ext cx="381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ahoma"/>
              </a:rPr>
              <a:t>Caleta Portal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cc"/>
                </a:solidFill>
                <a:latin typeface="Tahoma"/>
              </a:rPr>
              <a:t>Duraciones de Barrid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219320" y="1371600"/>
          <a:ext cx="6933960" cy="4917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>
                    <a:alphaModFix amt="50000"/>
                  </a:blip>
                  <a:stretch/>
                </p:blipFill>
                <p:spPr>
                  <a:xfrm>
                    <a:off x="1219320" y="1371600"/>
                    <a:ext cx="6933960" cy="49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218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Tahoma"/>
              </a:rPr>
              <a:t>Comparación Técnic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914400"/>
            <a:ext cx="5121360" cy="3230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>
            <a:alphaModFix amt="50000"/>
          </a:blip>
          <a:stretch/>
        </p:blipFill>
        <p:spPr>
          <a:xfrm>
            <a:off x="4024440" y="3352680"/>
            <a:ext cx="5119560" cy="3221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486400" y="1676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Fondo Monohaz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55627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Fondo Multihaz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04920" y="0"/>
            <a:ext cx="967752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cc"/>
                </a:solidFill>
                <a:latin typeface="Tahoma"/>
              </a:rPr>
              <a:t>Gráfico de Comparación Económica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62120" y="820800"/>
          <a:ext cx="7648560" cy="5732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>
                    <a:alphaModFix amt="50000"/>
                  </a:blip>
                  <a:stretch/>
                </p:blipFill>
                <p:spPr>
                  <a:xfrm>
                    <a:off x="762120" y="820800"/>
                    <a:ext cx="7648560" cy="57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Tahoma"/>
              </a:rPr>
              <a:t>¿Qué es una batimetría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763596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5000"/>
              </a:lnSpc>
              <a:spcBef>
                <a:spcPts val="20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s-ES_tradnl" sz="3200" spc="-1" strike="noStrike">
                <a:solidFill>
                  <a:srgbClr val="ffffcc"/>
                </a:solidFill>
                <a:latin typeface="Tahoma"/>
              </a:rPr>
              <a:t>Conjunto de operaciones encaminadas a medir una superficie submarina, para determinar su configuración topográfica y su ubicación geográfica, de modo de poder después dibujarla, para obtener cartas o planos.”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220968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BATIMETRIAS EXPLORATORIA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Sin especificaciones técnicas de la Armada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Información de anteproyecto.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038480"/>
            <a:ext cx="80773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BATIMETRIAS DE PRECISIO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Cumplen normas del SHOA (1)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Información para estudio definitivo.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(1) Servicio Hidrográfico y Oceanográfico de la Armada de Chile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Tahoma"/>
              </a:rPr>
              <a:t>Tipos de Batimetrí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184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Tahoma"/>
              </a:rPr>
              <a:t>Contraste de Sistemas Monohaz y Multihaz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1640" y="2133360"/>
            <a:ext cx="3368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cc"/>
                </a:solidFill>
                <a:latin typeface="Tahoma"/>
              </a:rPr>
              <a:t>MULTIHAZ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Se envían haces angostos de sonido hacia el fondo en forma de abanico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Se obtiene una imagen fiel y detallada del fondo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Sistemas de corrección de movimiento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2133360"/>
            <a:ext cx="340992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cc"/>
                </a:solidFill>
                <a:latin typeface="Tahoma"/>
              </a:rPr>
              <a:t>MONOHAZ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Se envía sólo una onda sonora angosta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Se obtiene una grilla equiespaciada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No siempre tiene sistemas de corrección de movimiento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228960" y="0"/>
            <a:ext cx="89917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      </a:t>
            </a:r>
            <a:r>
              <a:rPr b="1" lang="es-ES_tradnl" sz="4400" spc="-1" strike="noStrike">
                <a:solidFill>
                  <a:srgbClr val="ffffcc"/>
                </a:solidFill>
                <a:latin typeface="Tahoma"/>
              </a:rPr>
              <a:t>Monohaz</a:t>
            </a: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                </a:t>
            </a:r>
            <a:r>
              <a:rPr b="1" lang="es-ES_tradnl" sz="4400" spc="-1" strike="noStrike">
                <a:solidFill>
                  <a:srgbClr val="ffffcc"/>
                </a:solidFill>
                <a:latin typeface="Tahoma"/>
              </a:rPr>
              <a:t> Multihaz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38080" y="1523880"/>
          <a:ext cx="3009960" cy="403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523880"/>
                    <a:ext cx="300996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5410080" y="1523880"/>
            <a:ext cx="3009960" cy="4038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Tahoma"/>
              </a:rPr>
              <a:t>Esquema de Funcionamiento Multihaz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905120" y="1523880"/>
          <a:ext cx="4937040" cy="493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523880"/>
                    <a:ext cx="493704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218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Tahoma"/>
              </a:rPr>
              <a:t>Ejemplo de Registro Multihaz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1371600"/>
          <a:ext cx="6324480" cy="502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371600"/>
                    <a:ext cx="63244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Tahoma"/>
              </a:rPr>
              <a:t>Movimientos Corregid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14400" y="1371600"/>
          <a:ext cx="731520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371600"/>
                    <a:ext cx="73152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Tahoma"/>
              </a:rPr>
              <a:t>Proceso de Obtención de Dat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685800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Sonar: Emite y recibe ondas de sonido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Posicionador GPS: Proporciona coordenadas horizontale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Sensor de movimientos: Detecta movimientos de embarcación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Giróscopo: Detecta Norte verdadero y cambios de rumbo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722160" y="1143000"/>
            <a:ext cx="842184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EQUIPOS COMPONENTES DEL SISTEMA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1:16:33Z</dcterms:created>
  <dc:creator>Jorge Bravo</dc:creator>
  <dc:description/>
  <dc:language>en-US</dc:language>
  <cp:lastModifiedBy> ivan</cp:lastModifiedBy>
  <dcterms:modified xsi:type="dcterms:W3CDTF">2003-10-21T19:00:51Z</dcterms:modified>
  <cp:revision>88</cp:revision>
  <dc:subject/>
  <dc:title>Universidad de Chile</dc:title>
</cp:coreProperties>
</file>