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66D-B734-4393-B211-302A3A74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B96-8CA1-4C3A-8003-E77C4E3D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364-AE54-465E-BABC-AFF00CC5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E06-834A-491E-B7AF-CA8FB2CB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769-CD3F-4648-8B2B-371A23B6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382A-7113-4620-9661-9EEF2394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2E8E-8706-45B5-863B-6F35DED5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C782-5FB0-431B-A7B2-F1780125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3E0-D998-4823-BD70-530F7E0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E2B2-3233-4F32-B8B9-DDD50DE3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00FD-D086-44EF-80D4-A7DC128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958-E355-4ACF-9DA4-42D72E8E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B401-13CE-4BFD-A0E1-39430F9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A740-7533-4E9D-B1CC-0ADD906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719-C802-43E3-B4F4-4F999495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15D9-E757-4552-B2C0-54BA0F59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5679-229C-41DD-BDAD-CDF9B2B6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5CE-FE5D-482D-89AE-D6A9596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DA4-F274-4D29-B946-078B428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82B-8E5D-4527-B473-88CBB2D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D21-1FAB-46CE-8F6D-49E81374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D9E-9B30-4C17-BFA1-ED71EC4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6CF-7E67-4B0B-9BBE-BD5DFE2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1A-3E21-470F-A8F6-0C30016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1EDB-0308-4B67-BACE-53842140527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124A-559B-462E-A1EB-88CBCC09F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AD9B-FEDF-43A5-8E21-174B40BD905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BE1-7BA2-4DA6-907C-45BDE01CA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47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acultad de Ciencias Físicas y Matemátic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partamento de Ingeniería Civi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licaciones de la Tecnología Multihaz en Levantamientos Batimétrico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2400" y="260280"/>
            <a:ext cx="664920" cy="14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(CONTINUACION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4948200" cy="3416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 superficia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ftware de proceso: Se crea el “DTM” y se obtienen productos como planos de veriles y cálculo de volúme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nvío de Ondas Sono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10480" cy="473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Funcionamiento de Equipos Multihaz en San Vic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524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Vuelo Virtual del Fondo Mari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750960"/>
            <a:ext cx="7619760" cy="592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Análisis Comparativ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6000"/>
          <a:ext cx="4267080" cy="389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42670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181480" y="2286000"/>
          <a:ext cx="366876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286000"/>
                    <a:ext cx="3668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San Vicen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Caleta Port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Tahoma"/>
              </a:rPr>
              <a:t>Duraciones de Barrid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1371600"/>
          <a:ext cx="6933960" cy="49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219320" y="1371600"/>
                    <a:ext cx="69339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218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Comparación Técn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914400"/>
            <a:ext cx="5121360" cy="323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024440" y="3352680"/>
            <a:ext cx="5119560" cy="322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864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ono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ulti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ahoma"/>
              </a:rPr>
              <a:t>Gráfico de Comparación Económic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820800"/>
          <a:ext cx="7648560" cy="57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762120" y="820800"/>
                    <a:ext cx="764856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¿Qué es una batimetrí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6359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2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Conjunto de operaciones encaminadas a medir una superficie submarina, para determinar su configuración topográfica y su ubicación geográfica, de modo de poder después dibujarla, para obtener cartas o planos.”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096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EXPLORATORI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in especificaciones técnicas de la Armada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de anteproyect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80773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DE PRECIS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umplen normas del SHOA (1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para estudio definitiv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(1) Servicio Hidrográfico y Oceanográfico de la Armada de Chile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Tipos de Batimetrí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Contraste de Sistemas Monohaz y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3368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cc"/>
                </a:solidFill>
                <a:latin typeface="Tahoma"/>
              </a:rPr>
              <a:t>MULTI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envían haces angostos de sonido hacia el fondo en forma de abanic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obtiene una imagen fiel y detallada del fon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istemas de corrección de movimient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133360"/>
            <a:ext cx="340992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cc"/>
                </a:solidFill>
                <a:latin typeface="Tahoma"/>
              </a:rPr>
              <a:t>MONO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envía sólo una onda sonora angost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obtiene una grilla equiespaciad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No siempre tiene sistemas de corrección de movimiento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9917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nohaz</a:t>
            </a: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          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523880"/>
          <a:ext cx="300996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30099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30099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Esquema de Funcionamiento Multihaz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5120" y="1523880"/>
          <a:ext cx="4937040" cy="49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49370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21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jemplo de Registro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1371600"/>
          <a:ext cx="632448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32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vimientos Correg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371600"/>
          <a:ext cx="73152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371600"/>
                    <a:ext cx="73152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Proceso de Obtención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68580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nar: Emite y recibe ondas de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osicionador GPS: Proporciona coordenadas horizonta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ensor de movimientos: Detecta movimientos de embarcació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Giróscopo: Detecta Norte verdadero y cambios de rumb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22160" y="1143000"/>
            <a:ext cx="84218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DEL SISTEM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1:16:33Z</dcterms:created>
  <dc:creator>Jorge Bravo</dc:creator>
  <dc:description/>
  <dc:language>en-US</dc:language>
  <cp:lastModifiedBy> ivan</cp:lastModifiedBy>
  <dcterms:modified xsi:type="dcterms:W3CDTF">2003-10-21T19:00:51Z</dcterms:modified>
  <cp:revision>88</cp:revision>
  <dc:subject/>
  <dc:title>Universidad de Chile</dc:title>
</cp:coreProperties>
</file>