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D15-7255-4108-A273-DE8063DD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94E-D24C-46B1-A891-38E2DC6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4D9-EF7E-4D22-A39E-854F7CA1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994-B78E-4336-8F81-725CD585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5756-F3DC-4BC3-8C2D-B8731D06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5EE8-5FED-427B-A1B8-CE454072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6B8-498F-4767-832D-3FA3FABD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FB0E-24AA-4830-8D80-8DF0A453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7D0-ACE5-4D63-946A-C696DA9A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4EA5-B6FD-4DC3-A63F-592C327C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B87C-E7C6-4A0D-B3EB-0D177CF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D8A-7A5F-4746-9933-045E0ED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296E-CB3B-4BF5-969D-8F7EDEF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3F40-4580-4E0C-AAA6-2563FC2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52B5-5B35-407C-BEBA-8189BCC9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790F-46D5-4E9E-BAFD-A8C8389A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8666-8793-4591-9076-EA009A86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991-80A9-4C53-A3D2-3C361EC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C74-B47A-4D90-90B4-C80786E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770-EB7D-487B-B495-BFCF95C3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801-6E85-4EC8-8058-FA52336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8D8-3DAB-40DB-9A90-9A3283B3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7E7-9835-4589-8A93-D668DB9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604-FACB-43D8-A3DA-1CA8CE5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0A1-A851-457B-B2BA-54A4229EB71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8BC9-38B0-4E17-8634-EED0485B5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BB14-C784-4225-A78C-F8397C270BD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10A-B54E-42FC-9099-1C93A8568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47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acultad de Ciencias Físicas y Matemátic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partamento de Ingeniería Civi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licaciones de la Tecnología Multihaz en Levantamientos Batimétrico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2400" y="260280"/>
            <a:ext cx="664920" cy="14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(CONTINUACION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4948200" cy="3416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 superficia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ftware de proceso: Se crea el “DTM” y se obtienen productos como planos de veriles y cálculo de volúme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nvío de Ondas Sono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10480" cy="473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Funcionamiento de Equipos Multihaz en San Vic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524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Vuelo Virtual del Fondo Mari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750960"/>
            <a:ext cx="7619760" cy="592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Análisis Comparativ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6000"/>
          <a:ext cx="4267080" cy="389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42670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181480" y="2286000"/>
          <a:ext cx="366876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286000"/>
                    <a:ext cx="3668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San Vicen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Caleta Port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Tahoma"/>
              </a:rPr>
              <a:t>Duraciones de Barrid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1371600"/>
          <a:ext cx="6933960" cy="49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219320" y="1371600"/>
                    <a:ext cx="69339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218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Comparación Técn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914400"/>
            <a:ext cx="5121360" cy="323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024440" y="3352680"/>
            <a:ext cx="5119560" cy="322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864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ono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ulti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ahoma"/>
              </a:rPr>
              <a:t>Gráfico de Comparación Económic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820800"/>
          <a:ext cx="7648560" cy="57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762120" y="820800"/>
                    <a:ext cx="764856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¿Qué es una batimetrí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6359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2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Conjunto de operaciones encaminadas a medir una superficie submarina, para determinar su configuración topográfica y su ubicación geográfica, de modo de poder después dibujarla, para obtener cartas o planos.”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096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EXPLORATORI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in especificaciones técnicas de la Armada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de anteproyect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80773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DE PRECIS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umplen normas del SHOA (1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para estudio definitiv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(1) Servicio Hidrográfico y Oceanográfico de la Armada de Chile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Tipos de Batimetrí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Contraste de Sistemas Monohaz y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3368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cc"/>
                </a:solidFill>
                <a:latin typeface="Tahoma"/>
              </a:rPr>
              <a:t>MULTI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envían haces angostos de sonido hacia el fondo en forma de abanic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obtiene una imagen fiel y detallada del fon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istemas de corrección de movimient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133360"/>
            <a:ext cx="340992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cc"/>
                </a:solidFill>
                <a:latin typeface="Tahoma"/>
              </a:rPr>
              <a:t>MONO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envía sólo una onda sonora angost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obtiene una grilla equiespaciad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No siempre tiene sistemas de corrección de movimiento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9917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nohaz</a:t>
            </a: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          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523880"/>
          <a:ext cx="300996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30099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30099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Esquema de Funcionamiento Multihaz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5120" y="1523880"/>
          <a:ext cx="4937040" cy="49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49370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21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jemplo de Registro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1371600"/>
          <a:ext cx="632448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32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vimientos Correg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371600"/>
          <a:ext cx="73152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371600"/>
                    <a:ext cx="73152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Proceso de Obtención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68580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nar: Emite y recibe ondas de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osicionador GPS: Proporciona coordenadas horizonta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ensor de movimientos: Detecta movimientos de embarcació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Giróscopo: Detecta Norte verdadero y cambios de rumb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22160" y="1143000"/>
            <a:ext cx="84218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DEL SISTEM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1:16:33Z</dcterms:created>
  <dc:creator>Jorge Bravo</dc:creator>
  <dc:description/>
  <dc:language>en-US</dc:language>
  <cp:lastModifiedBy> ivan</cp:lastModifiedBy>
  <dcterms:modified xsi:type="dcterms:W3CDTF">2003-10-21T19:00:51Z</dcterms:modified>
  <cp:revision>88</cp:revision>
  <dc:subject/>
  <dc:title>Universidad de Chile</dc:title>
</cp:coreProperties>
</file>