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61D-1D71-434B-80D3-C3E64346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586-EA9F-49EC-9968-4294666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58F-17FE-4AF3-B8FD-EB791AEB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EAC-F8EC-4C75-A127-FF7881F8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D84-1411-4906-BA17-2C5A0553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C4CF-FCF8-43C0-8253-8814F0C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09BE-3394-48D5-A4B6-2509AC1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508-FABB-4066-9708-3EAC6841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BC57-F593-4814-9FAC-43D269C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277A-9221-447A-AC5B-A3C84C4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4BFF-6D47-4CDC-A0B6-C82E8FB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343-E0F6-497E-95B2-57E512F6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1D8C-465A-492D-B385-15D9098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341-A4D1-435A-84FF-920013D4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1037-31DE-4CEB-ABD0-325EFC2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048-E83D-4CA0-AAC2-814934E8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CA12-B5B9-4925-9FEC-CAC230FB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FC3-C07F-4F5D-B2EB-B7650E62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3C5-75A6-4716-91B2-1EFC33EA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76B-1318-46F0-9BA7-BA4ABA7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AF6-A032-4600-B697-067ED2B8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6D9B-A8D6-4074-9105-836C979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C626-10CA-435F-9F71-F91C964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85A-D1B5-49FE-90C6-20FAFD7D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26AA-4477-412C-8329-3645FDA1805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6C05-DB16-41B9-9AE6-AC6C2301C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CBE-8670-4DF6-923C-4BE9EA6F267E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ED7-4230-4A82-9CC5-4DDD14E5B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477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440" y="7621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acultad de Ciencias Físicas y Matemática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partamento de Ingeniería Civi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plicaciones de la Tecnología Multihaz en Levantamientos Batimétricos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2400" y="260280"/>
            <a:ext cx="664920" cy="14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(CONTINUACION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948200" cy="34160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erfilador de velocidad del sonido superficia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ftware de proceso: Se crea el “DTM” y se obtienen productos como planos de veriles y cálculo de volúme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nvío de Ondas Sono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1048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421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Funcionamiento de Equipos Multihaz en San Vic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696080" cy="524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Vuelo Virtual del Fondo Mari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750960"/>
            <a:ext cx="7619760" cy="5927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Análisis Comparativ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6000"/>
          <a:ext cx="4267080" cy="389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0"/>
                    <a:ext cx="42670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181480" y="2286000"/>
          <a:ext cx="3668760" cy="396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2286000"/>
                    <a:ext cx="36687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San Vicent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ahoma"/>
              </a:rPr>
              <a:t>Caleta Port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cc"/>
                </a:solidFill>
                <a:latin typeface="Tahoma"/>
              </a:rPr>
              <a:t>Duraciones de Barrid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1371600"/>
          <a:ext cx="6933960" cy="491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1219320" y="1371600"/>
                    <a:ext cx="693396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218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Comparación Técn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914400"/>
            <a:ext cx="5121360" cy="3230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4024440" y="3352680"/>
            <a:ext cx="5119560" cy="3221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864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ono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5562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Fondo Multihaz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96775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cc"/>
                </a:solidFill>
                <a:latin typeface="Tahoma"/>
              </a:rPr>
              <a:t>Gráfico de Comparación Económic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820800"/>
          <a:ext cx="7648560" cy="5732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>
                    <a:alphaModFix amt="50000"/>
                  </a:blip>
                  <a:stretch/>
                </p:blipFill>
                <p:spPr>
                  <a:xfrm>
                    <a:off x="762120" y="820800"/>
                    <a:ext cx="764856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¿Qué es una batimetría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3596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2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cc"/>
                </a:solidFill>
                <a:latin typeface="Tahoma"/>
              </a:rPr>
              <a:t>Conjunto de operaciones encaminadas a medir una superficie submarina, para determinar su configuración topográfica y su ubicación geográfica, de modo de poder después dibujarla, para obtener cartas o planos.”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220968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EXPLORATORIA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in especificaciones técnicas de la Armada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de anteproyect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038480"/>
            <a:ext cx="80773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BATIMETRIAS DE PRECIS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umplen normas del SHOA (1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Información para estudio definitivo.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1) Servicio Hidrográfico y Oceanográfico de la Armada de Chile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Tipos de Batimetrí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Tahoma"/>
              </a:rPr>
              <a:t>Contraste de Sistemas Monohaz y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1640" y="2133360"/>
            <a:ext cx="3368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cc"/>
                </a:solidFill>
                <a:latin typeface="Tahoma"/>
              </a:rPr>
              <a:t>MULTI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envían haces angostos de sonido hacia el fondo en forma de abanic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e obtiene una imagen fiel y detallada del fondo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Tahoma"/>
              </a:rPr>
              <a:t>Sistemas de corrección de movimiento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133360"/>
            <a:ext cx="340992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cc"/>
                </a:solidFill>
                <a:latin typeface="Tahoma"/>
              </a:rPr>
              <a:t>MONOHAZ</a:t>
            </a:r>
            <a:endParaRPr b="0" lang="en-US" sz="2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envía sólo una onda sonora angost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Se obtiene una grilla equiespaciad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No siempre tiene sistemas de corrección de movimiento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9917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nohaz</a:t>
            </a:r>
            <a:r>
              <a:rPr b="1" lang="es-ES_tradnl" sz="4400" spc="-1" strike="noStrike">
                <a:solidFill>
                  <a:srgbClr val="ffffcc"/>
                </a:solidFill>
                <a:latin typeface="Arial Narrow"/>
              </a:rPr>
              <a:t>                </a:t>
            </a: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523880"/>
          <a:ext cx="3009960" cy="40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523880"/>
                    <a:ext cx="300996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3009960" cy="403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ahoma"/>
              </a:rPr>
              <a:t>Esquema de Funcionamiento Multihaz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05120" y="1523880"/>
          <a:ext cx="4937040" cy="493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4937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218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Ejemplo de Registro Multihaz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1371600"/>
          <a:ext cx="632448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371600"/>
                    <a:ext cx="6324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Movimientos Corregid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1371600"/>
          <a:ext cx="731520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371600"/>
                    <a:ext cx="73152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Tahoma"/>
              </a:rPr>
              <a:t>Proceso de Obtención de 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68580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onar: Emite y recibe ondas de sonid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osicionador GPS: Proporciona coordenadas horizontal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Sensor de movimientos: Detecta movimientos de embarcació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Giróscopo: Detecta Norte verdadero y cambios de rumb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22160" y="1143000"/>
            <a:ext cx="84218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EQUIPOS COMPONENTES DEL SISTEMA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5T21:16:33Z</dcterms:created>
  <dc:creator>Jorge Bravo</dc:creator>
  <dc:description/>
  <dc:language>en-US</dc:language>
  <cp:lastModifiedBy> ivan</cp:lastModifiedBy>
  <dcterms:modified xsi:type="dcterms:W3CDTF">2003-10-21T19:00:51Z</dcterms:modified>
  <cp:revision>88</cp:revision>
  <dc:subject/>
  <dc:title>Universidad de Chile</dc:title>
</cp:coreProperties>
</file>