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3CC-B95E-4DD9-83BA-A8347761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98B-E629-4BB7-9112-0A45FE5A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23B-5A84-4E32-8EEA-C0FF55E3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5882-D208-4EDC-8794-122506A7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9299-C2A4-42FC-85AB-C9D4985A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EC65-73D8-43CE-AB14-D795F27C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D9A-1AEB-42B4-8989-F0A9A950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DD3-6C6D-45E5-AE30-22172D11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D996-3A16-4C0A-BF29-0C5BE039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BE1-89B3-4E06-B7F4-D7A40B50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409-3C39-4188-85D7-F98D57DD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3A55-E8BB-4CB1-B251-20ABDCDB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C6E3-9841-4CD5-A059-F4118B419A7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931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934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938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941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944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949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953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955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959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964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 flipV="1">
            <a:off x="4689360" y="4938480"/>
            <a:ext cx="52560" cy="129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 flipV="1">
            <a:off x="4481280" y="4571640"/>
            <a:ext cx="75960" cy="1191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240080" y="4227480"/>
            <a:ext cx="82800" cy="112680"/>
          </a:xfrm>
          <a:custGeom>
            <a:avLst/>
            <a:gdLst/>
            <a:ahLst/>
            <a:rect l="l" t="t" r="r" b="b"/>
            <a:pathLst>
              <a:path w="209" h="287">
                <a:moveTo>
                  <a:pt x="209" y="287"/>
                </a:moveTo>
                <a:lnTo>
                  <a:pt x="88" y="11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 flipV="1">
            <a:off x="3978000" y="3897360"/>
            <a:ext cx="88920" cy="1080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841920" y="3736800"/>
            <a:ext cx="90360" cy="10656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3411000" y="3273480"/>
            <a:ext cx="96840" cy="1015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108240" y="2982960"/>
            <a:ext cx="101520" cy="95040"/>
          </a:xfrm>
          <a:custGeom>
            <a:avLst/>
            <a:gdLst/>
            <a:ahLst/>
            <a:rect l="l" t="t" r="r" b="b"/>
            <a:pathLst>
              <a:path w="258" h="241">
                <a:moveTo>
                  <a:pt x="258" y="241"/>
                </a:moveTo>
                <a:lnTo>
                  <a:pt x="140" y="12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 flipV="1">
            <a:off x="2790720" y="2704680"/>
            <a:ext cx="108000" cy="889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54120" y="2451240"/>
            <a:ext cx="114480" cy="81000"/>
          </a:xfrm>
          <a:custGeom>
            <a:avLst/>
            <a:gdLst/>
            <a:ahLst/>
            <a:rect l="l" t="t" r="r" b="b"/>
            <a:pathLst>
              <a:path w="287" h="205">
                <a:moveTo>
                  <a:pt x="287" y="205"/>
                </a:moveTo>
                <a:lnTo>
                  <a:pt x="102" y="6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082960" y="2255760"/>
            <a:ext cx="129960" cy="52560"/>
          </a:xfrm>
          <a:custGeom>
            <a:avLst/>
            <a:gdLst/>
            <a:ahLst/>
            <a:rect l="l" t="t" r="r" b="b"/>
            <a:pathLst>
              <a:path w="326" h="133">
                <a:moveTo>
                  <a:pt x="326" y="133"/>
                </a:moveTo>
                <a:lnTo>
                  <a:pt x="173" y="5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99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99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99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3317400" y="18763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317760" y="22129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316320" y="2549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3316320" y="28861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314880" y="32241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314880" y="35607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3312720" y="38973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313080" y="4235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311640" y="457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3309480" y="4908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09840" y="524664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308400" y="55832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411200" y="3786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749600" y="3789360"/>
            <a:ext cx="110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08584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422440" y="3794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759040" y="3797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097080" y="37987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33680" y="3801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772080" y="3805200"/>
            <a:ext cx="110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108320" y="380700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444920" y="380988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78152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19560" y="3814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1062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1067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1073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>
            <a:off x="1241280" y="3683160"/>
            <a:ext cx="104760" cy="102960"/>
          </a:xfrm>
          <a:custGeom>
            <a:avLst/>
            <a:gdLst/>
            <a:ahLst/>
            <a:rect l="l" t="t" r="r" b="b"/>
            <a:pathLst>
              <a:path w="263" h="261">
                <a:moveTo>
                  <a:pt x="0" y="261"/>
                </a:moveTo>
                <a:lnTo>
                  <a:pt x="213" y="24"/>
                </a:lnTo>
                <a:lnTo>
                  <a:pt x="26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604880" y="3534840"/>
            <a:ext cx="1350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014560" y="3454560"/>
            <a:ext cx="138240" cy="25200"/>
          </a:xfrm>
          <a:custGeom>
            <a:avLst/>
            <a:gdLst/>
            <a:ahLst/>
            <a:rect l="l" t="t" r="r" b="b"/>
            <a:pathLst>
              <a:path w="348" h="63">
                <a:moveTo>
                  <a:pt x="0" y="63"/>
                </a:moveTo>
                <a:lnTo>
                  <a:pt x="310" y="4"/>
                </a:lnTo>
                <a:lnTo>
                  <a:pt x="3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432160" y="3403440"/>
            <a:ext cx="139680" cy="16200"/>
          </a:xfrm>
          <a:custGeom>
            <a:avLst/>
            <a:gdLst/>
            <a:ahLst/>
            <a:rect l="l" t="t" r="r" b="b"/>
            <a:pathLst>
              <a:path w="350" h="40">
                <a:moveTo>
                  <a:pt x="0" y="40"/>
                </a:moveTo>
                <a:lnTo>
                  <a:pt x="297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2851200" y="337464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3271680" y="3365640"/>
            <a:ext cx="1414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429000" y="3352680"/>
            <a:ext cx="193680" cy="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03840" y="3373560"/>
            <a:ext cx="141120" cy="9360"/>
          </a:xfrm>
          <a:custGeom>
            <a:avLst/>
            <a:gdLst/>
            <a:ahLst/>
            <a:rect l="l" t="t" r="r" b="b"/>
            <a:pathLst>
              <a:path w="354" h="23">
                <a:moveTo>
                  <a:pt x="0" y="0"/>
                </a:moveTo>
                <a:lnTo>
                  <a:pt x="49" y="2"/>
                </a:lnTo>
                <a:lnTo>
                  <a:pt x="354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324320" y="3403440"/>
            <a:ext cx="139680" cy="17640"/>
          </a:xfrm>
          <a:custGeom>
            <a:avLst/>
            <a:gdLst/>
            <a:ahLst/>
            <a:rect l="l" t="t" r="r" b="b"/>
            <a:pathLst>
              <a:path w="350" h="42">
                <a:moveTo>
                  <a:pt x="0" y="0"/>
                </a:moveTo>
                <a:lnTo>
                  <a:pt x="69" y="5"/>
                </a:lnTo>
                <a:lnTo>
                  <a:pt x="350" y="4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741920" y="3459240"/>
            <a:ext cx="136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149800" y="3564000"/>
            <a:ext cx="127080" cy="55440"/>
          </a:xfrm>
          <a:custGeom>
            <a:avLst/>
            <a:gdLst/>
            <a:ahLst/>
            <a:rect l="l" t="t" r="r" b="b"/>
            <a:pathLst>
              <a:path w="323" h="139">
                <a:moveTo>
                  <a:pt x="0" y="0"/>
                </a:moveTo>
                <a:lnTo>
                  <a:pt x="263" y="95"/>
                </a:lnTo>
                <a:lnTo>
                  <a:pt x="323" y="1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1098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1119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1123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4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1157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5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8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459320" y="4933800"/>
            <a:ext cx="14400" cy="154080"/>
          </a:xfrm>
          <a:custGeom>
            <a:avLst/>
            <a:gdLst/>
            <a:ahLst/>
            <a:rect l="l" t="t" r="r" b="b"/>
            <a:pathLst>
              <a:path w="37" h="388">
                <a:moveTo>
                  <a:pt x="0" y="388"/>
                </a:moveTo>
                <a:lnTo>
                  <a:pt x="37" y="190"/>
                </a:lnTo>
                <a:lnTo>
                  <a:pt x="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289400" y="4537080"/>
            <a:ext cx="68400" cy="127080"/>
          </a:xfrm>
          <a:custGeom>
            <a:avLst/>
            <a:gdLst/>
            <a:ahLst/>
            <a:rect l="l" t="t" r="r" b="b"/>
            <a:pathLst>
              <a:path w="173" h="322">
                <a:moveTo>
                  <a:pt x="173" y="322"/>
                </a:moveTo>
                <a:lnTo>
                  <a:pt x="76" y="12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054320" y="4168800"/>
            <a:ext cx="81000" cy="122040"/>
          </a:xfrm>
          <a:custGeom>
            <a:avLst/>
            <a:gdLst/>
            <a:ahLst/>
            <a:rect l="l" t="t" r="r" b="b"/>
            <a:pathLst>
              <a:path w="206" h="304">
                <a:moveTo>
                  <a:pt x="206" y="304"/>
                </a:moveTo>
                <a:lnTo>
                  <a:pt x="25" y="3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 flipV="1">
            <a:off x="3790800" y="3822480"/>
            <a:ext cx="9072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H="1" flipV="1">
            <a:off x="3513240" y="3486240"/>
            <a:ext cx="936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218040" y="3165480"/>
            <a:ext cx="99720" cy="104760"/>
          </a:xfrm>
          <a:custGeom>
            <a:avLst/>
            <a:gdLst/>
            <a:ahLst/>
            <a:rect l="l" t="t" r="r" b="b"/>
            <a:pathLst>
              <a:path w="251" h="265">
                <a:moveTo>
                  <a:pt x="251" y="265"/>
                </a:moveTo>
                <a:lnTo>
                  <a:pt x="188" y="19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752560" y="2705040"/>
            <a:ext cx="106560" cy="98640"/>
          </a:xfrm>
          <a:custGeom>
            <a:avLst/>
            <a:gdLst/>
            <a:ahLst/>
            <a:rect l="l" t="t" r="r" b="b"/>
            <a:pathLst>
              <a:path w="269" h="249">
                <a:moveTo>
                  <a:pt x="269" y="249"/>
                </a:moveTo>
                <a:lnTo>
                  <a:pt x="234" y="2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 flipV="1">
            <a:off x="2425320" y="2417760"/>
            <a:ext cx="11124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2076120" y="2155680"/>
            <a:ext cx="119160" cy="8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693800" y="1952640"/>
            <a:ext cx="133560" cy="55440"/>
          </a:xfrm>
          <a:custGeom>
            <a:avLst/>
            <a:gdLst/>
            <a:ahLst/>
            <a:rect l="l" t="t" r="r" b="b"/>
            <a:pathLst>
              <a:path w="339" h="139">
                <a:moveTo>
                  <a:pt x="339" y="139"/>
                </a:moveTo>
                <a:lnTo>
                  <a:pt x="76" y="1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970360" y="156060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2970360" y="19098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68560" y="22590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68560" y="260676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2967120" y="29559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967120" y="33051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2964960" y="38275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2963880" y="41767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963880" y="43513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963880" y="45259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963880" y="469908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>
            <a:off x="2962440" y="48736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2962440" y="50482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962440" y="53974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996840" y="353844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346040" y="35416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6956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44800" y="354636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392200" y="354816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741760" y="355140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0909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440160" y="3556080"/>
            <a:ext cx="982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787920" y="3559320"/>
            <a:ext cx="117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371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486320" y="356400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66092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835520" y="35672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995400" y="3338640"/>
            <a:ext cx="133200" cy="55440"/>
          </a:xfrm>
          <a:custGeom>
            <a:avLst/>
            <a:gdLst/>
            <a:ahLst/>
            <a:rect l="l" t="t" r="r" b="b"/>
            <a:pathLst>
              <a:path w="339" h="139">
                <a:moveTo>
                  <a:pt x="0" y="139"/>
                </a:moveTo>
                <a:lnTo>
                  <a:pt x="267" y="22"/>
                </a:lnTo>
                <a:lnTo>
                  <a:pt x="33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09760" y="3230640"/>
            <a:ext cx="141120" cy="30240"/>
          </a:xfrm>
          <a:custGeom>
            <a:avLst/>
            <a:gdLst/>
            <a:ahLst/>
            <a:rect l="l" t="t" r="r" b="b"/>
            <a:pathLst>
              <a:path w="358" h="75">
                <a:moveTo>
                  <a:pt x="0" y="75"/>
                </a:moveTo>
                <a:lnTo>
                  <a:pt x="226" y="22"/>
                </a:lnTo>
                <a:lnTo>
                  <a:pt x="35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1838160" y="3165120"/>
            <a:ext cx="1447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271600" y="3124080"/>
            <a:ext cx="144720" cy="11160"/>
          </a:xfrm>
          <a:custGeom>
            <a:avLst/>
            <a:gdLst/>
            <a:ahLst/>
            <a:rect l="l" t="t" r="r" b="b"/>
            <a:pathLst>
              <a:path w="365" h="28">
                <a:moveTo>
                  <a:pt x="0" y="28"/>
                </a:moveTo>
                <a:lnTo>
                  <a:pt x="142" y="14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2706840" y="3104640"/>
            <a:ext cx="1443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141720" y="3102120"/>
            <a:ext cx="146160" cy="1440"/>
          </a:xfrm>
          <a:custGeom>
            <a:avLst/>
            <a:gdLst/>
            <a:ahLst/>
            <a:rect l="l" t="t" r="r" b="b"/>
            <a:pathLst>
              <a:path w="367" h="0">
                <a:moveTo>
                  <a:pt x="0" y="0"/>
                </a:moveTo>
                <a:lnTo>
                  <a:pt x="355" y="0"/>
                </a:lnTo>
                <a:lnTo>
                  <a:pt x="36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578400" y="3110040"/>
            <a:ext cx="145800" cy="9360"/>
          </a:xfrm>
          <a:custGeom>
            <a:avLst/>
            <a:gdLst/>
            <a:ahLst/>
            <a:rect l="l" t="t" r="r" b="b"/>
            <a:pathLst>
              <a:path w="365" h="22">
                <a:moveTo>
                  <a:pt x="0" y="0"/>
                </a:moveTo>
                <a:lnTo>
                  <a:pt x="48" y="1"/>
                </a:lnTo>
                <a:lnTo>
                  <a:pt x="365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013280" y="3141720"/>
            <a:ext cx="14436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867200" y="3305160"/>
            <a:ext cx="133560" cy="58680"/>
          </a:xfrm>
          <a:custGeom>
            <a:avLst/>
            <a:gdLst/>
            <a:ahLst/>
            <a:rect l="l" t="t" r="r" b="b"/>
            <a:pathLst>
              <a:path w="333" h="149">
                <a:moveTo>
                  <a:pt x="0" y="0"/>
                </a:moveTo>
                <a:lnTo>
                  <a:pt x="268" y="106"/>
                </a:lnTo>
                <a:lnTo>
                  <a:pt x="333" y="1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6240" y="3989520"/>
            <a:ext cx="111240" cy="46080"/>
          </a:xfrm>
          <a:custGeom>
            <a:avLst/>
            <a:gdLst/>
            <a:ahLst/>
            <a:rect l="l" t="t" r="r" b="b"/>
            <a:pathLst>
              <a:path w="282" h="116">
                <a:moveTo>
                  <a:pt x="0" y="116"/>
                </a:moveTo>
                <a:lnTo>
                  <a:pt x="102" y="61"/>
                </a:lnTo>
                <a:lnTo>
                  <a:pt x="28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90760" y="3897360"/>
            <a:ext cx="117720" cy="252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46440" y="3843360"/>
            <a:ext cx="120600" cy="14400"/>
          </a:xfrm>
          <a:custGeom>
            <a:avLst/>
            <a:gdLst/>
            <a:ahLst/>
            <a:rect l="l" t="t" r="r" b="b"/>
            <a:pathLst>
              <a:path w="302" h="39">
                <a:moveTo>
                  <a:pt x="0" y="39"/>
                </a:moveTo>
                <a:lnTo>
                  <a:pt x="138" y="17"/>
                </a:lnTo>
                <a:lnTo>
                  <a:pt x="3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08600" y="3809880"/>
            <a:ext cx="1188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20"/>
                </a:moveTo>
                <a:lnTo>
                  <a:pt x="38" y="15"/>
                </a:lnTo>
                <a:lnTo>
                  <a:pt x="30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51480" y="378900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5800" y="3797280"/>
            <a:ext cx="1206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57960" y="3822840"/>
            <a:ext cx="120600" cy="140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6520" y="3871800"/>
            <a:ext cx="119160" cy="20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68960" y="3959280"/>
            <a:ext cx="111240" cy="475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56120" y="5180040"/>
            <a:ext cx="9720" cy="119160"/>
          </a:xfrm>
          <a:custGeom>
            <a:avLst/>
            <a:gdLst/>
            <a:ahLst/>
            <a:rect l="l" t="t" r="r" b="b"/>
            <a:pathLst>
              <a:path w="26" h="300">
                <a:moveTo>
                  <a:pt x="11" y="300"/>
                </a:moveTo>
                <a:lnTo>
                  <a:pt x="26" y="13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753160" y="4832280"/>
            <a:ext cx="4104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6480" y="4511520"/>
            <a:ext cx="60120" cy="104760"/>
          </a:xfrm>
          <a:custGeom>
            <a:avLst/>
            <a:gdLst/>
            <a:ahLst/>
            <a:rect l="l" t="t" r="r" b="b"/>
            <a:pathLst>
              <a:path w="150" h="264">
                <a:moveTo>
                  <a:pt x="150" y="264"/>
                </a:moveTo>
                <a:lnTo>
                  <a:pt x="87" y="14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86320" y="4208400"/>
            <a:ext cx="71640" cy="96840"/>
          </a:xfrm>
          <a:custGeom>
            <a:avLst/>
            <a:gdLst/>
            <a:ahLst/>
            <a:rect l="l" t="t" r="r" b="b"/>
            <a:pathLst>
              <a:path w="179" h="247">
                <a:moveTo>
                  <a:pt x="179" y="247"/>
                </a:moveTo>
                <a:lnTo>
                  <a:pt x="169" y="23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65640" y="3921120"/>
            <a:ext cx="77760" cy="921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924440" y="3649680"/>
            <a:ext cx="84240" cy="87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665240" y="3395160"/>
            <a:ext cx="88920" cy="81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387320" y="3161880"/>
            <a:ext cx="9540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091040" y="2954160"/>
            <a:ext cx="100080" cy="66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62360" y="2801880"/>
            <a:ext cx="112680" cy="41400"/>
          </a:xfrm>
          <a:custGeom>
            <a:avLst/>
            <a:gdLst/>
            <a:ahLst/>
            <a:rect l="l" t="t" r="r" b="b"/>
            <a:pathLst>
              <a:path w="285" h="104">
                <a:moveTo>
                  <a:pt x="285" y="104"/>
                </a:moveTo>
                <a:lnTo>
                  <a:pt x="188" y="5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33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47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49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4400" y="5757840"/>
            <a:ext cx="93600" cy="10656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177" y="202"/>
                </a:moveTo>
                <a:lnTo>
                  <a:pt x="62" y="9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7200" y="5372280"/>
            <a:ext cx="54000" cy="133200"/>
          </a:xfrm>
          <a:custGeom>
            <a:avLst/>
            <a:gdLst/>
            <a:ahLst/>
            <a:rect l="l" t="t" r="r" b="b"/>
            <a:pathLst>
              <a:path w="102" h="251">
                <a:moveTo>
                  <a:pt x="102" y="251"/>
                </a:move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63880" y="4954680"/>
            <a:ext cx="28800" cy="141120"/>
          </a:xfrm>
          <a:custGeom>
            <a:avLst/>
            <a:gdLst/>
            <a:ahLst/>
            <a:rect l="l" t="t" r="r" b="b"/>
            <a:pathLst>
              <a:path w="53" h="266">
                <a:moveTo>
                  <a:pt x="53" y="266"/>
                </a:moveTo>
                <a:lnTo>
                  <a:pt x="40" y="21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803400" y="452880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776760" y="36698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825720" y="3029040"/>
            <a:ext cx="25560" cy="1411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909960" y="2611440"/>
            <a:ext cx="38160" cy="138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8200" y="2216160"/>
            <a:ext cx="68040" cy="12708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0" y="238"/>
                </a:moveTo>
                <a:lnTo>
                  <a:pt x="41" y="137"/>
                </a:lnTo>
                <a:lnTo>
                  <a:pt x="12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96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301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32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49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63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68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73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74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85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93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426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36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45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53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60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65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71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75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13280" y="4908600"/>
            <a:ext cx="32040" cy="129960"/>
          </a:xfrm>
          <a:custGeom>
            <a:avLst/>
            <a:gdLst/>
            <a:ahLst/>
            <a:rect l="l" t="t" r="r" b="b"/>
            <a:pathLst>
              <a:path w="61" h="247">
                <a:moveTo>
                  <a:pt x="61" y="247"/>
                </a:moveTo>
                <a:lnTo>
                  <a:pt x="31" y="85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653080" y="4535280"/>
            <a:ext cx="61920" cy="120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447880" y="4186080"/>
            <a:ext cx="7308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5213520" y="3855960"/>
            <a:ext cx="79200" cy="109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4815000" y="33951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525920" y="3111120"/>
            <a:ext cx="100080" cy="903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75080" y="2975040"/>
            <a:ext cx="101520" cy="90360"/>
          </a:xfrm>
          <a:custGeom>
            <a:avLst/>
            <a:gdLst/>
            <a:ahLst/>
            <a:rect l="l" t="t" r="r" b="b"/>
            <a:pathLst>
              <a:path w="190" h="171">
                <a:moveTo>
                  <a:pt x="190" y="171"/>
                </a:moveTo>
                <a:lnTo>
                  <a:pt x="12" y="1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4216320" y="2849400"/>
            <a:ext cx="106560" cy="842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82960" y="2617560"/>
            <a:ext cx="11448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19560" y="2409840"/>
            <a:ext cx="131760" cy="19080"/>
          </a:xfrm>
          <a:custGeom>
            <a:avLst/>
            <a:gdLst/>
            <a:ahLst/>
            <a:rect l="l" t="t" r="r" b="b"/>
            <a:pathLst>
              <a:path w="250" h="36">
                <a:moveTo>
                  <a:pt x="250" y="36"/>
                </a:moveTo>
                <a:lnTo>
                  <a:pt x="138" y="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84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89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93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96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99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610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631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635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638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645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650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654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657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615840" y="1925640"/>
            <a:ext cx="1800" cy="11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14760" y="22654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14760" y="26049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613320" y="29448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13320" y="3284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11520" y="36226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610080" y="3962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10080" y="430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10080" y="46418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607920" y="497988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08280" y="53197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06840" y="5659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97040" y="3849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35080" y="3852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7492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14760" y="3857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52800" y="3860640"/>
            <a:ext cx="11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9264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2120" y="38656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196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11800" y="3870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49840" y="387360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8968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29160" y="3878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720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725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731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735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93800" y="3657600"/>
            <a:ext cx="128520" cy="57240"/>
          </a:xfrm>
          <a:custGeom>
            <a:avLst/>
            <a:gdLst/>
            <a:ahLst/>
            <a:rect l="l" t="t" r="r" b="b"/>
            <a:pathLst>
              <a:path w="325" h="145">
                <a:moveTo>
                  <a:pt x="0" y="145"/>
                </a:moveTo>
                <a:lnTo>
                  <a:pt x="257" y="2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095560" y="355392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513160" y="3489480"/>
            <a:ext cx="13968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933640" y="3449160"/>
            <a:ext cx="1414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357720" y="343008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81440" y="342432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05160" y="3433680"/>
            <a:ext cx="141480" cy="9720"/>
          </a:xfrm>
          <a:custGeom>
            <a:avLst/>
            <a:gdLst/>
            <a:ahLst/>
            <a:rect l="l" t="t" r="r" b="b"/>
            <a:pathLst>
              <a:path w="355" h="23">
                <a:moveTo>
                  <a:pt x="0" y="0"/>
                </a:moveTo>
                <a:lnTo>
                  <a:pt x="49" y="1"/>
                </a:lnTo>
                <a:lnTo>
                  <a:pt x="355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29240" y="3463920"/>
            <a:ext cx="139680" cy="17640"/>
          </a:xfrm>
          <a:custGeom>
            <a:avLst/>
            <a:gdLst/>
            <a:ahLst/>
            <a:rect l="l" t="t" r="r" b="b"/>
            <a:pathLst>
              <a:path w="353" h="43">
                <a:moveTo>
                  <a:pt x="0" y="0"/>
                </a:moveTo>
                <a:lnTo>
                  <a:pt x="70" y="6"/>
                </a:lnTo>
                <a:lnTo>
                  <a:pt x="353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49720" y="3519360"/>
            <a:ext cx="1382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59400" y="3625920"/>
            <a:ext cx="128520" cy="55440"/>
          </a:xfrm>
          <a:custGeom>
            <a:avLst/>
            <a:gdLst/>
            <a:ahLst/>
            <a:rect l="l" t="t" r="r" b="b"/>
            <a:pathLst>
              <a:path w="325" h="140">
                <a:moveTo>
                  <a:pt x="0" y="0"/>
                </a:moveTo>
                <a:lnTo>
                  <a:pt x="265" y="96"/>
                </a:lnTo>
                <a:lnTo>
                  <a:pt x="325" y="1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765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766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252120" y="2590920"/>
            <a:ext cx="271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782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787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791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798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803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807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810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71840" y="3370320"/>
            <a:ext cx="934920" cy="93492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3938760" y="1995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938760" y="2320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936960" y="264492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3936600" y="297036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935520" y="329580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935520" y="362124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3933360" y="394668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933720" y="427212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32280" y="459576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932280" y="4921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930480" y="5246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30480" y="557208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00240" y="3838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424240" y="384192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749680" y="38433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075120" y="384660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562200" y="3849840"/>
            <a:ext cx="10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887640" y="3851280"/>
            <a:ext cx="10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213080" y="385452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38520" y="385596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63960" y="38592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189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13400" y="386388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838840" y="386712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872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877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883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884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097000" y="3652920"/>
            <a:ext cx="123840" cy="55440"/>
          </a:xfrm>
          <a:custGeom>
            <a:avLst/>
            <a:gdLst/>
            <a:ahLst/>
            <a:rect l="l" t="t" r="r" b="b"/>
            <a:pathLst>
              <a:path w="311" h="139">
                <a:moveTo>
                  <a:pt x="0" y="139"/>
                </a:moveTo>
                <a:lnTo>
                  <a:pt x="246" y="19"/>
                </a:lnTo>
                <a:lnTo>
                  <a:pt x="31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2481120" y="3553920"/>
            <a:ext cx="13356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2881440" y="3492000"/>
            <a:ext cx="134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328608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369252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097160" y="3430440"/>
            <a:ext cx="136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505400" y="3440160"/>
            <a:ext cx="135000" cy="7920"/>
          </a:xfrm>
          <a:custGeom>
            <a:avLst/>
            <a:gdLst/>
            <a:ahLst/>
            <a:rect l="l" t="t" r="r" b="b"/>
            <a:pathLst>
              <a:path w="341" h="23">
                <a:moveTo>
                  <a:pt x="0" y="0"/>
                </a:moveTo>
                <a:lnTo>
                  <a:pt x="47" y="2"/>
                </a:lnTo>
                <a:lnTo>
                  <a:pt x="341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910040" y="3468600"/>
            <a:ext cx="135000" cy="15840"/>
          </a:xfrm>
          <a:custGeom>
            <a:avLst/>
            <a:gdLst/>
            <a:ahLst/>
            <a:rect l="l" t="t" r="r" b="b"/>
            <a:pathLst>
              <a:path w="338" h="41">
                <a:moveTo>
                  <a:pt x="0" y="0"/>
                </a:moveTo>
                <a:lnTo>
                  <a:pt x="67" y="5"/>
                </a:lnTo>
                <a:lnTo>
                  <a:pt x="338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313240" y="3522600"/>
            <a:ext cx="13176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705640" y="3624120"/>
            <a:ext cx="123840" cy="52560"/>
          </a:xfrm>
          <a:custGeom>
            <a:avLst/>
            <a:gdLst/>
            <a:ahLst/>
            <a:rect l="l" t="t" r="r" b="b"/>
            <a:pathLst>
              <a:path w="311" h="134">
                <a:moveTo>
                  <a:pt x="0" y="0"/>
                </a:moveTo>
                <a:lnTo>
                  <a:pt x="254" y="92"/>
                </a:lnTo>
                <a:lnTo>
                  <a:pt x="311" y="1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911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912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geo</cp:lastModifiedBy>
  <dcterms:modified xsi:type="dcterms:W3CDTF">2004-11-04T21:24:21Z</dcterms:modified>
  <cp:revision>284</cp:revision>
  <dc:subject/>
  <dc:title>Sin título de diapositiva</dc:title>
</cp:coreProperties>
</file>