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082-95F3-442D-A2E4-371F9BAD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20B-17D8-4631-AACD-7B3BC68B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C33-D130-47BE-B555-B9CB4F64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DA8-B70C-4C1A-97CC-A97024A9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B58-4B96-400A-88D6-3EF98474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070-4CA4-477A-9C12-A27BB5F5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D08-8474-43D9-AA6A-22CE1C50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AF5-3C58-4654-864B-51DBE6DB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5E7-6FFF-45CF-B701-172168C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23D-E1F9-40A6-AEAC-2F998FB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90B-3E31-4CF5-AB76-EB7C980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35B-ADB3-4FFF-9174-CD1F9C61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3C98-D1E6-4B19-8456-79CA60632B3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1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4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38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1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4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49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3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55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59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4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4689360" y="4938480"/>
            <a:ext cx="52560" cy="129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4481280" y="4571640"/>
            <a:ext cx="75960" cy="1191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40080" y="4227480"/>
            <a:ext cx="82800" cy="112680"/>
          </a:xfrm>
          <a:custGeom>
            <a:avLst/>
            <a:gdLst/>
            <a:ahLst/>
            <a:rect l="l" t="t" r="r" b="b"/>
            <a:pathLst>
              <a:path w="209" h="287">
                <a:moveTo>
                  <a:pt x="209" y="287"/>
                </a:moveTo>
                <a:lnTo>
                  <a:pt x="88" y="1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3978000" y="3897360"/>
            <a:ext cx="88920" cy="1080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41920" y="3736800"/>
            <a:ext cx="90360" cy="10656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08240" y="2982960"/>
            <a:ext cx="101520" cy="95040"/>
          </a:xfrm>
          <a:custGeom>
            <a:avLst/>
            <a:gdLst/>
            <a:ahLst/>
            <a:rect l="l" t="t" r="r" b="b"/>
            <a:pathLst>
              <a:path w="258" h="241">
                <a:moveTo>
                  <a:pt x="258" y="241"/>
                </a:moveTo>
                <a:lnTo>
                  <a:pt x="140" y="12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2790720" y="2704680"/>
            <a:ext cx="108000" cy="889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4120" y="2451240"/>
            <a:ext cx="114480" cy="81000"/>
          </a:xfrm>
          <a:custGeom>
            <a:avLst/>
            <a:gdLst/>
            <a:ahLst/>
            <a:rect l="l" t="t" r="r" b="b"/>
            <a:pathLst>
              <a:path w="287" h="205">
                <a:moveTo>
                  <a:pt x="287" y="205"/>
                </a:moveTo>
                <a:lnTo>
                  <a:pt x="102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82960" y="2255760"/>
            <a:ext cx="129960" cy="52560"/>
          </a:xfrm>
          <a:custGeom>
            <a:avLst/>
            <a:gdLst/>
            <a:ahLst/>
            <a:rect l="l" t="t" r="r" b="b"/>
            <a:pathLst>
              <a:path w="326" h="133">
                <a:moveTo>
                  <a:pt x="326" y="133"/>
                </a:moveTo>
                <a:lnTo>
                  <a:pt x="173" y="5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9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9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9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3317400" y="18763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17760" y="22129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316320" y="2549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316320" y="28861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312720" y="38973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13080" y="4235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11640" y="457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309480" y="4908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9840" y="524664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308400" y="55832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11200" y="3786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749600" y="3789360"/>
            <a:ext cx="11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8584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22440" y="3794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759040" y="3797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97080" y="37987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08320" y="380700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44920" y="38098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19560" y="3814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62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67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73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604880" y="3534840"/>
            <a:ext cx="1350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14560" y="3454560"/>
            <a:ext cx="138240" cy="25200"/>
          </a:xfrm>
          <a:custGeom>
            <a:avLst/>
            <a:gdLst/>
            <a:ahLst/>
            <a:rect l="l" t="t" r="r" b="b"/>
            <a:pathLst>
              <a:path w="348" h="63">
                <a:moveTo>
                  <a:pt x="0" y="63"/>
                </a:moveTo>
                <a:lnTo>
                  <a:pt x="310" y="4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2160" y="3403440"/>
            <a:ext cx="139680" cy="16200"/>
          </a:xfrm>
          <a:custGeom>
            <a:avLst/>
            <a:gdLst/>
            <a:ahLst/>
            <a:rect l="l" t="t" r="r" b="b"/>
            <a:pathLst>
              <a:path w="350" h="40">
                <a:moveTo>
                  <a:pt x="0" y="40"/>
                </a:moveTo>
                <a:lnTo>
                  <a:pt x="297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851200" y="337464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3271680" y="3365640"/>
            <a:ext cx="1414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29000" y="3352680"/>
            <a:ext cx="19368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3840" y="3373560"/>
            <a:ext cx="141120" cy="9360"/>
          </a:xfrm>
          <a:custGeom>
            <a:avLst/>
            <a:gdLst/>
            <a:ahLst/>
            <a:rect l="l" t="t" r="r" b="b"/>
            <a:pathLst>
              <a:path w="354" h="23">
                <a:moveTo>
                  <a:pt x="0" y="0"/>
                </a:moveTo>
                <a:lnTo>
                  <a:pt x="49" y="2"/>
                </a:lnTo>
                <a:lnTo>
                  <a:pt x="35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24320" y="3403440"/>
            <a:ext cx="139680" cy="17640"/>
          </a:xfrm>
          <a:custGeom>
            <a:avLst/>
            <a:gdLst/>
            <a:ahLst/>
            <a:rect l="l" t="t" r="r" b="b"/>
            <a:pathLst>
              <a:path w="350" h="42">
                <a:moveTo>
                  <a:pt x="0" y="0"/>
                </a:moveTo>
                <a:lnTo>
                  <a:pt x="69" y="5"/>
                </a:lnTo>
                <a:lnTo>
                  <a:pt x="350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41920" y="3459240"/>
            <a:ext cx="136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49800" y="3564000"/>
            <a:ext cx="127080" cy="55440"/>
          </a:xfrm>
          <a:custGeom>
            <a:avLst/>
            <a:gdLst/>
            <a:ahLst/>
            <a:rect l="l" t="t" r="r" b="b"/>
            <a:pathLst>
              <a:path w="323" h="139">
                <a:moveTo>
                  <a:pt x="0" y="0"/>
                </a:moveTo>
                <a:lnTo>
                  <a:pt x="263" y="95"/>
                </a:lnTo>
                <a:lnTo>
                  <a:pt x="323" y="1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098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19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57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59320" y="4933800"/>
            <a:ext cx="14400" cy="154080"/>
          </a:xfrm>
          <a:custGeom>
            <a:avLst/>
            <a:gdLst/>
            <a:ahLst/>
            <a:rect l="l" t="t" r="r" b="b"/>
            <a:pathLst>
              <a:path w="37" h="388">
                <a:moveTo>
                  <a:pt x="0" y="388"/>
                </a:moveTo>
                <a:lnTo>
                  <a:pt x="37" y="19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289400" y="4537080"/>
            <a:ext cx="68400" cy="127080"/>
          </a:xfrm>
          <a:custGeom>
            <a:avLst/>
            <a:gdLst/>
            <a:ahLst/>
            <a:rect l="l" t="t" r="r" b="b"/>
            <a:pathLst>
              <a:path w="173" h="322">
                <a:moveTo>
                  <a:pt x="173" y="322"/>
                </a:moveTo>
                <a:lnTo>
                  <a:pt x="76" y="12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54320" y="4168800"/>
            <a:ext cx="81000" cy="122040"/>
          </a:xfrm>
          <a:custGeom>
            <a:avLst/>
            <a:gdLst/>
            <a:ahLst/>
            <a:rect l="l" t="t" r="r" b="b"/>
            <a:pathLst>
              <a:path w="206" h="304">
                <a:moveTo>
                  <a:pt x="206" y="304"/>
                </a:moveTo>
                <a:lnTo>
                  <a:pt x="25" y="3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3790800" y="3822480"/>
            <a:ext cx="9072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3513240" y="3486240"/>
            <a:ext cx="936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218040" y="3165480"/>
            <a:ext cx="99720" cy="104760"/>
          </a:xfrm>
          <a:custGeom>
            <a:avLst/>
            <a:gdLst/>
            <a:ahLst/>
            <a:rect l="l" t="t" r="r" b="b"/>
            <a:pathLst>
              <a:path w="251" h="265">
                <a:moveTo>
                  <a:pt x="251" y="265"/>
                </a:moveTo>
                <a:lnTo>
                  <a:pt x="188" y="19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2425320" y="2417760"/>
            <a:ext cx="1112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2076120" y="2155680"/>
            <a:ext cx="11916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93800" y="1952640"/>
            <a:ext cx="13356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339" y="139"/>
                </a:moveTo>
                <a:lnTo>
                  <a:pt x="76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970360" y="15606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970360" y="19098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68560" y="22590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68560" y="260676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2967120" y="29559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967120" y="33051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964960" y="38275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963880" y="41767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63880" y="43513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963880" y="45259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63880" y="46990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2962440" y="48736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2962440" y="50482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62440" y="53974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996840" y="353844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6956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4800" y="354636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392200" y="354816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1760" y="35514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909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40160" y="3556080"/>
            <a:ext cx="98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87920" y="3559320"/>
            <a:ext cx="11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371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86320" y="35640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6092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835520" y="35672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95400" y="3338640"/>
            <a:ext cx="13320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0" y="139"/>
                </a:moveTo>
                <a:lnTo>
                  <a:pt x="267" y="22"/>
                </a:lnTo>
                <a:lnTo>
                  <a:pt x="3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09760" y="3230640"/>
            <a:ext cx="141120" cy="30240"/>
          </a:xfrm>
          <a:custGeom>
            <a:avLst/>
            <a:gdLst/>
            <a:ahLst/>
            <a:rect l="l" t="t" r="r" b="b"/>
            <a:pathLst>
              <a:path w="358" h="75">
                <a:moveTo>
                  <a:pt x="0" y="75"/>
                </a:moveTo>
                <a:lnTo>
                  <a:pt x="226" y="22"/>
                </a:lnTo>
                <a:lnTo>
                  <a:pt x="3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838160" y="3165120"/>
            <a:ext cx="144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71600" y="3124080"/>
            <a:ext cx="144720" cy="11160"/>
          </a:xfrm>
          <a:custGeom>
            <a:avLst/>
            <a:gdLst/>
            <a:ahLst/>
            <a:rect l="l" t="t" r="r" b="b"/>
            <a:pathLst>
              <a:path w="365" h="28">
                <a:moveTo>
                  <a:pt x="0" y="28"/>
                </a:moveTo>
                <a:lnTo>
                  <a:pt x="142" y="14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2706840" y="3104640"/>
            <a:ext cx="144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141720" y="3102120"/>
            <a:ext cx="146160" cy="1440"/>
          </a:xfrm>
          <a:custGeom>
            <a:avLst/>
            <a:gdLst/>
            <a:ahLst/>
            <a:rect l="l" t="t" r="r" b="b"/>
            <a:pathLst>
              <a:path w="367" h="0">
                <a:moveTo>
                  <a:pt x="0" y="0"/>
                </a:moveTo>
                <a:lnTo>
                  <a:pt x="355" y="0"/>
                </a:lnTo>
                <a:lnTo>
                  <a:pt x="36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8400" y="3110040"/>
            <a:ext cx="145800" cy="9360"/>
          </a:xfrm>
          <a:custGeom>
            <a:avLst/>
            <a:gdLst/>
            <a:ahLst/>
            <a:rect l="l" t="t" r="r" b="b"/>
            <a:pathLst>
              <a:path w="365" h="22">
                <a:moveTo>
                  <a:pt x="0" y="0"/>
                </a:moveTo>
                <a:lnTo>
                  <a:pt x="48" y="1"/>
                </a:lnTo>
                <a:lnTo>
                  <a:pt x="365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13280" y="3141720"/>
            <a:ext cx="14436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67200" y="3305160"/>
            <a:ext cx="133560" cy="58680"/>
          </a:xfrm>
          <a:custGeom>
            <a:avLst/>
            <a:gdLst/>
            <a:ahLst/>
            <a:rect l="l" t="t" r="r" b="b"/>
            <a:pathLst>
              <a:path w="333" h="149">
                <a:moveTo>
                  <a:pt x="0" y="0"/>
                </a:moveTo>
                <a:lnTo>
                  <a:pt x="268" y="106"/>
                </a:lnTo>
                <a:lnTo>
                  <a:pt x="333" y="1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938760" y="1995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938760" y="2320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36960" y="26449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936600" y="297036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35520" y="362124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933360" y="394668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33720" y="42721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2280" y="459576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932280" y="4921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30480" y="5246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30480" y="557208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00240" y="3838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24240" y="38419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49680" y="38433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75120" y="384660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62200" y="38498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7640" y="385128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13080" y="385452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385596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63960" y="38592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9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13400" y="386388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38840" y="38671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72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77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83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84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97000" y="3652920"/>
            <a:ext cx="123840" cy="55440"/>
          </a:xfrm>
          <a:custGeom>
            <a:avLst/>
            <a:gdLst/>
            <a:ahLst/>
            <a:rect l="l" t="t" r="r" b="b"/>
            <a:pathLst>
              <a:path w="311" h="139">
                <a:moveTo>
                  <a:pt x="0" y="139"/>
                </a:moveTo>
                <a:lnTo>
                  <a:pt x="246" y="19"/>
                </a:lnTo>
                <a:lnTo>
                  <a:pt x="3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481120" y="3553920"/>
            <a:ext cx="13356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881440" y="3492000"/>
            <a:ext cx="134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28608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69252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05400" y="3440160"/>
            <a:ext cx="135000" cy="7920"/>
          </a:xfrm>
          <a:custGeom>
            <a:avLst/>
            <a:gdLst/>
            <a:ahLst/>
            <a:rect l="l" t="t" r="r" b="b"/>
            <a:pathLst>
              <a:path w="341" h="23">
                <a:moveTo>
                  <a:pt x="0" y="0"/>
                </a:moveTo>
                <a:lnTo>
                  <a:pt x="47" y="2"/>
                </a:lnTo>
                <a:lnTo>
                  <a:pt x="3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910040" y="3468600"/>
            <a:ext cx="135000" cy="15840"/>
          </a:xfrm>
          <a:custGeom>
            <a:avLst/>
            <a:gdLst/>
            <a:ahLst/>
            <a:rect l="l" t="t" r="r" b="b"/>
            <a:pathLst>
              <a:path w="338" h="41">
                <a:moveTo>
                  <a:pt x="0" y="0"/>
                </a:moveTo>
                <a:lnTo>
                  <a:pt x="67" y="5"/>
                </a:lnTo>
                <a:lnTo>
                  <a:pt x="33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13240" y="3522600"/>
            <a:ext cx="13176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05640" y="3624120"/>
            <a:ext cx="123840" cy="52560"/>
          </a:xfrm>
          <a:custGeom>
            <a:avLst/>
            <a:gdLst/>
            <a:ahLst/>
            <a:rect l="l" t="t" r="r" b="b"/>
            <a:pathLst>
              <a:path w="311" h="134">
                <a:moveTo>
                  <a:pt x="0" y="0"/>
                </a:moveTo>
                <a:lnTo>
                  <a:pt x="254" y="92"/>
                </a:lnTo>
                <a:lnTo>
                  <a:pt x="311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1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2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4T21:24:21Z</dcterms:modified>
  <cp:revision>284</cp:revision>
  <dc:subject/>
  <dc:title>Sin título de diapositiva</dc:title>
</cp:coreProperties>
</file>