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80E-3FCB-4546-AB9B-BD3BD2CE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CBD-E10A-486D-AEBD-7E6E84C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DDE-13E5-43EE-AF8C-1A397C40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FCD-3398-4F92-80E2-65E40AE5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F55-505A-4114-94CE-FDE32FD5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0DE-AD17-409C-A3A7-932C829D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672-B03C-4E36-9BA4-95D2AA16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956-AD0B-4352-898B-966CE28D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A10-3E64-42B4-BCD7-D75B95BC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104-7673-4FF9-AC9C-1F212CD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B28-B43F-4F43-B527-1FD208F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795-D976-40D1-B282-2976430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BC44-0BD7-4E6A-953A-0DBC4185C9E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1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4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38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1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4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49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3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59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4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9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9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62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67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73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098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19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72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77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83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84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1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2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4T21:24:21Z</dcterms:modified>
  <cp:revision>284</cp:revision>
  <dc:subject/>
  <dc:title>Sin título de diapositiva</dc:title>
</cp:coreProperties>
</file>