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BB14-A08C-4AFF-B18B-FF9C97FB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5C62-4951-4B0A-89F2-77FD1447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9FA7-C706-4E2E-BE4C-990242BF6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03B7-2609-428C-B3B8-90367564A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14F7-652C-426C-82D0-34B0EA01B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1874-04B2-4455-BCCC-C5390F3D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7385-744B-4D24-9EDF-24A97211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BA37-B61F-460C-B6E7-45543BDB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8638-E727-4C9D-8790-0DE68C44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DE78-A5E9-4851-BF44-C1022B2D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5168-AE95-4814-9BCE-48C49F78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31B7-FCDA-4BCF-9C77-0F9C97FA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C5C6-0605-45F2-BBD8-ED9498C0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AF1A-04DD-41DB-9DBA-9114229F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E182-2F7F-41D7-8005-46F8EA49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ED8B-76EA-4BE3-9DB7-CC5AB5FF5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BC5E-48B8-4E9A-98D2-46356E189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13D7-21B7-4467-BBCF-9C88AB94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9CCE-0DDF-4496-8B1B-3BFD3662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B159-D25C-4D8D-A157-46997281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6913-BAD3-40E8-A8D2-9B7D94DF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72F4-3316-4D54-B089-6B37AE91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E9F6-709C-417B-83BF-CCA265DA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6516-8A3F-4D3E-B603-F9A60766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11600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11600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3828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3828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652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100800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98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B1F1-0D46-4401-8022-046AB68EEC73}" type="slidenum">
              <a:rPr b="0" lang="es-MX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81B3-4208-466E-890C-A92F578BE831}" type="slidenum">
              <a:rPr b="0" lang="es-MX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4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therationaledge.com/content/jan_01/t_rup_ge.html" TargetMode="External"/><Relationship Id="rId2" Type="http://schemas.openxmlformats.org/officeDocument/2006/relationships/hyperlink" Target="http://www.therationaledge.com/content/jan_01/t_rup_ge.html" TargetMode="External"/><Relationship Id="rId3" Type="http://schemas.openxmlformats.org/officeDocument/2006/relationships/hyperlink" Target="http://www.therationaledge.com/content/jan_01/t_rup_ge.html" TargetMode="External"/><Relationship Id="rId4" Type="http://schemas.openxmlformats.org/officeDocument/2006/relationships/hyperlink" Target="http://www.therationaledge.com/content/jan_01/t_rup_ge.html" TargetMode="External"/><Relationship Id="rId5" Type="http://schemas.openxmlformats.org/officeDocument/2006/relationships/hyperlink" Target="http://www.therationaledge.com/content/jan_01/t_rup_ge.html" TargetMode="External"/><Relationship Id="rId6" Type="http://schemas.openxmlformats.org/officeDocument/2006/relationships/hyperlink" Target="http://www.therationaledge.com/content/jan_01/t_rup_ge.html" TargetMode="External"/><Relationship Id="rId7" Type="http://schemas.openxmlformats.org/officeDocument/2006/relationships/hyperlink" Target="http://www.therationaledge.com/content/jan_01/t_rup_ge.html" TargetMode="External"/><Relationship Id="rId8" Type="http://schemas.openxmlformats.org/officeDocument/2006/relationships/hyperlink" Target="http://www.therationaledge.com/content/jan_01/t_rup_ge.html" TargetMode="External"/><Relationship Id="rId9" Type="http://schemas.openxmlformats.org/officeDocument/2006/relationships/hyperlink" Target="http://www.therationaledge.com/content/jan_01/t_rup_ge.html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tional Unified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. en C. Armando F Ibar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732720" y="404640"/>
            <a:ext cx="184932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ministración de Requerimien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5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citar, organizar, y documentar la funcionalidad y restricciones requerida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levar un registro y documentación de cambios y decision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s requerimientos de negocio son fácilmente capturados y comunicados a través de casos de us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s casos de uso son instrumentos importantes de planeació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55680" y="4560840"/>
            <a:ext cx="8146800" cy="2108160"/>
            <a:chOff x="355680" y="4560840"/>
            <a:chExt cx="8146800" cy="2108160"/>
          </a:xfrm>
        </p:grpSpPr>
        <p:grpSp>
          <p:nvGrpSpPr>
            <p:cNvPr id="350" name=""/>
            <p:cNvGrpSpPr/>
            <p:nvPr/>
          </p:nvGrpSpPr>
          <p:grpSpPr>
            <a:xfrm>
              <a:off x="2945160" y="4560840"/>
              <a:ext cx="5557320" cy="1926360"/>
              <a:chOff x="2945160" y="4560840"/>
              <a:chExt cx="5557320" cy="1926360"/>
            </a:xfrm>
          </p:grpSpPr>
          <p:sp>
            <p:nvSpPr>
              <p:cNvPr id="351" name=""/>
              <p:cNvSpPr/>
              <p:nvPr/>
            </p:nvSpPr>
            <p:spPr>
              <a:xfrm>
                <a:off x="2945160" y="5978520"/>
                <a:ext cx="151560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7760" rIns="7776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62040"/>
                    <a:tab algn="l" pos="1324080"/>
                    <a:tab algn="l" pos="1986120"/>
                    <a:tab algn="l" pos="2647800"/>
                    <a:tab algn="l" pos="3309840"/>
                    <a:tab algn="l" pos="3971880"/>
                    <a:tab algn="l" pos="4633920"/>
                    <a:tab algn="l" pos="5295960"/>
                    <a:tab algn="l" pos="5958000"/>
                    <a:tab algn="l" pos="6620040"/>
                    <a:tab algn="l" pos="7281720"/>
                    <a:tab algn="l" pos="7943760"/>
                    <a:tab algn="l" pos="8605800"/>
                    <a:tab algn="l" pos="9267840"/>
                    <a:tab algn="l" pos="9929880"/>
                    <a:tab algn="l" pos="1059192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lo de Diseñ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579560" y="6208560"/>
                <a:ext cx="220140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8680" rIns="58680" tIns="31680" bIns="31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87360"/>
                    <a:tab algn="l" pos="774720"/>
                    <a:tab algn="l" pos="1162080"/>
                    <a:tab algn="l" pos="1549440"/>
                    <a:tab algn="l" pos="1936800"/>
                    <a:tab algn="l" pos="2324160"/>
                    <a:tab algn="l" pos="2711520"/>
                    <a:tab algn="l" pos="3098880"/>
                    <a:tab algn="l" pos="3486240"/>
                    <a:tab algn="l" pos="3873600"/>
                    <a:tab algn="l" pos="4260960"/>
                    <a:tab algn="l" pos="4648320"/>
                    <a:tab algn="l" pos="5035680"/>
                    <a:tab algn="l" pos="5423040"/>
                    <a:tab algn="l" pos="5810400"/>
                    <a:tab algn="l" pos="6197760"/>
                    <a:tab algn="l" pos="6585120"/>
                    <a:tab algn="l" pos="6972480"/>
                    <a:tab algn="l" pos="7359480"/>
                    <a:tab algn="l" pos="774684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lo de Implementac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986880" y="6210360"/>
                <a:ext cx="151560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8680" rIns="58680" tIns="31680" bIns="31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87360"/>
                    <a:tab algn="l" pos="774720"/>
                    <a:tab algn="l" pos="1162080"/>
                    <a:tab algn="l" pos="1549440"/>
                    <a:tab algn="l" pos="1936800"/>
                    <a:tab algn="l" pos="2324160"/>
                    <a:tab algn="l" pos="2711520"/>
                    <a:tab algn="l" pos="3098880"/>
                    <a:tab algn="l" pos="3486240"/>
                    <a:tab algn="l" pos="3873600"/>
                    <a:tab algn="l" pos="4260960"/>
                    <a:tab algn="l" pos="4648320"/>
                    <a:tab algn="l" pos="5035680"/>
                    <a:tab algn="l" pos="5423040"/>
                    <a:tab algn="l" pos="5810400"/>
                    <a:tab algn="l" pos="6197760"/>
                    <a:tab algn="l" pos="6585120"/>
                    <a:tab algn="l" pos="6972480"/>
                    <a:tab algn="l" pos="7359480"/>
                    <a:tab algn="l" pos="774684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lo de Prueb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4060440" y="5057640"/>
                <a:ext cx="1027080" cy="49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195960" y="5065560"/>
                <a:ext cx="1150920" cy="44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941160" y="5183280"/>
                <a:ext cx="581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8680" rIns="58680" tIns="31680" bIns="316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87360"/>
                    <a:tab algn="l" pos="774720"/>
                    <a:tab algn="l" pos="1162080"/>
                    <a:tab algn="l" pos="1549440"/>
                    <a:tab algn="l" pos="1936800"/>
                    <a:tab algn="l" pos="2324160"/>
                    <a:tab algn="l" pos="2711520"/>
                    <a:tab algn="l" pos="3098880"/>
                    <a:tab algn="l" pos="3486240"/>
                    <a:tab algn="l" pos="3873600"/>
                    <a:tab algn="l" pos="4260960"/>
                    <a:tab algn="l" pos="4648320"/>
                    <a:tab algn="l" pos="5035680"/>
                    <a:tab algn="l" pos="5423040"/>
                    <a:tab algn="l" pos="5810400"/>
                    <a:tab algn="l" pos="6197760"/>
                    <a:tab algn="l" pos="6585120"/>
                    <a:tab algn="l" pos="6972480"/>
                    <a:tab algn="l" pos="7359480"/>
                    <a:tab algn="l" pos="77468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verific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832200" y="5218200"/>
                <a:ext cx="784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8680" rIns="58680" tIns="31680" bIns="316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87360"/>
                    <a:tab algn="l" pos="774720"/>
                    <a:tab algn="l" pos="1162080"/>
                    <a:tab algn="l" pos="1549440"/>
                    <a:tab algn="l" pos="1936800"/>
                    <a:tab algn="l" pos="2324160"/>
                    <a:tab algn="l" pos="2711520"/>
                    <a:tab algn="l" pos="3098880"/>
                    <a:tab algn="l" pos="3486240"/>
                    <a:tab algn="l" pos="3873600"/>
                    <a:tab algn="l" pos="4260960"/>
                    <a:tab algn="l" pos="4648320"/>
                    <a:tab algn="l" pos="5035680"/>
                    <a:tab algn="l" pos="5423040"/>
                    <a:tab algn="l" pos="5810400"/>
                    <a:tab algn="l" pos="6197760"/>
                    <a:tab algn="l" pos="6585120"/>
                    <a:tab algn="l" pos="6972480"/>
                    <a:tab algn="l" pos="7359480"/>
                    <a:tab algn="l" pos="77468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realizac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189320" y="5886360"/>
                <a:ext cx="10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114960" y="5886360"/>
                <a:ext cx="96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600880" y="5057640"/>
                <a:ext cx="0" cy="45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201280" y="5218200"/>
                <a:ext cx="1119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8680" rIns="58680" tIns="31680" bIns="316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87360"/>
                    <a:tab algn="l" pos="774720"/>
                    <a:tab algn="l" pos="1162080"/>
                    <a:tab algn="l" pos="1549440"/>
                    <a:tab algn="l" pos="1936800"/>
                    <a:tab algn="l" pos="2324160"/>
                    <a:tab algn="l" pos="2711520"/>
                    <a:tab algn="l" pos="3098880"/>
                    <a:tab algn="l" pos="3486240"/>
                    <a:tab algn="l" pos="3873600"/>
                    <a:tab algn="l" pos="4260960"/>
                    <a:tab algn="l" pos="4648320"/>
                    <a:tab algn="l" pos="5035680"/>
                    <a:tab algn="l" pos="5423040"/>
                    <a:tab algn="l" pos="5810400"/>
                    <a:tab algn="l" pos="6197760"/>
                    <a:tab algn="l" pos="6585120"/>
                    <a:tab algn="l" pos="6972480"/>
                    <a:tab algn="l" pos="7359480"/>
                    <a:tab algn="l" pos="77468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nfluenciado po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6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22720" y="4560840"/>
                <a:ext cx="1192320" cy="37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98880" y="5637240"/>
                <a:ext cx="957240" cy="4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216400" y="5634000"/>
                <a:ext cx="1033560" cy="41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205760" y="5595840"/>
                <a:ext cx="961920" cy="4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"/>
              <p:cNvSpPr/>
              <p:nvPr/>
            </p:nvSpPr>
            <p:spPr>
              <a:xfrm>
                <a:off x="4222800" y="4560840"/>
                <a:ext cx="11736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8680" rIns="58680" tIns="31680" bIns="31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87360"/>
                    <a:tab algn="l" pos="774720"/>
                    <a:tab algn="l" pos="1162080"/>
                    <a:tab algn="l" pos="1549440"/>
                    <a:tab algn="l" pos="1936800"/>
                    <a:tab algn="l" pos="2324160"/>
                    <a:tab algn="l" pos="2711520"/>
                    <a:tab algn="l" pos="3098880"/>
                    <a:tab algn="l" pos="3486240"/>
                    <a:tab algn="l" pos="3873600"/>
                    <a:tab algn="l" pos="4260960"/>
                    <a:tab algn="l" pos="4648320"/>
                    <a:tab algn="l" pos="5035680"/>
                    <a:tab algn="l" pos="5423040"/>
                    <a:tab algn="l" pos="5810400"/>
                    <a:tab algn="l" pos="6197760"/>
                    <a:tab algn="l" pos="6585120"/>
                    <a:tab algn="l" pos="6972480"/>
                    <a:tab algn="l" pos="7359480"/>
                    <a:tab algn="l" pos="77468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355680" y="5221440"/>
              <a:ext cx="2361960" cy="1447560"/>
              <a:chOff x="355680" y="5221440"/>
              <a:chExt cx="2361960" cy="1447560"/>
            </a:xfrm>
          </p:grpSpPr>
          <p:sp>
            <p:nvSpPr>
              <p:cNvPr id="368" name=""/>
              <p:cNvSpPr/>
              <p:nvPr/>
            </p:nvSpPr>
            <p:spPr>
              <a:xfrm>
                <a:off x="355680" y="5221440"/>
                <a:ext cx="2173320" cy="1447560"/>
              </a:xfrm>
              <a:prstGeom prst="wedgeRectCallout">
                <a:avLst>
                  <a:gd name="adj1" fmla="val 73370"/>
                  <a:gd name="adj2" fmla="val -97537"/>
                </a:avLst>
              </a:prstGeom>
              <a:solidFill>
                <a:srgbClr val="ffcf0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50720" y="5356080"/>
                <a:ext cx="2266920" cy="10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spAutoFit/>
              </a:bodyPr>
              <a:p>
                <a:pPr>
                  <a:lnSpc>
                    <a:spcPts val="1998"/>
                  </a:lnSpc>
                  <a:spcBef>
                    <a:spcPts val="901"/>
                  </a:spcBef>
                  <a:tabLst>
                    <a:tab algn="l" pos="0"/>
                    <a:tab algn="l" pos="285840"/>
                    <a:tab algn="l" pos="571680"/>
                    <a:tab algn="l" pos="857160"/>
                    <a:tab algn="l" pos="1143000"/>
                    <a:tab algn="l" pos="1428840"/>
                    <a:tab algn="l" pos="1714680"/>
                    <a:tab algn="l" pos="2000160"/>
                    <a:tab algn="l" pos="22860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Los casos de uso dirigen el trabajo desde el análisis hasta las prueba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quitectura Basada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 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enfoca en el pronto desarrollo de una arquitectura ejecutable robus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istente al cambio mediante el uso de interfaces bien defini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uitivamente comprens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mueve un reuso más efectivo de soft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 derivada a partir de los casos de uso más importan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ación Visual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Softw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ptura la estructura y comportamiento de arquitecturas y componen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estra como encajan de forma conjunta los elementos del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tiene la consistencia entre un diseño y su implement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ueve una comunicación no ambigu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ificación de la Calida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l Softw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7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 pruebas para cada escenario (casos de uso) para asegurar que todos los requerimientos están propiamente implement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ica la calidad del software con respecto a los requerimientos basados en la confiabilidad, funcionalidad, desempeño de la aplicación y d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ueba cada iter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"/>
          <p:cNvSpPr/>
          <p:nvPr/>
        </p:nvSpPr>
        <p:spPr>
          <a:xfrm>
            <a:off x="1051200" y="5243400"/>
            <a:ext cx="7278120" cy="6426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ahoma"/>
              </a:rPr>
              <a:t>Los problemas del software son de 100 a 1000 veces mas costosos</a:t>
            </a:r>
            <a:br>
              <a:rPr sz="1800"/>
            </a:br>
            <a:r>
              <a:rPr b="1" i="1" lang="en-US" sz="1800" spc="-1" strike="noStrike">
                <a:solidFill>
                  <a:srgbClr val="3333cc"/>
                </a:solidFill>
                <a:latin typeface="Tahoma"/>
              </a:rPr>
              <a:t>de encontrar y reparar después del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ol de Cambio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l Softw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7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ar, llevar un registro y monitorear cambios para permitir un desarrollo iterativ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ece espacios de trabajo seguros para cada desarrollad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e aislamiento de cambios hechos en otros espacios de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a todos los artefactos de software – modelos, código, documentos, etc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2090880" y="4797360"/>
            <a:ext cx="4786200" cy="1944360"/>
            <a:chOff x="2090880" y="4797360"/>
            <a:chExt cx="4786200" cy="1944360"/>
          </a:xfrm>
        </p:grpSpPr>
        <p:sp>
          <p:nvSpPr>
            <p:cNvPr id="380" name=""/>
            <p:cNvSpPr/>
            <p:nvPr/>
          </p:nvSpPr>
          <p:spPr>
            <a:xfrm>
              <a:off x="3448080" y="4797360"/>
              <a:ext cx="2579040" cy="1937160"/>
            </a:xfrm>
            <a:custGeom>
              <a:avLst/>
              <a:gdLst/>
              <a:ahLst/>
              <a:rect l="l" t="t" r="r" b="b"/>
              <a:pathLst>
                <a:path w="4317" h="3332">
                  <a:moveTo>
                    <a:pt x="0" y="1672"/>
                  </a:moveTo>
                  <a:lnTo>
                    <a:pt x="2164" y="0"/>
                  </a:lnTo>
                  <a:lnTo>
                    <a:pt x="4316" y="1672"/>
                  </a:lnTo>
                  <a:lnTo>
                    <a:pt x="2164" y="3331"/>
                  </a:lnTo>
                  <a:lnTo>
                    <a:pt x="0" y="1672"/>
                  </a:lnTo>
                </a:path>
              </a:pathLst>
            </a:custGeom>
            <a:gradFill rotWithShape="0">
              <a:gsLst>
                <a:gs pos="0">
                  <a:srgbClr val="00279f"/>
                </a:gs>
                <a:gs pos="100000">
                  <a:srgbClr val="001b6e"/>
                </a:gs>
              </a:gsLst>
              <a:lin ang="5400000"/>
            </a:gradFill>
            <a:ln cap="rnd" w="12600">
              <a:solidFill>
                <a:srgbClr val="00e4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303520" y="5568480"/>
              <a:ext cx="273240" cy="58536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92840" y="4797360"/>
              <a:ext cx="1255680" cy="961560"/>
            </a:xfrm>
            <a:custGeom>
              <a:avLst/>
              <a:gdLst/>
              <a:ahLst/>
              <a:rect l="l" t="t" r="r" b="b"/>
              <a:pathLst>
                <a:path w="2101" h="1653">
                  <a:moveTo>
                    <a:pt x="0" y="836"/>
                  </a:moveTo>
                  <a:lnTo>
                    <a:pt x="1076" y="0"/>
                  </a:lnTo>
                  <a:lnTo>
                    <a:pt x="2100" y="797"/>
                  </a:lnTo>
                  <a:lnTo>
                    <a:pt x="1047" y="1652"/>
                  </a:lnTo>
                  <a:lnTo>
                    <a:pt x="0" y="836"/>
                  </a:lnTo>
                </a:path>
              </a:pathLst>
            </a:custGeom>
            <a:gradFill rotWithShape="0">
              <a:gsLst>
                <a:gs pos="0">
                  <a:srgbClr val="00279f"/>
                </a:gs>
                <a:gs pos="100000">
                  <a:srgbClr val="4b66ba"/>
                </a:gs>
              </a:gsLst>
              <a:lin ang="5400000"/>
            </a:gradFill>
            <a:ln cap="rnd" w="12600">
              <a:solidFill>
                <a:srgbClr val="00e4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505400" y="5151960"/>
              <a:ext cx="466920" cy="290880"/>
            </a:xfrm>
            <a:prstGeom prst="rect">
              <a:avLst/>
            </a:prstGeom>
            <a:gradFill rotWithShape="0">
              <a:gsLst>
                <a:gs pos="0">
                  <a:srgbClr val="cb3f06"/>
                </a:gs>
                <a:gs pos="50000">
                  <a:srgbClr val="ff5008"/>
                </a:gs>
                <a:gs pos="100000">
                  <a:srgbClr val="cb3f0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03600" y="5384160"/>
              <a:ext cx="469080" cy="119520"/>
            </a:xfrm>
            <a:prstGeom prst="ellipse">
              <a:avLst/>
            </a:prstGeom>
            <a:gradFill rotWithShape="0">
              <a:gsLst>
                <a:gs pos="0">
                  <a:srgbClr val="982f04"/>
                </a:gs>
                <a:gs pos="50000">
                  <a:srgbClr val="ff5008"/>
                </a:gs>
                <a:gs pos="100000">
                  <a:srgbClr val="982f04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088880" y="5768640"/>
              <a:ext cx="1290600" cy="973080"/>
            </a:xfrm>
            <a:custGeom>
              <a:avLst/>
              <a:gdLst/>
              <a:ahLst/>
              <a:rect l="l" t="t" r="r" b="b"/>
              <a:pathLst>
                <a:path w="2160" h="1673">
                  <a:moveTo>
                    <a:pt x="0" y="823"/>
                  </a:moveTo>
                  <a:lnTo>
                    <a:pt x="1063" y="0"/>
                  </a:lnTo>
                  <a:lnTo>
                    <a:pt x="2159" y="842"/>
                  </a:lnTo>
                  <a:lnTo>
                    <a:pt x="1089" y="1672"/>
                  </a:lnTo>
                  <a:lnTo>
                    <a:pt x="0" y="823"/>
                  </a:lnTo>
                </a:path>
              </a:pathLst>
            </a:custGeom>
            <a:gradFill rotWithShape="0">
              <a:gsLst>
                <a:gs pos="0">
                  <a:srgbClr val="00279f"/>
                </a:gs>
                <a:gs pos="100000">
                  <a:srgbClr val="4b66ba"/>
                </a:gs>
              </a:gsLst>
              <a:lin ang="5400000"/>
            </a:gradFill>
            <a:ln cap="rnd" w="12600">
              <a:solidFill>
                <a:srgbClr val="00e4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757320" y="5596560"/>
              <a:ext cx="472680" cy="34056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76040" y="5609880"/>
              <a:ext cx="434160" cy="308880"/>
            </a:xfrm>
            <a:prstGeom prst="roundRect">
              <a:avLst>
                <a:gd name="adj" fmla="val 21995"/>
              </a:avLst>
            </a:prstGeom>
            <a:blipFill rotWithShape="0">
              <a:blip r:embed="rId1"/>
              <a:srcRect/>
              <a:stretch/>
            </a:blip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92680" y="5812560"/>
              <a:ext cx="115200" cy="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08240" y="5812560"/>
              <a:ext cx="0" cy="1908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89800" y="5812560"/>
              <a:ext cx="0" cy="2052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3946320" y="5789520"/>
              <a:ext cx="0" cy="2304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33000" y="5720040"/>
              <a:ext cx="132480" cy="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065480" y="5720040"/>
              <a:ext cx="0" cy="2484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933000" y="5718240"/>
              <a:ext cx="0" cy="2484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99960" y="5695200"/>
              <a:ext cx="0" cy="2448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98080" y="5745600"/>
              <a:ext cx="96840" cy="4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023360" y="5747400"/>
              <a:ext cx="96480" cy="4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47680" y="5833080"/>
              <a:ext cx="95760" cy="4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3240" y="5833080"/>
              <a:ext cx="95400" cy="4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52800" y="5644800"/>
              <a:ext cx="95760" cy="4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32680" y="5709240"/>
              <a:ext cx="151200" cy="19584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332680" y="5866560"/>
              <a:ext cx="246960" cy="3852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65440" y="5778720"/>
              <a:ext cx="40320" cy="8244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24840" y="5740560"/>
              <a:ext cx="39240" cy="82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69120" y="5740560"/>
              <a:ext cx="40320" cy="8244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14120" y="5740560"/>
              <a:ext cx="39960" cy="8244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3974040" y="5294160"/>
              <a:ext cx="599400" cy="473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4088880" y="5347080"/>
              <a:ext cx="738720" cy="48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915440" y="5303160"/>
              <a:ext cx="516600" cy="452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592160" y="5442840"/>
              <a:ext cx="743400" cy="384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643640" y="5180760"/>
              <a:ext cx="0" cy="26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4581720" y="5235480"/>
              <a:ext cx="6192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4586040" y="5327280"/>
              <a:ext cx="572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586400" y="5373720"/>
              <a:ext cx="0" cy="5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28880" y="5229720"/>
              <a:ext cx="2412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628880" y="5321520"/>
              <a:ext cx="2412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32480" y="5424120"/>
              <a:ext cx="2340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71280" y="5363640"/>
              <a:ext cx="2412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71280" y="5424120"/>
              <a:ext cx="2412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69480" y="5275800"/>
              <a:ext cx="23400" cy="1980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37320" y="519156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37320" y="5245920"/>
              <a:ext cx="626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37320" y="5338080"/>
              <a:ext cx="5796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95640" y="5384160"/>
              <a:ext cx="0" cy="5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4775400" y="5392440"/>
              <a:ext cx="6192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90960" y="5285880"/>
              <a:ext cx="2340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757400" y="5426640"/>
              <a:ext cx="2412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25080" y="5455440"/>
              <a:ext cx="2340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823280" y="5329800"/>
              <a:ext cx="2340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823280" y="5235480"/>
              <a:ext cx="2340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883400" y="5426640"/>
              <a:ext cx="2412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25360" y="5505840"/>
              <a:ext cx="0" cy="70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10800" y="5828400"/>
              <a:ext cx="168840" cy="327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503600" y="5088240"/>
              <a:ext cx="469080" cy="119880"/>
            </a:xfrm>
            <a:prstGeom prst="ellipse">
              <a:avLst/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543200" y="5111280"/>
              <a:ext cx="1652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38680" y="5114520"/>
              <a:ext cx="1652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86240" y="6017760"/>
              <a:ext cx="817560" cy="430560"/>
            </a:xfrm>
            <a:prstGeom prst="rightArrow">
              <a:avLst>
                <a:gd name="adj1" fmla="val 75009"/>
                <a:gd name="adj2" fmla="val 37238"/>
              </a:avLst>
            </a:prstGeom>
            <a:gradFill rotWithShape="0">
              <a:gsLst>
                <a:gs pos="0">
                  <a:srgbClr val="00dfca"/>
                </a:gs>
                <a:gs pos="50000">
                  <a:srgbClr val="00423b"/>
                </a:gs>
                <a:gs pos="100000">
                  <a:srgbClr val="00df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82440" bIns="8244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63600"/>
                  <a:tab algn="l" pos="727200"/>
                  <a:tab algn="l" pos="1090440"/>
                  <a:tab algn="l" pos="1454040"/>
                  <a:tab algn="l" pos="1817640"/>
                  <a:tab algn="l" pos="2181240"/>
                  <a:tab algn="l" pos="2544840"/>
                  <a:tab algn="l" pos="2908440"/>
                  <a:tab algn="l" pos="3271680"/>
                  <a:tab algn="l" pos="3635280"/>
                  <a:tab algn="l" pos="3998880"/>
                  <a:tab algn="l" pos="4362480"/>
                  <a:tab algn="l" pos="4726080"/>
                  <a:tab algn="l" pos="5089680"/>
                  <a:tab algn="l" pos="5452920"/>
                  <a:tab algn="l" pos="5816520"/>
                  <a:tab algn="l" pos="6180120"/>
                  <a:tab algn="l" pos="6543720"/>
                  <a:tab algn="l" pos="6907320"/>
                  <a:tab algn="l" pos="7270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82160" y="6060600"/>
              <a:ext cx="884880" cy="308160"/>
            </a:xfrm>
            <a:custGeom>
              <a:avLst/>
              <a:gdLst>
                <a:gd name="textAreaLeft" fmla="*/ 201960 w 884880"/>
                <a:gd name="textAreaRight" fmla="*/ 682920 w 884880"/>
                <a:gd name="textAreaTop" fmla="*/ 70200 h 308160"/>
                <a:gd name="textAreaBottom" fmla="*/ 237960 h 30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ff00"/>
                </a:gs>
                <a:gs pos="100000">
                  <a:srgbClr val="004b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LER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846680" y="6372360"/>
              <a:ext cx="100440" cy="9720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68280" y="6392160"/>
              <a:ext cx="58320" cy="568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38400" y="6431040"/>
              <a:ext cx="118440" cy="100800"/>
            </a:xfrm>
            <a:prstGeom prst="rect">
              <a:avLst/>
            </a:prstGeom>
            <a:gradFill rotWithShape="0">
              <a:gsLst>
                <a:gs pos="0">
                  <a:srgbClr val="cecece"/>
                </a:gs>
                <a:gs pos="50000">
                  <a:srgbClr val="7b7b7b"/>
                </a:gs>
                <a:gs pos="100000">
                  <a:srgbClr val="cecece"/>
                </a:gs>
              </a:gsLst>
              <a:lin ang="10800000"/>
            </a:grad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35520" y="6457680"/>
              <a:ext cx="119880" cy="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35520" y="6498720"/>
              <a:ext cx="123840" cy="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343760" y="6029280"/>
              <a:ext cx="284760" cy="247320"/>
            </a:xfrm>
            <a:custGeom>
              <a:avLst/>
              <a:gdLst/>
              <a:ahLst/>
              <a:rect l="l" t="t" r="r" b="b"/>
              <a:pathLst>
                <a:path w="476" h="426">
                  <a:moveTo>
                    <a:pt x="180" y="0"/>
                  </a:moveTo>
                  <a:lnTo>
                    <a:pt x="475" y="86"/>
                  </a:lnTo>
                  <a:lnTo>
                    <a:pt x="295" y="425"/>
                  </a:lnTo>
                  <a:lnTo>
                    <a:pt x="0" y="295"/>
                  </a:lnTo>
                  <a:lnTo>
                    <a:pt x="18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70040" y="6089400"/>
              <a:ext cx="69300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E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090880" y="543384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92760" y="586728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81240" y="59086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565520" y="6383880"/>
              <a:ext cx="89280" cy="169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581720" y="6397200"/>
              <a:ext cx="59040" cy="56880"/>
            </a:xfrm>
            <a:prstGeom prst="ellipse">
              <a:avLst/>
            </a:prstGeom>
            <a:solidFill>
              <a:srgbClr val="cf0e30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581720" y="6474240"/>
              <a:ext cx="59040" cy="57600"/>
            </a:xfrm>
            <a:prstGeom prst="ellipse">
              <a:avLst/>
            </a:prstGeom>
            <a:solidFill>
              <a:srgbClr val="60c900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2663280" y="4941720"/>
            <a:ext cx="135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dministración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spacios de Trabaj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419800" y="4903920"/>
            <a:ext cx="98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esarrollo 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arale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512320" y="6127920"/>
            <a:ext cx="125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dministración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stru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962440" y="6127920"/>
            <a:ext cx="1049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tegración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oce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uctura de R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El proceso puede describirse en dos dimensiones, o a lo largo de dos ejes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El eje horizontal representa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tiempo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 y muestra el aspecto dinámico del proceso, expresado en términos de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ciclos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fases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iteraciones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, y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metas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El eje vertical representa el aspecto estático del proceso; como está descrito en términos de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actividades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artefactos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trabajadores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flujos de trabajo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uctura de RUP 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4600440" y="6021360"/>
            <a:ext cx="4176720" cy="360360"/>
          </a:xfrm>
          <a:prstGeom prst="rect">
            <a:avLst/>
          </a:prstGeom>
          <a:solidFill>
            <a:srgbClr val="fff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340000" y="5126040"/>
            <a:ext cx="2266920" cy="885960"/>
          </a:xfrm>
          <a:prstGeom prst="rect">
            <a:avLst/>
          </a:prstGeom>
          <a:solidFill>
            <a:srgbClr val="febf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340000" y="2562120"/>
            <a:ext cx="2265480" cy="2143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605480" y="2268360"/>
            <a:ext cx="4182840" cy="392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5873400" y="2560320"/>
            <a:ext cx="4680" cy="343692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829560" y="2562120"/>
            <a:ext cx="0" cy="343872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H="1" flipV="1">
            <a:off x="7289280" y="2557080"/>
            <a:ext cx="1800" cy="340668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8237520" y="2561760"/>
            <a:ext cx="0" cy="34275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605480" y="6022800"/>
            <a:ext cx="4189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436720" y="2556000"/>
            <a:ext cx="3240" cy="3456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6345360" y="2556000"/>
            <a:ext cx="0" cy="3456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7710480" y="2560320"/>
            <a:ext cx="0" cy="3436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190680" y="5487840"/>
            <a:ext cx="1353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436560" y="5769000"/>
            <a:ext cx="844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mb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268360" y="2666880"/>
            <a:ext cx="2184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ación de Nego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040200" y="3767040"/>
            <a:ext cx="1410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797280" y="4095720"/>
            <a:ext cx="631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u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972880" y="3379680"/>
            <a:ext cx="1478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álisis y Dise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686480" y="6043680"/>
            <a:ext cx="713880" cy="301320"/>
          </a:xfrm>
          <a:prstGeom prst="rect">
            <a:avLst/>
          </a:prstGeom>
          <a:solidFill>
            <a:srgbClr val="fff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Times New Roman"/>
              </a:rPr>
              <a:t>Iteración(es)</a:t>
            </a:r>
            <a:br>
              <a:rPr sz="1100"/>
            </a:br>
            <a:r>
              <a:rPr b="0" lang="es-MX" sz="1100" spc="-1" strike="noStrike">
                <a:solidFill>
                  <a:srgbClr val="000000"/>
                </a:solidFill>
                <a:latin typeface="Times New Roman"/>
              </a:rPr>
              <a:t>Prelimin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547240" y="6043680"/>
            <a:ext cx="267120" cy="301320"/>
          </a:xfrm>
          <a:prstGeom prst="rect">
            <a:avLst/>
          </a:prstGeom>
          <a:solidFill>
            <a:srgbClr val="fff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ter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#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648320" y="5549760"/>
            <a:ext cx="4062240" cy="103320"/>
          </a:xfrm>
          <a:custGeom>
            <a:avLst/>
            <a:gdLst/>
            <a:ahLst/>
            <a:rect l="l" t="t" r="r" b="b"/>
            <a:pathLst>
              <a:path w="3169" h="79">
                <a:moveTo>
                  <a:pt x="0" y="79"/>
                </a:moveTo>
                <a:lnTo>
                  <a:pt x="356" y="5"/>
                </a:lnTo>
                <a:lnTo>
                  <a:pt x="538" y="20"/>
                </a:lnTo>
                <a:lnTo>
                  <a:pt x="620" y="72"/>
                </a:lnTo>
                <a:lnTo>
                  <a:pt x="666" y="61"/>
                </a:lnTo>
                <a:lnTo>
                  <a:pt x="715" y="54"/>
                </a:lnTo>
                <a:lnTo>
                  <a:pt x="764" y="46"/>
                </a:lnTo>
                <a:lnTo>
                  <a:pt x="810" y="38"/>
                </a:lnTo>
                <a:lnTo>
                  <a:pt x="859" y="31"/>
                </a:lnTo>
                <a:lnTo>
                  <a:pt x="907" y="23"/>
                </a:lnTo>
                <a:lnTo>
                  <a:pt x="954" y="15"/>
                </a:lnTo>
                <a:lnTo>
                  <a:pt x="1002" y="5"/>
                </a:lnTo>
                <a:lnTo>
                  <a:pt x="1028" y="5"/>
                </a:lnTo>
                <a:lnTo>
                  <a:pt x="1053" y="5"/>
                </a:lnTo>
                <a:lnTo>
                  <a:pt x="1079" y="2"/>
                </a:lnTo>
                <a:lnTo>
                  <a:pt x="1105" y="0"/>
                </a:lnTo>
                <a:lnTo>
                  <a:pt x="1130" y="0"/>
                </a:lnTo>
                <a:lnTo>
                  <a:pt x="1156" y="0"/>
                </a:lnTo>
                <a:lnTo>
                  <a:pt x="1182" y="2"/>
                </a:lnTo>
                <a:lnTo>
                  <a:pt x="1207" y="5"/>
                </a:lnTo>
                <a:lnTo>
                  <a:pt x="1218" y="10"/>
                </a:lnTo>
                <a:lnTo>
                  <a:pt x="1225" y="13"/>
                </a:lnTo>
                <a:lnTo>
                  <a:pt x="1233" y="20"/>
                </a:lnTo>
                <a:lnTo>
                  <a:pt x="1238" y="25"/>
                </a:lnTo>
                <a:lnTo>
                  <a:pt x="1243" y="33"/>
                </a:lnTo>
                <a:lnTo>
                  <a:pt x="1248" y="38"/>
                </a:lnTo>
                <a:lnTo>
                  <a:pt x="1253" y="46"/>
                </a:lnTo>
                <a:lnTo>
                  <a:pt x="1261" y="51"/>
                </a:lnTo>
                <a:lnTo>
                  <a:pt x="1300" y="79"/>
                </a:lnTo>
                <a:lnTo>
                  <a:pt x="1471" y="46"/>
                </a:lnTo>
                <a:lnTo>
                  <a:pt x="1564" y="38"/>
                </a:lnTo>
                <a:lnTo>
                  <a:pt x="1687" y="79"/>
                </a:lnTo>
                <a:lnTo>
                  <a:pt x="1807" y="51"/>
                </a:lnTo>
                <a:lnTo>
                  <a:pt x="1894" y="33"/>
                </a:lnTo>
                <a:lnTo>
                  <a:pt x="1964" y="43"/>
                </a:lnTo>
                <a:lnTo>
                  <a:pt x="2053" y="74"/>
                </a:lnTo>
                <a:lnTo>
                  <a:pt x="2074" y="69"/>
                </a:lnTo>
                <a:lnTo>
                  <a:pt x="2092" y="61"/>
                </a:lnTo>
                <a:lnTo>
                  <a:pt x="2112" y="54"/>
                </a:lnTo>
                <a:lnTo>
                  <a:pt x="2128" y="49"/>
                </a:lnTo>
                <a:lnTo>
                  <a:pt x="2146" y="41"/>
                </a:lnTo>
                <a:lnTo>
                  <a:pt x="2161" y="36"/>
                </a:lnTo>
                <a:lnTo>
                  <a:pt x="2179" y="31"/>
                </a:lnTo>
                <a:lnTo>
                  <a:pt x="2194" y="25"/>
                </a:lnTo>
                <a:lnTo>
                  <a:pt x="2210" y="23"/>
                </a:lnTo>
                <a:lnTo>
                  <a:pt x="2223" y="20"/>
                </a:lnTo>
                <a:lnTo>
                  <a:pt x="2233" y="18"/>
                </a:lnTo>
                <a:lnTo>
                  <a:pt x="2243" y="18"/>
                </a:lnTo>
                <a:lnTo>
                  <a:pt x="2253" y="18"/>
                </a:lnTo>
                <a:lnTo>
                  <a:pt x="2261" y="18"/>
                </a:lnTo>
                <a:lnTo>
                  <a:pt x="2269" y="18"/>
                </a:lnTo>
                <a:lnTo>
                  <a:pt x="2276" y="20"/>
                </a:lnTo>
                <a:lnTo>
                  <a:pt x="2284" y="20"/>
                </a:lnTo>
                <a:lnTo>
                  <a:pt x="2294" y="23"/>
                </a:lnTo>
                <a:lnTo>
                  <a:pt x="2302" y="25"/>
                </a:lnTo>
                <a:lnTo>
                  <a:pt x="2310" y="31"/>
                </a:lnTo>
                <a:lnTo>
                  <a:pt x="2320" y="33"/>
                </a:lnTo>
                <a:lnTo>
                  <a:pt x="2328" y="38"/>
                </a:lnTo>
                <a:lnTo>
                  <a:pt x="2333" y="41"/>
                </a:lnTo>
                <a:lnTo>
                  <a:pt x="2340" y="46"/>
                </a:lnTo>
                <a:lnTo>
                  <a:pt x="2392" y="77"/>
                </a:lnTo>
                <a:lnTo>
                  <a:pt x="2805" y="25"/>
                </a:lnTo>
                <a:lnTo>
                  <a:pt x="2830" y="25"/>
                </a:lnTo>
                <a:lnTo>
                  <a:pt x="2856" y="23"/>
                </a:lnTo>
                <a:lnTo>
                  <a:pt x="2881" y="20"/>
                </a:lnTo>
                <a:lnTo>
                  <a:pt x="2907" y="20"/>
                </a:lnTo>
                <a:lnTo>
                  <a:pt x="2933" y="18"/>
                </a:lnTo>
                <a:lnTo>
                  <a:pt x="2956" y="18"/>
                </a:lnTo>
                <a:lnTo>
                  <a:pt x="2976" y="18"/>
                </a:lnTo>
                <a:lnTo>
                  <a:pt x="2997" y="20"/>
                </a:lnTo>
                <a:lnTo>
                  <a:pt x="3012" y="20"/>
                </a:lnTo>
                <a:lnTo>
                  <a:pt x="3025" y="25"/>
                </a:lnTo>
                <a:lnTo>
                  <a:pt x="3035" y="28"/>
                </a:lnTo>
                <a:lnTo>
                  <a:pt x="3046" y="33"/>
                </a:lnTo>
                <a:lnTo>
                  <a:pt x="3056" y="38"/>
                </a:lnTo>
                <a:lnTo>
                  <a:pt x="3063" y="43"/>
                </a:lnTo>
                <a:lnTo>
                  <a:pt x="3071" y="49"/>
                </a:lnTo>
                <a:lnTo>
                  <a:pt x="3081" y="51"/>
                </a:lnTo>
                <a:lnTo>
                  <a:pt x="3169" y="79"/>
                </a:lnTo>
                <a:lnTo>
                  <a:pt x="2840" y="77"/>
                </a:lnTo>
                <a:lnTo>
                  <a:pt x="1546" y="79"/>
                </a:lnTo>
                <a:lnTo>
                  <a:pt x="0" y="79"/>
                </a:lnTo>
                <a:close/>
              </a:path>
            </a:pathLst>
          </a:custGeom>
          <a:solidFill>
            <a:srgbClr val="de800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668840" y="5859360"/>
            <a:ext cx="4019400" cy="104760"/>
          </a:xfrm>
          <a:custGeom>
            <a:avLst/>
            <a:gdLst/>
            <a:ahLst/>
            <a:rect l="l" t="t" r="r" b="b"/>
            <a:pathLst>
              <a:path w="3136" h="79">
                <a:moveTo>
                  <a:pt x="0" y="77"/>
                </a:moveTo>
                <a:lnTo>
                  <a:pt x="151" y="15"/>
                </a:lnTo>
                <a:lnTo>
                  <a:pt x="162" y="13"/>
                </a:lnTo>
                <a:lnTo>
                  <a:pt x="172" y="10"/>
                </a:lnTo>
                <a:lnTo>
                  <a:pt x="185" y="10"/>
                </a:lnTo>
                <a:lnTo>
                  <a:pt x="195" y="7"/>
                </a:lnTo>
                <a:lnTo>
                  <a:pt x="208" y="5"/>
                </a:lnTo>
                <a:lnTo>
                  <a:pt x="218" y="2"/>
                </a:lnTo>
                <a:lnTo>
                  <a:pt x="228" y="2"/>
                </a:lnTo>
                <a:lnTo>
                  <a:pt x="239" y="0"/>
                </a:lnTo>
                <a:lnTo>
                  <a:pt x="249" y="0"/>
                </a:lnTo>
                <a:lnTo>
                  <a:pt x="257" y="2"/>
                </a:lnTo>
                <a:lnTo>
                  <a:pt x="267" y="2"/>
                </a:lnTo>
                <a:lnTo>
                  <a:pt x="275" y="5"/>
                </a:lnTo>
                <a:lnTo>
                  <a:pt x="282" y="7"/>
                </a:lnTo>
                <a:lnTo>
                  <a:pt x="292" y="10"/>
                </a:lnTo>
                <a:lnTo>
                  <a:pt x="300" y="10"/>
                </a:lnTo>
                <a:lnTo>
                  <a:pt x="310" y="10"/>
                </a:lnTo>
                <a:lnTo>
                  <a:pt x="321" y="10"/>
                </a:lnTo>
                <a:lnTo>
                  <a:pt x="328" y="13"/>
                </a:lnTo>
                <a:lnTo>
                  <a:pt x="341" y="15"/>
                </a:lnTo>
                <a:lnTo>
                  <a:pt x="351" y="18"/>
                </a:lnTo>
                <a:lnTo>
                  <a:pt x="362" y="20"/>
                </a:lnTo>
                <a:lnTo>
                  <a:pt x="372" y="23"/>
                </a:lnTo>
                <a:lnTo>
                  <a:pt x="382" y="25"/>
                </a:lnTo>
                <a:lnTo>
                  <a:pt x="392" y="25"/>
                </a:lnTo>
                <a:lnTo>
                  <a:pt x="403" y="28"/>
                </a:lnTo>
                <a:lnTo>
                  <a:pt x="413" y="28"/>
                </a:lnTo>
                <a:lnTo>
                  <a:pt x="421" y="31"/>
                </a:lnTo>
                <a:lnTo>
                  <a:pt x="431" y="33"/>
                </a:lnTo>
                <a:lnTo>
                  <a:pt x="441" y="36"/>
                </a:lnTo>
                <a:lnTo>
                  <a:pt x="451" y="38"/>
                </a:lnTo>
                <a:lnTo>
                  <a:pt x="462" y="38"/>
                </a:lnTo>
                <a:lnTo>
                  <a:pt x="474" y="41"/>
                </a:lnTo>
                <a:lnTo>
                  <a:pt x="587" y="56"/>
                </a:lnTo>
                <a:lnTo>
                  <a:pt x="605" y="56"/>
                </a:lnTo>
                <a:lnTo>
                  <a:pt x="615" y="56"/>
                </a:lnTo>
                <a:lnTo>
                  <a:pt x="621" y="56"/>
                </a:lnTo>
                <a:lnTo>
                  <a:pt x="623" y="56"/>
                </a:lnTo>
                <a:lnTo>
                  <a:pt x="623" y="56"/>
                </a:lnTo>
                <a:lnTo>
                  <a:pt x="623" y="56"/>
                </a:lnTo>
                <a:lnTo>
                  <a:pt x="623" y="56"/>
                </a:lnTo>
                <a:lnTo>
                  <a:pt x="631" y="56"/>
                </a:lnTo>
                <a:lnTo>
                  <a:pt x="639" y="56"/>
                </a:lnTo>
                <a:lnTo>
                  <a:pt x="649" y="56"/>
                </a:lnTo>
                <a:lnTo>
                  <a:pt x="659" y="56"/>
                </a:lnTo>
                <a:lnTo>
                  <a:pt x="669" y="56"/>
                </a:lnTo>
                <a:lnTo>
                  <a:pt x="680" y="56"/>
                </a:lnTo>
                <a:lnTo>
                  <a:pt x="690" y="56"/>
                </a:lnTo>
                <a:lnTo>
                  <a:pt x="700" y="59"/>
                </a:lnTo>
                <a:lnTo>
                  <a:pt x="708" y="59"/>
                </a:lnTo>
                <a:lnTo>
                  <a:pt x="718" y="59"/>
                </a:lnTo>
                <a:lnTo>
                  <a:pt x="726" y="61"/>
                </a:lnTo>
                <a:lnTo>
                  <a:pt x="733" y="61"/>
                </a:lnTo>
                <a:lnTo>
                  <a:pt x="741" y="61"/>
                </a:lnTo>
                <a:lnTo>
                  <a:pt x="749" y="61"/>
                </a:lnTo>
                <a:lnTo>
                  <a:pt x="756" y="61"/>
                </a:lnTo>
                <a:lnTo>
                  <a:pt x="764" y="61"/>
                </a:lnTo>
                <a:lnTo>
                  <a:pt x="772" y="61"/>
                </a:lnTo>
                <a:lnTo>
                  <a:pt x="774" y="64"/>
                </a:lnTo>
                <a:lnTo>
                  <a:pt x="780" y="64"/>
                </a:lnTo>
                <a:lnTo>
                  <a:pt x="785" y="66"/>
                </a:lnTo>
                <a:lnTo>
                  <a:pt x="790" y="66"/>
                </a:lnTo>
                <a:lnTo>
                  <a:pt x="795" y="66"/>
                </a:lnTo>
                <a:lnTo>
                  <a:pt x="803" y="66"/>
                </a:lnTo>
                <a:lnTo>
                  <a:pt x="810" y="66"/>
                </a:lnTo>
                <a:lnTo>
                  <a:pt x="821" y="66"/>
                </a:lnTo>
                <a:lnTo>
                  <a:pt x="833" y="66"/>
                </a:lnTo>
                <a:lnTo>
                  <a:pt x="846" y="66"/>
                </a:lnTo>
                <a:lnTo>
                  <a:pt x="862" y="66"/>
                </a:lnTo>
                <a:lnTo>
                  <a:pt x="874" y="64"/>
                </a:lnTo>
                <a:lnTo>
                  <a:pt x="890" y="64"/>
                </a:lnTo>
                <a:lnTo>
                  <a:pt x="903" y="66"/>
                </a:lnTo>
                <a:lnTo>
                  <a:pt x="913" y="66"/>
                </a:lnTo>
                <a:lnTo>
                  <a:pt x="923" y="66"/>
                </a:lnTo>
                <a:lnTo>
                  <a:pt x="931" y="66"/>
                </a:lnTo>
                <a:lnTo>
                  <a:pt x="936" y="66"/>
                </a:lnTo>
                <a:lnTo>
                  <a:pt x="941" y="66"/>
                </a:lnTo>
                <a:lnTo>
                  <a:pt x="946" y="66"/>
                </a:lnTo>
                <a:lnTo>
                  <a:pt x="951" y="66"/>
                </a:lnTo>
                <a:lnTo>
                  <a:pt x="959" y="66"/>
                </a:lnTo>
                <a:lnTo>
                  <a:pt x="967" y="66"/>
                </a:lnTo>
                <a:lnTo>
                  <a:pt x="974" y="69"/>
                </a:lnTo>
                <a:lnTo>
                  <a:pt x="987" y="69"/>
                </a:lnTo>
                <a:lnTo>
                  <a:pt x="1000" y="72"/>
                </a:lnTo>
                <a:lnTo>
                  <a:pt x="1010" y="72"/>
                </a:lnTo>
                <a:lnTo>
                  <a:pt x="1023" y="72"/>
                </a:lnTo>
                <a:lnTo>
                  <a:pt x="1033" y="72"/>
                </a:lnTo>
                <a:lnTo>
                  <a:pt x="1046" y="72"/>
                </a:lnTo>
                <a:lnTo>
                  <a:pt x="1056" y="72"/>
                </a:lnTo>
                <a:lnTo>
                  <a:pt x="1067" y="72"/>
                </a:lnTo>
                <a:lnTo>
                  <a:pt x="1085" y="72"/>
                </a:lnTo>
                <a:lnTo>
                  <a:pt x="1097" y="72"/>
                </a:lnTo>
                <a:lnTo>
                  <a:pt x="1108" y="72"/>
                </a:lnTo>
                <a:lnTo>
                  <a:pt x="1118" y="72"/>
                </a:lnTo>
                <a:lnTo>
                  <a:pt x="1123" y="72"/>
                </a:lnTo>
                <a:lnTo>
                  <a:pt x="1131" y="72"/>
                </a:lnTo>
                <a:lnTo>
                  <a:pt x="1138" y="72"/>
                </a:lnTo>
                <a:lnTo>
                  <a:pt x="1149" y="72"/>
                </a:lnTo>
                <a:lnTo>
                  <a:pt x="1162" y="72"/>
                </a:lnTo>
                <a:lnTo>
                  <a:pt x="1172" y="72"/>
                </a:lnTo>
                <a:lnTo>
                  <a:pt x="1185" y="72"/>
                </a:lnTo>
                <a:lnTo>
                  <a:pt x="1197" y="72"/>
                </a:lnTo>
                <a:lnTo>
                  <a:pt x="1210" y="72"/>
                </a:lnTo>
                <a:lnTo>
                  <a:pt x="1221" y="72"/>
                </a:lnTo>
                <a:lnTo>
                  <a:pt x="1228" y="72"/>
                </a:lnTo>
                <a:lnTo>
                  <a:pt x="1236" y="72"/>
                </a:lnTo>
                <a:lnTo>
                  <a:pt x="1238" y="74"/>
                </a:lnTo>
                <a:lnTo>
                  <a:pt x="1241" y="74"/>
                </a:lnTo>
                <a:lnTo>
                  <a:pt x="1244" y="77"/>
                </a:lnTo>
                <a:lnTo>
                  <a:pt x="1246" y="77"/>
                </a:lnTo>
                <a:lnTo>
                  <a:pt x="1249" y="79"/>
                </a:lnTo>
                <a:lnTo>
                  <a:pt x="1251" y="79"/>
                </a:lnTo>
                <a:lnTo>
                  <a:pt x="1256" y="79"/>
                </a:lnTo>
                <a:lnTo>
                  <a:pt x="1264" y="77"/>
                </a:lnTo>
                <a:lnTo>
                  <a:pt x="1274" y="74"/>
                </a:lnTo>
                <a:lnTo>
                  <a:pt x="1285" y="74"/>
                </a:lnTo>
                <a:lnTo>
                  <a:pt x="1297" y="74"/>
                </a:lnTo>
                <a:lnTo>
                  <a:pt x="1310" y="74"/>
                </a:lnTo>
                <a:lnTo>
                  <a:pt x="1326" y="77"/>
                </a:lnTo>
                <a:lnTo>
                  <a:pt x="1338" y="77"/>
                </a:lnTo>
                <a:lnTo>
                  <a:pt x="1354" y="77"/>
                </a:lnTo>
                <a:lnTo>
                  <a:pt x="1364" y="74"/>
                </a:lnTo>
                <a:lnTo>
                  <a:pt x="1374" y="74"/>
                </a:lnTo>
                <a:lnTo>
                  <a:pt x="1385" y="72"/>
                </a:lnTo>
                <a:lnTo>
                  <a:pt x="1390" y="72"/>
                </a:lnTo>
                <a:lnTo>
                  <a:pt x="1397" y="72"/>
                </a:lnTo>
                <a:lnTo>
                  <a:pt x="1405" y="72"/>
                </a:lnTo>
                <a:lnTo>
                  <a:pt x="1413" y="74"/>
                </a:lnTo>
                <a:lnTo>
                  <a:pt x="1426" y="74"/>
                </a:lnTo>
                <a:lnTo>
                  <a:pt x="1438" y="77"/>
                </a:lnTo>
                <a:lnTo>
                  <a:pt x="1459" y="77"/>
                </a:lnTo>
                <a:lnTo>
                  <a:pt x="1487" y="79"/>
                </a:lnTo>
                <a:lnTo>
                  <a:pt x="1520" y="79"/>
                </a:lnTo>
                <a:lnTo>
                  <a:pt x="1556" y="79"/>
                </a:lnTo>
                <a:lnTo>
                  <a:pt x="1592" y="79"/>
                </a:lnTo>
                <a:lnTo>
                  <a:pt x="1626" y="77"/>
                </a:lnTo>
                <a:lnTo>
                  <a:pt x="1654" y="77"/>
                </a:lnTo>
                <a:lnTo>
                  <a:pt x="1674" y="74"/>
                </a:lnTo>
                <a:lnTo>
                  <a:pt x="1687" y="74"/>
                </a:lnTo>
                <a:lnTo>
                  <a:pt x="1695" y="74"/>
                </a:lnTo>
                <a:lnTo>
                  <a:pt x="1697" y="74"/>
                </a:lnTo>
                <a:lnTo>
                  <a:pt x="1700" y="74"/>
                </a:lnTo>
                <a:lnTo>
                  <a:pt x="1700" y="77"/>
                </a:lnTo>
                <a:lnTo>
                  <a:pt x="1700" y="77"/>
                </a:lnTo>
                <a:lnTo>
                  <a:pt x="1705" y="77"/>
                </a:lnTo>
                <a:lnTo>
                  <a:pt x="1713" y="77"/>
                </a:lnTo>
                <a:lnTo>
                  <a:pt x="1720" y="74"/>
                </a:lnTo>
                <a:lnTo>
                  <a:pt x="1726" y="74"/>
                </a:lnTo>
                <a:lnTo>
                  <a:pt x="1731" y="74"/>
                </a:lnTo>
                <a:lnTo>
                  <a:pt x="1736" y="74"/>
                </a:lnTo>
                <a:lnTo>
                  <a:pt x="1738" y="74"/>
                </a:lnTo>
                <a:lnTo>
                  <a:pt x="1746" y="74"/>
                </a:lnTo>
                <a:lnTo>
                  <a:pt x="1754" y="74"/>
                </a:lnTo>
                <a:lnTo>
                  <a:pt x="1764" y="74"/>
                </a:lnTo>
                <a:lnTo>
                  <a:pt x="1777" y="74"/>
                </a:lnTo>
                <a:lnTo>
                  <a:pt x="1790" y="77"/>
                </a:lnTo>
                <a:lnTo>
                  <a:pt x="1805" y="77"/>
                </a:lnTo>
                <a:lnTo>
                  <a:pt x="1820" y="77"/>
                </a:lnTo>
                <a:lnTo>
                  <a:pt x="1836" y="74"/>
                </a:lnTo>
                <a:lnTo>
                  <a:pt x="1851" y="74"/>
                </a:lnTo>
                <a:lnTo>
                  <a:pt x="1867" y="77"/>
                </a:lnTo>
                <a:lnTo>
                  <a:pt x="1882" y="77"/>
                </a:lnTo>
                <a:lnTo>
                  <a:pt x="1895" y="77"/>
                </a:lnTo>
                <a:lnTo>
                  <a:pt x="1908" y="77"/>
                </a:lnTo>
                <a:lnTo>
                  <a:pt x="1918" y="77"/>
                </a:lnTo>
                <a:lnTo>
                  <a:pt x="1931" y="77"/>
                </a:lnTo>
                <a:lnTo>
                  <a:pt x="1941" y="77"/>
                </a:lnTo>
                <a:lnTo>
                  <a:pt x="1954" y="77"/>
                </a:lnTo>
                <a:lnTo>
                  <a:pt x="1967" y="77"/>
                </a:lnTo>
                <a:lnTo>
                  <a:pt x="1979" y="77"/>
                </a:lnTo>
                <a:lnTo>
                  <a:pt x="1995" y="77"/>
                </a:lnTo>
                <a:lnTo>
                  <a:pt x="2010" y="77"/>
                </a:lnTo>
                <a:lnTo>
                  <a:pt x="2026" y="77"/>
                </a:lnTo>
                <a:lnTo>
                  <a:pt x="2043" y="77"/>
                </a:lnTo>
                <a:lnTo>
                  <a:pt x="2059" y="77"/>
                </a:lnTo>
                <a:lnTo>
                  <a:pt x="2074" y="77"/>
                </a:lnTo>
                <a:lnTo>
                  <a:pt x="2090" y="77"/>
                </a:lnTo>
                <a:lnTo>
                  <a:pt x="2102" y="74"/>
                </a:lnTo>
                <a:lnTo>
                  <a:pt x="2115" y="74"/>
                </a:lnTo>
                <a:lnTo>
                  <a:pt x="2126" y="74"/>
                </a:lnTo>
                <a:lnTo>
                  <a:pt x="2136" y="74"/>
                </a:lnTo>
                <a:lnTo>
                  <a:pt x="2146" y="74"/>
                </a:lnTo>
                <a:lnTo>
                  <a:pt x="2156" y="74"/>
                </a:lnTo>
                <a:lnTo>
                  <a:pt x="2164" y="77"/>
                </a:lnTo>
                <a:lnTo>
                  <a:pt x="2174" y="77"/>
                </a:lnTo>
                <a:lnTo>
                  <a:pt x="2184" y="77"/>
                </a:lnTo>
                <a:lnTo>
                  <a:pt x="2195" y="77"/>
                </a:lnTo>
                <a:lnTo>
                  <a:pt x="2205" y="77"/>
                </a:lnTo>
                <a:lnTo>
                  <a:pt x="2215" y="77"/>
                </a:lnTo>
                <a:lnTo>
                  <a:pt x="2225" y="77"/>
                </a:lnTo>
                <a:lnTo>
                  <a:pt x="2236" y="77"/>
                </a:lnTo>
                <a:lnTo>
                  <a:pt x="2246" y="77"/>
                </a:lnTo>
                <a:lnTo>
                  <a:pt x="2254" y="77"/>
                </a:lnTo>
                <a:lnTo>
                  <a:pt x="2264" y="77"/>
                </a:lnTo>
                <a:lnTo>
                  <a:pt x="2267" y="77"/>
                </a:lnTo>
                <a:lnTo>
                  <a:pt x="2267" y="77"/>
                </a:lnTo>
                <a:lnTo>
                  <a:pt x="2261" y="77"/>
                </a:lnTo>
                <a:lnTo>
                  <a:pt x="2259" y="77"/>
                </a:lnTo>
                <a:lnTo>
                  <a:pt x="2259" y="77"/>
                </a:lnTo>
                <a:lnTo>
                  <a:pt x="2264" y="74"/>
                </a:lnTo>
                <a:lnTo>
                  <a:pt x="2277" y="74"/>
                </a:lnTo>
                <a:lnTo>
                  <a:pt x="2300" y="74"/>
                </a:lnTo>
                <a:lnTo>
                  <a:pt x="2341" y="74"/>
                </a:lnTo>
                <a:lnTo>
                  <a:pt x="2392" y="77"/>
                </a:lnTo>
                <a:lnTo>
                  <a:pt x="2454" y="77"/>
                </a:lnTo>
                <a:lnTo>
                  <a:pt x="2520" y="77"/>
                </a:lnTo>
                <a:lnTo>
                  <a:pt x="2587" y="77"/>
                </a:lnTo>
                <a:lnTo>
                  <a:pt x="2654" y="77"/>
                </a:lnTo>
                <a:lnTo>
                  <a:pt x="2713" y="77"/>
                </a:lnTo>
                <a:lnTo>
                  <a:pt x="2759" y="77"/>
                </a:lnTo>
                <a:lnTo>
                  <a:pt x="2797" y="77"/>
                </a:lnTo>
                <a:lnTo>
                  <a:pt x="2831" y="77"/>
                </a:lnTo>
                <a:lnTo>
                  <a:pt x="2859" y="77"/>
                </a:lnTo>
                <a:lnTo>
                  <a:pt x="2884" y="77"/>
                </a:lnTo>
                <a:lnTo>
                  <a:pt x="2907" y="77"/>
                </a:lnTo>
                <a:lnTo>
                  <a:pt x="2925" y="77"/>
                </a:lnTo>
                <a:lnTo>
                  <a:pt x="2943" y="77"/>
                </a:lnTo>
                <a:lnTo>
                  <a:pt x="2964" y="77"/>
                </a:lnTo>
                <a:lnTo>
                  <a:pt x="2982" y="77"/>
                </a:lnTo>
                <a:lnTo>
                  <a:pt x="3002" y="79"/>
                </a:lnTo>
                <a:lnTo>
                  <a:pt x="3018" y="79"/>
                </a:lnTo>
                <a:lnTo>
                  <a:pt x="3033" y="79"/>
                </a:lnTo>
                <a:lnTo>
                  <a:pt x="3046" y="79"/>
                </a:lnTo>
                <a:lnTo>
                  <a:pt x="3056" y="79"/>
                </a:lnTo>
                <a:lnTo>
                  <a:pt x="3064" y="77"/>
                </a:lnTo>
                <a:lnTo>
                  <a:pt x="3066" y="74"/>
                </a:lnTo>
                <a:lnTo>
                  <a:pt x="3072" y="74"/>
                </a:lnTo>
                <a:lnTo>
                  <a:pt x="3077" y="74"/>
                </a:lnTo>
                <a:lnTo>
                  <a:pt x="3079" y="74"/>
                </a:lnTo>
                <a:lnTo>
                  <a:pt x="3084" y="77"/>
                </a:lnTo>
                <a:lnTo>
                  <a:pt x="3089" y="77"/>
                </a:lnTo>
                <a:lnTo>
                  <a:pt x="3092" y="77"/>
                </a:lnTo>
                <a:lnTo>
                  <a:pt x="3097" y="77"/>
                </a:lnTo>
                <a:lnTo>
                  <a:pt x="3102" y="74"/>
                </a:lnTo>
                <a:lnTo>
                  <a:pt x="3107" y="74"/>
                </a:lnTo>
                <a:lnTo>
                  <a:pt x="3113" y="74"/>
                </a:lnTo>
                <a:lnTo>
                  <a:pt x="3120" y="74"/>
                </a:lnTo>
                <a:lnTo>
                  <a:pt x="3128" y="74"/>
                </a:lnTo>
                <a:lnTo>
                  <a:pt x="3133" y="77"/>
                </a:lnTo>
                <a:lnTo>
                  <a:pt x="3136" y="77"/>
                </a:lnTo>
                <a:lnTo>
                  <a:pt x="3136" y="77"/>
                </a:lnTo>
                <a:lnTo>
                  <a:pt x="3130" y="77"/>
                </a:lnTo>
                <a:lnTo>
                  <a:pt x="3020" y="77"/>
                </a:lnTo>
                <a:lnTo>
                  <a:pt x="3007" y="77"/>
                </a:lnTo>
                <a:lnTo>
                  <a:pt x="2995" y="77"/>
                </a:lnTo>
                <a:lnTo>
                  <a:pt x="2979" y="77"/>
                </a:lnTo>
                <a:lnTo>
                  <a:pt x="2964" y="77"/>
                </a:lnTo>
                <a:lnTo>
                  <a:pt x="2946" y="77"/>
                </a:lnTo>
                <a:lnTo>
                  <a:pt x="2928" y="77"/>
                </a:lnTo>
                <a:lnTo>
                  <a:pt x="2907" y="77"/>
                </a:lnTo>
                <a:lnTo>
                  <a:pt x="2884" y="77"/>
                </a:lnTo>
                <a:lnTo>
                  <a:pt x="2869" y="77"/>
                </a:lnTo>
                <a:lnTo>
                  <a:pt x="2854" y="77"/>
                </a:lnTo>
                <a:lnTo>
                  <a:pt x="2838" y="77"/>
                </a:lnTo>
                <a:lnTo>
                  <a:pt x="2823" y="77"/>
                </a:lnTo>
                <a:lnTo>
                  <a:pt x="2805" y="77"/>
                </a:lnTo>
                <a:lnTo>
                  <a:pt x="2787" y="77"/>
                </a:lnTo>
                <a:lnTo>
                  <a:pt x="2766" y="77"/>
                </a:lnTo>
                <a:lnTo>
                  <a:pt x="2748" y="77"/>
                </a:lnTo>
                <a:lnTo>
                  <a:pt x="2692" y="77"/>
                </a:lnTo>
                <a:lnTo>
                  <a:pt x="2631" y="77"/>
                </a:lnTo>
                <a:lnTo>
                  <a:pt x="2559" y="77"/>
                </a:lnTo>
                <a:lnTo>
                  <a:pt x="2482" y="77"/>
                </a:lnTo>
                <a:lnTo>
                  <a:pt x="2400" y="77"/>
                </a:lnTo>
                <a:lnTo>
                  <a:pt x="2315" y="77"/>
                </a:lnTo>
                <a:lnTo>
                  <a:pt x="2225" y="77"/>
                </a:lnTo>
                <a:lnTo>
                  <a:pt x="2136" y="77"/>
                </a:lnTo>
                <a:lnTo>
                  <a:pt x="2028" y="77"/>
                </a:lnTo>
                <a:lnTo>
                  <a:pt x="1920" y="77"/>
                </a:lnTo>
                <a:lnTo>
                  <a:pt x="1818" y="77"/>
                </a:lnTo>
                <a:lnTo>
                  <a:pt x="1718" y="77"/>
                </a:lnTo>
                <a:lnTo>
                  <a:pt x="1623" y="77"/>
                </a:lnTo>
                <a:lnTo>
                  <a:pt x="1538" y="77"/>
                </a:lnTo>
                <a:lnTo>
                  <a:pt x="1462" y="77"/>
                </a:lnTo>
                <a:lnTo>
                  <a:pt x="1397" y="77"/>
                </a:lnTo>
                <a:lnTo>
                  <a:pt x="1305" y="77"/>
                </a:lnTo>
                <a:lnTo>
                  <a:pt x="1246" y="77"/>
                </a:lnTo>
                <a:lnTo>
                  <a:pt x="1208" y="77"/>
                </a:lnTo>
                <a:lnTo>
                  <a:pt x="1180" y="77"/>
                </a:lnTo>
                <a:lnTo>
                  <a:pt x="1156" y="77"/>
                </a:lnTo>
                <a:lnTo>
                  <a:pt x="1126" y="77"/>
                </a:lnTo>
                <a:lnTo>
                  <a:pt x="1077" y="77"/>
                </a:lnTo>
                <a:lnTo>
                  <a:pt x="1005" y="77"/>
                </a:lnTo>
                <a:lnTo>
                  <a:pt x="992" y="77"/>
                </a:lnTo>
                <a:lnTo>
                  <a:pt x="982" y="77"/>
                </a:lnTo>
                <a:lnTo>
                  <a:pt x="969" y="77"/>
                </a:lnTo>
                <a:lnTo>
                  <a:pt x="956" y="77"/>
                </a:lnTo>
                <a:lnTo>
                  <a:pt x="941" y="77"/>
                </a:lnTo>
                <a:lnTo>
                  <a:pt x="928" y="77"/>
                </a:lnTo>
                <a:lnTo>
                  <a:pt x="913" y="77"/>
                </a:lnTo>
                <a:lnTo>
                  <a:pt x="900" y="77"/>
                </a:lnTo>
                <a:lnTo>
                  <a:pt x="454" y="77"/>
                </a:lnTo>
                <a:lnTo>
                  <a:pt x="0" y="77"/>
                </a:lnTo>
                <a:close/>
              </a:path>
            </a:pathLst>
          </a:custGeom>
          <a:solidFill>
            <a:srgbClr val="de80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668840" y="5859360"/>
            <a:ext cx="4019400" cy="104760"/>
          </a:xfrm>
          <a:custGeom>
            <a:avLst/>
            <a:gdLst/>
            <a:ahLst/>
            <a:rect l="l" t="t" r="r" b="b"/>
            <a:pathLst>
              <a:path w="3136" h="79">
                <a:moveTo>
                  <a:pt x="0" y="77"/>
                </a:moveTo>
                <a:lnTo>
                  <a:pt x="151" y="15"/>
                </a:lnTo>
                <a:lnTo>
                  <a:pt x="162" y="13"/>
                </a:lnTo>
                <a:lnTo>
                  <a:pt x="172" y="10"/>
                </a:lnTo>
                <a:lnTo>
                  <a:pt x="185" y="10"/>
                </a:lnTo>
                <a:lnTo>
                  <a:pt x="195" y="7"/>
                </a:lnTo>
                <a:lnTo>
                  <a:pt x="208" y="5"/>
                </a:lnTo>
                <a:lnTo>
                  <a:pt x="218" y="2"/>
                </a:lnTo>
                <a:lnTo>
                  <a:pt x="228" y="2"/>
                </a:lnTo>
                <a:lnTo>
                  <a:pt x="239" y="0"/>
                </a:lnTo>
                <a:lnTo>
                  <a:pt x="249" y="0"/>
                </a:lnTo>
                <a:lnTo>
                  <a:pt x="257" y="2"/>
                </a:lnTo>
                <a:lnTo>
                  <a:pt x="267" y="2"/>
                </a:lnTo>
                <a:lnTo>
                  <a:pt x="275" y="5"/>
                </a:lnTo>
                <a:lnTo>
                  <a:pt x="282" y="7"/>
                </a:lnTo>
                <a:lnTo>
                  <a:pt x="292" y="10"/>
                </a:lnTo>
                <a:lnTo>
                  <a:pt x="300" y="10"/>
                </a:lnTo>
                <a:lnTo>
                  <a:pt x="310" y="10"/>
                </a:lnTo>
                <a:lnTo>
                  <a:pt x="321" y="10"/>
                </a:lnTo>
                <a:lnTo>
                  <a:pt x="328" y="13"/>
                </a:lnTo>
                <a:lnTo>
                  <a:pt x="341" y="15"/>
                </a:lnTo>
                <a:lnTo>
                  <a:pt x="351" y="18"/>
                </a:lnTo>
                <a:lnTo>
                  <a:pt x="362" y="20"/>
                </a:lnTo>
                <a:lnTo>
                  <a:pt x="372" y="23"/>
                </a:lnTo>
                <a:lnTo>
                  <a:pt x="382" y="25"/>
                </a:lnTo>
                <a:lnTo>
                  <a:pt x="392" y="25"/>
                </a:lnTo>
                <a:lnTo>
                  <a:pt x="403" y="28"/>
                </a:lnTo>
                <a:lnTo>
                  <a:pt x="413" y="28"/>
                </a:lnTo>
                <a:lnTo>
                  <a:pt x="421" y="31"/>
                </a:lnTo>
                <a:lnTo>
                  <a:pt x="431" y="33"/>
                </a:lnTo>
                <a:lnTo>
                  <a:pt x="441" y="36"/>
                </a:lnTo>
                <a:lnTo>
                  <a:pt x="451" y="38"/>
                </a:lnTo>
                <a:lnTo>
                  <a:pt x="462" y="38"/>
                </a:lnTo>
                <a:lnTo>
                  <a:pt x="474" y="41"/>
                </a:lnTo>
                <a:lnTo>
                  <a:pt x="587" y="56"/>
                </a:lnTo>
                <a:lnTo>
                  <a:pt x="605" y="56"/>
                </a:lnTo>
                <a:lnTo>
                  <a:pt x="615" y="56"/>
                </a:lnTo>
                <a:lnTo>
                  <a:pt x="621" y="56"/>
                </a:lnTo>
                <a:lnTo>
                  <a:pt x="623" y="56"/>
                </a:lnTo>
                <a:lnTo>
                  <a:pt x="631" y="56"/>
                </a:lnTo>
                <a:lnTo>
                  <a:pt x="639" y="56"/>
                </a:lnTo>
                <a:lnTo>
                  <a:pt x="649" y="56"/>
                </a:lnTo>
                <a:lnTo>
                  <a:pt x="659" y="56"/>
                </a:lnTo>
                <a:lnTo>
                  <a:pt x="669" y="56"/>
                </a:lnTo>
                <a:lnTo>
                  <a:pt x="680" y="56"/>
                </a:lnTo>
                <a:lnTo>
                  <a:pt x="690" y="56"/>
                </a:lnTo>
                <a:lnTo>
                  <a:pt x="700" y="59"/>
                </a:lnTo>
                <a:lnTo>
                  <a:pt x="708" y="59"/>
                </a:lnTo>
                <a:lnTo>
                  <a:pt x="718" y="59"/>
                </a:lnTo>
                <a:lnTo>
                  <a:pt x="726" y="61"/>
                </a:lnTo>
                <a:lnTo>
                  <a:pt x="733" y="61"/>
                </a:lnTo>
                <a:lnTo>
                  <a:pt x="741" y="61"/>
                </a:lnTo>
                <a:lnTo>
                  <a:pt x="749" y="61"/>
                </a:lnTo>
                <a:lnTo>
                  <a:pt x="756" y="61"/>
                </a:lnTo>
                <a:lnTo>
                  <a:pt x="764" y="61"/>
                </a:lnTo>
                <a:lnTo>
                  <a:pt x="772" y="61"/>
                </a:lnTo>
                <a:lnTo>
                  <a:pt x="774" y="64"/>
                </a:lnTo>
                <a:lnTo>
                  <a:pt x="780" y="64"/>
                </a:lnTo>
                <a:lnTo>
                  <a:pt x="785" y="66"/>
                </a:lnTo>
                <a:lnTo>
                  <a:pt x="790" y="66"/>
                </a:lnTo>
                <a:lnTo>
                  <a:pt x="795" y="66"/>
                </a:lnTo>
                <a:lnTo>
                  <a:pt x="803" y="66"/>
                </a:lnTo>
                <a:lnTo>
                  <a:pt x="810" y="66"/>
                </a:lnTo>
                <a:lnTo>
                  <a:pt x="821" y="66"/>
                </a:lnTo>
                <a:lnTo>
                  <a:pt x="833" y="66"/>
                </a:lnTo>
                <a:lnTo>
                  <a:pt x="846" y="66"/>
                </a:lnTo>
                <a:lnTo>
                  <a:pt x="862" y="66"/>
                </a:lnTo>
                <a:lnTo>
                  <a:pt x="874" y="64"/>
                </a:lnTo>
                <a:lnTo>
                  <a:pt x="890" y="64"/>
                </a:lnTo>
                <a:lnTo>
                  <a:pt x="903" y="66"/>
                </a:lnTo>
                <a:lnTo>
                  <a:pt x="913" y="66"/>
                </a:lnTo>
                <a:lnTo>
                  <a:pt x="923" y="66"/>
                </a:lnTo>
                <a:lnTo>
                  <a:pt x="931" y="66"/>
                </a:lnTo>
                <a:lnTo>
                  <a:pt x="936" y="66"/>
                </a:lnTo>
                <a:lnTo>
                  <a:pt x="941" y="66"/>
                </a:lnTo>
                <a:lnTo>
                  <a:pt x="946" y="66"/>
                </a:lnTo>
                <a:lnTo>
                  <a:pt x="951" y="66"/>
                </a:lnTo>
                <a:lnTo>
                  <a:pt x="959" y="66"/>
                </a:lnTo>
                <a:lnTo>
                  <a:pt x="967" y="66"/>
                </a:lnTo>
                <a:lnTo>
                  <a:pt x="974" y="69"/>
                </a:lnTo>
                <a:lnTo>
                  <a:pt x="987" y="69"/>
                </a:lnTo>
                <a:lnTo>
                  <a:pt x="1000" y="72"/>
                </a:lnTo>
                <a:lnTo>
                  <a:pt x="1010" y="72"/>
                </a:lnTo>
                <a:lnTo>
                  <a:pt x="1023" y="72"/>
                </a:lnTo>
                <a:lnTo>
                  <a:pt x="1033" y="72"/>
                </a:lnTo>
                <a:lnTo>
                  <a:pt x="1046" y="72"/>
                </a:lnTo>
                <a:lnTo>
                  <a:pt x="1056" y="72"/>
                </a:lnTo>
                <a:lnTo>
                  <a:pt x="1067" y="72"/>
                </a:lnTo>
                <a:lnTo>
                  <a:pt x="1085" y="72"/>
                </a:lnTo>
                <a:lnTo>
                  <a:pt x="1097" y="72"/>
                </a:lnTo>
                <a:lnTo>
                  <a:pt x="1108" y="72"/>
                </a:lnTo>
                <a:lnTo>
                  <a:pt x="1118" y="72"/>
                </a:lnTo>
                <a:lnTo>
                  <a:pt x="1123" y="72"/>
                </a:lnTo>
                <a:lnTo>
                  <a:pt x="1131" y="72"/>
                </a:lnTo>
                <a:lnTo>
                  <a:pt x="1138" y="72"/>
                </a:lnTo>
                <a:lnTo>
                  <a:pt x="1149" y="72"/>
                </a:lnTo>
                <a:lnTo>
                  <a:pt x="1162" y="72"/>
                </a:lnTo>
                <a:lnTo>
                  <a:pt x="1172" y="72"/>
                </a:lnTo>
                <a:lnTo>
                  <a:pt x="1185" y="72"/>
                </a:lnTo>
                <a:lnTo>
                  <a:pt x="1197" y="72"/>
                </a:lnTo>
                <a:lnTo>
                  <a:pt x="1210" y="72"/>
                </a:lnTo>
                <a:lnTo>
                  <a:pt x="1221" y="72"/>
                </a:lnTo>
                <a:lnTo>
                  <a:pt x="1228" y="72"/>
                </a:lnTo>
                <a:lnTo>
                  <a:pt x="1236" y="72"/>
                </a:lnTo>
                <a:lnTo>
                  <a:pt x="1238" y="74"/>
                </a:lnTo>
                <a:lnTo>
                  <a:pt x="1241" y="74"/>
                </a:lnTo>
                <a:lnTo>
                  <a:pt x="1244" y="77"/>
                </a:lnTo>
                <a:lnTo>
                  <a:pt x="1246" y="77"/>
                </a:lnTo>
                <a:lnTo>
                  <a:pt x="1249" y="79"/>
                </a:lnTo>
                <a:lnTo>
                  <a:pt x="1251" y="79"/>
                </a:lnTo>
                <a:lnTo>
                  <a:pt x="1256" y="79"/>
                </a:lnTo>
                <a:lnTo>
                  <a:pt x="1264" y="77"/>
                </a:lnTo>
                <a:lnTo>
                  <a:pt x="1274" y="74"/>
                </a:lnTo>
                <a:lnTo>
                  <a:pt x="1285" y="74"/>
                </a:lnTo>
                <a:lnTo>
                  <a:pt x="1297" y="74"/>
                </a:lnTo>
                <a:lnTo>
                  <a:pt x="1310" y="74"/>
                </a:lnTo>
                <a:lnTo>
                  <a:pt x="1326" y="77"/>
                </a:lnTo>
                <a:lnTo>
                  <a:pt x="1338" y="77"/>
                </a:lnTo>
                <a:lnTo>
                  <a:pt x="1354" y="77"/>
                </a:lnTo>
                <a:lnTo>
                  <a:pt x="1364" y="74"/>
                </a:lnTo>
                <a:lnTo>
                  <a:pt x="1374" y="74"/>
                </a:lnTo>
                <a:lnTo>
                  <a:pt x="1385" y="72"/>
                </a:lnTo>
                <a:lnTo>
                  <a:pt x="1390" y="72"/>
                </a:lnTo>
                <a:lnTo>
                  <a:pt x="1397" y="72"/>
                </a:lnTo>
                <a:lnTo>
                  <a:pt x="1405" y="72"/>
                </a:lnTo>
                <a:lnTo>
                  <a:pt x="1413" y="74"/>
                </a:lnTo>
                <a:lnTo>
                  <a:pt x="1426" y="74"/>
                </a:lnTo>
                <a:lnTo>
                  <a:pt x="1438" y="77"/>
                </a:lnTo>
                <a:lnTo>
                  <a:pt x="1459" y="77"/>
                </a:lnTo>
                <a:lnTo>
                  <a:pt x="1487" y="79"/>
                </a:lnTo>
                <a:lnTo>
                  <a:pt x="1520" y="79"/>
                </a:lnTo>
                <a:lnTo>
                  <a:pt x="1556" y="79"/>
                </a:lnTo>
                <a:lnTo>
                  <a:pt x="1592" y="79"/>
                </a:lnTo>
                <a:lnTo>
                  <a:pt x="1626" y="77"/>
                </a:lnTo>
                <a:lnTo>
                  <a:pt x="1654" y="77"/>
                </a:lnTo>
                <a:lnTo>
                  <a:pt x="1674" y="74"/>
                </a:lnTo>
                <a:lnTo>
                  <a:pt x="1687" y="74"/>
                </a:lnTo>
                <a:lnTo>
                  <a:pt x="1695" y="74"/>
                </a:lnTo>
                <a:lnTo>
                  <a:pt x="1697" y="74"/>
                </a:lnTo>
                <a:lnTo>
                  <a:pt x="1700" y="74"/>
                </a:lnTo>
                <a:lnTo>
                  <a:pt x="1700" y="77"/>
                </a:lnTo>
                <a:lnTo>
                  <a:pt x="1705" y="77"/>
                </a:lnTo>
                <a:lnTo>
                  <a:pt x="1713" y="77"/>
                </a:lnTo>
                <a:lnTo>
                  <a:pt x="1720" y="74"/>
                </a:lnTo>
                <a:lnTo>
                  <a:pt x="1726" y="74"/>
                </a:lnTo>
                <a:lnTo>
                  <a:pt x="1731" y="74"/>
                </a:lnTo>
                <a:lnTo>
                  <a:pt x="1736" y="74"/>
                </a:lnTo>
                <a:lnTo>
                  <a:pt x="1738" y="74"/>
                </a:lnTo>
                <a:lnTo>
                  <a:pt x="1746" y="74"/>
                </a:lnTo>
                <a:lnTo>
                  <a:pt x="1754" y="74"/>
                </a:lnTo>
                <a:lnTo>
                  <a:pt x="1764" y="74"/>
                </a:lnTo>
                <a:lnTo>
                  <a:pt x="1777" y="74"/>
                </a:lnTo>
                <a:lnTo>
                  <a:pt x="1790" y="77"/>
                </a:lnTo>
                <a:lnTo>
                  <a:pt x="1805" y="77"/>
                </a:lnTo>
                <a:lnTo>
                  <a:pt x="1820" y="77"/>
                </a:lnTo>
                <a:lnTo>
                  <a:pt x="1836" y="74"/>
                </a:lnTo>
                <a:lnTo>
                  <a:pt x="1851" y="74"/>
                </a:lnTo>
                <a:lnTo>
                  <a:pt x="1867" y="77"/>
                </a:lnTo>
                <a:lnTo>
                  <a:pt x="1882" y="77"/>
                </a:lnTo>
                <a:lnTo>
                  <a:pt x="1895" y="77"/>
                </a:lnTo>
                <a:lnTo>
                  <a:pt x="1908" y="77"/>
                </a:lnTo>
                <a:lnTo>
                  <a:pt x="1918" y="77"/>
                </a:lnTo>
                <a:lnTo>
                  <a:pt x="1931" y="77"/>
                </a:lnTo>
                <a:lnTo>
                  <a:pt x="1941" y="77"/>
                </a:lnTo>
                <a:lnTo>
                  <a:pt x="1954" y="77"/>
                </a:lnTo>
                <a:lnTo>
                  <a:pt x="1967" y="77"/>
                </a:lnTo>
                <a:lnTo>
                  <a:pt x="1979" y="77"/>
                </a:lnTo>
                <a:lnTo>
                  <a:pt x="1995" y="77"/>
                </a:lnTo>
                <a:lnTo>
                  <a:pt x="2010" y="77"/>
                </a:lnTo>
                <a:lnTo>
                  <a:pt x="2026" y="77"/>
                </a:lnTo>
                <a:lnTo>
                  <a:pt x="2043" y="77"/>
                </a:lnTo>
                <a:lnTo>
                  <a:pt x="2059" y="77"/>
                </a:lnTo>
                <a:lnTo>
                  <a:pt x="2074" y="77"/>
                </a:lnTo>
                <a:lnTo>
                  <a:pt x="2090" y="77"/>
                </a:lnTo>
                <a:lnTo>
                  <a:pt x="2102" y="74"/>
                </a:lnTo>
                <a:lnTo>
                  <a:pt x="2115" y="74"/>
                </a:lnTo>
                <a:lnTo>
                  <a:pt x="2126" y="74"/>
                </a:lnTo>
                <a:lnTo>
                  <a:pt x="2136" y="74"/>
                </a:lnTo>
                <a:lnTo>
                  <a:pt x="2146" y="74"/>
                </a:lnTo>
                <a:lnTo>
                  <a:pt x="2156" y="74"/>
                </a:lnTo>
                <a:lnTo>
                  <a:pt x="2164" y="77"/>
                </a:lnTo>
                <a:lnTo>
                  <a:pt x="2174" y="77"/>
                </a:lnTo>
                <a:lnTo>
                  <a:pt x="2184" y="77"/>
                </a:lnTo>
                <a:lnTo>
                  <a:pt x="2195" y="77"/>
                </a:lnTo>
                <a:lnTo>
                  <a:pt x="2205" y="77"/>
                </a:lnTo>
                <a:lnTo>
                  <a:pt x="2215" y="77"/>
                </a:lnTo>
                <a:lnTo>
                  <a:pt x="2225" y="77"/>
                </a:lnTo>
                <a:lnTo>
                  <a:pt x="2236" y="77"/>
                </a:lnTo>
                <a:lnTo>
                  <a:pt x="2246" y="77"/>
                </a:lnTo>
                <a:lnTo>
                  <a:pt x="2254" y="77"/>
                </a:lnTo>
                <a:lnTo>
                  <a:pt x="2264" y="77"/>
                </a:lnTo>
                <a:lnTo>
                  <a:pt x="2267" y="77"/>
                </a:lnTo>
                <a:lnTo>
                  <a:pt x="2261" y="77"/>
                </a:lnTo>
                <a:lnTo>
                  <a:pt x="2259" y="77"/>
                </a:lnTo>
                <a:lnTo>
                  <a:pt x="2264" y="74"/>
                </a:lnTo>
                <a:lnTo>
                  <a:pt x="2277" y="74"/>
                </a:lnTo>
                <a:lnTo>
                  <a:pt x="2300" y="74"/>
                </a:lnTo>
                <a:lnTo>
                  <a:pt x="2341" y="74"/>
                </a:lnTo>
                <a:lnTo>
                  <a:pt x="2392" y="77"/>
                </a:lnTo>
                <a:lnTo>
                  <a:pt x="2454" y="77"/>
                </a:lnTo>
                <a:lnTo>
                  <a:pt x="2520" y="77"/>
                </a:lnTo>
                <a:lnTo>
                  <a:pt x="2587" y="77"/>
                </a:lnTo>
                <a:lnTo>
                  <a:pt x="2654" y="77"/>
                </a:lnTo>
                <a:lnTo>
                  <a:pt x="2713" y="77"/>
                </a:lnTo>
                <a:lnTo>
                  <a:pt x="2759" y="77"/>
                </a:lnTo>
                <a:lnTo>
                  <a:pt x="2797" y="77"/>
                </a:lnTo>
                <a:lnTo>
                  <a:pt x="2831" y="77"/>
                </a:lnTo>
                <a:lnTo>
                  <a:pt x="2859" y="77"/>
                </a:lnTo>
                <a:lnTo>
                  <a:pt x="2884" y="77"/>
                </a:lnTo>
                <a:lnTo>
                  <a:pt x="2907" y="77"/>
                </a:lnTo>
                <a:lnTo>
                  <a:pt x="2925" y="77"/>
                </a:lnTo>
                <a:lnTo>
                  <a:pt x="2943" y="77"/>
                </a:lnTo>
                <a:lnTo>
                  <a:pt x="2964" y="77"/>
                </a:lnTo>
                <a:lnTo>
                  <a:pt x="2982" y="77"/>
                </a:lnTo>
                <a:lnTo>
                  <a:pt x="3002" y="79"/>
                </a:lnTo>
                <a:lnTo>
                  <a:pt x="3018" y="79"/>
                </a:lnTo>
                <a:lnTo>
                  <a:pt x="3033" y="79"/>
                </a:lnTo>
                <a:lnTo>
                  <a:pt x="3046" y="79"/>
                </a:lnTo>
                <a:lnTo>
                  <a:pt x="3056" y="79"/>
                </a:lnTo>
                <a:lnTo>
                  <a:pt x="3064" y="77"/>
                </a:lnTo>
                <a:lnTo>
                  <a:pt x="3066" y="74"/>
                </a:lnTo>
                <a:lnTo>
                  <a:pt x="3072" y="74"/>
                </a:lnTo>
                <a:lnTo>
                  <a:pt x="3077" y="74"/>
                </a:lnTo>
                <a:lnTo>
                  <a:pt x="3079" y="74"/>
                </a:lnTo>
                <a:lnTo>
                  <a:pt x="3084" y="77"/>
                </a:lnTo>
                <a:lnTo>
                  <a:pt x="3089" y="77"/>
                </a:lnTo>
                <a:lnTo>
                  <a:pt x="3092" y="77"/>
                </a:lnTo>
                <a:lnTo>
                  <a:pt x="3097" y="77"/>
                </a:lnTo>
                <a:lnTo>
                  <a:pt x="3102" y="74"/>
                </a:lnTo>
                <a:lnTo>
                  <a:pt x="3107" y="74"/>
                </a:lnTo>
                <a:lnTo>
                  <a:pt x="3113" y="74"/>
                </a:lnTo>
                <a:lnTo>
                  <a:pt x="3120" y="74"/>
                </a:lnTo>
                <a:lnTo>
                  <a:pt x="3128" y="74"/>
                </a:lnTo>
                <a:lnTo>
                  <a:pt x="3133" y="77"/>
                </a:lnTo>
                <a:lnTo>
                  <a:pt x="3136" y="77"/>
                </a:lnTo>
                <a:lnTo>
                  <a:pt x="3130" y="77"/>
                </a:lnTo>
                <a:lnTo>
                  <a:pt x="3020" y="77"/>
                </a:lnTo>
                <a:lnTo>
                  <a:pt x="3007" y="77"/>
                </a:lnTo>
                <a:lnTo>
                  <a:pt x="2995" y="77"/>
                </a:lnTo>
                <a:lnTo>
                  <a:pt x="2979" y="77"/>
                </a:lnTo>
                <a:lnTo>
                  <a:pt x="2964" y="77"/>
                </a:lnTo>
                <a:lnTo>
                  <a:pt x="2946" y="77"/>
                </a:lnTo>
                <a:lnTo>
                  <a:pt x="2928" y="77"/>
                </a:lnTo>
                <a:lnTo>
                  <a:pt x="2907" y="77"/>
                </a:lnTo>
                <a:lnTo>
                  <a:pt x="2884" y="77"/>
                </a:lnTo>
                <a:lnTo>
                  <a:pt x="2869" y="77"/>
                </a:lnTo>
                <a:lnTo>
                  <a:pt x="2854" y="77"/>
                </a:lnTo>
                <a:lnTo>
                  <a:pt x="2838" y="77"/>
                </a:lnTo>
                <a:lnTo>
                  <a:pt x="2823" y="77"/>
                </a:lnTo>
                <a:lnTo>
                  <a:pt x="2805" y="77"/>
                </a:lnTo>
                <a:lnTo>
                  <a:pt x="2787" y="77"/>
                </a:lnTo>
                <a:lnTo>
                  <a:pt x="2766" y="77"/>
                </a:lnTo>
                <a:lnTo>
                  <a:pt x="2748" y="77"/>
                </a:lnTo>
                <a:lnTo>
                  <a:pt x="2692" y="77"/>
                </a:lnTo>
                <a:lnTo>
                  <a:pt x="2631" y="77"/>
                </a:lnTo>
                <a:lnTo>
                  <a:pt x="2559" y="77"/>
                </a:lnTo>
                <a:lnTo>
                  <a:pt x="2482" y="77"/>
                </a:lnTo>
                <a:lnTo>
                  <a:pt x="2400" y="77"/>
                </a:lnTo>
                <a:lnTo>
                  <a:pt x="2315" y="77"/>
                </a:lnTo>
                <a:lnTo>
                  <a:pt x="2225" y="77"/>
                </a:lnTo>
                <a:lnTo>
                  <a:pt x="2136" y="77"/>
                </a:lnTo>
                <a:lnTo>
                  <a:pt x="2028" y="77"/>
                </a:lnTo>
                <a:lnTo>
                  <a:pt x="1920" y="77"/>
                </a:lnTo>
                <a:lnTo>
                  <a:pt x="1818" y="77"/>
                </a:lnTo>
                <a:lnTo>
                  <a:pt x="1718" y="77"/>
                </a:lnTo>
                <a:lnTo>
                  <a:pt x="1623" y="77"/>
                </a:lnTo>
                <a:lnTo>
                  <a:pt x="1538" y="77"/>
                </a:lnTo>
                <a:lnTo>
                  <a:pt x="1462" y="77"/>
                </a:lnTo>
                <a:lnTo>
                  <a:pt x="1397" y="77"/>
                </a:lnTo>
                <a:lnTo>
                  <a:pt x="1305" y="77"/>
                </a:lnTo>
                <a:lnTo>
                  <a:pt x="1246" y="77"/>
                </a:lnTo>
                <a:lnTo>
                  <a:pt x="1208" y="77"/>
                </a:lnTo>
                <a:lnTo>
                  <a:pt x="1180" y="77"/>
                </a:lnTo>
                <a:lnTo>
                  <a:pt x="1156" y="77"/>
                </a:lnTo>
                <a:lnTo>
                  <a:pt x="1126" y="77"/>
                </a:lnTo>
                <a:lnTo>
                  <a:pt x="1077" y="77"/>
                </a:lnTo>
                <a:lnTo>
                  <a:pt x="1005" y="77"/>
                </a:lnTo>
                <a:lnTo>
                  <a:pt x="992" y="77"/>
                </a:lnTo>
                <a:lnTo>
                  <a:pt x="982" y="77"/>
                </a:lnTo>
                <a:lnTo>
                  <a:pt x="969" y="77"/>
                </a:lnTo>
                <a:lnTo>
                  <a:pt x="956" y="77"/>
                </a:lnTo>
                <a:lnTo>
                  <a:pt x="941" y="77"/>
                </a:lnTo>
                <a:lnTo>
                  <a:pt x="928" y="77"/>
                </a:lnTo>
                <a:lnTo>
                  <a:pt x="913" y="77"/>
                </a:lnTo>
                <a:lnTo>
                  <a:pt x="900" y="77"/>
                </a:lnTo>
                <a:lnTo>
                  <a:pt x="454" y="77"/>
                </a:lnTo>
                <a:lnTo>
                  <a:pt x="0" y="77"/>
                </a:lnTo>
              </a:path>
            </a:pathLst>
          </a:custGeom>
          <a:solidFill>
            <a:srgbClr val="de800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672080" y="3008160"/>
            <a:ext cx="4025880" cy="182880"/>
          </a:xfrm>
          <a:custGeom>
            <a:avLst/>
            <a:gdLst/>
            <a:ahLst/>
            <a:rect l="l" t="t" r="r" b="b"/>
            <a:pathLst>
              <a:path w="2968" h="145">
                <a:moveTo>
                  <a:pt x="0" y="145"/>
                </a:moveTo>
                <a:lnTo>
                  <a:pt x="530" y="34"/>
                </a:lnTo>
                <a:lnTo>
                  <a:pt x="573" y="29"/>
                </a:lnTo>
                <a:lnTo>
                  <a:pt x="618" y="24"/>
                </a:lnTo>
                <a:lnTo>
                  <a:pt x="658" y="17"/>
                </a:lnTo>
                <a:lnTo>
                  <a:pt x="702" y="10"/>
                </a:lnTo>
                <a:lnTo>
                  <a:pt x="746" y="5"/>
                </a:lnTo>
                <a:lnTo>
                  <a:pt x="787" y="3"/>
                </a:lnTo>
                <a:lnTo>
                  <a:pt x="830" y="0"/>
                </a:lnTo>
                <a:lnTo>
                  <a:pt x="873" y="5"/>
                </a:lnTo>
                <a:lnTo>
                  <a:pt x="1135" y="34"/>
                </a:lnTo>
                <a:lnTo>
                  <a:pt x="1220" y="60"/>
                </a:lnTo>
                <a:lnTo>
                  <a:pt x="1302" y="85"/>
                </a:lnTo>
                <a:lnTo>
                  <a:pt x="1401" y="97"/>
                </a:lnTo>
                <a:lnTo>
                  <a:pt x="1461" y="105"/>
                </a:lnTo>
                <a:lnTo>
                  <a:pt x="1931" y="107"/>
                </a:lnTo>
                <a:lnTo>
                  <a:pt x="2153" y="109"/>
                </a:lnTo>
                <a:lnTo>
                  <a:pt x="2529" y="113"/>
                </a:lnTo>
                <a:lnTo>
                  <a:pt x="2968" y="145"/>
                </a:lnTo>
                <a:lnTo>
                  <a:pt x="0" y="14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795920" y="3346560"/>
            <a:ext cx="3917880" cy="203040"/>
          </a:xfrm>
          <a:custGeom>
            <a:avLst/>
            <a:gdLst/>
            <a:ahLst/>
            <a:rect l="l" t="t" r="r" b="b"/>
            <a:pathLst>
              <a:path w="3056" h="154">
                <a:moveTo>
                  <a:pt x="0" y="154"/>
                </a:moveTo>
                <a:lnTo>
                  <a:pt x="374" y="141"/>
                </a:lnTo>
                <a:lnTo>
                  <a:pt x="500" y="113"/>
                </a:lnTo>
                <a:lnTo>
                  <a:pt x="600" y="28"/>
                </a:lnTo>
                <a:lnTo>
                  <a:pt x="718" y="0"/>
                </a:lnTo>
                <a:lnTo>
                  <a:pt x="1226" y="13"/>
                </a:lnTo>
                <a:lnTo>
                  <a:pt x="1249" y="18"/>
                </a:lnTo>
                <a:lnTo>
                  <a:pt x="1269" y="20"/>
                </a:lnTo>
                <a:lnTo>
                  <a:pt x="1290" y="26"/>
                </a:lnTo>
                <a:lnTo>
                  <a:pt x="1313" y="28"/>
                </a:lnTo>
                <a:lnTo>
                  <a:pt x="1333" y="33"/>
                </a:lnTo>
                <a:lnTo>
                  <a:pt x="1354" y="38"/>
                </a:lnTo>
                <a:lnTo>
                  <a:pt x="1374" y="43"/>
                </a:lnTo>
                <a:lnTo>
                  <a:pt x="1395" y="49"/>
                </a:lnTo>
                <a:lnTo>
                  <a:pt x="1544" y="92"/>
                </a:lnTo>
                <a:lnTo>
                  <a:pt x="1702" y="133"/>
                </a:lnTo>
                <a:lnTo>
                  <a:pt x="2243" y="143"/>
                </a:lnTo>
                <a:lnTo>
                  <a:pt x="2889" y="143"/>
                </a:lnTo>
                <a:lnTo>
                  <a:pt x="3056" y="154"/>
                </a:lnTo>
                <a:lnTo>
                  <a:pt x="0" y="154"/>
                </a:lnTo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767120" y="3703680"/>
            <a:ext cx="3943440" cy="230040"/>
          </a:xfrm>
          <a:custGeom>
            <a:avLst/>
            <a:gdLst/>
            <a:ahLst/>
            <a:rect l="l" t="t" r="r" b="b"/>
            <a:pathLst>
              <a:path w="3077" h="239">
                <a:moveTo>
                  <a:pt x="0" y="239"/>
                </a:moveTo>
                <a:lnTo>
                  <a:pt x="410" y="226"/>
                </a:lnTo>
                <a:lnTo>
                  <a:pt x="738" y="193"/>
                </a:lnTo>
                <a:lnTo>
                  <a:pt x="1044" y="113"/>
                </a:lnTo>
                <a:lnTo>
                  <a:pt x="1338" y="21"/>
                </a:lnTo>
                <a:lnTo>
                  <a:pt x="1484" y="0"/>
                </a:lnTo>
                <a:lnTo>
                  <a:pt x="2038" y="0"/>
                </a:lnTo>
                <a:lnTo>
                  <a:pt x="2064" y="5"/>
                </a:lnTo>
                <a:lnTo>
                  <a:pt x="2084" y="8"/>
                </a:lnTo>
                <a:lnTo>
                  <a:pt x="2107" y="11"/>
                </a:lnTo>
                <a:lnTo>
                  <a:pt x="2131" y="16"/>
                </a:lnTo>
                <a:lnTo>
                  <a:pt x="2154" y="21"/>
                </a:lnTo>
                <a:lnTo>
                  <a:pt x="2179" y="31"/>
                </a:lnTo>
                <a:lnTo>
                  <a:pt x="2202" y="44"/>
                </a:lnTo>
                <a:lnTo>
                  <a:pt x="2231" y="64"/>
                </a:lnTo>
                <a:lnTo>
                  <a:pt x="2246" y="77"/>
                </a:lnTo>
                <a:lnTo>
                  <a:pt x="2264" y="93"/>
                </a:lnTo>
                <a:lnTo>
                  <a:pt x="2279" y="105"/>
                </a:lnTo>
                <a:lnTo>
                  <a:pt x="2297" y="121"/>
                </a:lnTo>
                <a:lnTo>
                  <a:pt x="2313" y="134"/>
                </a:lnTo>
                <a:lnTo>
                  <a:pt x="2331" y="146"/>
                </a:lnTo>
                <a:lnTo>
                  <a:pt x="2346" y="159"/>
                </a:lnTo>
                <a:lnTo>
                  <a:pt x="2364" y="169"/>
                </a:lnTo>
                <a:lnTo>
                  <a:pt x="2379" y="177"/>
                </a:lnTo>
                <a:lnTo>
                  <a:pt x="2392" y="182"/>
                </a:lnTo>
                <a:lnTo>
                  <a:pt x="2407" y="190"/>
                </a:lnTo>
                <a:lnTo>
                  <a:pt x="2423" y="193"/>
                </a:lnTo>
                <a:lnTo>
                  <a:pt x="2438" y="198"/>
                </a:lnTo>
                <a:lnTo>
                  <a:pt x="2454" y="203"/>
                </a:lnTo>
                <a:lnTo>
                  <a:pt x="2466" y="205"/>
                </a:lnTo>
                <a:lnTo>
                  <a:pt x="2482" y="208"/>
                </a:lnTo>
                <a:lnTo>
                  <a:pt x="2502" y="208"/>
                </a:lnTo>
                <a:lnTo>
                  <a:pt x="2515" y="210"/>
                </a:lnTo>
                <a:lnTo>
                  <a:pt x="2523" y="210"/>
                </a:lnTo>
                <a:lnTo>
                  <a:pt x="2528" y="210"/>
                </a:lnTo>
                <a:lnTo>
                  <a:pt x="2536" y="210"/>
                </a:lnTo>
                <a:lnTo>
                  <a:pt x="2548" y="210"/>
                </a:lnTo>
                <a:lnTo>
                  <a:pt x="2566" y="210"/>
                </a:lnTo>
                <a:lnTo>
                  <a:pt x="2595" y="210"/>
                </a:lnTo>
                <a:lnTo>
                  <a:pt x="2615" y="205"/>
                </a:lnTo>
                <a:lnTo>
                  <a:pt x="2625" y="200"/>
                </a:lnTo>
                <a:lnTo>
                  <a:pt x="2633" y="193"/>
                </a:lnTo>
                <a:lnTo>
                  <a:pt x="2638" y="182"/>
                </a:lnTo>
                <a:lnTo>
                  <a:pt x="2643" y="175"/>
                </a:lnTo>
                <a:lnTo>
                  <a:pt x="2646" y="167"/>
                </a:lnTo>
                <a:lnTo>
                  <a:pt x="2654" y="159"/>
                </a:lnTo>
                <a:lnTo>
                  <a:pt x="2664" y="157"/>
                </a:lnTo>
                <a:lnTo>
                  <a:pt x="2674" y="159"/>
                </a:lnTo>
                <a:lnTo>
                  <a:pt x="2682" y="164"/>
                </a:lnTo>
                <a:lnTo>
                  <a:pt x="2684" y="172"/>
                </a:lnTo>
                <a:lnTo>
                  <a:pt x="2687" y="180"/>
                </a:lnTo>
                <a:lnTo>
                  <a:pt x="2689" y="187"/>
                </a:lnTo>
                <a:lnTo>
                  <a:pt x="2689" y="195"/>
                </a:lnTo>
                <a:lnTo>
                  <a:pt x="2695" y="200"/>
                </a:lnTo>
                <a:lnTo>
                  <a:pt x="2702" y="208"/>
                </a:lnTo>
                <a:lnTo>
                  <a:pt x="2723" y="210"/>
                </a:lnTo>
                <a:lnTo>
                  <a:pt x="2761" y="216"/>
                </a:lnTo>
                <a:lnTo>
                  <a:pt x="2810" y="221"/>
                </a:lnTo>
                <a:lnTo>
                  <a:pt x="2866" y="223"/>
                </a:lnTo>
                <a:lnTo>
                  <a:pt x="2925" y="228"/>
                </a:lnTo>
                <a:lnTo>
                  <a:pt x="2982" y="231"/>
                </a:lnTo>
                <a:lnTo>
                  <a:pt x="3033" y="234"/>
                </a:lnTo>
                <a:lnTo>
                  <a:pt x="3077" y="239"/>
                </a:lnTo>
                <a:lnTo>
                  <a:pt x="2592" y="239"/>
                </a:lnTo>
                <a:lnTo>
                  <a:pt x="2295" y="239"/>
                </a:lnTo>
                <a:lnTo>
                  <a:pt x="1697" y="239"/>
                </a:lnTo>
                <a:lnTo>
                  <a:pt x="1044" y="239"/>
                </a:lnTo>
                <a:lnTo>
                  <a:pt x="328" y="239"/>
                </a:lnTo>
                <a:lnTo>
                  <a:pt x="0" y="23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807080" y="4089240"/>
            <a:ext cx="3903480" cy="155880"/>
          </a:xfrm>
          <a:custGeom>
            <a:avLst/>
            <a:gdLst/>
            <a:ahLst/>
            <a:rect l="l" t="t" r="r" b="b"/>
            <a:pathLst>
              <a:path w="3046" h="118">
                <a:moveTo>
                  <a:pt x="0" y="118"/>
                </a:moveTo>
                <a:lnTo>
                  <a:pt x="490" y="118"/>
                </a:lnTo>
                <a:lnTo>
                  <a:pt x="625" y="92"/>
                </a:lnTo>
                <a:lnTo>
                  <a:pt x="725" y="87"/>
                </a:lnTo>
                <a:lnTo>
                  <a:pt x="818" y="118"/>
                </a:lnTo>
                <a:lnTo>
                  <a:pt x="905" y="100"/>
                </a:lnTo>
                <a:lnTo>
                  <a:pt x="989" y="87"/>
                </a:lnTo>
                <a:lnTo>
                  <a:pt x="1074" y="87"/>
                </a:lnTo>
                <a:lnTo>
                  <a:pt x="1148" y="118"/>
                </a:lnTo>
                <a:lnTo>
                  <a:pt x="1187" y="118"/>
                </a:lnTo>
                <a:lnTo>
                  <a:pt x="1261" y="87"/>
                </a:lnTo>
                <a:lnTo>
                  <a:pt x="1366" y="66"/>
                </a:lnTo>
                <a:lnTo>
                  <a:pt x="1469" y="79"/>
                </a:lnTo>
                <a:lnTo>
                  <a:pt x="1564" y="118"/>
                </a:lnTo>
                <a:lnTo>
                  <a:pt x="1782" y="59"/>
                </a:lnTo>
                <a:lnTo>
                  <a:pt x="1866" y="54"/>
                </a:lnTo>
                <a:lnTo>
                  <a:pt x="1912" y="87"/>
                </a:lnTo>
                <a:lnTo>
                  <a:pt x="1933" y="118"/>
                </a:lnTo>
                <a:lnTo>
                  <a:pt x="2079" y="46"/>
                </a:lnTo>
                <a:lnTo>
                  <a:pt x="2092" y="41"/>
                </a:lnTo>
                <a:lnTo>
                  <a:pt x="2107" y="36"/>
                </a:lnTo>
                <a:lnTo>
                  <a:pt x="2120" y="31"/>
                </a:lnTo>
                <a:lnTo>
                  <a:pt x="2133" y="25"/>
                </a:lnTo>
                <a:lnTo>
                  <a:pt x="2146" y="20"/>
                </a:lnTo>
                <a:lnTo>
                  <a:pt x="2161" y="15"/>
                </a:lnTo>
                <a:lnTo>
                  <a:pt x="2176" y="10"/>
                </a:lnTo>
                <a:lnTo>
                  <a:pt x="2192" y="7"/>
                </a:lnTo>
                <a:lnTo>
                  <a:pt x="2205" y="5"/>
                </a:lnTo>
                <a:lnTo>
                  <a:pt x="2217" y="2"/>
                </a:lnTo>
                <a:lnTo>
                  <a:pt x="2230" y="0"/>
                </a:lnTo>
                <a:lnTo>
                  <a:pt x="2241" y="0"/>
                </a:lnTo>
                <a:lnTo>
                  <a:pt x="2253" y="0"/>
                </a:lnTo>
                <a:lnTo>
                  <a:pt x="2266" y="0"/>
                </a:lnTo>
                <a:lnTo>
                  <a:pt x="2279" y="2"/>
                </a:lnTo>
                <a:lnTo>
                  <a:pt x="2292" y="5"/>
                </a:lnTo>
                <a:lnTo>
                  <a:pt x="2441" y="54"/>
                </a:lnTo>
                <a:lnTo>
                  <a:pt x="2458" y="59"/>
                </a:lnTo>
                <a:lnTo>
                  <a:pt x="2474" y="64"/>
                </a:lnTo>
                <a:lnTo>
                  <a:pt x="2492" y="69"/>
                </a:lnTo>
                <a:lnTo>
                  <a:pt x="2507" y="74"/>
                </a:lnTo>
                <a:lnTo>
                  <a:pt x="2523" y="79"/>
                </a:lnTo>
                <a:lnTo>
                  <a:pt x="2543" y="82"/>
                </a:lnTo>
                <a:lnTo>
                  <a:pt x="2564" y="87"/>
                </a:lnTo>
                <a:lnTo>
                  <a:pt x="2589" y="89"/>
                </a:lnTo>
                <a:lnTo>
                  <a:pt x="2797" y="92"/>
                </a:lnTo>
                <a:lnTo>
                  <a:pt x="2902" y="100"/>
                </a:lnTo>
                <a:lnTo>
                  <a:pt x="3046" y="118"/>
                </a:lnTo>
                <a:lnTo>
                  <a:pt x="0" y="11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272280" y="1916280"/>
            <a:ext cx="5616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188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673280" y="2228760"/>
            <a:ext cx="246204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lujos de Trabajo de Proces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221520" y="6464160"/>
            <a:ext cx="11361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188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teracion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425920" y="6032520"/>
            <a:ext cx="27000" cy="254160"/>
          </a:xfrm>
          <a:custGeom>
            <a:avLst/>
            <a:gdLst/>
            <a:ahLst/>
            <a:rect l="l" t="t" r="r" b="b"/>
            <a:pathLst>
              <a:path w="21" h="192">
                <a:moveTo>
                  <a:pt x="11" y="192"/>
                </a:moveTo>
                <a:lnTo>
                  <a:pt x="21" y="192"/>
                </a:lnTo>
                <a:lnTo>
                  <a:pt x="21" y="0"/>
                </a:lnTo>
                <a:lnTo>
                  <a:pt x="0" y="0"/>
                </a:lnTo>
                <a:lnTo>
                  <a:pt x="0" y="192"/>
                </a:lnTo>
                <a:lnTo>
                  <a:pt x="11" y="192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673280" y="4780080"/>
            <a:ext cx="254952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lujos de Trabajo de Sopor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7289280" y="6022800"/>
            <a:ext cx="1800" cy="266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29560" y="6024600"/>
            <a:ext cx="0" cy="255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873760" y="6024600"/>
            <a:ext cx="1440" cy="257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982480" y="6043680"/>
            <a:ext cx="267120" cy="301320"/>
          </a:xfrm>
          <a:prstGeom prst="rect">
            <a:avLst/>
          </a:prstGeom>
          <a:solidFill>
            <a:srgbClr val="fff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ter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#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373800" y="6043680"/>
            <a:ext cx="411120" cy="301320"/>
          </a:xfrm>
          <a:prstGeom prst="rect">
            <a:avLst/>
          </a:prstGeom>
          <a:solidFill>
            <a:srgbClr val="fff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ter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872400" y="6043680"/>
            <a:ext cx="374400" cy="301320"/>
          </a:xfrm>
          <a:prstGeom prst="rect">
            <a:avLst/>
          </a:prstGeom>
          <a:solidFill>
            <a:srgbClr val="fff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ter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#n+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313760" y="6043680"/>
            <a:ext cx="358560" cy="301320"/>
          </a:xfrm>
          <a:prstGeom prst="rect">
            <a:avLst/>
          </a:prstGeom>
          <a:solidFill>
            <a:srgbClr val="fff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ter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#n+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769160" y="6043680"/>
            <a:ext cx="465120" cy="301320"/>
          </a:xfrm>
          <a:prstGeom prst="rect">
            <a:avLst/>
          </a:prstGeom>
          <a:solidFill>
            <a:srgbClr val="fff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ter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#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286840" y="6012000"/>
            <a:ext cx="409320" cy="301320"/>
          </a:xfrm>
          <a:prstGeom prst="rect">
            <a:avLst/>
          </a:prstGeom>
          <a:solidFill>
            <a:srgbClr val="fff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ter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#m+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537360" y="4427640"/>
            <a:ext cx="915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524560" y="4398840"/>
            <a:ext cx="3125880" cy="187560"/>
          </a:xfrm>
          <a:custGeom>
            <a:avLst/>
            <a:gdLst/>
            <a:ahLst/>
            <a:rect l="l" t="t" r="r" b="b"/>
            <a:pathLst>
              <a:path w="2440" h="141">
                <a:moveTo>
                  <a:pt x="0" y="141"/>
                </a:moveTo>
                <a:lnTo>
                  <a:pt x="169" y="139"/>
                </a:lnTo>
                <a:lnTo>
                  <a:pt x="254" y="141"/>
                </a:lnTo>
                <a:lnTo>
                  <a:pt x="343" y="141"/>
                </a:lnTo>
                <a:lnTo>
                  <a:pt x="430" y="139"/>
                </a:lnTo>
                <a:lnTo>
                  <a:pt x="520" y="139"/>
                </a:lnTo>
                <a:lnTo>
                  <a:pt x="607" y="136"/>
                </a:lnTo>
                <a:lnTo>
                  <a:pt x="671" y="141"/>
                </a:lnTo>
                <a:lnTo>
                  <a:pt x="712" y="141"/>
                </a:lnTo>
                <a:lnTo>
                  <a:pt x="802" y="139"/>
                </a:lnTo>
                <a:lnTo>
                  <a:pt x="905" y="141"/>
                </a:lnTo>
                <a:lnTo>
                  <a:pt x="1000" y="139"/>
                </a:lnTo>
                <a:lnTo>
                  <a:pt x="1089" y="141"/>
                </a:lnTo>
                <a:lnTo>
                  <a:pt x="1300" y="141"/>
                </a:lnTo>
                <a:lnTo>
                  <a:pt x="1389" y="134"/>
                </a:lnTo>
                <a:lnTo>
                  <a:pt x="1435" y="128"/>
                </a:lnTo>
                <a:lnTo>
                  <a:pt x="1459" y="126"/>
                </a:lnTo>
                <a:lnTo>
                  <a:pt x="1612" y="95"/>
                </a:lnTo>
                <a:lnTo>
                  <a:pt x="1733" y="59"/>
                </a:lnTo>
                <a:lnTo>
                  <a:pt x="1861" y="36"/>
                </a:lnTo>
                <a:lnTo>
                  <a:pt x="2205" y="0"/>
                </a:lnTo>
                <a:lnTo>
                  <a:pt x="2340" y="23"/>
                </a:lnTo>
                <a:lnTo>
                  <a:pt x="2412" y="75"/>
                </a:lnTo>
                <a:lnTo>
                  <a:pt x="2440" y="141"/>
                </a:lnTo>
                <a:lnTo>
                  <a:pt x="0" y="14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665600" y="2708280"/>
            <a:ext cx="4017960" cy="146160"/>
          </a:xfrm>
          <a:custGeom>
            <a:avLst/>
            <a:gdLst/>
            <a:ahLst/>
            <a:rect l="l" t="t" r="r" b="b"/>
            <a:pathLst>
              <a:path w="1911" h="63">
                <a:moveTo>
                  <a:pt x="0" y="63"/>
                </a:moveTo>
                <a:cubicBezTo>
                  <a:pt x="16" y="61"/>
                  <a:pt x="29" y="55"/>
                  <a:pt x="45" y="50"/>
                </a:cubicBezTo>
                <a:cubicBezTo>
                  <a:pt x="56" y="46"/>
                  <a:pt x="70" y="40"/>
                  <a:pt x="81" y="36"/>
                </a:cubicBezTo>
                <a:cubicBezTo>
                  <a:pt x="123" y="23"/>
                  <a:pt x="167" y="10"/>
                  <a:pt x="210" y="0"/>
                </a:cubicBezTo>
                <a:cubicBezTo>
                  <a:pt x="321" y="2"/>
                  <a:pt x="425" y="4"/>
                  <a:pt x="531" y="8"/>
                </a:cubicBezTo>
                <a:cubicBezTo>
                  <a:pt x="609" y="17"/>
                  <a:pt x="624" y="23"/>
                  <a:pt x="678" y="25"/>
                </a:cubicBezTo>
                <a:cubicBezTo>
                  <a:pt x="707" y="29"/>
                  <a:pt x="737" y="30"/>
                  <a:pt x="765" y="36"/>
                </a:cubicBezTo>
                <a:cubicBezTo>
                  <a:pt x="788" y="41"/>
                  <a:pt x="819" y="46"/>
                  <a:pt x="843" y="47"/>
                </a:cubicBezTo>
                <a:cubicBezTo>
                  <a:pt x="876" y="51"/>
                  <a:pt x="879" y="56"/>
                  <a:pt x="903" y="57"/>
                </a:cubicBezTo>
                <a:cubicBezTo>
                  <a:pt x="909" y="55"/>
                  <a:pt x="990" y="53"/>
                  <a:pt x="990" y="53"/>
                </a:cubicBezTo>
                <a:cubicBezTo>
                  <a:pt x="1013" y="51"/>
                  <a:pt x="1040" y="47"/>
                  <a:pt x="1104" y="47"/>
                </a:cubicBezTo>
                <a:cubicBezTo>
                  <a:pt x="1200" y="50"/>
                  <a:pt x="1280" y="51"/>
                  <a:pt x="1377" y="53"/>
                </a:cubicBezTo>
                <a:cubicBezTo>
                  <a:pt x="1471" y="55"/>
                  <a:pt x="1569" y="57"/>
                  <a:pt x="1671" y="58"/>
                </a:cubicBezTo>
                <a:cubicBezTo>
                  <a:pt x="1800" y="59"/>
                  <a:pt x="1911" y="63"/>
                  <a:pt x="1899" y="63"/>
                </a:cubicBezTo>
                <a:cubicBezTo>
                  <a:pt x="870" y="63"/>
                  <a:pt x="0" y="63"/>
                  <a:pt x="0" y="63"/>
                </a:cubicBez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622760" y="5170320"/>
            <a:ext cx="4079880" cy="174960"/>
          </a:xfrm>
          <a:custGeom>
            <a:avLst/>
            <a:gdLst/>
            <a:ahLst/>
            <a:rect l="l" t="t" r="r" b="b"/>
            <a:pathLst>
              <a:path w="3080" h="140">
                <a:moveTo>
                  <a:pt x="0" y="140"/>
                </a:moveTo>
                <a:lnTo>
                  <a:pt x="64" y="123"/>
                </a:lnTo>
                <a:lnTo>
                  <a:pt x="808" y="90"/>
                </a:lnTo>
                <a:lnTo>
                  <a:pt x="1171" y="42"/>
                </a:lnTo>
                <a:lnTo>
                  <a:pt x="1508" y="20"/>
                </a:lnTo>
                <a:lnTo>
                  <a:pt x="1578" y="9"/>
                </a:lnTo>
                <a:lnTo>
                  <a:pt x="2147" y="0"/>
                </a:lnTo>
                <a:lnTo>
                  <a:pt x="2789" y="86"/>
                </a:lnTo>
                <a:lnTo>
                  <a:pt x="3080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de800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332400" y="6033960"/>
            <a:ext cx="27000" cy="254160"/>
          </a:xfrm>
          <a:custGeom>
            <a:avLst/>
            <a:gdLst/>
            <a:ahLst/>
            <a:rect l="l" t="t" r="r" b="b"/>
            <a:pathLst>
              <a:path w="21" h="192">
                <a:moveTo>
                  <a:pt x="11" y="192"/>
                </a:moveTo>
                <a:lnTo>
                  <a:pt x="21" y="192"/>
                </a:lnTo>
                <a:lnTo>
                  <a:pt x="21" y="0"/>
                </a:lnTo>
                <a:lnTo>
                  <a:pt x="0" y="0"/>
                </a:lnTo>
                <a:lnTo>
                  <a:pt x="0" y="192"/>
                </a:lnTo>
                <a:lnTo>
                  <a:pt x="11" y="192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6033960"/>
            <a:ext cx="27000" cy="255600"/>
          </a:xfrm>
          <a:custGeom>
            <a:avLst/>
            <a:gdLst/>
            <a:ahLst/>
            <a:rect l="l" t="t" r="r" b="b"/>
            <a:pathLst>
              <a:path w="21" h="192">
                <a:moveTo>
                  <a:pt x="11" y="192"/>
                </a:moveTo>
                <a:lnTo>
                  <a:pt x="21" y="192"/>
                </a:lnTo>
                <a:lnTo>
                  <a:pt x="21" y="0"/>
                </a:lnTo>
                <a:lnTo>
                  <a:pt x="0" y="0"/>
                </a:lnTo>
                <a:lnTo>
                  <a:pt x="0" y="192"/>
                </a:lnTo>
                <a:lnTo>
                  <a:pt x="11" y="192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98480" y="5175360"/>
            <a:ext cx="19515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min. Configu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787480" y="3030480"/>
            <a:ext cx="1665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erimi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343560" y="2246400"/>
            <a:ext cx="13654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710480" y="2244600"/>
            <a:ext cx="10843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605480" y="2244600"/>
            <a:ext cx="8348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440320" y="2244600"/>
            <a:ext cx="9050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691160" y="2268360"/>
            <a:ext cx="745920" cy="289080"/>
          </a:xfrm>
          <a:custGeom>
            <a:avLst/>
            <a:gdLst/>
            <a:ahLst/>
            <a:rect l="l" t="t" r="r" b="b"/>
            <a:pathLst>
              <a:path w="582" h="218">
                <a:moveTo>
                  <a:pt x="582" y="0"/>
                </a:moveTo>
                <a:lnTo>
                  <a:pt x="582" y="218"/>
                </a:lnTo>
                <a:lnTo>
                  <a:pt x="0" y="21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491080" y="2268360"/>
            <a:ext cx="851040" cy="289080"/>
          </a:xfrm>
          <a:custGeom>
            <a:avLst/>
            <a:gdLst/>
            <a:ahLst/>
            <a:rect l="l" t="t" r="r" b="b"/>
            <a:pathLst>
              <a:path w="664" h="218">
                <a:moveTo>
                  <a:pt x="664" y="0"/>
                </a:moveTo>
                <a:lnTo>
                  <a:pt x="664" y="218"/>
                </a:lnTo>
                <a:lnTo>
                  <a:pt x="0" y="21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400800" y="2268360"/>
            <a:ext cx="1316160" cy="289080"/>
          </a:xfrm>
          <a:custGeom>
            <a:avLst/>
            <a:gdLst/>
            <a:ahLst/>
            <a:rect l="l" t="t" r="r" b="b"/>
            <a:pathLst>
              <a:path w="1028" h="218">
                <a:moveTo>
                  <a:pt x="1028" y="0"/>
                </a:moveTo>
                <a:lnTo>
                  <a:pt x="1028" y="218"/>
                </a:lnTo>
                <a:lnTo>
                  <a:pt x="0" y="21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773840" y="2268360"/>
            <a:ext cx="974880" cy="289080"/>
          </a:xfrm>
          <a:custGeom>
            <a:avLst/>
            <a:gdLst/>
            <a:ahLst/>
            <a:rect l="l" t="t" r="r" b="b"/>
            <a:pathLst>
              <a:path w="761" h="218">
                <a:moveTo>
                  <a:pt x="761" y="0"/>
                </a:moveTo>
                <a:lnTo>
                  <a:pt x="761" y="218"/>
                </a:lnTo>
                <a:lnTo>
                  <a:pt x="0" y="21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493960" y="2303640"/>
            <a:ext cx="7977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abo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12000" y="2327400"/>
            <a:ext cx="9748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ansi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668840" y="2303640"/>
            <a:ext cx="7113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400800" y="2303640"/>
            <a:ext cx="1271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238960" y="6022800"/>
            <a:ext cx="0" cy="266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555920" y="2373480"/>
            <a:ext cx="0" cy="3733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50920" y="37828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ses en R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4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nici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– Define el alcance del proyec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aboració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– Plan del proyecto, especificación de características, arquitectura 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nstrucció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– Construir el produc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nsició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– Transición del producto a la comunidad del usua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2050920" y="4149720"/>
            <a:ext cx="5688360" cy="2023920"/>
            <a:chOff x="2050920" y="4149720"/>
            <a:chExt cx="5688360" cy="2023920"/>
          </a:xfrm>
        </p:grpSpPr>
        <p:sp>
          <p:nvSpPr>
            <p:cNvPr id="526" name=""/>
            <p:cNvSpPr/>
            <p:nvPr/>
          </p:nvSpPr>
          <p:spPr>
            <a:xfrm>
              <a:off x="2076840" y="5300640"/>
              <a:ext cx="81936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Tahoma"/>
                </a:rPr>
                <a:t>Inic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916720" y="5300640"/>
              <a:ext cx="152640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Tahoma"/>
                </a:rPr>
                <a:t>Elabo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460760" y="5300640"/>
              <a:ext cx="168480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Tahoma"/>
                </a:rPr>
                <a:t>Constru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141600" y="5300640"/>
              <a:ext cx="137088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Tahoma"/>
                </a:rPr>
                <a:t>Transi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050920" y="616572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258800" y="5805360"/>
              <a:ext cx="98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61600" y="4149720"/>
              <a:ext cx="135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Metas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Princip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3" name=""/>
            <p:cNvCxnSpPr>
              <a:stCxn id="532" idx="1"/>
              <a:endCxn id="526" idx="3"/>
            </p:cNvCxnSpPr>
            <p:nvPr/>
          </p:nvCxnSpPr>
          <p:spPr>
            <a:xfrm flipV="1" rot="10800000">
              <a:off x="2905920" y="4470120"/>
              <a:ext cx="1305720" cy="1015200"/>
            </a:xfrm>
            <a:prstGeom prst="curvedConnector5">
              <a:avLst>
                <a:gd name="adj1" fmla="val 97076"/>
                <a:gd name="adj2" fmla="val 49982"/>
                <a:gd name="adj3" fmla="val 970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4" name=""/>
            <p:cNvCxnSpPr>
              <a:stCxn id="532" idx="3"/>
              <a:endCxn id="529" idx="3"/>
            </p:cNvCxnSpPr>
            <p:nvPr/>
          </p:nvCxnSpPr>
          <p:spPr>
            <a:xfrm>
              <a:off x="5462640" y="4470480"/>
              <a:ext cx="2048400" cy="1015200"/>
            </a:xfrm>
            <a:prstGeom prst="curvedConnector5">
              <a:avLst>
                <a:gd name="adj1" fmla="val 111161"/>
                <a:gd name="adj2" fmla="val 49982"/>
                <a:gd name="adj3" fmla="val 11116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5" name=""/>
            <p:cNvCxnSpPr>
              <a:stCxn id="532" idx="2"/>
              <a:endCxn id="528" idx="3"/>
            </p:cNvCxnSpPr>
            <p:nvPr/>
          </p:nvCxnSpPr>
          <p:spPr>
            <a:xfrm flipH="1" rot="16200000">
              <a:off x="5141520" y="4485240"/>
              <a:ext cx="694440" cy="1305720"/>
            </a:xfrm>
            <a:prstGeom prst="curvedConnector5">
              <a:avLst>
                <a:gd name="adj1" fmla="val 36566"/>
                <a:gd name="adj2" fmla="val 58742"/>
                <a:gd name="adj3" fmla="val 365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6" name=""/>
            <p:cNvCxnSpPr/>
            <p:nvPr/>
          </p:nvCxnSpPr>
          <p:spPr>
            <a:xfrm rot="5400000">
              <a:off x="4276800" y="4947120"/>
              <a:ext cx="694440" cy="3942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se de Inic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blecer </a:t>
            </a:r>
            <a:r>
              <a:rPr b="0" lang="es-ES_tradnl" sz="2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casos	 de negocio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para un nuevo sistema o para alguna actualización importante de un sistema exist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pecificar el alcance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ult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a visión general de los requerimientos del proyecto, i.e., los requerimientos princip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Un modelo inicial de casos de uso y modelo del dominio (10-20%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 caso de negocios inicial, incluyen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valuación inicial de riesg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Una estimación de los recursos requerid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 de Diagrama de Caso de Uso de Nego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46520" y="1925640"/>
            <a:ext cx="5256360" cy="483696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149040" y="3357720"/>
            <a:ext cx="336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de Negocios: modelar la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mpresa (como funciona la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mpresa a la que se le va a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arrollar el softw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é es un Proces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proceso defin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Quié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stá haciendo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Qué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uánd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óm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ra lograr un cierto objetivo. En la ingeniería de software el objetivo es construir un producto de software ó mejorar alguno exist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187280" y="5526000"/>
            <a:ext cx="7129800" cy="703800"/>
            <a:chOff x="1187280" y="5526000"/>
            <a:chExt cx="7129800" cy="703800"/>
          </a:xfrm>
        </p:grpSpPr>
        <p:sp>
          <p:nvSpPr>
            <p:cNvPr id="105" name=""/>
            <p:cNvSpPr/>
            <p:nvPr/>
          </p:nvSpPr>
          <p:spPr>
            <a:xfrm>
              <a:off x="3203640" y="5526000"/>
              <a:ext cx="3097080" cy="70380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ahoma"/>
                </a:rPr>
                <a:t>Proceso de Ingeniería de 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48800" y="5589720"/>
              <a:ext cx="132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equerimien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14440" y="5891040"/>
              <a:ext cx="176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uevos ó Modifica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87280" y="5877000"/>
              <a:ext cx="20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00720" y="5877000"/>
              <a:ext cx="20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531120" y="5877000"/>
              <a:ext cx="162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uevo ó Modific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939000" y="5589720"/>
              <a:ext cx="74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iste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se de Elabor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nalizar el dominio del proble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blecer una buena arquitectu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idiar con los elementos de riesgo más altos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arrollar un plan comprensivo mostrando como el proyecto será complet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ult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 modelo del dominio y de casos de uso 80% comple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querimientos suplementarios que capturen los requerimientos no funcionales y cualesquiera requerimientos que no estén asociados con un caso de uso específ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a lista de riesgos revis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se de Constr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pósi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arrollar incrementalmente producto de software completo el cual estará listo para ser transferido al usua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du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 modelo completo de diseño y casos de u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iberaciones de productos ejecutables de funcionalidad incre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ocumentación de usua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ahoma"/>
              </a:rPr>
              <a:t>Una liberación “beta” del produc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se de Transi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cer la transición final del producto de software al usua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iberaciones ejecutables de produ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uebas beta” para validar el nuevo sistema vs. las expectaciones del usuar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uales de usuario actualiz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ocumentación de desarrollo actualiz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á el usuario satisfech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Gastos reales de los recursos vs. Gastos previstos 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Aceptabl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t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a fase en RUP puede descomponerse en iteraciones. Una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iteració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 un ciclo de desarrollo completo dando como resultado una entrega de producto ejecutable (interna o extern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-4485960" y="3429000"/>
            <a:ext cx="13162320" cy="4536000"/>
            <a:chOff x="-4485960" y="3429000"/>
            <a:chExt cx="13162320" cy="4536000"/>
          </a:xfrm>
        </p:grpSpPr>
        <p:sp>
          <p:nvSpPr>
            <p:cNvPr id="551" name=""/>
            <p:cNvSpPr/>
            <p:nvPr/>
          </p:nvSpPr>
          <p:spPr>
            <a:xfrm>
              <a:off x="1150920" y="5642280"/>
              <a:ext cx="7466040" cy="49032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229040" y="5669280"/>
              <a:ext cx="875880" cy="448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teración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elimin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218320" y="5669280"/>
              <a:ext cx="1019160" cy="448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teración d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rquitectu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29840" y="5669280"/>
              <a:ext cx="1019160" cy="448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teración d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rquitectu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026600" y="5669280"/>
              <a:ext cx="947520" cy="448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teración d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sarrol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948920" y="5669280"/>
              <a:ext cx="947520" cy="448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teración d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sarrol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60080" y="5669280"/>
              <a:ext cx="947520" cy="448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teración d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sarrol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827040" y="5669280"/>
              <a:ext cx="947520" cy="448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teración d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i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728840" y="5669280"/>
              <a:ext cx="947520" cy="448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teración d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i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2241720" y="5315760"/>
              <a:ext cx="0" cy="81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3171960" y="5315760"/>
              <a:ext cx="0" cy="81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4071960" y="5315760"/>
              <a:ext cx="0" cy="81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4984920" y="5315760"/>
              <a:ext cx="0" cy="81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894280" y="5315760"/>
              <a:ext cx="0" cy="81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6804000" y="5315760"/>
              <a:ext cx="0" cy="81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7705800" y="5315760"/>
              <a:ext cx="0" cy="81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8616960" y="5315760"/>
              <a:ext cx="0" cy="81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50920" y="6130080"/>
              <a:ext cx="7486560" cy="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1150920" y="5630760"/>
              <a:ext cx="744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150920" y="5633640"/>
              <a:ext cx="0" cy="49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173240" y="5302800"/>
              <a:ext cx="744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1089360" y="4812120"/>
              <a:ext cx="7533720" cy="510480"/>
              <a:chOff x="1089360" y="4812120"/>
              <a:chExt cx="7533720" cy="510480"/>
            </a:xfrm>
          </p:grpSpPr>
          <p:sp>
            <p:nvSpPr>
              <p:cNvPr id="573" name=""/>
              <p:cNvSpPr/>
              <p:nvPr/>
            </p:nvSpPr>
            <p:spPr>
              <a:xfrm>
                <a:off x="1152360" y="4812120"/>
                <a:ext cx="7467840" cy="51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2250720" y="4981680"/>
                <a:ext cx="0" cy="320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4084200" y="4981680"/>
                <a:ext cx="0" cy="320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6803280" y="4964400"/>
                <a:ext cx="0" cy="337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8623080" y="4981680"/>
                <a:ext cx="0" cy="320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089360" y="4970520"/>
                <a:ext cx="604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ici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552040" y="4970520"/>
                <a:ext cx="1050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laborac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753440" y="4970520"/>
                <a:ext cx="11422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nstrucc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221600" y="4970520"/>
                <a:ext cx="9514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ransic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1161720" y="4981680"/>
                <a:ext cx="0" cy="320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468360" y="3429000"/>
              <a:ext cx="157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iberacion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14480" y="3923640"/>
              <a:ext cx="30456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636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63629"/>
                </a:path>
              </a:pathLst>
            </a:custGeom>
            <a:noFill/>
            <a:ln w="1260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999720" y="3855240"/>
              <a:ext cx="2133720" cy="355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1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1117"/>
                </a:path>
              </a:pathLst>
            </a:custGeom>
            <a:noFill/>
            <a:ln w="1260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-828720" y="3716640"/>
              <a:ext cx="5790960" cy="382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5680" y="3786840"/>
              <a:ext cx="3962160" cy="36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26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26896"/>
                </a:path>
              </a:pathLst>
            </a:custGeom>
            <a:noFill/>
            <a:ln w="1260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-2657520" y="3648600"/>
              <a:ext cx="9448560" cy="40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-1743120" y="3648600"/>
              <a:ext cx="7619760" cy="399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-3572280" y="3512880"/>
              <a:ext cx="11278080" cy="434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38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3872"/>
                </a:path>
              </a:pathLst>
            </a:custGeom>
            <a:noFill/>
            <a:ln w="1260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-4485960" y="3447360"/>
              <a:ext cx="13105440" cy="451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00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00209"/>
                </a:path>
              </a:pathLst>
            </a:custGeom>
            <a:noFill/>
            <a:ln w="1260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6804000" y="63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253280" y="6308640"/>
            <a:ext cx="90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exter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838480" y="6308640"/>
            <a:ext cx="86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inter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186920" y="6308640"/>
            <a:ext cx="117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iter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580000" y="6669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7236000" y="6669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oción de 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9" name=""/>
          <p:cNvSpPr/>
          <p:nvPr/>
        </p:nvSpPr>
        <p:spPr>
          <a:xfrm>
            <a:off x="509760" y="3338280"/>
            <a:ext cx="1676160" cy="2378160"/>
          </a:xfrm>
          <a:prstGeom prst="rect">
            <a:avLst/>
          </a:prstGeom>
          <a:solidFill>
            <a:srgbClr val="ffcf0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1998"/>
              </a:lnSpc>
              <a:spcBef>
                <a:spcPts val="90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Rol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que puede ser desempeñado por un individuo o conjunto de individuos en la organización de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0920" y="26370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bajador/Quié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959200" y="4275000"/>
            <a:ext cx="89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eñ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271600" y="2924280"/>
            <a:ext cx="654120" cy="268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419640" y="3444840"/>
            <a:ext cx="271440" cy="274680"/>
          </a:xfrm>
          <a:custGeom>
            <a:avLst/>
            <a:gdLst/>
            <a:ahLst/>
            <a:rect l="l" t="t" r="r" b="b"/>
            <a:pathLst>
              <a:path w="171" h="173">
                <a:moveTo>
                  <a:pt x="86" y="0"/>
                </a:moveTo>
                <a:lnTo>
                  <a:pt x="92" y="0"/>
                </a:lnTo>
                <a:lnTo>
                  <a:pt x="95" y="0"/>
                </a:lnTo>
                <a:lnTo>
                  <a:pt x="98" y="0"/>
                </a:lnTo>
                <a:lnTo>
                  <a:pt x="104" y="3"/>
                </a:lnTo>
                <a:lnTo>
                  <a:pt x="107" y="3"/>
                </a:lnTo>
                <a:lnTo>
                  <a:pt x="113" y="3"/>
                </a:lnTo>
                <a:lnTo>
                  <a:pt x="116" y="6"/>
                </a:lnTo>
                <a:lnTo>
                  <a:pt x="119" y="6"/>
                </a:lnTo>
                <a:lnTo>
                  <a:pt x="122" y="9"/>
                </a:lnTo>
                <a:lnTo>
                  <a:pt x="129" y="9"/>
                </a:lnTo>
                <a:lnTo>
                  <a:pt x="132" y="12"/>
                </a:lnTo>
                <a:lnTo>
                  <a:pt x="135" y="15"/>
                </a:lnTo>
                <a:lnTo>
                  <a:pt x="138" y="18"/>
                </a:lnTo>
                <a:lnTo>
                  <a:pt x="141" y="18"/>
                </a:lnTo>
                <a:lnTo>
                  <a:pt x="144" y="21"/>
                </a:lnTo>
                <a:lnTo>
                  <a:pt x="147" y="24"/>
                </a:lnTo>
                <a:lnTo>
                  <a:pt x="150" y="27"/>
                </a:lnTo>
                <a:lnTo>
                  <a:pt x="153" y="30"/>
                </a:lnTo>
                <a:lnTo>
                  <a:pt x="156" y="33"/>
                </a:lnTo>
                <a:lnTo>
                  <a:pt x="159" y="36"/>
                </a:lnTo>
                <a:lnTo>
                  <a:pt x="159" y="42"/>
                </a:lnTo>
                <a:lnTo>
                  <a:pt x="162" y="45"/>
                </a:lnTo>
                <a:lnTo>
                  <a:pt x="165" y="49"/>
                </a:lnTo>
                <a:lnTo>
                  <a:pt x="165" y="52"/>
                </a:lnTo>
                <a:lnTo>
                  <a:pt x="168" y="58"/>
                </a:lnTo>
                <a:lnTo>
                  <a:pt x="168" y="61"/>
                </a:lnTo>
                <a:lnTo>
                  <a:pt x="171" y="64"/>
                </a:lnTo>
                <a:lnTo>
                  <a:pt x="171" y="70"/>
                </a:lnTo>
                <a:lnTo>
                  <a:pt x="171" y="73"/>
                </a:lnTo>
                <a:lnTo>
                  <a:pt x="171" y="76"/>
                </a:lnTo>
                <a:lnTo>
                  <a:pt x="171" y="82"/>
                </a:lnTo>
                <a:lnTo>
                  <a:pt x="171" y="85"/>
                </a:lnTo>
                <a:lnTo>
                  <a:pt x="171" y="91"/>
                </a:lnTo>
                <a:lnTo>
                  <a:pt x="171" y="94"/>
                </a:lnTo>
                <a:lnTo>
                  <a:pt x="171" y="100"/>
                </a:lnTo>
                <a:lnTo>
                  <a:pt x="171" y="103"/>
                </a:lnTo>
                <a:lnTo>
                  <a:pt x="171" y="106"/>
                </a:lnTo>
                <a:lnTo>
                  <a:pt x="168" y="112"/>
                </a:lnTo>
                <a:lnTo>
                  <a:pt x="168" y="115"/>
                </a:lnTo>
                <a:lnTo>
                  <a:pt x="165" y="118"/>
                </a:lnTo>
                <a:lnTo>
                  <a:pt x="165" y="121"/>
                </a:lnTo>
                <a:lnTo>
                  <a:pt x="162" y="128"/>
                </a:lnTo>
                <a:lnTo>
                  <a:pt x="159" y="131"/>
                </a:lnTo>
                <a:lnTo>
                  <a:pt x="159" y="134"/>
                </a:lnTo>
                <a:lnTo>
                  <a:pt x="156" y="137"/>
                </a:lnTo>
                <a:lnTo>
                  <a:pt x="153" y="140"/>
                </a:lnTo>
                <a:lnTo>
                  <a:pt x="150" y="143"/>
                </a:lnTo>
                <a:lnTo>
                  <a:pt x="147" y="146"/>
                </a:lnTo>
                <a:lnTo>
                  <a:pt x="144" y="149"/>
                </a:lnTo>
                <a:lnTo>
                  <a:pt x="141" y="152"/>
                </a:lnTo>
                <a:lnTo>
                  <a:pt x="138" y="155"/>
                </a:lnTo>
                <a:lnTo>
                  <a:pt x="135" y="158"/>
                </a:lnTo>
                <a:lnTo>
                  <a:pt x="132" y="158"/>
                </a:lnTo>
                <a:lnTo>
                  <a:pt x="129" y="161"/>
                </a:lnTo>
                <a:lnTo>
                  <a:pt x="122" y="164"/>
                </a:lnTo>
                <a:lnTo>
                  <a:pt x="119" y="164"/>
                </a:lnTo>
                <a:lnTo>
                  <a:pt x="116" y="167"/>
                </a:lnTo>
                <a:lnTo>
                  <a:pt x="113" y="167"/>
                </a:lnTo>
                <a:lnTo>
                  <a:pt x="107" y="170"/>
                </a:lnTo>
                <a:lnTo>
                  <a:pt x="104" y="170"/>
                </a:lnTo>
                <a:lnTo>
                  <a:pt x="98" y="170"/>
                </a:lnTo>
                <a:lnTo>
                  <a:pt x="95" y="170"/>
                </a:lnTo>
                <a:lnTo>
                  <a:pt x="92" y="170"/>
                </a:lnTo>
                <a:lnTo>
                  <a:pt x="86" y="173"/>
                </a:lnTo>
                <a:lnTo>
                  <a:pt x="83" y="170"/>
                </a:lnTo>
                <a:lnTo>
                  <a:pt x="76" y="170"/>
                </a:lnTo>
                <a:lnTo>
                  <a:pt x="73" y="170"/>
                </a:lnTo>
                <a:lnTo>
                  <a:pt x="70" y="170"/>
                </a:lnTo>
                <a:lnTo>
                  <a:pt x="64" y="170"/>
                </a:lnTo>
                <a:lnTo>
                  <a:pt x="61" y="167"/>
                </a:lnTo>
                <a:lnTo>
                  <a:pt x="55" y="167"/>
                </a:lnTo>
                <a:lnTo>
                  <a:pt x="52" y="164"/>
                </a:lnTo>
                <a:lnTo>
                  <a:pt x="49" y="164"/>
                </a:lnTo>
                <a:lnTo>
                  <a:pt x="46" y="161"/>
                </a:lnTo>
                <a:lnTo>
                  <a:pt x="43" y="158"/>
                </a:lnTo>
                <a:lnTo>
                  <a:pt x="37" y="158"/>
                </a:lnTo>
                <a:lnTo>
                  <a:pt x="34" y="155"/>
                </a:lnTo>
                <a:lnTo>
                  <a:pt x="31" y="152"/>
                </a:lnTo>
                <a:lnTo>
                  <a:pt x="27" y="149"/>
                </a:lnTo>
                <a:lnTo>
                  <a:pt x="24" y="146"/>
                </a:lnTo>
                <a:lnTo>
                  <a:pt x="21" y="143"/>
                </a:lnTo>
                <a:lnTo>
                  <a:pt x="18" y="140"/>
                </a:lnTo>
                <a:lnTo>
                  <a:pt x="18" y="137"/>
                </a:lnTo>
                <a:lnTo>
                  <a:pt x="15" y="134"/>
                </a:lnTo>
                <a:lnTo>
                  <a:pt x="12" y="131"/>
                </a:lnTo>
                <a:lnTo>
                  <a:pt x="9" y="128"/>
                </a:lnTo>
                <a:lnTo>
                  <a:pt x="9" y="121"/>
                </a:lnTo>
                <a:lnTo>
                  <a:pt x="6" y="118"/>
                </a:lnTo>
                <a:lnTo>
                  <a:pt x="6" y="115"/>
                </a:lnTo>
                <a:lnTo>
                  <a:pt x="3" y="112"/>
                </a:lnTo>
                <a:lnTo>
                  <a:pt x="3" y="106"/>
                </a:lnTo>
                <a:lnTo>
                  <a:pt x="3" y="103"/>
                </a:lnTo>
                <a:lnTo>
                  <a:pt x="0" y="100"/>
                </a:lnTo>
                <a:lnTo>
                  <a:pt x="0" y="94"/>
                </a:lnTo>
                <a:lnTo>
                  <a:pt x="0" y="91"/>
                </a:lnTo>
                <a:lnTo>
                  <a:pt x="0" y="85"/>
                </a:lnTo>
                <a:lnTo>
                  <a:pt x="0" y="82"/>
                </a:lnTo>
                <a:lnTo>
                  <a:pt x="0" y="76"/>
                </a:lnTo>
                <a:lnTo>
                  <a:pt x="0" y="73"/>
                </a:lnTo>
                <a:lnTo>
                  <a:pt x="3" y="70"/>
                </a:lnTo>
                <a:lnTo>
                  <a:pt x="3" y="64"/>
                </a:lnTo>
                <a:lnTo>
                  <a:pt x="3" y="61"/>
                </a:lnTo>
                <a:lnTo>
                  <a:pt x="6" y="58"/>
                </a:lnTo>
                <a:lnTo>
                  <a:pt x="6" y="52"/>
                </a:lnTo>
                <a:lnTo>
                  <a:pt x="9" y="49"/>
                </a:lnTo>
                <a:lnTo>
                  <a:pt x="9" y="45"/>
                </a:lnTo>
                <a:lnTo>
                  <a:pt x="12" y="42"/>
                </a:lnTo>
                <a:lnTo>
                  <a:pt x="15" y="36"/>
                </a:lnTo>
                <a:lnTo>
                  <a:pt x="18" y="33"/>
                </a:lnTo>
                <a:lnTo>
                  <a:pt x="18" y="30"/>
                </a:lnTo>
                <a:lnTo>
                  <a:pt x="21" y="27"/>
                </a:lnTo>
                <a:lnTo>
                  <a:pt x="24" y="24"/>
                </a:lnTo>
                <a:lnTo>
                  <a:pt x="27" y="21"/>
                </a:lnTo>
                <a:lnTo>
                  <a:pt x="31" y="18"/>
                </a:lnTo>
                <a:lnTo>
                  <a:pt x="34" y="18"/>
                </a:lnTo>
                <a:lnTo>
                  <a:pt x="37" y="15"/>
                </a:lnTo>
                <a:lnTo>
                  <a:pt x="43" y="12"/>
                </a:lnTo>
                <a:lnTo>
                  <a:pt x="46" y="9"/>
                </a:lnTo>
                <a:lnTo>
                  <a:pt x="49" y="9"/>
                </a:lnTo>
                <a:lnTo>
                  <a:pt x="52" y="6"/>
                </a:lnTo>
                <a:lnTo>
                  <a:pt x="55" y="6"/>
                </a:lnTo>
                <a:lnTo>
                  <a:pt x="61" y="3"/>
                </a:lnTo>
                <a:lnTo>
                  <a:pt x="64" y="3"/>
                </a:lnTo>
                <a:lnTo>
                  <a:pt x="70" y="3"/>
                </a:lnTo>
                <a:lnTo>
                  <a:pt x="73" y="0"/>
                </a:lnTo>
                <a:lnTo>
                  <a:pt x="76" y="0"/>
                </a:lnTo>
                <a:lnTo>
                  <a:pt x="83" y="0"/>
                </a:lnTo>
                <a:lnTo>
                  <a:pt x="86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419640" y="3444840"/>
            <a:ext cx="271440" cy="274680"/>
          </a:xfrm>
          <a:custGeom>
            <a:avLst/>
            <a:gdLst/>
            <a:ahLst/>
            <a:rect l="l" t="t" r="r" b="b"/>
            <a:pathLst>
              <a:path w="171" h="173">
                <a:moveTo>
                  <a:pt x="86" y="0"/>
                </a:moveTo>
                <a:lnTo>
                  <a:pt x="119" y="6"/>
                </a:lnTo>
                <a:lnTo>
                  <a:pt x="147" y="24"/>
                </a:lnTo>
                <a:lnTo>
                  <a:pt x="165" y="52"/>
                </a:lnTo>
                <a:lnTo>
                  <a:pt x="171" y="85"/>
                </a:lnTo>
                <a:lnTo>
                  <a:pt x="165" y="118"/>
                </a:lnTo>
                <a:lnTo>
                  <a:pt x="147" y="146"/>
                </a:lnTo>
                <a:lnTo>
                  <a:pt x="119" y="164"/>
                </a:lnTo>
                <a:lnTo>
                  <a:pt x="86" y="173"/>
                </a:lnTo>
                <a:lnTo>
                  <a:pt x="52" y="164"/>
                </a:lnTo>
                <a:lnTo>
                  <a:pt x="24" y="146"/>
                </a:lnTo>
                <a:lnTo>
                  <a:pt x="6" y="118"/>
                </a:lnTo>
                <a:lnTo>
                  <a:pt x="0" y="85"/>
                </a:lnTo>
                <a:lnTo>
                  <a:pt x="6" y="52"/>
                </a:lnTo>
                <a:lnTo>
                  <a:pt x="24" y="24"/>
                </a:lnTo>
                <a:lnTo>
                  <a:pt x="52" y="6"/>
                </a:lnTo>
                <a:lnTo>
                  <a:pt x="86" y="0"/>
                </a:lnTo>
              </a:path>
            </a:pathLst>
          </a:custGeom>
          <a:noFill/>
          <a:ln w="0">
            <a:solidFill>
              <a:srgbClr val="cccc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228840" y="3778200"/>
            <a:ext cx="540000" cy="419040"/>
          </a:xfrm>
          <a:custGeom>
            <a:avLst/>
            <a:gdLst/>
            <a:ahLst/>
            <a:rect l="l" t="t" r="r" b="b"/>
            <a:pathLst>
              <a:path w="340" h="264">
                <a:moveTo>
                  <a:pt x="86" y="0"/>
                </a:moveTo>
                <a:lnTo>
                  <a:pt x="340" y="0"/>
                </a:lnTo>
                <a:lnTo>
                  <a:pt x="255" y="264"/>
                </a:lnTo>
                <a:lnTo>
                  <a:pt x="0" y="264"/>
                </a:lnTo>
                <a:lnTo>
                  <a:pt x="86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28840" y="3778200"/>
            <a:ext cx="540000" cy="419040"/>
          </a:xfrm>
          <a:custGeom>
            <a:avLst/>
            <a:gdLst/>
            <a:ahLst/>
            <a:rect l="l" t="t" r="r" b="b"/>
            <a:pathLst>
              <a:path w="340" h="264">
                <a:moveTo>
                  <a:pt x="86" y="0"/>
                </a:moveTo>
                <a:lnTo>
                  <a:pt x="340" y="0"/>
                </a:lnTo>
                <a:lnTo>
                  <a:pt x="255" y="264"/>
                </a:lnTo>
                <a:lnTo>
                  <a:pt x="0" y="264"/>
                </a:lnTo>
                <a:lnTo>
                  <a:pt x="86" y="0"/>
                </a:lnTo>
              </a:path>
            </a:pathLst>
          </a:custGeom>
          <a:noFill/>
          <a:ln w="0">
            <a:solidFill>
              <a:srgbClr val="cccc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370320" y="3411360"/>
            <a:ext cx="277920" cy="274680"/>
          </a:xfrm>
          <a:custGeom>
            <a:avLst/>
            <a:gdLst/>
            <a:ahLst/>
            <a:rect l="l" t="t" r="r" b="b"/>
            <a:pathLst>
              <a:path w="175" h="173">
                <a:moveTo>
                  <a:pt x="86" y="0"/>
                </a:moveTo>
                <a:lnTo>
                  <a:pt x="92" y="0"/>
                </a:lnTo>
                <a:lnTo>
                  <a:pt x="95" y="0"/>
                </a:lnTo>
                <a:lnTo>
                  <a:pt x="101" y="0"/>
                </a:lnTo>
                <a:lnTo>
                  <a:pt x="104" y="3"/>
                </a:lnTo>
                <a:lnTo>
                  <a:pt x="111" y="3"/>
                </a:lnTo>
                <a:lnTo>
                  <a:pt x="114" y="3"/>
                </a:lnTo>
                <a:lnTo>
                  <a:pt x="117" y="6"/>
                </a:lnTo>
                <a:lnTo>
                  <a:pt x="120" y="6"/>
                </a:lnTo>
                <a:lnTo>
                  <a:pt x="126" y="9"/>
                </a:lnTo>
                <a:lnTo>
                  <a:pt x="129" y="12"/>
                </a:lnTo>
                <a:lnTo>
                  <a:pt x="132" y="12"/>
                </a:lnTo>
                <a:lnTo>
                  <a:pt x="135" y="15"/>
                </a:lnTo>
                <a:lnTo>
                  <a:pt x="138" y="18"/>
                </a:lnTo>
                <a:lnTo>
                  <a:pt x="141" y="21"/>
                </a:lnTo>
                <a:lnTo>
                  <a:pt x="144" y="24"/>
                </a:lnTo>
                <a:lnTo>
                  <a:pt x="147" y="24"/>
                </a:lnTo>
                <a:lnTo>
                  <a:pt x="150" y="27"/>
                </a:lnTo>
                <a:lnTo>
                  <a:pt x="153" y="30"/>
                </a:lnTo>
                <a:lnTo>
                  <a:pt x="156" y="36"/>
                </a:lnTo>
                <a:lnTo>
                  <a:pt x="160" y="39"/>
                </a:lnTo>
                <a:lnTo>
                  <a:pt x="163" y="42"/>
                </a:lnTo>
                <a:lnTo>
                  <a:pt x="163" y="45"/>
                </a:lnTo>
                <a:lnTo>
                  <a:pt x="166" y="48"/>
                </a:lnTo>
                <a:lnTo>
                  <a:pt x="166" y="51"/>
                </a:lnTo>
                <a:lnTo>
                  <a:pt x="169" y="57"/>
                </a:lnTo>
                <a:lnTo>
                  <a:pt x="169" y="60"/>
                </a:lnTo>
                <a:lnTo>
                  <a:pt x="172" y="63"/>
                </a:lnTo>
                <a:lnTo>
                  <a:pt x="172" y="70"/>
                </a:lnTo>
                <a:lnTo>
                  <a:pt x="172" y="73"/>
                </a:lnTo>
                <a:lnTo>
                  <a:pt x="175" y="79"/>
                </a:lnTo>
                <a:lnTo>
                  <a:pt x="175" y="82"/>
                </a:lnTo>
                <a:lnTo>
                  <a:pt x="175" y="85"/>
                </a:lnTo>
                <a:lnTo>
                  <a:pt x="175" y="91"/>
                </a:lnTo>
                <a:lnTo>
                  <a:pt x="175" y="94"/>
                </a:lnTo>
                <a:lnTo>
                  <a:pt x="172" y="100"/>
                </a:lnTo>
                <a:lnTo>
                  <a:pt x="172" y="103"/>
                </a:lnTo>
                <a:lnTo>
                  <a:pt x="172" y="106"/>
                </a:lnTo>
                <a:lnTo>
                  <a:pt x="169" y="112"/>
                </a:lnTo>
                <a:lnTo>
                  <a:pt x="169" y="115"/>
                </a:lnTo>
                <a:lnTo>
                  <a:pt x="166" y="118"/>
                </a:lnTo>
                <a:lnTo>
                  <a:pt x="166" y="124"/>
                </a:lnTo>
                <a:lnTo>
                  <a:pt x="163" y="127"/>
                </a:lnTo>
                <a:lnTo>
                  <a:pt x="163" y="130"/>
                </a:lnTo>
                <a:lnTo>
                  <a:pt x="160" y="133"/>
                </a:lnTo>
                <a:lnTo>
                  <a:pt x="156" y="136"/>
                </a:lnTo>
                <a:lnTo>
                  <a:pt x="153" y="139"/>
                </a:lnTo>
                <a:lnTo>
                  <a:pt x="150" y="142"/>
                </a:lnTo>
                <a:lnTo>
                  <a:pt x="147" y="145"/>
                </a:lnTo>
                <a:lnTo>
                  <a:pt x="144" y="149"/>
                </a:lnTo>
                <a:lnTo>
                  <a:pt x="141" y="152"/>
                </a:lnTo>
                <a:lnTo>
                  <a:pt x="138" y="155"/>
                </a:lnTo>
                <a:lnTo>
                  <a:pt x="135" y="158"/>
                </a:lnTo>
                <a:lnTo>
                  <a:pt x="132" y="161"/>
                </a:lnTo>
                <a:lnTo>
                  <a:pt x="129" y="161"/>
                </a:lnTo>
                <a:lnTo>
                  <a:pt x="126" y="164"/>
                </a:lnTo>
                <a:lnTo>
                  <a:pt x="120" y="164"/>
                </a:lnTo>
                <a:lnTo>
                  <a:pt x="117" y="167"/>
                </a:lnTo>
                <a:lnTo>
                  <a:pt x="114" y="167"/>
                </a:lnTo>
                <a:lnTo>
                  <a:pt x="111" y="170"/>
                </a:lnTo>
                <a:lnTo>
                  <a:pt x="104" y="170"/>
                </a:lnTo>
                <a:lnTo>
                  <a:pt x="101" y="170"/>
                </a:lnTo>
                <a:lnTo>
                  <a:pt x="95" y="173"/>
                </a:lnTo>
                <a:lnTo>
                  <a:pt x="92" y="173"/>
                </a:lnTo>
                <a:lnTo>
                  <a:pt x="86" y="173"/>
                </a:lnTo>
                <a:lnTo>
                  <a:pt x="83" y="173"/>
                </a:lnTo>
                <a:lnTo>
                  <a:pt x="80" y="173"/>
                </a:lnTo>
                <a:lnTo>
                  <a:pt x="74" y="170"/>
                </a:lnTo>
                <a:lnTo>
                  <a:pt x="71" y="170"/>
                </a:lnTo>
                <a:lnTo>
                  <a:pt x="65" y="170"/>
                </a:lnTo>
                <a:lnTo>
                  <a:pt x="62" y="167"/>
                </a:lnTo>
                <a:lnTo>
                  <a:pt x="58" y="167"/>
                </a:lnTo>
                <a:lnTo>
                  <a:pt x="52" y="164"/>
                </a:lnTo>
                <a:lnTo>
                  <a:pt x="49" y="164"/>
                </a:lnTo>
                <a:lnTo>
                  <a:pt x="46" y="161"/>
                </a:lnTo>
                <a:lnTo>
                  <a:pt x="43" y="161"/>
                </a:lnTo>
                <a:lnTo>
                  <a:pt x="40" y="158"/>
                </a:lnTo>
                <a:lnTo>
                  <a:pt x="37" y="155"/>
                </a:lnTo>
                <a:lnTo>
                  <a:pt x="34" y="152"/>
                </a:lnTo>
                <a:lnTo>
                  <a:pt x="28" y="149"/>
                </a:lnTo>
                <a:lnTo>
                  <a:pt x="28" y="145"/>
                </a:lnTo>
                <a:lnTo>
                  <a:pt x="25" y="142"/>
                </a:lnTo>
                <a:lnTo>
                  <a:pt x="22" y="139"/>
                </a:lnTo>
                <a:lnTo>
                  <a:pt x="19" y="136"/>
                </a:lnTo>
                <a:lnTo>
                  <a:pt x="16" y="133"/>
                </a:lnTo>
                <a:lnTo>
                  <a:pt x="13" y="130"/>
                </a:lnTo>
                <a:lnTo>
                  <a:pt x="13" y="127"/>
                </a:lnTo>
                <a:lnTo>
                  <a:pt x="9" y="124"/>
                </a:lnTo>
                <a:lnTo>
                  <a:pt x="6" y="118"/>
                </a:lnTo>
                <a:lnTo>
                  <a:pt x="6" y="115"/>
                </a:lnTo>
                <a:lnTo>
                  <a:pt x="3" y="112"/>
                </a:lnTo>
                <a:lnTo>
                  <a:pt x="3" y="106"/>
                </a:lnTo>
                <a:lnTo>
                  <a:pt x="3" y="103"/>
                </a:lnTo>
                <a:lnTo>
                  <a:pt x="3" y="100"/>
                </a:lnTo>
                <a:lnTo>
                  <a:pt x="0" y="94"/>
                </a:lnTo>
                <a:lnTo>
                  <a:pt x="0" y="91"/>
                </a:lnTo>
                <a:lnTo>
                  <a:pt x="0" y="85"/>
                </a:lnTo>
                <a:lnTo>
                  <a:pt x="0" y="82"/>
                </a:lnTo>
                <a:lnTo>
                  <a:pt x="0" y="79"/>
                </a:lnTo>
                <a:lnTo>
                  <a:pt x="3" y="73"/>
                </a:lnTo>
                <a:lnTo>
                  <a:pt x="3" y="70"/>
                </a:lnTo>
                <a:lnTo>
                  <a:pt x="3" y="63"/>
                </a:lnTo>
                <a:lnTo>
                  <a:pt x="3" y="60"/>
                </a:lnTo>
                <a:lnTo>
                  <a:pt x="6" y="57"/>
                </a:lnTo>
                <a:lnTo>
                  <a:pt x="6" y="51"/>
                </a:lnTo>
                <a:lnTo>
                  <a:pt x="9" y="48"/>
                </a:lnTo>
                <a:lnTo>
                  <a:pt x="13" y="45"/>
                </a:lnTo>
                <a:lnTo>
                  <a:pt x="13" y="42"/>
                </a:lnTo>
                <a:lnTo>
                  <a:pt x="16" y="39"/>
                </a:lnTo>
                <a:lnTo>
                  <a:pt x="19" y="36"/>
                </a:lnTo>
                <a:lnTo>
                  <a:pt x="22" y="30"/>
                </a:lnTo>
                <a:lnTo>
                  <a:pt x="25" y="27"/>
                </a:lnTo>
                <a:lnTo>
                  <a:pt x="28" y="24"/>
                </a:lnTo>
                <a:lnTo>
                  <a:pt x="34" y="21"/>
                </a:lnTo>
                <a:lnTo>
                  <a:pt x="37" y="18"/>
                </a:lnTo>
                <a:lnTo>
                  <a:pt x="40" y="15"/>
                </a:lnTo>
                <a:lnTo>
                  <a:pt x="43" y="12"/>
                </a:lnTo>
                <a:lnTo>
                  <a:pt x="46" y="12"/>
                </a:lnTo>
                <a:lnTo>
                  <a:pt x="49" y="9"/>
                </a:lnTo>
                <a:lnTo>
                  <a:pt x="52" y="6"/>
                </a:lnTo>
                <a:lnTo>
                  <a:pt x="58" y="6"/>
                </a:lnTo>
                <a:lnTo>
                  <a:pt x="62" y="3"/>
                </a:lnTo>
                <a:lnTo>
                  <a:pt x="65" y="3"/>
                </a:lnTo>
                <a:lnTo>
                  <a:pt x="71" y="3"/>
                </a:lnTo>
                <a:lnTo>
                  <a:pt x="74" y="0"/>
                </a:lnTo>
                <a:lnTo>
                  <a:pt x="80" y="0"/>
                </a:lnTo>
                <a:lnTo>
                  <a:pt x="83" y="0"/>
                </a:lnTo>
                <a:lnTo>
                  <a:pt x="86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370320" y="3411360"/>
            <a:ext cx="277920" cy="274680"/>
          </a:xfrm>
          <a:custGeom>
            <a:avLst/>
            <a:gdLst/>
            <a:ahLst/>
            <a:rect l="l" t="t" r="r" b="b"/>
            <a:pathLst>
              <a:path w="175" h="173">
                <a:moveTo>
                  <a:pt x="86" y="0"/>
                </a:moveTo>
                <a:lnTo>
                  <a:pt x="120" y="6"/>
                </a:lnTo>
                <a:lnTo>
                  <a:pt x="147" y="24"/>
                </a:lnTo>
                <a:lnTo>
                  <a:pt x="166" y="51"/>
                </a:lnTo>
                <a:lnTo>
                  <a:pt x="175" y="85"/>
                </a:lnTo>
                <a:lnTo>
                  <a:pt x="166" y="118"/>
                </a:lnTo>
                <a:lnTo>
                  <a:pt x="147" y="145"/>
                </a:lnTo>
                <a:lnTo>
                  <a:pt x="120" y="164"/>
                </a:lnTo>
                <a:lnTo>
                  <a:pt x="86" y="173"/>
                </a:lnTo>
                <a:lnTo>
                  <a:pt x="52" y="164"/>
                </a:lnTo>
                <a:lnTo>
                  <a:pt x="28" y="145"/>
                </a:lnTo>
                <a:lnTo>
                  <a:pt x="6" y="118"/>
                </a:lnTo>
                <a:lnTo>
                  <a:pt x="0" y="85"/>
                </a:lnTo>
                <a:lnTo>
                  <a:pt x="6" y="51"/>
                </a:lnTo>
                <a:lnTo>
                  <a:pt x="28" y="24"/>
                </a:lnTo>
                <a:lnTo>
                  <a:pt x="52" y="6"/>
                </a:lnTo>
                <a:lnTo>
                  <a:pt x="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186000" y="3743280"/>
            <a:ext cx="534960" cy="420840"/>
          </a:xfrm>
          <a:custGeom>
            <a:avLst/>
            <a:gdLst/>
            <a:ahLst/>
            <a:rect l="l" t="t" r="r" b="b"/>
            <a:pathLst>
              <a:path w="337" h="265">
                <a:moveTo>
                  <a:pt x="86" y="0"/>
                </a:moveTo>
                <a:lnTo>
                  <a:pt x="337" y="0"/>
                </a:lnTo>
                <a:lnTo>
                  <a:pt x="251" y="265"/>
                </a:lnTo>
                <a:lnTo>
                  <a:pt x="0" y="265"/>
                </a:lnTo>
                <a:lnTo>
                  <a:pt x="86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186000" y="3743280"/>
            <a:ext cx="534960" cy="420840"/>
          </a:xfrm>
          <a:custGeom>
            <a:avLst/>
            <a:gdLst/>
            <a:ahLst/>
            <a:rect l="l" t="t" r="r" b="b"/>
            <a:pathLst>
              <a:path w="337" h="265">
                <a:moveTo>
                  <a:pt x="86" y="0"/>
                </a:moveTo>
                <a:lnTo>
                  <a:pt x="337" y="0"/>
                </a:lnTo>
                <a:lnTo>
                  <a:pt x="251" y="265"/>
                </a:lnTo>
                <a:lnTo>
                  <a:pt x="0" y="265"/>
                </a:lnTo>
                <a:lnTo>
                  <a:pt x="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313080" y="3816360"/>
            <a:ext cx="9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336840" y="38354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360600" y="3854520"/>
            <a:ext cx="50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384720" y="3873600"/>
            <a:ext cx="61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05240" y="3892680"/>
            <a:ext cx="936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429000" y="391788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452760" y="393696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473280" y="3956040"/>
            <a:ext cx="1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427280" y="254160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tividad/Cóm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854760" y="1989000"/>
            <a:ext cx="2181240" cy="14655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Describe una unidad de trabajo que puede ser asignada a un trabaj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4284720" y="3511440"/>
            <a:ext cx="2447640" cy="1067040"/>
            <a:chOff x="4284720" y="3511440"/>
            <a:chExt cx="2447640" cy="1067040"/>
          </a:xfrm>
        </p:grpSpPr>
        <p:sp>
          <p:nvSpPr>
            <p:cNvPr id="622" name=""/>
            <p:cNvSpPr/>
            <p:nvPr/>
          </p:nvSpPr>
          <p:spPr>
            <a:xfrm>
              <a:off x="4284720" y="3511440"/>
              <a:ext cx="2447640" cy="1067040"/>
            </a:xfrm>
            <a:custGeom>
              <a:avLst/>
              <a:gdLst/>
              <a:ahLst/>
              <a:rect l="l" t="t" r="r" b="b"/>
              <a:pathLst>
                <a:path w="3385" h="672">
                  <a:moveTo>
                    <a:pt x="113" y="0"/>
                  </a:moveTo>
                  <a:lnTo>
                    <a:pt x="3269" y="0"/>
                  </a:lnTo>
                  <a:lnTo>
                    <a:pt x="3281" y="0"/>
                  </a:lnTo>
                  <a:lnTo>
                    <a:pt x="3292" y="2"/>
                  </a:lnTo>
                  <a:lnTo>
                    <a:pt x="3304" y="4"/>
                  </a:lnTo>
                  <a:lnTo>
                    <a:pt x="3314" y="8"/>
                  </a:lnTo>
                  <a:lnTo>
                    <a:pt x="3325" y="11"/>
                  </a:lnTo>
                  <a:lnTo>
                    <a:pt x="3333" y="17"/>
                  </a:lnTo>
                  <a:lnTo>
                    <a:pt x="3342" y="23"/>
                  </a:lnTo>
                  <a:lnTo>
                    <a:pt x="3350" y="31"/>
                  </a:lnTo>
                  <a:lnTo>
                    <a:pt x="3358" y="38"/>
                  </a:lnTo>
                  <a:lnTo>
                    <a:pt x="3363" y="46"/>
                  </a:lnTo>
                  <a:lnTo>
                    <a:pt x="3369" y="56"/>
                  </a:lnTo>
                  <a:lnTo>
                    <a:pt x="3375" y="65"/>
                  </a:lnTo>
                  <a:lnTo>
                    <a:pt x="3379" y="75"/>
                  </a:lnTo>
                  <a:lnTo>
                    <a:pt x="3381" y="84"/>
                  </a:lnTo>
                  <a:lnTo>
                    <a:pt x="3383" y="94"/>
                  </a:lnTo>
                  <a:lnTo>
                    <a:pt x="3385" y="105"/>
                  </a:lnTo>
                  <a:lnTo>
                    <a:pt x="3385" y="564"/>
                  </a:lnTo>
                  <a:lnTo>
                    <a:pt x="3383" y="576"/>
                  </a:lnTo>
                  <a:lnTo>
                    <a:pt x="3381" y="587"/>
                  </a:lnTo>
                  <a:lnTo>
                    <a:pt x="3379" y="597"/>
                  </a:lnTo>
                  <a:lnTo>
                    <a:pt x="3375" y="606"/>
                  </a:lnTo>
                  <a:lnTo>
                    <a:pt x="3369" y="616"/>
                  </a:lnTo>
                  <a:lnTo>
                    <a:pt x="3363" y="624"/>
                  </a:lnTo>
                  <a:lnTo>
                    <a:pt x="3358" y="633"/>
                  </a:lnTo>
                  <a:lnTo>
                    <a:pt x="3350" y="641"/>
                  </a:lnTo>
                  <a:lnTo>
                    <a:pt x="3342" y="647"/>
                  </a:lnTo>
                  <a:lnTo>
                    <a:pt x="3333" y="652"/>
                  </a:lnTo>
                  <a:lnTo>
                    <a:pt x="3325" y="658"/>
                  </a:lnTo>
                  <a:lnTo>
                    <a:pt x="3314" y="664"/>
                  </a:lnTo>
                  <a:lnTo>
                    <a:pt x="3304" y="666"/>
                  </a:lnTo>
                  <a:lnTo>
                    <a:pt x="3292" y="670"/>
                  </a:lnTo>
                  <a:lnTo>
                    <a:pt x="3281" y="672"/>
                  </a:lnTo>
                  <a:lnTo>
                    <a:pt x="3269" y="672"/>
                  </a:lnTo>
                  <a:lnTo>
                    <a:pt x="113" y="672"/>
                  </a:lnTo>
                  <a:lnTo>
                    <a:pt x="101" y="672"/>
                  </a:lnTo>
                  <a:lnTo>
                    <a:pt x="90" y="670"/>
                  </a:lnTo>
                  <a:lnTo>
                    <a:pt x="80" y="666"/>
                  </a:lnTo>
                  <a:lnTo>
                    <a:pt x="69" y="664"/>
                  </a:lnTo>
                  <a:lnTo>
                    <a:pt x="59" y="658"/>
                  </a:lnTo>
                  <a:lnTo>
                    <a:pt x="49" y="652"/>
                  </a:lnTo>
                  <a:lnTo>
                    <a:pt x="42" y="647"/>
                  </a:lnTo>
                  <a:lnTo>
                    <a:pt x="32" y="641"/>
                  </a:lnTo>
                  <a:lnTo>
                    <a:pt x="26" y="633"/>
                  </a:lnTo>
                  <a:lnTo>
                    <a:pt x="19" y="624"/>
                  </a:lnTo>
                  <a:lnTo>
                    <a:pt x="13" y="616"/>
                  </a:lnTo>
                  <a:lnTo>
                    <a:pt x="9" y="606"/>
                  </a:lnTo>
                  <a:lnTo>
                    <a:pt x="5" y="597"/>
                  </a:lnTo>
                  <a:lnTo>
                    <a:pt x="2" y="587"/>
                  </a:lnTo>
                  <a:lnTo>
                    <a:pt x="0" y="576"/>
                  </a:lnTo>
                  <a:lnTo>
                    <a:pt x="0" y="564"/>
                  </a:lnTo>
                  <a:lnTo>
                    <a:pt x="0" y="105"/>
                  </a:lnTo>
                  <a:lnTo>
                    <a:pt x="0" y="94"/>
                  </a:lnTo>
                  <a:lnTo>
                    <a:pt x="2" y="84"/>
                  </a:lnTo>
                  <a:lnTo>
                    <a:pt x="5" y="75"/>
                  </a:lnTo>
                  <a:lnTo>
                    <a:pt x="9" y="65"/>
                  </a:lnTo>
                  <a:lnTo>
                    <a:pt x="13" y="56"/>
                  </a:lnTo>
                  <a:lnTo>
                    <a:pt x="19" y="46"/>
                  </a:lnTo>
                  <a:lnTo>
                    <a:pt x="26" y="38"/>
                  </a:lnTo>
                  <a:lnTo>
                    <a:pt x="32" y="31"/>
                  </a:lnTo>
                  <a:lnTo>
                    <a:pt x="42" y="23"/>
                  </a:lnTo>
                  <a:lnTo>
                    <a:pt x="49" y="17"/>
                  </a:lnTo>
                  <a:lnTo>
                    <a:pt x="59" y="11"/>
                  </a:lnTo>
                  <a:lnTo>
                    <a:pt x="69" y="8"/>
                  </a:lnTo>
                  <a:lnTo>
                    <a:pt x="80" y="4"/>
                  </a:lnTo>
                  <a:lnTo>
                    <a:pt x="90" y="2"/>
                  </a:lnTo>
                  <a:lnTo>
                    <a:pt x="101" y="0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284720" y="3511440"/>
              <a:ext cx="2447640" cy="1067040"/>
            </a:xfrm>
            <a:custGeom>
              <a:avLst/>
              <a:gdLst/>
              <a:ahLst/>
              <a:rect l="l" t="t" r="r" b="b"/>
              <a:pathLst>
                <a:path w="3385" h="672">
                  <a:moveTo>
                    <a:pt x="113" y="0"/>
                  </a:moveTo>
                  <a:lnTo>
                    <a:pt x="3269" y="0"/>
                  </a:lnTo>
                  <a:lnTo>
                    <a:pt x="3281" y="0"/>
                  </a:lnTo>
                  <a:lnTo>
                    <a:pt x="3292" y="2"/>
                  </a:lnTo>
                  <a:lnTo>
                    <a:pt x="3304" y="4"/>
                  </a:lnTo>
                  <a:lnTo>
                    <a:pt x="3314" y="8"/>
                  </a:lnTo>
                  <a:lnTo>
                    <a:pt x="3325" y="11"/>
                  </a:lnTo>
                  <a:lnTo>
                    <a:pt x="3333" y="17"/>
                  </a:lnTo>
                  <a:lnTo>
                    <a:pt x="3342" y="23"/>
                  </a:lnTo>
                  <a:lnTo>
                    <a:pt x="3350" y="31"/>
                  </a:lnTo>
                  <a:lnTo>
                    <a:pt x="3358" y="38"/>
                  </a:lnTo>
                  <a:lnTo>
                    <a:pt x="3363" y="46"/>
                  </a:lnTo>
                  <a:lnTo>
                    <a:pt x="3369" y="56"/>
                  </a:lnTo>
                  <a:lnTo>
                    <a:pt x="3375" y="65"/>
                  </a:lnTo>
                  <a:lnTo>
                    <a:pt x="3379" y="75"/>
                  </a:lnTo>
                  <a:lnTo>
                    <a:pt x="3381" y="84"/>
                  </a:lnTo>
                  <a:lnTo>
                    <a:pt x="3383" y="94"/>
                  </a:lnTo>
                  <a:lnTo>
                    <a:pt x="3385" y="105"/>
                  </a:lnTo>
                  <a:lnTo>
                    <a:pt x="3385" y="564"/>
                  </a:lnTo>
                  <a:lnTo>
                    <a:pt x="3383" y="576"/>
                  </a:lnTo>
                  <a:lnTo>
                    <a:pt x="3381" y="587"/>
                  </a:lnTo>
                  <a:lnTo>
                    <a:pt x="3379" y="597"/>
                  </a:lnTo>
                  <a:lnTo>
                    <a:pt x="3375" y="606"/>
                  </a:lnTo>
                  <a:lnTo>
                    <a:pt x="3369" y="616"/>
                  </a:lnTo>
                  <a:lnTo>
                    <a:pt x="3363" y="624"/>
                  </a:lnTo>
                  <a:lnTo>
                    <a:pt x="3358" y="633"/>
                  </a:lnTo>
                  <a:lnTo>
                    <a:pt x="3350" y="641"/>
                  </a:lnTo>
                  <a:lnTo>
                    <a:pt x="3342" y="647"/>
                  </a:lnTo>
                  <a:lnTo>
                    <a:pt x="3333" y="652"/>
                  </a:lnTo>
                  <a:lnTo>
                    <a:pt x="3325" y="658"/>
                  </a:lnTo>
                  <a:lnTo>
                    <a:pt x="3314" y="664"/>
                  </a:lnTo>
                  <a:lnTo>
                    <a:pt x="3304" y="666"/>
                  </a:lnTo>
                  <a:lnTo>
                    <a:pt x="3292" y="670"/>
                  </a:lnTo>
                  <a:lnTo>
                    <a:pt x="3281" y="672"/>
                  </a:lnTo>
                  <a:lnTo>
                    <a:pt x="3269" y="672"/>
                  </a:lnTo>
                  <a:lnTo>
                    <a:pt x="113" y="672"/>
                  </a:lnTo>
                  <a:lnTo>
                    <a:pt x="101" y="672"/>
                  </a:lnTo>
                  <a:lnTo>
                    <a:pt x="90" y="670"/>
                  </a:lnTo>
                  <a:lnTo>
                    <a:pt x="80" y="666"/>
                  </a:lnTo>
                  <a:lnTo>
                    <a:pt x="69" y="664"/>
                  </a:lnTo>
                  <a:lnTo>
                    <a:pt x="59" y="658"/>
                  </a:lnTo>
                  <a:lnTo>
                    <a:pt x="49" y="652"/>
                  </a:lnTo>
                  <a:lnTo>
                    <a:pt x="42" y="647"/>
                  </a:lnTo>
                  <a:lnTo>
                    <a:pt x="32" y="641"/>
                  </a:lnTo>
                  <a:lnTo>
                    <a:pt x="26" y="633"/>
                  </a:lnTo>
                  <a:lnTo>
                    <a:pt x="19" y="624"/>
                  </a:lnTo>
                  <a:lnTo>
                    <a:pt x="13" y="616"/>
                  </a:lnTo>
                  <a:lnTo>
                    <a:pt x="9" y="606"/>
                  </a:lnTo>
                  <a:lnTo>
                    <a:pt x="5" y="597"/>
                  </a:lnTo>
                  <a:lnTo>
                    <a:pt x="2" y="587"/>
                  </a:lnTo>
                  <a:lnTo>
                    <a:pt x="0" y="576"/>
                  </a:lnTo>
                  <a:lnTo>
                    <a:pt x="0" y="564"/>
                  </a:lnTo>
                  <a:lnTo>
                    <a:pt x="0" y="105"/>
                  </a:lnTo>
                  <a:lnTo>
                    <a:pt x="0" y="94"/>
                  </a:lnTo>
                  <a:lnTo>
                    <a:pt x="2" y="84"/>
                  </a:lnTo>
                  <a:lnTo>
                    <a:pt x="5" y="75"/>
                  </a:lnTo>
                  <a:lnTo>
                    <a:pt x="9" y="65"/>
                  </a:lnTo>
                  <a:lnTo>
                    <a:pt x="13" y="56"/>
                  </a:lnTo>
                  <a:lnTo>
                    <a:pt x="19" y="46"/>
                  </a:lnTo>
                  <a:lnTo>
                    <a:pt x="26" y="38"/>
                  </a:lnTo>
                  <a:lnTo>
                    <a:pt x="32" y="31"/>
                  </a:lnTo>
                  <a:lnTo>
                    <a:pt x="42" y="23"/>
                  </a:lnTo>
                  <a:lnTo>
                    <a:pt x="49" y="17"/>
                  </a:lnTo>
                  <a:lnTo>
                    <a:pt x="59" y="11"/>
                  </a:lnTo>
                  <a:lnTo>
                    <a:pt x="69" y="8"/>
                  </a:lnTo>
                  <a:lnTo>
                    <a:pt x="80" y="4"/>
                  </a:lnTo>
                  <a:lnTo>
                    <a:pt x="90" y="2"/>
                  </a:lnTo>
                  <a:lnTo>
                    <a:pt x="101" y="0"/>
                  </a:lnTo>
                  <a:lnTo>
                    <a:pt x="113" y="0"/>
                  </a:lnTo>
                </a:path>
              </a:pathLst>
            </a:custGeom>
            <a:noFill/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267520" y="4154400"/>
              <a:ext cx="61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iseño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155560" y="4297320"/>
              <a:ext cx="796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sos de u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321160" y="3882960"/>
              <a:ext cx="436680" cy="271440"/>
            </a:xfrm>
            <a:custGeom>
              <a:avLst/>
              <a:gdLst/>
              <a:ahLst/>
              <a:rect l="l" t="t" r="r" b="b"/>
              <a:pathLst>
                <a:path w="275" h="171">
                  <a:moveTo>
                    <a:pt x="0" y="0"/>
                  </a:moveTo>
                  <a:lnTo>
                    <a:pt x="188" y="0"/>
                  </a:lnTo>
                  <a:lnTo>
                    <a:pt x="275" y="84"/>
                  </a:lnTo>
                  <a:lnTo>
                    <a:pt x="188" y="171"/>
                  </a:lnTo>
                  <a:lnTo>
                    <a:pt x="0" y="1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321160" y="3882960"/>
              <a:ext cx="436680" cy="271440"/>
            </a:xfrm>
            <a:custGeom>
              <a:avLst/>
              <a:gdLst/>
              <a:ahLst/>
              <a:rect l="l" t="t" r="r" b="b"/>
              <a:pathLst>
                <a:path w="275" h="171">
                  <a:moveTo>
                    <a:pt x="0" y="0"/>
                  </a:moveTo>
                  <a:lnTo>
                    <a:pt x="188" y="0"/>
                  </a:lnTo>
                  <a:lnTo>
                    <a:pt x="275" y="84"/>
                  </a:lnTo>
                  <a:lnTo>
                    <a:pt x="188" y="171"/>
                  </a:lnTo>
                  <a:lnTo>
                    <a:pt x="0" y="17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cc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297400" y="3855960"/>
              <a:ext cx="434880" cy="274680"/>
            </a:xfrm>
            <a:custGeom>
              <a:avLst/>
              <a:gdLst/>
              <a:ahLst/>
              <a:rect l="l" t="t" r="r" b="b"/>
              <a:pathLst>
                <a:path w="274" h="173">
                  <a:moveTo>
                    <a:pt x="0" y="0"/>
                  </a:moveTo>
                  <a:lnTo>
                    <a:pt x="188" y="0"/>
                  </a:lnTo>
                  <a:lnTo>
                    <a:pt x="274" y="86"/>
                  </a:lnTo>
                  <a:lnTo>
                    <a:pt x="188" y="173"/>
                  </a:lnTo>
                  <a:lnTo>
                    <a:pt x="0" y="1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97400" y="3855960"/>
              <a:ext cx="434880" cy="274680"/>
            </a:xfrm>
            <a:custGeom>
              <a:avLst/>
              <a:gdLst/>
              <a:ahLst/>
              <a:rect l="l" t="t" r="r" b="b"/>
              <a:pathLst>
                <a:path w="274" h="173">
                  <a:moveTo>
                    <a:pt x="0" y="0"/>
                  </a:moveTo>
                  <a:lnTo>
                    <a:pt x="188" y="0"/>
                  </a:lnTo>
                  <a:lnTo>
                    <a:pt x="274" y="86"/>
                  </a:lnTo>
                  <a:lnTo>
                    <a:pt x="188" y="173"/>
                  </a:lnTo>
                  <a:lnTo>
                    <a:pt x="0" y="17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5427720" y="2941560"/>
            <a:ext cx="0" cy="569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789520" y="5461920"/>
            <a:ext cx="2679840" cy="1109160"/>
          </a:xfrm>
          <a:prstGeom prst="rect">
            <a:avLst/>
          </a:prstGeom>
          <a:solidFill>
            <a:srgbClr val="ffcf0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1998"/>
              </a:lnSpc>
              <a:spcBef>
                <a:spcPts val="90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ieza de información que es producida, modificada, ó utilizada por un 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740840" y="499572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tefacto/Qu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2789280" y="4813200"/>
            <a:ext cx="409680" cy="744480"/>
          </a:xfrm>
          <a:prstGeom prst="line">
            <a:avLst/>
          </a:prstGeom>
          <a:ln w="0">
            <a:solidFill>
              <a:srgbClr val="ffcf01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522600" y="4859280"/>
            <a:ext cx="426960" cy="698400"/>
          </a:xfrm>
          <a:prstGeom prst="line">
            <a:avLst/>
          </a:prstGeom>
          <a:ln w="0">
            <a:solidFill>
              <a:srgbClr val="ffcf01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2185560" y="5721480"/>
            <a:ext cx="2574000" cy="945720"/>
            <a:chOff x="2185560" y="5721480"/>
            <a:chExt cx="2574000" cy="945720"/>
          </a:xfrm>
        </p:grpSpPr>
        <p:grpSp>
          <p:nvGrpSpPr>
            <p:cNvPr id="636" name=""/>
            <p:cNvGrpSpPr/>
            <p:nvPr/>
          </p:nvGrpSpPr>
          <p:grpSpPr>
            <a:xfrm>
              <a:off x="3698280" y="5721480"/>
              <a:ext cx="1061280" cy="945720"/>
              <a:chOff x="3698280" y="5721480"/>
              <a:chExt cx="1061280" cy="945720"/>
            </a:xfrm>
          </p:grpSpPr>
          <p:sp>
            <p:nvSpPr>
              <p:cNvPr id="637" name=""/>
              <p:cNvSpPr/>
              <p:nvPr/>
            </p:nvSpPr>
            <p:spPr>
              <a:xfrm>
                <a:off x="3698280" y="6180120"/>
                <a:ext cx="10612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Paquete de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aso de Us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8" name=""/>
              <p:cNvGrpSpPr/>
              <p:nvPr/>
            </p:nvGrpSpPr>
            <p:grpSpPr>
              <a:xfrm>
                <a:off x="3949200" y="5721480"/>
                <a:ext cx="550800" cy="412560"/>
                <a:chOff x="3949200" y="5721480"/>
                <a:chExt cx="550800" cy="4125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976200" y="5748480"/>
                  <a:ext cx="219240" cy="615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976200" y="5748480"/>
                  <a:ext cx="219240" cy="61560"/>
                </a:xfrm>
                <a:prstGeom prst="rect">
                  <a:avLst/>
                </a:prstGeom>
                <a:noFill/>
                <a:ln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3976200" y="5810040"/>
                  <a:ext cx="523800" cy="3240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976200" y="5810040"/>
                  <a:ext cx="523800" cy="324000"/>
                </a:xfrm>
                <a:prstGeom prst="rect">
                  <a:avLst/>
                </a:prstGeom>
                <a:noFill/>
                <a:ln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949200" y="5721480"/>
                  <a:ext cx="223920" cy="6192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949200" y="5721480"/>
                  <a:ext cx="223920" cy="6192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949200" y="5783400"/>
                  <a:ext cx="523800" cy="32364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3949200" y="5783400"/>
                  <a:ext cx="523800" cy="32364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3987360" y="5864040"/>
                  <a:ext cx="447480" cy="181080"/>
                </a:xfrm>
                <a:custGeom>
                  <a:avLst/>
                  <a:gdLst/>
                  <a:ahLst/>
                  <a:rect l="l" t="t" r="r" b="b"/>
                  <a:pathLst>
                    <a:path w="282" h="114">
                      <a:moveTo>
                        <a:pt x="141" y="0"/>
                      </a:moveTo>
                      <a:lnTo>
                        <a:pt x="170" y="0"/>
                      </a:lnTo>
                      <a:lnTo>
                        <a:pt x="197" y="5"/>
                      </a:lnTo>
                      <a:lnTo>
                        <a:pt x="218" y="9"/>
                      </a:lnTo>
                      <a:lnTo>
                        <a:pt x="240" y="17"/>
                      </a:lnTo>
                      <a:lnTo>
                        <a:pt x="257" y="24"/>
                      </a:lnTo>
                      <a:lnTo>
                        <a:pt x="272" y="34"/>
                      </a:lnTo>
                      <a:lnTo>
                        <a:pt x="277" y="39"/>
                      </a:lnTo>
                      <a:lnTo>
                        <a:pt x="279" y="46"/>
                      </a:lnTo>
                      <a:lnTo>
                        <a:pt x="282" y="51"/>
                      </a:lnTo>
                      <a:lnTo>
                        <a:pt x="282" y="56"/>
                      </a:lnTo>
                      <a:lnTo>
                        <a:pt x="282" y="63"/>
                      </a:lnTo>
                      <a:lnTo>
                        <a:pt x="279" y="68"/>
                      </a:lnTo>
                      <a:lnTo>
                        <a:pt x="277" y="73"/>
                      </a:lnTo>
                      <a:lnTo>
                        <a:pt x="272" y="77"/>
                      </a:lnTo>
                      <a:lnTo>
                        <a:pt x="257" y="87"/>
                      </a:lnTo>
                      <a:lnTo>
                        <a:pt x="240" y="97"/>
                      </a:lnTo>
                      <a:lnTo>
                        <a:pt x="218" y="104"/>
                      </a:lnTo>
                      <a:lnTo>
                        <a:pt x="197" y="109"/>
                      </a:lnTo>
                      <a:lnTo>
                        <a:pt x="170" y="111"/>
                      </a:lnTo>
                      <a:lnTo>
                        <a:pt x="141" y="114"/>
                      </a:lnTo>
                      <a:lnTo>
                        <a:pt x="112" y="111"/>
                      </a:lnTo>
                      <a:lnTo>
                        <a:pt x="85" y="109"/>
                      </a:lnTo>
                      <a:lnTo>
                        <a:pt x="61" y="104"/>
                      </a:lnTo>
                      <a:lnTo>
                        <a:pt x="41" y="97"/>
                      </a:lnTo>
                      <a:lnTo>
                        <a:pt x="24" y="87"/>
                      </a:lnTo>
                      <a:lnTo>
                        <a:pt x="10" y="77"/>
                      </a:lnTo>
                      <a:lnTo>
                        <a:pt x="5" y="73"/>
                      </a:lnTo>
                      <a:lnTo>
                        <a:pt x="3" y="68"/>
                      </a:lnTo>
                      <a:lnTo>
                        <a:pt x="0" y="63"/>
                      </a:lnTo>
                      <a:lnTo>
                        <a:pt x="0" y="56"/>
                      </a:lnTo>
                      <a:lnTo>
                        <a:pt x="0" y="51"/>
                      </a:lnTo>
                      <a:lnTo>
                        <a:pt x="3" y="46"/>
                      </a:lnTo>
                      <a:lnTo>
                        <a:pt x="5" y="39"/>
                      </a:lnTo>
                      <a:lnTo>
                        <a:pt x="10" y="34"/>
                      </a:lnTo>
                      <a:lnTo>
                        <a:pt x="24" y="24"/>
                      </a:lnTo>
                      <a:lnTo>
                        <a:pt x="41" y="17"/>
                      </a:lnTo>
                      <a:lnTo>
                        <a:pt x="61" y="9"/>
                      </a:lnTo>
                      <a:lnTo>
                        <a:pt x="85" y="5"/>
                      </a:lnTo>
                      <a:lnTo>
                        <a:pt x="112" y="0"/>
                      </a:lnTo>
                      <a:lnTo>
                        <a:pt x="141" y="0"/>
                      </a:lnTo>
                      <a:close/>
                    </a:path>
                  </a:pathLst>
                </a:cu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3987360" y="5864040"/>
                  <a:ext cx="447480" cy="181080"/>
                </a:xfrm>
                <a:custGeom>
                  <a:avLst/>
                  <a:gdLst/>
                  <a:ahLst/>
                  <a:rect l="l" t="t" r="r" b="b"/>
                  <a:pathLst>
                    <a:path w="282" h="114">
                      <a:moveTo>
                        <a:pt x="141" y="0"/>
                      </a:moveTo>
                      <a:lnTo>
                        <a:pt x="170" y="0"/>
                      </a:lnTo>
                      <a:lnTo>
                        <a:pt x="197" y="5"/>
                      </a:lnTo>
                      <a:lnTo>
                        <a:pt x="218" y="9"/>
                      </a:lnTo>
                      <a:lnTo>
                        <a:pt x="240" y="17"/>
                      </a:lnTo>
                      <a:lnTo>
                        <a:pt x="257" y="24"/>
                      </a:lnTo>
                      <a:lnTo>
                        <a:pt x="272" y="34"/>
                      </a:lnTo>
                      <a:lnTo>
                        <a:pt x="277" y="39"/>
                      </a:lnTo>
                      <a:lnTo>
                        <a:pt x="279" y="46"/>
                      </a:lnTo>
                      <a:lnTo>
                        <a:pt x="282" y="51"/>
                      </a:lnTo>
                      <a:lnTo>
                        <a:pt x="282" y="56"/>
                      </a:lnTo>
                      <a:lnTo>
                        <a:pt x="282" y="63"/>
                      </a:lnTo>
                      <a:lnTo>
                        <a:pt x="279" y="68"/>
                      </a:lnTo>
                      <a:lnTo>
                        <a:pt x="277" y="73"/>
                      </a:lnTo>
                      <a:lnTo>
                        <a:pt x="272" y="77"/>
                      </a:lnTo>
                      <a:lnTo>
                        <a:pt x="257" y="87"/>
                      </a:lnTo>
                      <a:lnTo>
                        <a:pt x="240" y="97"/>
                      </a:lnTo>
                      <a:lnTo>
                        <a:pt x="218" y="104"/>
                      </a:lnTo>
                      <a:lnTo>
                        <a:pt x="197" y="109"/>
                      </a:lnTo>
                      <a:lnTo>
                        <a:pt x="170" y="111"/>
                      </a:lnTo>
                      <a:lnTo>
                        <a:pt x="141" y="114"/>
                      </a:lnTo>
                      <a:lnTo>
                        <a:pt x="112" y="111"/>
                      </a:lnTo>
                      <a:lnTo>
                        <a:pt x="85" y="109"/>
                      </a:lnTo>
                      <a:lnTo>
                        <a:pt x="61" y="104"/>
                      </a:lnTo>
                      <a:lnTo>
                        <a:pt x="41" y="97"/>
                      </a:lnTo>
                      <a:lnTo>
                        <a:pt x="24" y="87"/>
                      </a:lnTo>
                      <a:lnTo>
                        <a:pt x="10" y="77"/>
                      </a:lnTo>
                      <a:lnTo>
                        <a:pt x="5" y="73"/>
                      </a:lnTo>
                      <a:lnTo>
                        <a:pt x="3" y="68"/>
                      </a:lnTo>
                      <a:lnTo>
                        <a:pt x="0" y="63"/>
                      </a:lnTo>
                      <a:lnTo>
                        <a:pt x="0" y="56"/>
                      </a:lnTo>
                      <a:lnTo>
                        <a:pt x="0" y="51"/>
                      </a:lnTo>
                      <a:lnTo>
                        <a:pt x="3" y="46"/>
                      </a:lnTo>
                      <a:lnTo>
                        <a:pt x="5" y="39"/>
                      </a:lnTo>
                      <a:lnTo>
                        <a:pt x="10" y="34"/>
                      </a:lnTo>
                      <a:lnTo>
                        <a:pt x="24" y="24"/>
                      </a:lnTo>
                      <a:lnTo>
                        <a:pt x="41" y="17"/>
                      </a:lnTo>
                      <a:lnTo>
                        <a:pt x="61" y="9"/>
                      </a:lnTo>
                      <a:lnTo>
                        <a:pt x="85" y="5"/>
                      </a:lnTo>
                      <a:lnTo>
                        <a:pt x="112" y="0"/>
                      </a:lnTo>
                      <a:lnTo>
                        <a:pt x="14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9" name=""/>
            <p:cNvGrpSpPr/>
            <p:nvPr/>
          </p:nvGrpSpPr>
          <p:grpSpPr>
            <a:xfrm>
              <a:off x="2185560" y="5721480"/>
              <a:ext cx="1061280" cy="678600"/>
              <a:chOff x="2185560" y="5721480"/>
              <a:chExt cx="1061280" cy="678600"/>
            </a:xfrm>
          </p:grpSpPr>
          <p:sp>
            <p:nvSpPr>
              <p:cNvPr id="650" name=""/>
              <p:cNvSpPr/>
              <p:nvPr/>
            </p:nvSpPr>
            <p:spPr>
              <a:xfrm>
                <a:off x="2185560" y="6156360"/>
                <a:ext cx="1061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aso de Us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1" name=""/>
              <p:cNvGrpSpPr/>
              <p:nvPr/>
            </p:nvGrpSpPr>
            <p:grpSpPr>
              <a:xfrm>
                <a:off x="2233080" y="5721480"/>
                <a:ext cx="793080" cy="331200"/>
                <a:chOff x="2233080" y="5721480"/>
                <a:chExt cx="793080" cy="33120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2256480" y="5740200"/>
                  <a:ext cx="769680" cy="312480"/>
                </a:xfrm>
                <a:custGeom>
                  <a:avLst/>
                  <a:gdLst/>
                  <a:ahLst/>
                  <a:rect l="l" t="t" r="r" b="b"/>
                  <a:pathLst>
                    <a:path w="485" h="197">
                      <a:moveTo>
                        <a:pt x="242" y="0"/>
                      </a:moveTo>
                      <a:lnTo>
                        <a:pt x="291" y="3"/>
                      </a:lnTo>
                      <a:lnTo>
                        <a:pt x="334" y="7"/>
                      </a:lnTo>
                      <a:lnTo>
                        <a:pt x="376" y="17"/>
                      </a:lnTo>
                      <a:lnTo>
                        <a:pt x="412" y="29"/>
                      </a:lnTo>
                      <a:lnTo>
                        <a:pt x="429" y="37"/>
                      </a:lnTo>
                      <a:lnTo>
                        <a:pt x="441" y="44"/>
                      </a:lnTo>
                      <a:lnTo>
                        <a:pt x="453" y="51"/>
                      </a:lnTo>
                      <a:lnTo>
                        <a:pt x="465" y="61"/>
                      </a:lnTo>
                      <a:lnTo>
                        <a:pt x="473" y="68"/>
                      </a:lnTo>
                      <a:lnTo>
                        <a:pt x="480" y="78"/>
                      </a:lnTo>
                      <a:lnTo>
                        <a:pt x="482" y="88"/>
                      </a:lnTo>
                      <a:lnTo>
                        <a:pt x="485" y="97"/>
                      </a:lnTo>
                      <a:lnTo>
                        <a:pt x="482" y="109"/>
                      </a:lnTo>
                      <a:lnTo>
                        <a:pt x="480" y="119"/>
                      </a:lnTo>
                      <a:lnTo>
                        <a:pt x="473" y="126"/>
                      </a:lnTo>
                      <a:lnTo>
                        <a:pt x="465" y="136"/>
                      </a:lnTo>
                      <a:lnTo>
                        <a:pt x="453" y="146"/>
                      </a:lnTo>
                      <a:lnTo>
                        <a:pt x="441" y="153"/>
                      </a:lnTo>
                      <a:lnTo>
                        <a:pt x="429" y="160"/>
                      </a:lnTo>
                      <a:lnTo>
                        <a:pt x="412" y="168"/>
                      </a:lnTo>
                      <a:lnTo>
                        <a:pt x="376" y="180"/>
                      </a:lnTo>
                      <a:lnTo>
                        <a:pt x="334" y="190"/>
                      </a:lnTo>
                      <a:lnTo>
                        <a:pt x="291" y="194"/>
                      </a:lnTo>
                      <a:lnTo>
                        <a:pt x="242" y="197"/>
                      </a:lnTo>
                      <a:lnTo>
                        <a:pt x="191" y="194"/>
                      </a:lnTo>
                      <a:lnTo>
                        <a:pt x="148" y="190"/>
                      </a:lnTo>
                      <a:lnTo>
                        <a:pt x="106" y="180"/>
                      </a:lnTo>
                      <a:lnTo>
                        <a:pt x="70" y="168"/>
                      </a:lnTo>
                      <a:lnTo>
                        <a:pt x="53" y="160"/>
                      </a:lnTo>
                      <a:lnTo>
                        <a:pt x="41" y="153"/>
                      </a:lnTo>
                      <a:lnTo>
                        <a:pt x="29" y="146"/>
                      </a:lnTo>
                      <a:lnTo>
                        <a:pt x="17" y="136"/>
                      </a:lnTo>
                      <a:lnTo>
                        <a:pt x="9" y="126"/>
                      </a:lnTo>
                      <a:lnTo>
                        <a:pt x="4" y="119"/>
                      </a:lnTo>
                      <a:lnTo>
                        <a:pt x="0" y="109"/>
                      </a:lnTo>
                      <a:lnTo>
                        <a:pt x="0" y="97"/>
                      </a:lnTo>
                      <a:lnTo>
                        <a:pt x="0" y="88"/>
                      </a:lnTo>
                      <a:lnTo>
                        <a:pt x="4" y="78"/>
                      </a:lnTo>
                      <a:lnTo>
                        <a:pt x="9" y="68"/>
                      </a:lnTo>
                      <a:lnTo>
                        <a:pt x="17" y="61"/>
                      </a:lnTo>
                      <a:lnTo>
                        <a:pt x="29" y="51"/>
                      </a:lnTo>
                      <a:lnTo>
                        <a:pt x="41" y="44"/>
                      </a:lnTo>
                      <a:lnTo>
                        <a:pt x="53" y="37"/>
                      </a:lnTo>
                      <a:lnTo>
                        <a:pt x="70" y="29"/>
                      </a:lnTo>
                      <a:lnTo>
                        <a:pt x="106" y="17"/>
                      </a:lnTo>
                      <a:lnTo>
                        <a:pt x="148" y="7"/>
                      </a:lnTo>
                      <a:lnTo>
                        <a:pt x="191" y="3"/>
                      </a:lnTo>
                      <a:lnTo>
                        <a:pt x="242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2256480" y="5740200"/>
                  <a:ext cx="769680" cy="312480"/>
                </a:xfrm>
                <a:custGeom>
                  <a:avLst/>
                  <a:gdLst/>
                  <a:ahLst/>
                  <a:rect l="l" t="t" r="r" b="b"/>
                  <a:pathLst>
                    <a:path w="485" h="197">
                      <a:moveTo>
                        <a:pt x="242" y="0"/>
                      </a:moveTo>
                      <a:lnTo>
                        <a:pt x="291" y="3"/>
                      </a:lnTo>
                      <a:lnTo>
                        <a:pt x="334" y="7"/>
                      </a:lnTo>
                      <a:lnTo>
                        <a:pt x="376" y="17"/>
                      </a:lnTo>
                      <a:lnTo>
                        <a:pt x="412" y="29"/>
                      </a:lnTo>
                      <a:lnTo>
                        <a:pt x="429" y="37"/>
                      </a:lnTo>
                      <a:lnTo>
                        <a:pt x="441" y="44"/>
                      </a:lnTo>
                      <a:lnTo>
                        <a:pt x="453" y="51"/>
                      </a:lnTo>
                      <a:lnTo>
                        <a:pt x="465" y="61"/>
                      </a:lnTo>
                      <a:lnTo>
                        <a:pt x="473" y="68"/>
                      </a:lnTo>
                      <a:lnTo>
                        <a:pt x="480" y="78"/>
                      </a:lnTo>
                      <a:lnTo>
                        <a:pt x="482" y="88"/>
                      </a:lnTo>
                      <a:lnTo>
                        <a:pt x="485" y="97"/>
                      </a:lnTo>
                      <a:lnTo>
                        <a:pt x="482" y="109"/>
                      </a:lnTo>
                      <a:lnTo>
                        <a:pt x="480" y="119"/>
                      </a:lnTo>
                      <a:lnTo>
                        <a:pt x="473" y="126"/>
                      </a:lnTo>
                      <a:lnTo>
                        <a:pt x="465" y="136"/>
                      </a:lnTo>
                      <a:lnTo>
                        <a:pt x="453" y="146"/>
                      </a:lnTo>
                      <a:lnTo>
                        <a:pt x="441" y="153"/>
                      </a:lnTo>
                      <a:lnTo>
                        <a:pt x="429" y="160"/>
                      </a:lnTo>
                      <a:lnTo>
                        <a:pt x="412" y="168"/>
                      </a:lnTo>
                      <a:lnTo>
                        <a:pt x="376" y="180"/>
                      </a:lnTo>
                      <a:lnTo>
                        <a:pt x="334" y="190"/>
                      </a:lnTo>
                      <a:lnTo>
                        <a:pt x="291" y="194"/>
                      </a:lnTo>
                      <a:lnTo>
                        <a:pt x="242" y="197"/>
                      </a:lnTo>
                      <a:lnTo>
                        <a:pt x="191" y="194"/>
                      </a:lnTo>
                      <a:lnTo>
                        <a:pt x="148" y="190"/>
                      </a:lnTo>
                      <a:lnTo>
                        <a:pt x="106" y="180"/>
                      </a:lnTo>
                      <a:lnTo>
                        <a:pt x="70" y="168"/>
                      </a:lnTo>
                      <a:lnTo>
                        <a:pt x="53" y="160"/>
                      </a:lnTo>
                      <a:lnTo>
                        <a:pt x="41" y="153"/>
                      </a:lnTo>
                      <a:lnTo>
                        <a:pt x="29" y="146"/>
                      </a:lnTo>
                      <a:lnTo>
                        <a:pt x="17" y="136"/>
                      </a:lnTo>
                      <a:lnTo>
                        <a:pt x="9" y="126"/>
                      </a:lnTo>
                      <a:lnTo>
                        <a:pt x="4" y="119"/>
                      </a:lnTo>
                      <a:lnTo>
                        <a:pt x="0" y="109"/>
                      </a:lnTo>
                      <a:lnTo>
                        <a:pt x="0" y="97"/>
                      </a:lnTo>
                      <a:lnTo>
                        <a:pt x="0" y="88"/>
                      </a:lnTo>
                      <a:lnTo>
                        <a:pt x="4" y="78"/>
                      </a:lnTo>
                      <a:lnTo>
                        <a:pt x="9" y="68"/>
                      </a:lnTo>
                      <a:lnTo>
                        <a:pt x="17" y="61"/>
                      </a:lnTo>
                      <a:lnTo>
                        <a:pt x="29" y="51"/>
                      </a:lnTo>
                      <a:lnTo>
                        <a:pt x="41" y="44"/>
                      </a:lnTo>
                      <a:lnTo>
                        <a:pt x="53" y="37"/>
                      </a:lnTo>
                      <a:lnTo>
                        <a:pt x="70" y="29"/>
                      </a:lnTo>
                      <a:lnTo>
                        <a:pt x="106" y="17"/>
                      </a:lnTo>
                      <a:lnTo>
                        <a:pt x="148" y="7"/>
                      </a:lnTo>
                      <a:lnTo>
                        <a:pt x="191" y="3"/>
                      </a:lnTo>
                      <a:lnTo>
                        <a:pt x="242" y="0"/>
                      </a:lnTo>
                    </a:path>
                  </a:pathLst>
                </a:custGeom>
                <a:noFill/>
                <a:ln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2233080" y="5721480"/>
                  <a:ext cx="769680" cy="307800"/>
                </a:xfrm>
                <a:custGeom>
                  <a:avLst/>
                  <a:gdLst/>
                  <a:ahLst/>
                  <a:rect l="l" t="t" r="r" b="b"/>
                  <a:pathLst>
                    <a:path w="485" h="194">
                      <a:moveTo>
                        <a:pt x="243" y="0"/>
                      </a:moveTo>
                      <a:lnTo>
                        <a:pt x="291" y="2"/>
                      </a:lnTo>
                      <a:lnTo>
                        <a:pt x="337" y="7"/>
                      </a:lnTo>
                      <a:lnTo>
                        <a:pt x="378" y="17"/>
                      </a:lnTo>
                      <a:lnTo>
                        <a:pt x="415" y="29"/>
                      </a:lnTo>
                      <a:lnTo>
                        <a:pt x="429" y="34"/>
                      </a:lnTo>
                      <a:lnTo>
                        <a:pt x="444" y="44"/>
                      </a:lnTo>
                      <a:lnTo>
                        <a:pt x="456" y="51"/>
                      </a:lnTo>
                      <a:lnTo>
                        <a:pt x="466" y="58"/>
                      </a:lnTo>
                      <a:lnTo>
                        <a:pt x="476" y="68"/>
                      </a:lnTo>
                      <a:lnTo>
                        <a:pt x="480" y="78"/>
                      </a:lnTo>
                      <a:lnTo>
                        <a:pt x="485" y="87"/>
                      </a:lnTo>
                      <a:lnTo>
                        <a:pt x="485" y="97"/>
                      </a:lnTo>
                      <a:lnTo>
                        <a:pt x="485" y="107"/>
                      </a:lnTo>
                      <a:lnTo>
                        <a:pt x="480" y="117"/>
                      </a:lnTo>
                      <a:lnTo>
                        <a:pt x="476" y="126"/>
                      </a:lnTo>
                      <a:lnTo>
                        <a:pt x="466" y="136"/>
                      </a:lnTo>
                      <a:lnTo>
                        <a:pt x="456" y="143"/>
                      </a:lnTo>
                      <a:lnTo>
                        <a:pt x="444" y="153"/>
                      </a:lnTo>
                      <a:lnTo>
                        <a:pt x="429" y="160"/>
                      </a:lnTo>
                      <a:lnTo>
                        <a:pt x="415" y="168"/>
                      </a:lnTo>
                      <a:lnTo>
                        <a:pt x="378" y="180"/>
                      </a:lnTo>
                      <a:lnTo>
                        <a:pt x="337" y="187"/>
                      </a:lnTo>
                      <a:lnTo>
                        <a:pt x="291" y="194"/>
                      </a:lnTo>
                      <a:lnTo>
                        <a:pt x="243" y="194"/>
                      </a:lnTo>
                      <a:lnTo>
                        <a:pt x="194" y="194"/>
                      </a:lnTo>
                      <a:lnTo>
                        <a:pt x="148" y="187"/>
                      </a:lnTo>
                      <a:lnTo>
                        <a:pt x="107" y="180"/>
                      </a:lnTo>
                      <a:lnTo>
                        <a:pt x="73" y="168"/>
                      </a:lnTo>
                      <a:lnTo>
                        <a:pt x="56" y="160"/>
                      </a:lnTo>
                      <a:lnTo>
                        <a:pt x="41" y="153"/>
                      </a:lnTo>
                      <a:lnTo>
                        <a:pt x="29" y="143"/>
                      </a:lnTo>
                      <a:lnTo>
                        <a:pt x="19" y="136"/>
                      </a:lnTo>
                      <a:lnTo>
                        <a:pt x="12" y="126"/>
                      </a:lnTo>
                      <a:lnTo>
                        <a:pt x="5" y="117"/>
                      </a:lnTo>
                      <a:lnTo>
                        <a:pt x="2" y="107"/>
                      </a:lnTo>
                      <a:lnTo>
                        <a:pt x="0" y="97"/>
                      </a:lnTo>
                      <a:lnTo>
                        <a:pt x="2" y="87"/>
                      </a:lnTo>
                      <a:lnTo>
                        <a:pt x="5" y="78"/>
                      </a:lnTo>
                      <a:lnTo>
                        <a:pt x="12" y="68"/>
                      </a:lnTo>
                      <a:lnTo>
                        <a:pt x="19" y="58"/>
                      </a:lnTo>
                      <a:lnTo>
                        <a:pt x="29" y="51"/>
                      </a:lnTo>
                      <a:lnTo>
                        <a:pt x="41" y="44"/>
                      </a:lnTo>
                      <a:lnTo>
                        <a:pt x="56" y="34"/>
                      </a:lnTo>
                      <a:lnTo>
                        <a:pt x="73" y="29"/>
                      </a:lnTo>
                      <a:lnTo>
                        <a:pt x="107" y="17"/>
                      </a:lnTo>
                      <a:lnTo>
                        <a:pt x="148" y="7"/>
                      </a:lnTo>
                      <a:lnTo>
                        <a:pt x="194" y="2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2233080" y="5721480"/>
                  <a:ext cx="769680" cy="307800"/>
                </a:xfrm>
                <a:custGeom>
                  <a:avLst/>
                  <a:gdLst/>
                  <a:ahLst/>
                  <a:rect l="l" t="t" r="r" b="b"/>
                  <a:pathLst>
                    <a:path w="485" h="194">
                      <a:moveTo>
                        <a:pt x="243" y="0"/>
                      </a:moveTo>
                      <a:lnTo>
                        <a:pt x="291" y="2"/>
                      </a:lnTo>
                      <a:lnTo>
                        <a:pt x="337" y="7"/>
                      </a:lnTo>
                      <a:lnTo>
                        <a:pt x="378" y="17"/>
                      </a:lnTo>
                      <a:lnTo>
                        <a:pt x="415" y="29"/>
                      </a:lnTo>
                      <a:lnTo>
                        <a:pt x="429" y="34"/>
                      </a:lnTo>
                      <a:lnTo>
                        <a:pt x="444" y="44"/>
                      </a:lnTo>
                      <a:lnTo>
                        <a:pt x="456" y="51"/>
                      </a:lnTo>
                      <a:lnTo>
                        <a:pt x="466" y="58"/>
                      </a:lnTo>
                      <a:lnTo>
                        <a:pt x="476" y="68"/>
                      </a:lnTo>
                      <a:lnTo>
                        <a:pt x="480" y="78"/>
                      </a:lnTo>
                      <a:lnTo>
                        <a:pt x="485" y="87"/>
                      </a:lnTo>
                      <a:lnTo>
                        <a:pt x="485" y="97"/>
                      </a:lnTo>
                      <a:lnTo>
                        <a:pt x="485" y="107"/>
                      </a:lnTo>
                      <a:lnTo>
                        <a:pt x="480" y="117"/>
                      </a:lnTo>
                      <a:lnTo>
                        <a:pt x="476" y="126"/>
                      </a:lnTo>
                      <a:lnTo>
                        <a:pt x="466" y="136"/>
                      </a:lnTo>
                      <a:lnTo>
                        <a:pt x="456" y="143"/>
                      </a:lnTo>
                      <a:lnTo>
                        <a:pt x="444" y="153"/>
                      </a:lnTo>
                      <a:lnTo>
                        <a:pt x="429" y="160"/>
                      </a:lnTo>
                      <a:lnTo>
                        <a:pt x="415" y="168"/>
                      </a:lnTo>
                      <a:lnTo>
                        <a:pt x="378" y="180"/>
                      </a:lnTo>
                      <a:lnTo>
                        <a:pt x="337" y="187"/>
                      </a:lnTo>
                      <a:lnTo>
                        <a:pt x="291" y="194"/>
                      </a:lnTo>
                      <a:lnTo>
                        <a:pt x="243" y="194"/>
                      </a:lnTo>
                      <a:lnTo>
                        <a:pt x="194" y="194"/>
                      </a:lnTo>
                      <a:lnTo>
                        <a:pt x="148" y="187"/>
                      </a:lnTo>
                      <a:lnTo>
                        <a:pt x="107" y="180"/>
                      </a:lnTo>
                      <a:lnTo>
                        <a:pt x="73" y="168"/>
                      </a:lnTo>
                      <a:lnTo>
                        <a:pt x="56" y="160"/>
                      </a:lnTo>
                      <a:lnTo>
                        <a:pt x="41" y="153"/>
                      </a:lnTo>
                      <a:lnTo>
                        <a:pt x="29" y="143"/>
                      </a:lnTo>
                      <a:lnTo>
                        <a:pt x="19" y="136"/>
                      </a:lnTo>
                      <a:lnTo>
                        <a:pt x="12" y="126"/>
                      </a:lnTo>
                      <a:lnTo>
                        <a:pt x="5" y="117"/>
                      </a:lnTo>
                      <a:lnTo>
                        <a:pt x="2" y="107"/>
                      </a:lnTo>
                      <a:lnTo>
                        <a:pt x="0" y="97"/>
                      </a:lnTo>
                      <a:lnTo>
                        <a:pt x="2" y="87"/>
                      </a:lnTo>
                      <a:lnTo>
                        <a:pt x="5" y="78"/>
                      </a:lnTo>
                      <a:lnTo>
                        <a:pt x="12" y="68"/>
                      </a:lnTo>
                      <a:lnTo>
                        <a:pt x="19" y="58"/>
                      </a:lnTo>
                      <a:lnTo>
                        <a:pt x="29" y="51"/>
                      </a:lnTo>
                      <a:lnTo>
                        <a:pt x="41" y="44"/>
                      </a:lnTo>
                      <a:lnTo>
                        <a:pt x="56" y="34"/>
                      </a:lnTo>
                      <a:lnTo>
                        <a:pt x="73" y="29"/>
                      </a:lnTo>
                      <a:lnTo>
                        <a:pt x="107" y="17"/>
                      </a:lnTo>
                      <a:lnTo>
                        <a:pt x="148" y="7"/>
                      </a:lnTo>
                      <a:lnTo>
                        <a:pt x="194" y="2"/>
                      </a:lnTo>
                      <a:lnTo>
                        <a:pt x="24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6" name=""/>
          <p:cNvSpPr/>
          <p:nvPr/>
        </p:nvSpPr>
        <p:spPr>
          <a:xfrm>
            <a:off x="2748240" y="4971960"/>
            <a:ext cx="1364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Times New Roman"/>
              </a:rPr>
              <a:t>responsable 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4646520" y="5450040"/>
            <a:ext cx="663840" cy="333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 y Flujos de Trabaj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a mera enumeración de todos los trabajadores, actividades y artefactos no constituyen un proceso. Se necesita una forma de describir secuencias significativas que produzcan algún resultado válido, y que muestre la interacción entre trabajado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flujo de trabaj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 una secuencia de actividades que producen un resultado de valor observ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términos de UML pueden ser expresados como un diagrama de secuencia, un diagrama de colaboración, ó como un diagrama de activ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grupos de trabajo agrupan actividades en forma lóg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 y Flujos de Trabajo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3674880" y="4530600"/>
            <a:ext cx="98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delo d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736160" y="5521320"/>
            <a:ext cx="1425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delo d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264000" y="6359400"/>
            <a:ext cx="98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delo d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ue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719080" y="3216240"/>
            <a:ext cx="13716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5" y="0"/>
                </a:moveTo>
                <a:arcTo wR="10800" hR="10800" stAng="-5407958" swAng="5407958"/>
                <a:lnTo>
                  <a:pt x="10800" y="10800"/>
                </a:lnTo>
                <a:close/>
              </a:path>
              <a:path fill="none" w="21600" h="21600">
                <a:moveTo>
                  <a:pt x="10775" y="0"/>
                </a:moveTo>
                <a:arcTo wR="10800" hR="10800" stAng="-5407958" swAng="5407958"/>
              </a:path>
            </a:pathLst>
          </a:custGeom>
          <a:noFill/>
          <a:ln cap="rnd" w="1260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271160" y="3063960"/>
            <a:ext cx="426744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2" y="0"/>
                </a:moveTo>
                <a:arcTo wR="10800" hR="10800" stAng="-5402558" swAng="5402558"/>
                <a:lnTo>
                  <a:pt x="10800" y="10800"/>
                </a:lnTo>
                <a:close/>
              </a:path>
              <a:path fill="none" w="21600" h="21600">
                <a:moveTo>
                  <a:pt x="10792" y="0"/>
                </a:moveTo>
                <a:arcTo wR="10800" hR="10800" stAng="-5402558" swAng="5402558"/>
              </a:path>
            </a:pathLst>
          </a:custGeom>
          <a:noFill/>
          <a:ln cap="rnd" w="1260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506400" y="3306600"/>
            <a:ext cx="1112400" cy="213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realizado p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801320" y="4273560"/>
            <a:ext cx="1516320" cy="213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Implementado p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72440" y="2932200"/>
            <a:ext cx="1812600" cy="5792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Flujo de Trabajo</a:t>
            </a:r>
            <a:br>
              <a:rPr sz="1600"/>
            </a:b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de Requerimi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955880" y="32529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955880" y="416736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955880" y="508176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955880" y="5996160"/>
            <a:ext cx="426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3480" y="3824280"/>
            <a:ext cx="1914840" cy="5792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Times New Roman"/>
              </a:rPr>
              <a:t>Flujo de Trabajo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Diseño de Anál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60920" y="4898880"/>
            <a:ext cx="1847880" cy="5792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Flujo de Trabajo</a:t>
            </a:r>
            <a:br>
              <a:rPr sz="1600"/>
            </a:b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de Implemen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58120" y="5840280"/>
            <a:ext cx="1661760" cy="5792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Flujo de Trabajo</a:t>
            </a:r>
            <a:br>
              <a:rPr sz="1600"/>
            </a:b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de Pru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313000" y="3692520"/>
            <a:ext cx="1117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delo d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so de U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2344680" y="2986200"/>
            <a:ext cx="1035000" cy="53172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2"/>
          <a:stretch/>
        </p:blipFill>
        <p:spPr>
          <a:xfrm>
            <a:off x="4979880" y="4815000"/>
            <a:ext cx="898560" cy="57600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3"/>
          <a:stretch/>
        </p:blipFill>
        <p:spPr>
          <a:xfrm>
            <a:off x="6351480" y="5576760"/>
            <a:ext cx="838440" cy="681120"/>
          </a:xfrm>
          <a:prstGeom prst="rect">
            <a:avLst/>
          </a:prstGeom>
          <a:ln w="0">
            <a:noFill/>
          </a:ln>
        </p:spPr>
      </p:pic>
      <p:pic>
        <p:nvPicPr>
          <p:cNvPr id="680" name="" descr=""/>
          <p:cNvPicPr/>
          <p:nvPr/>
        </p:nvPicPr>
        <p:blipFill>
          <a:blip r:embed="rId4"/>
          <a:stretch/>
        </p:blipFill>
        <p:spPr>
          <a:xfrm>
            <a:off x="3760920" y="3824280"/>
            <a:ext cx="807840" cy="531720"/>
          </a:xfrm>
          <a:prstGeom prst="rect">
            <a:avLst/>
          </a:prstGeom>
          <a:ln w="0">
            <a:noFill/>
          </a:ln>
        </p:spPr>
      </p:pic>
      <p:grpSp>
        <p:nvGrpSpPr>
          <p:cNvPr id="681" name=""/>
          <p:cNvGrpSpPr/>
          <p:nvPr/>
        </p:nvGrpSpPr>
        <p:grpSpPr>
          <a:xfrm>
            <a:off x="179280" y="2114640"/>
            <a:ext cx="2209680" cy="685800"/>
            <a:chOff x="179280" y="2114640"/>
            <a:chExt cx="2209680" cy="685800"/>
          </a:xfrm>
        </p:grpSpPr>
        <p:sp>
          <p:nvSpPr>
            <p:cNvPr id="682" name=""/>
            <p:cNvSpPr/>
            <p:nvPr/>
          </p:nvSpPr>
          <p:spPr>
            <a:xfrm>
              <a:off x="179280" y="2114640"/>
              <a:ext cx="1815120" cy="6858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82040" y="2136960"/>
              <a:ext cx="1206000" cy="5792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Model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de Negoc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994400" y="2457720"/>
              <a:ext cx="394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5" name="" descr=""/>
          <p:cNvPicPr/>
          <p:nvPr/>
        </p:nvPicPr>
        <p:blipFill>
          <a:blip r:embed="rId5"/>
          <a:stretch/>
        </p:blipFill>
        <p:spPr>
          <a:xfrm>
            <a:off x="2389320" y="2114640"/>
            <a:ext cx="1035000" cy="53172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2076120" y="2647800"/>
            <a:ext cx="17046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delo de Nego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71440" y="3052800"/>
            <a:ext cx="6602040" cy="474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2" y="0"/>
                </a:moveTo>
                <a:arcTo wR="10800" hR="10800" stAng="-5402558" swAng="5533456"/>
                <a:lnTo>
                  <a:pt x="10800" y="10800"/>
                </a:lnTo>
                <a:close/>
              </a:path>
              <a:path fill="none" w="21600" h="21600">
                <a:moveTo>
                  <a:pt x="10792" y="0"/>
                </a:moveTo>
                <a:arcTo wR="10800" hR="10800" stAng="-5402558" swAng="5533456"/>
              </a:path>
            </a:pathLst>
          </a:custGeom>
          <a:noFill/>
          <a:ln cap="rnd" w="1260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325560" y="5035680"/>
            <a:ext cx="1171800" cy="213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verificado p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208480" y="2013120"/>
            <a:ext cx="3678480" cy="8240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ahoma"/>
              </a:rPr>
              <a:t>Cada flujo de trabajo describe</a:t>
            </a:r>
            <a:br>
              <a:rPr sz="1600"/>
            </a:br>
            <a:r>
              <a:rPr b="1" lang="es-ES_tradnl" sz="1600" spc="-1" strike="noStrike">
                <a:solidFill>
                  <a:srgbClr val="3333cc"/>
                </a:solidFill>
                <a:latin typeface="Tahoma"/>
              </a:rPr>
              <a:t>como crear y mantener un modelo</a:t>
            </a:r>
            <a:br>
              <a:rPr sz="1600"/>
            </a:br>
            <a:r>
              <a:rPr b="1" lang="es-ES_tradnl" sz="1600" spc="-1" strike="noStrike">
                <a:solidFill>
                  <a:srgbClr val="3333cc"/>
                </a:solidFill>
                <a:latin typeface="Tahoma"/>
              </a:rPr>
              <a:t>en partic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Referenci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A Simplified Approach to RUP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Gary K. Evans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President, Evanetics, Inc.</a:t>
            </a:r>
            <a:br>
              <a:rPr sz="2000"/>
            </a:br>
            <a:r>
              <a:rPr b="0" lang="es-MX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</a:t>
            </a:r>
            <a:r>
              <a:rPr b="0" lang="es-MX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es-MX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www.therationaledge.com</a:t>
            </a:r>
            <a:r>
              <a:rPr b="0" lang="es-MX" sz="20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es-MX" sz="20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content</a:t>
            </a:r>
            <a:r>
              <a:rPr b="0" lang="es-MX" sz="20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es-MX" sz="20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jan</a:t>
            </a:r>
            <a:r>
              <a:rPr b="0" lang="es-MX" sz="20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_01/</a:t>
            </a:r>
            <a:r>
              <a:rPr b="0" lang="es-MX" sz="20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t_rup_ge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UML y Patrones, Introducción al Análisis y Diseño Orientado a Objeto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aig Larman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ntice-H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Rational Unified Process, Best Practices for Software Development Teams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A Rational Software Corporation White Pap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90756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 Proble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66560" y="1963800"/>
            <a:ext cx="7728480" cy="1608840"/>
            <a:chOff x="466560" y="1963800"/>
            <a:chExt cx="7728480" cy="1608840"/>
          </a:xfrm>
        </p:grpSpPr>
        <p:sp>
          <p:nvSpPr>
            <p:cNvPr id="114" name=""/>
            <p:cNvSpPr/>
            <p:nvPr/>
          </p:nvSpPr>
          <p:spPr>
            <a:xfrm>
              <a:off x="466560" y="2141280"/>
              <a:ext cx="49690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i un proceso es utilizado, equipos funcionales diferentes normalmente utilizan procesos y lenguajes de modelación inconsistent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6051600" y="1963800"/>
              <a:ext cx="2143440" cy="1608840"/>
              <a:chOff x="6051600" y="1963800"/>
              <a:chExt cx="2143440" cy="160884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6051600" y="1963800"/>
                <a:ext cx="1081080" cy="1608840"/>
                <a:chOff x="6051600" y="1963800"/>
                <a:chExt cx="1081080" cy="1608840"/>
              </a:xfrm>
            </p:grpSpPr>
            <p:grpSp>
              <p:nvGrpSpPr>
                <p:cNvPr id="117" name=""/>
                <p:cNvGrpSpPr/>
                <p:nvPr/>
              </p:nvGrpSpPr>
              <p:grpSpPr>
                <a:xfrm>
                  <a:off x="6066360" y="2850840"/>
                  <a:ext cx="259920" cy="504000"/>
                  <a:chOff x="6066360" y="2850840"/>
                  <a:chExt cx="259920" cy="50400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>
                    <a:off x="6129360" y="2850840"/>
                    <a:ext cx="121680" cy="102600"/>
                  </a:xfrm>
                  <a:prstGeom prst="ellipse">
                    <a:avLst/>
                  </a:prstGeom>
                  <a:solidFill>
                    <a:srgbClr val="ffcf01"/>
                  </a:solidFill>
                  <a:ln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6068880" y="2963880"/>
                    <a:ext cx="254880" cy="39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ffcf01"/>
                  </a:solidFill>
                  <a:ln cap="rnd" w="12600">
                    <a:solidFill>
                      <a:srgbClr val="1c1c1c"/>
                    </a:solidFill>
                    <a:round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6244200" y="2966400"/>
                    <a:ext cx="414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ffcf01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6096960" y="2965320"/>
                    <a:ext cx="7560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ffcf01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066360" y="3047040"/>
                    <a:ext cx="8748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ffcf01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242400" y="3045600"/>
                    <a:ext cx="8388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ffcf01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6446160" y="3068640"/>
                  <a:ext cx="259920" cy="504000"/>
                  <a:chOff x="6446160" y="3068640"/>
                  <a:chExt cx="259920" cy="50400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6509160" y="3068640"/>
                    <a:ext cx="121680" cy="102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6448680" y="3181680"/>
                    <a:ext cx="254880" cy="39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1c1c1c"/>
                    </a:solidFill>
                    <a:round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6624000" y="3184200"/>
                    <a:ext cx="414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6476760" y="3183120"/>
                    <a:ext cx="7560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6446160" y="3264840"/>
                    <a:ext cx="8748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6622200" y="3263400"/>
                    <a:ext cx="8388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"/>
                <p:cNvGrpSpPr/>
                <p:nvPr/>
              </p:nvGrpSpPr>
              <p:grpSpPr>
                <a:xfrm>
                  <a:off x="6872760" y="2850840"/>
                  <a:ext cx="259920" cy="504000"/>
                  <a:chOff x="6872760" y="2850840"/>
                  <a:chExt cx="259920" cy="50400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>
                    <a:off x="6935760" y="2850840"/>
                    <a:ext cx="121680" cy="1026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6875280" y="2963880"/>
                    <a:ext cx="254880" cy="39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00ffcc"/>
                  </a:solidFill>
                  <a:ln cap="rnd" w="12600">
                    <a:solidFill>
                      <a:srgbClr val="1c1c1c"/>
                    </a:solidFill>
                    <a:round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050600" y="2966400"/>
                    <a:ext cx="414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00ffcc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6903360" y="2965320"/>
                    <a:ext cx="7560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00ffcc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6872760" y="3047040"/>
                    <a:ext cx="8748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00ffcc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7048800" y="3045600"/>
                    <a:ext cx="8388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00ffcc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6051600" y="2259360"/>
                  <a:ext cx="215640" cy="407880"/>
                  <a:chOff x="6051600" y="2259360"/>
                  <a:chExt cx="215640" cy="40788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6103800" y="2259360"/>
                    <a:ext cx="101160" cy="82800"/>
                  </a:xfrm>
                  <a:prstGeom prst="ellipse">
                    <a:avLst/>
                  </a:prstGeom>
                  <a:solidFill>
                    <a:srgbClr val="0099ff"/>
                  </a:solidFill>
                  <a:ln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6053760" y="2350800"/>
                    <a:ext cx="211680" cy="31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0099ff"/>
                  </a:solidFill>
                  <a:ln cap="rnd" w="9360">
                    <a:solidFill>
                      <a:srgbClr val="1c1c1c"/>
                    </a:solidFill>
                    <a:round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6199560" y="2352960"/>
                    <a:ext cx="338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0099ff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6077160" y="2351880"/>
                    <a:ext cx="622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0099ff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6051600" y="2418480"/>
                    <a:ext cx="7236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0099ff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6197760" y="2417400"/>
                    <a:ext cx="694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0099ff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6468120" y="1963800"/>
                  <a:ext cx="214200" cy="407880"/>
                  <a:chOff x="6468120" y="1963800"/>
                  <a:chExt cx="214200" cy="40788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6519960" y="1963800"/>
                    <a:ext cx="100440" cy="82800"/>
                  </a:xfrm>
                  <a:prstGeom prst="ellipse">
                    <a:avLst/>
                  </a:prstGeom>
                  <a:solidFill>
                    <a:srgbClr val="be91ff"/>
                  </a:solidFill>
                  <a:ln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6470280" y="2055240"/>
                    <a:ext cx="210240" cy="31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be91ff"/>
                  </a:solidFill>
                  <a:ln cap="rnd" w="9360">
                    <a:solidFill>
                      <a:srgbClr val="1c1c1c"/>
                    </a:solidFill>
                    <a:round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6615000" y="2057400"/>
                    <a:ext cx="338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be91ff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6493320" y="2056320"/>
                    <a:ext cx="622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be91ff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6468120" y="2122920"/>
                    <a:ext cx="7200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be91ff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6613200" y="2121840"/>
                    <a:ext cx="6912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be91ff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6894360" y="2259360"/>
                  <a:ext cx="215640" cy="407880"/>
                  <a:chOff x="6894360" y="2259360"/>
                  <a:chExt cx="215640" cy="40788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>
                    <a:off x="6946560" y="2259360"/>
                    <a:ext cx="101160" cy="8280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6896520" y="2350800"/>
                    <a:ext cx="211680" cy="31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ff9900"/>
                  </a:solidFill>
                  <a:ln cap="rnd" w="9360">
                    <a:solidFill>
                      <a:srgbClr val="1c1c1c"/>
                    </a:solidFill>
                    <a:round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7042320" y="2352960"/>
                    <a:ext cx="338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ff9900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6919920" y="2351880"/>
                    <a:ext cx="622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ff9900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6894360" y="2418480"/>
                    <a:ext cx="7236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ff9900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7040520" y="2417400"/>
                    <a:ext cx="694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ff9900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6433560" y="2443320"/>
                  <a:ext cx="284760" cy="553320"/>
                  <a:chOff x="6433560" y="2443320"/>
                  <a:chExt cx="284760" cy="55332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6502680" y="2443320"/>
                    <a:ext cx="133200" cy="11232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6436440" y="2567520"/>
                    <a:ext cx="279000" cy="42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1c1c1c"/>
                    </a:solidFill>
                    <a:round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6628320" y="2570400"/>
                    <a:ext cx="45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6467040" y="2568960"/>
                    <a:ext cx="8316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6433560" y="2658960"/>
                    <a:ext cx="9576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6626160" y="2657520"/>
                    <a:ext cx="92160" cy="82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6" name=""/>
              <p:cNvSpPr/>
              <p:nvPr/>
            </p:nvSpPr>
            <p:spPr>
              <a:xfrm>
                <a:off x="6683760" y="1976400"/>
                <a:ext cx="1511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Requerimient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099920" y="2343600"/>
                <a:ext cx="867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rueb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9720" y="268200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nálisi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21880" y="3049200"/>
                <a:ext cx="759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iseñ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"/>
          <p:cNvGrpSpPr/>
          <p:nvPr/>
        </p:nvGrpSpPr>
        <p:grpSpPr>
          <a:xfrm>
            <a:off x="468360" y="3682440"/>
            <a:ext cx="7774920" cy="2341080"/>
            <a:chOff x="468360" y="3682440"/>
            <a:chExt cx="7774920" cy="2341080"/>
          </a:xfrm>
        </p:grpSpPr>
        <p:sp>
          <p:nvSpPr>
            <p:cNvPr id="171" name=""/>
            <p:cNvSpPr/>
            <p:nvPr/>
          </p:nvSpPr>
          <p:spPr>
            <a:xfrm>
              <a:off x="468360" y="4100040"/>
              <a:ext cx="49687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La mayoría de los proyectos de softwar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utilizan procesos que no están bien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efinidos. En su lugar los miembros del equipo (re)inventan sus propios proceso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882040" y="3682440"/>
              <a:ext cx="2361240" cy="1761480"/>
              <a:chOff x="5882040" y="3682440"/>
              <a:chExt cx="2361240" cy="176148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6181560" y="3834720"/>
                <a:ext cx="969480" cy="1609200"/>
                <a:chOff x="6181560" y="3834720"/>
                <a:chExt cx="969480" cy="160920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6194880" y="4721760"/>
                  <a:ext cx="233280" cy="504000"/>
                  <a:chOff x="6194880" y="4721760"/>
                  <a:chExt cx="233280" cy="50400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6251400" y="4721760"/>
                    <a:ext cx="109440" cy="102600"/>
                  </a:xfrm>
                  <a:prstGeom prst="ellipse">
                    <a:avLst/>
                  </a:prstGeom>
                  <a:solidFill>
                    <a:srgbClr val="ffcf01"/>
                  </a:solidFill>
                  <a:ln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6197400" y="4834800"/>
                    <a:ext cx="228600" cy="39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ffcf01"/>
                  </a:solidFill>
                  <a:ln cap="rnd" w="12600">
                    <a:solidFill>
                      <a:srgbClr val="1c1c1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6354360" y="4837320"/>
                    <a:ext cx="374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ffcf01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6222240" y="4836240"/>
                    <a:ext cx="6768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ffcf01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6194880" y="4917960"/>
                    <a:ext cx="7848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ffcf01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6352920" y="4916520"/>
                    <a:ext cx="7524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ffcf01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6535440" y="4939920"/>
                  <a:ext cx="232920" cy="504000"/>
                  <a:chOff x="6535440" y="4939920"/>
                  <a:chExt cx="232920" cy="50400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6591960" y="4939920"/>
                    <a:ext cx="109080" cy="102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6537960" y="5052960"/>
                    <a:ext cx="228240" cy="39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1c1c1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6694560" y="5055480"/>
                    <a:ext cx="374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6562800" y="5054400"/>
                    <a:ext cx="6768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6535440" y="5136120"/>
                    <a:ext cx="7848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6693120" y="5134680"/>
                    <a:ext cx="7524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6918120" y="4721760"/>
                  <a:ext cx="232920" cy="504000"/>
                  <a:chOff x="6918120" y="4721760"/>
                  <a:chExt cx="232920" cy="50400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6974640" y="4721760"/>
                    <a:ext cx="109080" cy="1026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6920640" y="4834800"/>
                    <a:ext cx="228240" cy="39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00ffcc"/>
                  </a:solidFill>
                  <a:ln cap="rnd" w="12600">
                    <a:solidFill>
                      <a:srgbClr val="1c1c1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7077240" y="4837320"/>
                    <a:ext cx="374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00ffcc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945480" y="4836240"/>
                    <a:ext cx="6768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00ffcc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6918120" y="4917960"/>
                    <a:ext cx="7848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00ffcc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7075800" y="4916520"/>
                    <a:ext cx="7524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00ffcc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6181560" y="4130280"/>
                  <a:ext cx="193320" cy="408600"/>
                  <a:chOff x="6181560" y="4130280"/>
                  <a:chExt cx="193320" cy="40860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6228360" y="4130280"/>
                    <a:ext cx="90720" cy="83160"/>
                  </a:xfrm>
                  <a:prstGeom prst="ellipse">
                    <a:avLst/>
                  </a:prstGeom>
                  <a:solidFill>
                    <a:srgbClr val="0099ff"/>
                  </a:solidFill>
                  <a:ln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600" bIns="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183360" y="4222080"/>
                    <a:ext cx="18972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0099ff"/>
                  </a:solidFill>
                  <a:ln cap="rnd" w="9360">
                    <a:solidFill>
                      <a:srgbClr val="1c1c1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6314040" y="4223880"/>
                    <a:ext cx="306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0099ff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6204240" y="4223160"/>
                    <a:ext cx="5580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0099ff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6181560" y="4289400"/>
                    <a:ext cx="6480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0099ff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600" bIns="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6312600" y="4288320"/>
                    <a:ext cx="622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0099ff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"/>
                <p:cNvGrpSpPr/>
                <p:nvPr/>
              </p:nvGrpSpPr>
              <p:grpSpPr>
                <a:xfrm>
                  <a:off x="6555240" y="3834720"/>
                  <a:ext cx="191880" cy="408600"/>
                  <a:chOff x="6555240" y="3834720"/>
                  <a:chExt cx="191880" cy="40860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6601680" y="3834720"/>
                    <a:ext cx="90000" cy="83160"/>
                  </a:xfrm>
                  <a:prstGeom prst="ellipse">
                    <a:avLst/>
                  </a:prstGeom>
                  <a:solidFill>
                    <a:srgbClr val="be91ff"/>
                  </a:solidFill>
                  <a:ln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600" bIns="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6557040" y="3926520"/>
                    <a:ext cx="18828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be91ff"/>
                  </a:solidFill>
                  <a:ln cap="rnd" w="9360">
                    <a:solidFill>
                      <a:srgbClr val="1c1c1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686640" y="3928320"/>
                    <a:ext cx="306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be91ff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6577920" y="3927600"/>
                    <a:ext cx="5580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be91ff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6555240" y="3993840"/>
                    <a:ext cx="6444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be91ff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600" bIns="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6685560" y="3992760"/>
                    <a:ext cx="6156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be91ff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6937920" y="4130280"/>
                  <a:ext cx="193320" cy="408600"/>
                  <a:chOff x="6937920" y="4130280"/>
                  <a:chExt cx="193320" cy="40860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6984720" y="4130280"/>
                    <a:ext cx="90720" cy="8316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600" bIns="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6939720" y="4222080"/>
                    <a:ext cx="18972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ff9900"/>
                  </a:solidFill>
                  <a:ln cap="rnd" w="9360">
                    <a:solidFill>
                      <a:srgbClr val="1c1c1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7070400" y="4223880"/>
                    <a:ext cx="306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ff9900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960600" y="4223160"/>
                    <a:ext cx="5580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ff9900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6937920" y="4289400"/>
                    <a:ext cx="6480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ff9900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600" bIns="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7068960" y="4288320"/>
                    <a:ext cx="622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ff9900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6524280" y="4314240"/>
                  <a:ext cx="255600" cy="553320"/>
                  <a:chOff x="6524280" y="4314240"/>
                  <a:chExt cx="255600" cy="55332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6586200" y="4314240"/>
                    <a:ext cx="119880" cy="11232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6526800" y="4438440"/>
                    <a:ext cx="250560" cy="42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1c1c1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6699240" y="4441320"/>
                    <a:ext cx="406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6554520" y="4439880"/>
                    <a:ext cx="7416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24280" y="4529880"/>
                    <a:ext cx="8604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697440" y="4528440"/>
                    <a:ext cx="82440" cy="82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3" name=""/>
              <p:cNvGrpSpPr/>
              <p:nvPr/>
            </p:nvGrpSpPr>
            <p:grpSpPr>
              <a:xfrm>
                <a:off x="5882040" y="3682440"/>
                <a:ext cx="2361240" cy="1503720"/>
                <a:chOff x="5882040" y="3682440"/>
                <a:chExt cx="2361240" cy="1503720"/>
              </a:xfrm>
            </p:grpSpPr>
            <p:grpSp>
              <p:nvGrpSpPr>
                <p:cNvPr id="224" name=""/>
                <p:cNvGrpSpPr/>
                <p:nvPr/>
              </p:nvGrpSpPr>
              <p:grpSpPr>
                <a:xfrm>
                  <a:off x="5882040" y="3682440"/>
                  <a:ext cx="1893240" cy="1503720"/>
                  <a:chOff x="5882040" y="3682440"/>
                  <a:chExt cx="1893240" cy="150372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6259320" y="3682440"/>
                    <a:ext cx="1112400" cy="36216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81185" dir="307803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407880" indent="-407880" algn="ctr">
                      <a:lnSpc>
                        <a:spcPct val="88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58680"/>
                        <a:tab algn="l" pos="1917720"/>
                        <a:tab algn="l" pos="2876400"/>
                        <a:tab algn="l" pos="3835440"/>
                        <a:tab algn="l" pos="4794120"/>
                        <a:tab algn="l" pos="5753160"/>
                        <a:tab algn="l" pos="6711840"/>
                        <a:tab algn="l" pos="7670880"/>
                        <a:tab algn="l" pos="8629560"/>
                        <a:tab algn="l" pos="9588600"/>
                        <a:tab algn="l" pos="1054728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?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6662880" y="3911040"/>
                    <a:ext cx="1112400" cy="36216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81185" dir="307803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407880" indent="-407880" algn="ctr">
                      <a:lnSpc>
                        <a:spcPct val="88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58680"/>
                        <a:tab algn="l" pos="1917720"/>
                        <a:tab algn="l" pos="2876400"/>
                        <a:tab algn="l" pos="3835440"/>
                        <a:tab algn="l" pos="4794120"/>
                        <a:tab algn="l" pos="5753160"/>
                        <a:tab algn="l" pos="6711840"/>
                        <a:tab algn="l" pos="7670880"/>
                        <a:tab algn="l" pos="8629560"/>
                        <a:tab algn="l" pos="9588600"/>
                        <a:tab algn="l" pos="1054728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?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6662880" y="4565880"/>
                    <a:ext cx="1112400" cy="36216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81185" dir="307803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407880" indent="-407880" algn="ctr">
                      <a:lnSpc>
                        <a:spcPct val="88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58680"/>
                        <a:tab algn="l" pos="1917720"/>
                        <a:tab algn="l" pos="2876400"/>
                        <a:tab algn="l" pos="3835440"/>
                        <a:tab algn="l" pos="4794120"/>
                        <a:tab algn="l" pos="5753160"/>
                        <a:tab algn="l" pos="6711840"/>
                        <a:tab algn="l" pos="7670880"/>
                        <a:tab algn="l" pos="8629560"/>
                        <a:tab algn="l" pos="9588600"/>
                        <a:tab algn="l" pos="1054728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?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6257880" y="4824000"/>
                    <a:ext cx="1112400" cy="36216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81185" dir="307803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407880" indent="-407880" algn="ctr">
                      <a:lnSpc>
                        <a:spcPct val="88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58680"/>
                        <a:tab algn="l" pos="1917720"/>
                        <a:tab algn="l" pos="2876400"/>
                        <a:tab algn="l" pos="3835440"/>
                        <a:tab algn="l" pos="4794120"/>
                        <a:tab algn="l" pos="5753160"/>
                        <a:tab algn="l" pos="6711840"/>
                        <a:tab algn="l" pos="7670880"/>
                        <a:tab algn="l" pos="8629560"/>
                        <a:tab algn="l" pos="9588600"/>
                        <a:tab algn="l" pos="1054728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?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6257880" y="4230000"/>
                    <a:ext cx="1112400" cy="36216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81185" dir="307803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407880" indent="-407880" algn="ctr">
                      <a:lnSpc>
                        <a:spcPct val="88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58680"/>
                        <a:tab algn="l" pos="1917720"/>
                        <a:tab algn="l" pos="2876400"/>
                        <a:tab algn="l" pos="3835440"/>
                        <a:tab algn="l" pos="4794120"/>
                        <a:tab algn="l" pos="5753160"/>
                        <a:tab algn="l" pos="6711840"/>
                        <a:tab algn="l" pos="7670880"/>
                        <a:tab algn="l" pos="8629560"/>
                        <a:tab algn="l" pos="9588600"/>
                        <a:tab algn="l" pos="1054728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?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5882040" y="3939480"/>
                    <a:ext cx="1112400" cy="36216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81185" dir="307803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407880" indent="-407880" algn="ctr">
                      <a:lnSpc>
                        <a:spcPct val="88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58680"/>
                        <a:tab algn="l" pos="1917720"/>
                        <a:tab algn="l" pos="2876400"/>
                        <a:tab algn="l" pos="3835440"/>
                        <a:tab algn="l" pos="4794120"/>
                        <a:tab algn="l" pos="5753160"/>
                        <a:tab algn="l" pos="6711840"/>
                        <a:tab algn="l" pos="7670880"/>
                        <a:tab algn="l" pos="8629560"/>
                        <a:tab algn="l" pos="9588600"/>
                        <a:tab algn="l" pos="1054728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?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5902200" y="4534560"/>
                    <a:ext cx="1112400" cy="36216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81185" dir="307803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407880" indent="-407880" algn="ctr">
                      <a:lnSpc>
                        <a:spcPct val="88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58680"/>
                        <a:tab algn="l" pos="1917720"/>
                        <a:tab algn="l" pos="2876400"/>
                        <a:tab algn="l" pos="3835440"/>
                        <a:tab algn="l" pos="4794120"/>
                        <a:tab algn="l" pos="5753160"/>
                        <a:tab algn="l" pos="6711840"/>
                        <a:tab algn="l" pos="7670880"/>
                        <a:tab algn="l" pos="8629560"/>
                        <a:tab algn="l" pos="9588600"/>
                        <a:tab algn="l" pos="1054728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?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"/>
                <p:cNvSpPr/>
                <p:nvPr/>
              </p:nvSpPr>
              <p:spPr>
                <a:xfrm>
                  <a:off x="8058960" y="4271760"/>
                  <a:ext cx="184320" cy="7365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81185" dir="307803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407880" indent="-407880" algn="ctr">
                    <a:lnSpc>
                      <a:spcPct val="88000"/>
                    </a:lnSpc>
                    <a:spcBef>
                      <a:spcPts val="2999"/>
                    </a:spcBef>
                    <a:tabLst>
                      <a:tab algn="l" pos="0"/>
                      <a:tab algn="l" pos="958680"/>
                      <a:tab algn="l" pos="1917720"/>
                      <a:tab algn="l" pos="2876400"/>
                      <a:tab algn="l" pos="3835440"/>
                      <a:tab algn="l" pos="4794120"/>
                      <a:tab algn="l" pos="5753160"/>
                      <a:tab algn="l" pos="6711840"/>
                      <a:tab algn="l" pos="7670880"/>
                      <a:tab algn="l" pos="8629560"/>
                      <a:tab algn="l" pos="9588600"/>
                      <a:tab algn="l" pos="105472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3" name=""/>
          <p:cNvGrpSpPr/>
          <p:nvPr/>
        </p:nvGrpSpPr>
        <p:grpSpPr>
          <a:xfrm>
            <a:off x="466560" y="5661000"/>
            <a:ext cx="8689320" cy="1315080"/>
            <a:chOff x="466560" y="5661000"/>
            <a:chExt cx="8689320" cy="1315080"/>
          </a:xfrm>
        </p:grpSpPr>
        <p:grpSp>
          <p:nvGrpSpPr>
            <p:cNvPr id="234" name=""/>
            <p:cNvGrpSpPr/>
            <p:nvPr/>
          </p:nvGrpSpPr>
          <p:grpSpPr>
            <a:xfrm>
              <a:off x="5996160" y="5951520"/>
              <a:ext cx="248400" cy="500040"/>
              <a:chOff x="5996160" y="5951520"/>
              <a:chExt cx="248400" cy="500040"/>
            </a:xfrm>
          </p:grpSpPr>
          <p:sp>
            <p:nvSpPr>
              <p:cNvPr id="235" name=""/>
              <p:cNvSpPr/>
              <p:nvPr/>
            </p:nvSpPr>
            <p:spPr>
              <a:xfrm>
                <a:off x="6056280" y="5951520"/>
                <a:ext cx="116280" cy="10152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998680" y="6063840"/>
                <a:ext cx="243360" cy="387720"/>
              </a:xfrm>
              <a:custGeom>
                <a:avLst/>
                <a:gdLst/>
                <a:ahLst/>
                <a:rect l="l" t="t" r="r" b="b"/>
                <a:pathLst>
                  <a:path w="182" h="324">
                    <a:moveTo>
                      <a:pt x="86" y="11"/>
                    </a:moveTo>
                    <a:lnTo>
                      <a:pt x="81" y="23"/>
                    </a:lnTo>
                    <a:lnTo>
                      <a:pt x="69" y="7"/>
                    </a:lnTo>
                    <a:lnTo>
                      <a:pt x="69" y="0"/>
                    </a:lnTo>
                    <a:lnTo>
                      <a:pt x="47" y="0"/>
                    </a:lnTo>
                    <a:lnTo>
                      <a:pt x="19" y="17"/>
                    </a:lnTo>
                    <a:lnTo>
                      <a:pt x="0" y="86"/>
                    </a:lnTo>
                    <a:lnTo>
                      <a:pt x="22" y="107"/>
                    </a:lnTo>
                    <a:lnTo>
                      <a:pt x="42" y="127"/>
                    </a:lnTo>
                    <a:lnTo>
                      <a:pt x="42" y="323"/>
                    </a:lnTo>
                    <a:lnTo>
                      <a:pt x="97" y="323"/>
                    </a:lnTo>
                    <a:lnTo>
                      <a:pt x="97" y="171"/>
                    </a:lnTo>
                    <a:lnTo>
                      <a:pt x="121" y="323"/>
                    </a:lnTo>
                    <a:lnTo>
                      <a:pt x="179" y="323"/>
                    </a:lnTo>
                    <a:lnTo>
                      <a:pt x="153" y="167"/>
                    </a:lnTo>
                    <a:lnTo>
                      <a:pt x="153" y="129"/>
                    </a:lnTo>
                    <a:lnTo>
                      <a:pt x="181" y="85"/>
                    </a:lnTo>
                    <a:lnTo>
                      <a:pt x="137" y="80"/>
                    </a:lnTo>
                    <a:lnTo>
                      <a:pt x="111" y="81"/>
                    </a:lnTo>
                    <a:lnTo>
                      <a:pt x="112" y="128"/>
                    </a:lnTo>
                    <a:lnTo>
                      <a:pt x="137" y="128"/>
                    </a:lnTo>
                    <a:lnTo>
                      <a:pt x="137" y="144"/>
                    </a:lnTo>
                    <a:lnTo>
                      <a:pt x="53" y="144"/>
                    </a:lnTo>
                    <a:lnTo>
                      <a:pt x="53" y="43"/>
                    </a:lnTo>
                    <a:lnTo>
                      <a:pt x="137" y="43"/>
                    </a:lnTo>
                    <a:lnTo>
                      <a:pt x="137" y="80"/>
                    </a:lnTo>
                    <a:lnTo>
                      <a:pt x="181" y="85"/>
                    </a:lnTo>
                    <a:lnTo>
                      <a:pt x="153" y="9"/>
                    </a:lnTo>
                    <a:lnTo>
                      <a:pt x="139" y="1"/>
                    </a:lnTo>
                    <a:lnTo>
                      <a:pt x="113" y="1"/>
                    </a:lnTo>
                    <a:lnTo>
                      <a:pt x="100" y="22"/>
                    </a:lnTo>
                    <a:lnTo>
                      <a:pt x="94" y="11"/>
                    </a:lnTo>
                    <a:lnTo>
                      <a:pt x="101" y="1"/>
                    </a:lnTo>
                    <a:lnTo>
                      <a:pt x="79" y="1"/>
                    </a:lnTo>
                    <a:lnTo>
                      <a:pt x="86" y="11"/>
                    </a:lnTo>
                  </a:path>
                </a:pathLst>
              </a:custGeom>
              <a:solidFill>
                <a:srgbClr val="0099ff"/>
              </a:solidFill>
              <a:ln cap="rnd" w="936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166440" y="6066000"/>
                <a:ext cx="39240" cy="3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82" y="24"/>
                    </a:moveTo>
                    <a:arcTo wR="10800" hR="10800" stAng="-5628844" swAng="56288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82" y="24"/>
                    </a:moveTo>
                    <a:arcTo wR="10800" hR="10800" stAng="-5628844" swAng="5628844"/>
                  </a:path>
                </a:pathLst>
              </a:custGeom>
              <a:solidFill>
                <a:srgbClr val="0099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025320" y="6064920"/>
                <a:ext cx="7236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4" y="12364"/>
                    </a:moveTo>
                    <a:arcTo wR="10800" hR="10800" stAng="10300461" swAng="66339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4" y="12364"/>
                    </a:moveTo>
                    <a:arcTo wR="10800" hR="10800" stAng="10300461" swAng="6633915"/>
                  </a:path>
                </a:pathLst>
              </a:custGeom>
              <a:solidFill>
                <a:srgbClr val="0099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996160" y="6146280"/>
                <a:ext cx="83520" cy="72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93" y="17951"/>
                    </a:moveTo>
                    <a:arcTo wR="10800" hR="10800" stAng="2487810" swAng="97380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93" y="17951"/>
                    </a:moveTo>
                    <a:arcTo wR="10800" hR="10800" stAng="2487810" swAng="9738089"/>
                  </a:path>
                </a:pathLst>
              </a:custGeom>
              <a:solidFill>
                <a:srgbClr val="0099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164640" y="6144480"/>
                <a:ext cx="7992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87" y="845"/>
                    </a:moveTo>
                    <a:arcTo wR="10800" hR="10800" stAng="-4031371" swAng="111984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87" y="845"/>
                    </a:moveTo>
                    <a:arcTo wR="10800" hR="10800" stAng="-4031371" swAng="11198480"/>
                  </a:path>
                </a:pathLst>
              </a:custGeom>
              <a:solidFill>
                <a:srgbClr val="0099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1" name="" descr=""/>
            <p:cNvPicPr/>
            <p:nvPr/>
          </p:nvPicPr>
          <p:blipFill>
            <a:blip r:embed="rId1"/>
            <a:stretch/>
          </p:blipFill>
          <p:spPr>
            <a:xfrm>
              <a:off x="8129520" y="5951520"/>
              <a:ext cx="763560" cy="50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" name=""/>
            <p:cNvGrpSpPr/>
            <p:nvPr/>
          </p:nvGrpSpPr>
          <p:grpSpPr>
            <a:xfrm>
              <a:off x="466560" y="5662440"/>
              <a:ext cx="7511400" cy="1313640"/>
              <a:chOff x="466560" y="5662440"/>
              <a:chExt cx="7511400" cy="1313640"/>
            </a:xfrm>
          </p:grpSpPr>
          <p:sp>
            <p:nvSpPr>
              <p:cNvPr id="243" name=""/>
              <p:cNvSpPr/>
              <p:nvPr/>
            </p:nvSpPr>
            <p:spPr>
              <a:xfrm>
                <a:off x="466560" y="5662440"/>
                <a:ext cx="496908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Los procesos no están apropiadamente relacionados con herramientas, ó no están propiamente automatizados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21594000">
                <a:off x="6545160" y="5871600"/>
                <a:ext cx="1432080" cy="597240"/>
              </a:xfrm>
              <a:prstGeom prst="leftRightArrow">
                <a:avLst>
                  <a:gd name="adj1" fmla="val 50000"/>
                  <a:gd name="adj2" fmla="val 47734"/>
                </a:avLst>
              </a:prstGeom>
              <a:gradFill rotWithShape="0">
                <a:gsLst>
                  <a:gs pos="0">
                    <a:srgbClr val="00e4a8"/>
                  </a:gs>
                  <a:gs pos="50000">
                    <a:srgbClr val="00694d"/>
                  </a:gs>
                  <a:gs pos="100000">
                    <a:srgbClr val="00e4a8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407880" indent="-407880" algn="ctr">
                  <a:lnSpc>
                    <a:spcPct val="88000"/>
                  </a:lnSpc>
                  <a:spcBef>
                    <a:spcPts val="1749"/>
                  </a:spcBef>
                  <a:tabLst>
                    <a:tab algn="l" pos="0"/>
                    <a:tab algn="l" pos="958680"/>
                    <a:tab algn="l" pos="1917720"/>
                    <a:tab algn="l" pos="2876400"/>
                    <a:tab algn="l" pos="3835440"/>
                    <a:tab algn="l" pos="4794120"/>
                    <a:tab algn="l" pos="5753160"/>
                    <a:tab algn="l" pos="6711840"/>
                    <a:tab algn="l" pos="7670880"/>
                    <a:tab algn="l" pos="8629560"/>
                    <a:tab algn="l" pos="9588600"/>
                    <a:tab algn="l" pos="105472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7097760" y="5732280"/>
              <a:ext cx="25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97360" y="5676840"/>
              <a:ext cx="84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roce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08480" y="5661000"/>
              <a:ext cx="124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erramien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tional Unified Process (RUP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a varias de l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ejores práctic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n el desarrollo moderno de software en una forma que es aplicable para un amplio rango de proyectos y organiz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 una guía de cómo utilizar de manera efectiv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M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ee a cada miembro de un equipo un fácil acceso a una base de conocimiento con guías, plantillas y herramientas para todas las actividades críticas de desarrol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 y mantien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delos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n lugar de enfocarse en la producción de una gran cantidad de papeles de documen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cremento de la Productividad en Equ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67680" y="2100240"/>
            <a:ext cx="531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dos los miembros del equipo compa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Base de cono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Vista de cómo desarrollar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Lenguaje de modelamiento (U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532960" y="2637000"/>
            <a:ext cx="6661800" cy="4033800"/>
            <a:chOff x="2532960" y="2637000"/>
            <a:chExt cx="6661800" cy="4033800"/>
          </a:xfrm>
        </p:grpSpPr>
        <p:grpSp>
          <p:nvGrpSpPr>
            <p:cNvPr id="253" name=""/>
            <p:cNvGrpSpPr/>
            <p:nvPr/>
          </p:nvGrpSpPr>
          <p:grpSpPr>
            <a:xfrm>
              <a:off x="4836960" y="5624640"/>
              <a:ext cx="270720" cy="602640"/>
              <a:chOff x="4836960" y="5624640"/>
              <a:chExt cx="270720" cy="602640"/>
            </a:xfrm>
          </p:grpSpPr>
          <p:sp>
            <p:nvSpPr>
              <p:cNvPr id="254" name=""/>
              <p:cNvSpPr/>
              <p:nvPr/>
            </p:nvSpPr>
            <p:spPr>
              <a:xfrm>
                <a:off x="4902480" y="5624640"/>
                <a:ext cx="126720" cy="1224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839840" y="5760000"/>
                <a:ext cx="265320" cy="467280"/>
              </a:xfrm>
              <a:custGeom>
                <a:avLst/>
                <a:gdLst/>
                <a:ahLst/>
                <a:rect l="l" t="t" r="r" b="b"/>
                <a:pathLst>
                  <a:path w="182" h="324">
                    <a:moveTo>
                      <a:pt x="86" y="11"/>
                    </a:moveTo>
                    <a:lnTo>
                      <a:pt x="81" y="23"/>
                    </a:lnTo>
                    <a:lnTo>
                      <a:pt x="69" y="7"/>
                    </a:lnTo>
                    <a:lnTo>
                      <a:pt x="69" y="0"/>
                    </a:lnTo>
                    <a:lnTo>
                      <a:pt x="47" y="0"/>
                    </a:lnTo>
                    <a:lnTo>
                      <a:pt x="19" y="17"/>
                    </a:lnTo>
                    <a:lnTo>
                      <a:pt x="0" y="86"/>
                    </a:lnTo>
                    <a:lnTo>
                      <a:pt x="22" y="107"/>
                    </a:lnTo>
                    <a:lnTo>
                      <a:pt x="42" y="127"/>
                    </a:lnTo>
                    <a:lnTo>
                      <a:pt x="42" y="323"/>
                    </a:lnTo>
                    <a:lnTo>
                      <a:pt x="97" y="323"/>
                    </a:lnTo>
                    <a:lnTo>
                      <a:pt x="97" y="171"/>
                    </a:lnTo>
                    <a:lnTo>
                      <a:pt x="121" y="323"/>
                    </a:lnTo>
                    <a:lnTo>
                      <a:pt x="179" y="323"/>
                    </a:lnTo>
                    <a:lnTo>
                      <a:pt x="153" y="167"/>
                    </a:lnTo>
                    <a:lnTo>
                      <a:pt x="153" y="129"/>
                    </a:lnTo>
                    <a:lnTo>
                      <a:pt x="181" y="85"/>
                    </a:lnTo>
                    <a:lnTo>
                      <a:pt x="137" y="80"/>
                    </a:lnTo>
                    <a:lnTo>
                      <a:pt x="111" y="81"/>
                    </a:lnTo>
                    <a:lnTo>
                      <a:pt x="112" y="128"/>
                    </a:lnTo>
                    <a:lnTo>
                      <a:pt x="137" y="128"/>
                    </a:lnTo>
                    <a:lnTo>
                      <a:pt x="137" y="144"/>
                    </a:lnTo>
                    <a:lnTo>
                      <a:pt x="53" y="144"/>
                    </a:lnTo>
                    <a:lnTo>
                      <a:pt x="53" y="43"/>
                    </a:lnTo>
                    <a:lnTo>
                      <a:pt x="137" y="43"/>
                    </a:lnTo>
                    <a:lnTo>
                      <a:pt x="137" y="80"/>
                    </a:lnTo>
                    <a:lnTo>
                      <a:pt x="181" y="85"/>
                    </a:lnTo>
                    <a:lnTo>
                      <a:pt x="153" y="9"/>
                    </a:lnTo>
                    <a:lnTo>
                      <a:pt x="139" y="1"/>
                    </a:lnTo>
                    <a:lnTo>
                      <a:pt x="113" y="1"/>
                    </a:lnTo>
                    <a:lnTo>
                      <a:pt x="100" y="22"/>
                    </a:lnTo>
                    <a:lnTo>
                      <a:pt x="94" y="11"/>
                    </a:lnTo>
                    <a:lnTo>
                      <a:pt x="101" y="1"/>
                    </a:lnTo>
                    <a:lnTo>
                      <a:pt x="79" y="1"/>
                    </a:lnTo>
                    <a:lnTo>
                      <a:pt x="86" y="11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022360" y="5762880"/>
                <a:ext cx="43200" cy="39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82" y="24"/>
                    </a:moveTo>
                    <a:arcTo wR="10800" hR="10800" stAng="-5628844" swAng="56288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82" y="24"/>
                    </a:moveTo>
                    <a:arcTo wR="10800" hR="10800" stAng="-5628844" swAng="5628844"/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69000" y="5761440"/>
                <a:ext cx="79200" cy="5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4" y="12364"/>
                    </a:moveTo>
                    <a:arcTo wR="10800" hR="10800" stAng="10300461" swAng="66339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4" y="12364"/>
                    </a:moveTo>
                    <a:arcTo wR="10800" hR="10800" stAng="10300461" swAng="6633915"/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36960" y="5859360"/>
                <a:ext cx="91080" cy="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93" y="17951"/>
                    </a:moveTo>
                    <a:arcTo wR="10800" hR="10800" stAng="2487810" swAng="97380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93" y="17951"/>
                    </a:moveTo>
                    <a:arcTo wR="10800" hR="10800" stAng="2487810" swAng="9738089"/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020200" y="5857920"/>
                <a:ext cx="87480" cy="89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87" y="845"/>
                    </a:moveTo>
                    <a:arcTo wR="10800" hR="10800" stAng="-4031371" swAng="111984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87" y="845"/>
                    </a:moveTo>
                    <a:arcTo wR="10800" hR="10800" stAng="-4031371" swAng="11198480"/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3395520" y="5740560"/>
              <a:ext cx="280440" cy="551880"/>
              <a:chOff x="3395520" y="5740560"/>
              <a:chExt cx="280440" cy="551880"/>
            </a:xfrm>
          </p:grpSpPr>
          <p:sp>
            <p:nvSpPr>
              <p:cNvPr id="261" name=""/>
              <p:cNvSpPr/>
              <p:nvPr/>
            </p:nvSpPr>
            <p:spPr>
              <a:xfrm>
                <a:off x="3463560" y="5740560"/>
                <a:ext cx="131400" cy="112320"/>
              </a:xfrm>
              <a:prstGeom prst="ellipse">
                <a:avLst/>
              </a:prstGeom>
              <a:solidFill>
                <a:srgbClr val="ffcf01"/>
              </a:solidFill>
              <a:ln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398400" y="5864400"/>
                <a:ext cx="274680" cy="428040"/>
              </a:xfrm>
              <a:custGeom>
                <a:avLst/>
                <a:gdLst/>
                <a:ahLst/>
                <a:rect l="l" t="t" r="r" b="b"/>
                <a:pathLst>
                  <a:path w="182" h="324">
                    <a:moveTo>
                      <a:pt x="86" y="11"/>
                    </a:moveTo>
                    <a:lnTo>
                      <a:pt x="81" y="23"/>
                    </a:lnTo>
                    <a:lnTo>
                      <a:pt x="69" y="7"/>
                    </a:lnTo>
                    <a:lnTo>
                      <a:pt x="69" y="0"/>
                    </a:lnTo>
                    <a:lnTo>
                      <a:pt x="47" y="0"/>
                    </a:lnTo>
                    <a:lnTo>
                      <a:pt x="19" y="17"/>
                    </a:lnTo>
                    <a:lnTo>
                      <a:pt x="0" y="86"/>
                    </a:lnTo>
                    <a:lnTo>
                      <a:pt x="22" y="107"/>
                    </a:lnTo>
                    <a:lnTo>
                      <a:pt x="42" y="127"/>
                    </a:lnTo>
                    <a:lnTo>
                      <a:pt x="42" y="323"/>
                    </a:lnTo>
                    <a:lnTo>
                      <a:pt x="97" y="323"/>
                    </a:lnTo>
                    <a:lnTo>
                      <a:pt x="97" y="171"/>
                    </a:lnTo>
                    <a:lnTo>
                      <a:pt x="121" y="323"/>
                    </a:lnTo>
                    <a:lnTo>
                      <a:pt x="179" y="323"/>
                    </a:lnTo>
                    <a:lnTo>
                      <a:pt x="153" y="167"/>
                    </a:lnTo>
                    <a:lnTo>
                      <a:pt x="153" y="129"/>
                    </a:lnTo>
                    <a:lnTo>
                      <a:pt x="181" y="85"/>
                    </a:lnTo>
                    <a:lnTo>
                      <a:pt x="137" y="80"/>
                    </a:lnTo>
                    <a:lnTo>
                      <a:pt x="111" y="81"/>
                    </a:lnTo>
                    <a:lnTo>
                      <a:pt x="112" y="128"/>
                    </a:lnTo>
                    <a:lnTo>
                      <a:pt x="137" y="128"/>
                    </a:lnTo>
                    <a:lnTo>
                      <a:pt x="137" y="144"/>
                    </a:lnTo>
                    <a:lnTo>
                      <a:pt x="53" y="144"/>
                    </a:lnTo>
                    <a:lnTo>
                      <a:pt x="53" y="43"/>
                    </a:lnTo>
                    <a:lnTo>
                      <a:pt x="137" y="43"/>
                    </a:lnTo>
                    <a:lnTo>
                      <a:pt x="137" y="80"/>
                    </a:lnTo>
                    <a:lnTo>
                      <a:pt x="181" y="85"/>
                    </a:lnTo>
                    <a:lnTo>
                      <a:pt x="153" y="9"/>
                    </a:lnTo>
                    <a:lnTo>
                      <a:pt x="139" y="1"/>
                    </a:lnTo>
                    <a:lnTo>
                      <a:pt x="113" y="1"/>
                    </a:lnTo>
                    <a:lnTo>
                      <a:pt x="100" y="22"/>
                    </a:lnTo>
                    <a:lnTo>
                      <a:pt x="94" y="11"/>
                    </a:lnTo>
                    <a:lnTo>
                      <a:pt x="101" y="1"/>
                    </a:lnTo>
                    <a:lnTo>
                      <a:pt x="79" y="1"/>
                    </a:lnTo>
                    <a:lnTo>
                      <a:pt x="86" y="11"/>
                    </a:lnTo>
                  </a:path>
                </a:pathLst>
              </a:custGeom>
              <a:solidFill>
                <a:srgbClr val="ffcf01"/>
              </a:solidFill>
              <a:ln cap="rnd" w="1260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587400" y="5867280"/>
                <a:ext cx="44640" cy="36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82" y="24"/>
                    </a:moveTo>
                    <a:arcTo wR="10800" hR="10800" stAng="-5628844" swAng="56288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82" y="24"/>
                    </a:moveTo>
                    <a:arcTo wR="10800" hR="10800" stAng="-5628844" swAng="5628844"/>
                  </a:path>
                </a:pathLst>
              </a:custGeom>
              <a:solidFill>
                <a:srgbClr val="ffcf01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428640" y="5865840"/>
                <a:ext cx="81360" cy="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4" y="12364"/>
                    </a:moveTo>
                    <a:arcTo wR="10800" hR="10800" stAng="10300461" swAng="66339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4" y="12364"/>
                    </a:moveTo>
                    <a:arcTo wR="10800" hR="10800" stAng="10300461" swAng="6633915"/>
                  </a:path>
                </a:pathLst>
              </a:custGeom>
              <a:solidFill>
                <a:srgbClr val="ffcf01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395520" y="5955480"/>
                <a:ext cx="94680" cy="8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93" y="17951"/>
                    </a:moveTo>
                    <a:arcTo wR="10800" hR="10800" stAng="2487810" swAng="97380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93" y="17951"/>
                    </a:moveTo>
                    <a:arcTo wR="10800" hR="10800" stAng="2487810" swAng="9738089"/>
                  </a:path>
                </a:pathLst>
              </a:custGeom>
              <a:solidFill>
                <a:srgbClr val="ffcf01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585240" y="5954040"/>
                <a:ext cx="90720" cy="81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87" y="845"/>
                    </a:moveTo>
                    <a:arcTo wR="10800" hR="10800" stAng="-4031371" swAng="111984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87" y="845"/>
                    </a:moveTo>
                    <a:arcTo wR="10800" hR="10800" stAng="-4031371" swAng="11198480"/>
                  </a:path>
                </a:pathLst>
              </a:custGeom>
              <a:solidFill>
                <a:srgbClr val="ffcf01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7978680" y="5683320"/>
              <a:ext cx="280440" cy="531360"/>
              <a:chOff x="7978680" y="5683320"/>
              <a:chExt cx="280440" cy="531360"/>
            </a:xfrm>
          </p:grpSpPr>
          <p:sp>
            <p:nvSpPr>
              <p:cNvPr id="268" name=""/>
              <p:cNvSpPr/>
              <p:nvPr/>
            </p:nvSpPr>
            <p:spPr>
              <a:xfrm>
                <a:off x="8046720" y="5683320"/>
                <a:ext cx="131400" cy="10800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981560" y="5802480"/>
                <a:ext cx="274680" cy="412200"/>
              </a:xfrm>
              <a:custGeom>
                <a:avLst/>
                <a:gdLst/>
                <a:ahLst/>
                <a:rect l="l" t="t" r="r" b="b"/>
                <a:pathLst>
                  <a:path w="182" h="324">
                    <a:moveTo>
                      <a:pt x="86" y="11"/>
                    </a:moveTo>
                    <a:lnTo>
                      <a:pt x="81" y="23"/>
                    </a:lnTo>
                    <a:lnTo>
                      <a:pt x="69" y="7"/>
                    </a:lnTo>
                    <a:lnTo>
                      <a:pt x="69" y="0"/>
                    </a:lnTo>
                    <a:lnTo>
                      <a:pt x="47" y="0"/>
                    </a:lnTo>
                    <a:lnTo>
                      <a:pt x="19" y="17"/>
                    </a:lnTo>
                    <a:lnTo>
                      <a:pt x="0" y="86"/>
                    </a:lnTo>
                    <a:lnTo>
                      <a:pt x="22" y="107"/>
                    </a:lnTo>
                    <a:lnTo>
                      <a:pt x="42" y="127"/>
                    </a:lnTo>
                    <a:lnTo>
                      <a:pt x="42" y="323"/>
                    </a:lnTo>
                    <a:lnTo>
                      <a:pt x="97" y="323"/>
                    </a:lnTo>
                    <a:lnTo>
                      <a:pt x="97" y="171"/>
                    </a:lnTo>
                    <a:lnTo>
                      <a:pt x="121" y="323"/>
                    </a:lnTo>
                    <a:lnTo>
                      <a:pt x="179" y="323"/>
                    </a:lnTo>
                    <a:lnTo>
                      <a:pt x="153" y="167"/>
                    </a:lnTo>
                    <a:lnTo>
                      <a:pt x="153" y="129"/>
                    </a:lnTo>
                    <a:lnTo>
                      <a:pt x="181" y="85"/>
                    </a:lnTo>
                    <a:lnTo>
                      <a:pt x="137" y="80"/>
                    </a:lnTo>
                    <a:lnTo>
                      <a:pt x="111" y="81"/>
                    </a:lnTo>
                    <a:lnTo>
                      <a:pt x="112" y="128"/>
                    </a:lnTo>
                    <a:lnTo>
                      <a:pt x="137" y="128"/>
                    </a:lnTo>
                    <a:lnTo>
                      <a:pt x="137" y="144"/>
                    </a:lnTo>
                    <a:lnTo>
                      <a:pt x="53" y="144"/>
                    </a:lnTo>
                    <a:lnTo>
                      <a:pt x="53" y="43"/>
                    </a:lnTo>
                    <a:lnTo>
                      <a:pt x="137" y="43"/>
                    </a:lnTo>
                    <a:lnTo>
                      <a:pt x="137" y="80"/>
                    </a:lnTo>
                    <a:lnTo>
                      <a:pt x="181" y="85"/>
                    </a:lnTo>
                    <a:lnTo>
                      <a:pt x="153" y="9"/>
                    </a:lnTo>
                    <a:lnTo>
                      <a:pt x="139" y="1"/>
                    </a:lnTo>
                    <a:lnTo>
                      <a:pt x="113" y="1"/>
                    </a:lnTo>
                    <a:lnTo>
                      <a:pt x="100" y="22"/>
                    </a:lnTo>
                    <a:lnTo>
                      <a:pt x="94" y="11"/>
                    </a:lnTo>
                    <a:lnTo>
                      <a:pt x="101" y="1"/>
                    </a:lnTo>
                    <a:lnTo>
                      <a:pt x="79" y="1"/>
                    </a:lnTo>
                    <a:lnTo>
                      <a:pt x="86" y="11"/>
                    </a:lnTo>
                  </a:path>
                </a:pathLst>
              </a:custGeom>
              <a:solidFill>
                <a:srgbClr val="00ffcc"/>
              </a:solidFill>
              <a:ln cap="rnd" w="1260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170560" y="580536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82" y="24"/>
                    </a:moveTo>
                    <a:arcTo wR="10800" hR="10800" stAng="-5628844" swAng="56288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82" y="24"/>
                    </a:moveTo>
                    <a:arcTo wR="10800" hR="10800" stAng="-5628844" swAng="5628844"/>
                  </a:path>
                </a:pathLst>
              </a:custGeom>
              <a:solidFill>
                <a:srgbClr val="00ffcc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011800" y="5803920"/>
                <a:ext cx="81360" cy="4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4" y="12364"/>
                    </a:moveTo>
                    <a:arcTo wR="10800" hR="10800" stAng="10300461" swAng="66339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4" y="12364"/>
                    </a:moveTo>
                    <a:arcTo wR="10800" hR="10800" stAng="10300461" swAng="6633915"/>
                  </a:path>
                </a:pathLst>
              </a:custGeom>
              <a:solidFill>
                <a:srgbClr val="00ffcc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978680" y="5890320"/>
                <a:ext cx="94680" cy="77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93" y="17951"/>
                    </a:moveTo>
                    <a:arcTo wR="10800" hR="10800" stAng="2487810" swAng="97380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93" y="17951"/>
                    </a:moveTo>
                    <a:arcTo wR="10800" hR="10800" stAng="2487810" swAng="9738089"/>
                  </a:path>
                </a:pathLst>
              </a:custGeom>
              <a:solidFill>
                <a:srgbClr val="00ffcc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168400" y="5888880"/>
                <a:ext cx="90720" cy="7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87" y="845"/>
                    </a:moveTo>
                    <a:arcTo wR="10800" hR="10800" stAng="-4031371" swAng="111984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87" y="845"/>
                    </a:moveTo>
                    <a:arcTo wR="10800" hR="10800" stAng="-4031371" swAng="11198480"/>
                  </a:path>
                </a:pathLst>
              </a:custGeom>
              <a:solidFill>
                <a:srgbClr val="00ffcc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3857760" y="3894120"/>
              <a:ext cx="292680" cy="572760"/>
              <a:chOff x="3857760" y="3894120"/>
              <a:chExt cx="292680" cy="572760"/>
            </a:xfrm>
          </p:grpSpPr>
          <p:sp>
            <p:nvSpPr>
              <p:cNvPr id="275" name=""/>
              <p:cNvSpPr/>
              <p:nvPr/>
            </p:nvSpPr>
            <p:spPr>
              <a:xfrm>
                <a:off x="3928680" y="3894120"/>
                <a:ext cx="137160" cy="11628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860640" y="4022640"/>
                <a:ext cx="286920" cy="444240"/>
              </a:xfrm>
              <a:custGeom>
                <a:avLst/>
                <a:gdLst/>
                <a:ahLst/>
                <a:rect l="l" t="t" r="r" b="b"/>
                <a:pathLst>
                  <a:path w="182" h="324">
                    <a:moveTo>
                      <a:pt x="86" y="11"/>
                    </a:moveTo>
                    <a:lnTo>
                      <a:pt x="81" y="23"/>
                    </a:lnTo>
                    <a:lnTo>
                      <a:pt x="69" y="7"/>
                    </a:lnTo>
                    <a:lnTo>
                      <a:pt x="69" y="0"/>
                    </a:lnTo>
                    <a:lnTo>
                      <a:pt x="47" y="0"/>
                    </a:lnTo>
                    <a:lnTo>
                      <a:pt x="19" y="17"/>
                    </a:lnTo>
                    <a:lnTo>
                      <a:pt x="0" y="86"/>
                    </a:lnTo>
                    <a:lnTo>
                      <a:pt x="22" y="107"/>
                    </a:lnTo>
                    <a:lnTo>
                      <a:pt x="42" y="127"/>
                    </a:lnTo>
                    <a:lnTo>
                      <a:pt x="42" y="323"/>
                    </a:lnTo>
                    <a:lnTo>
                      <a:pt x="97" y="323"/>
                    </a:lnTo>
                    <a:lnTo>
                      <a:pt x="97" y="171"/>
                    </a:lnTo>
                    <a:lnTo>
                      <a:pt x="121" y="323"/>
                    </a:lnTo>
                    <a:lnTo>
                      <a:pt x="179" y="323"/>
                    </a:lnTo>
                    <a:lnTo>
                      <a:pt x="153" y="167"/>
                    </a:lnTo>
                    <a:lnTo>
                      <a:pt x="153" y="129"/>
                    </a:lnTo>
                    <a:lnTo>
                      <a:pt x="181" y="85"/>
                    </a:lnTo>
                    <a:lnTo>
                      <a:pt x="137" y="80"/>
                    </a:lnTo>
                    <a:lnTo>
                      <a:pt x="111" y="81"/>
                    </a:lnTo>
                    <a:lnTo>
                      <a:pt x="112" y="128"/>
                    </a:lnTo>
                    <a:lnTo>
                      <a:pt x="137" y="128"/>
                    </a:lnTo>
                    <a:lnTo>
                      <a:pt x="137" y="144"/>
                    </a:lnTo>
                    <a:lnTo>
                      <a:pt x="53" y="144"/>
                    </a:lnTo>
                    <a:lnTo>
                      <a:pt x="53" y="43"/>
                    </a:lnTo>
                    <a:lnTo>
                      <a:pt x="137" y="43"/>
                    </a:lnTo>
                    <a:lnTo>
                      <a:pt x="137" y="80"/>
                    </a:lnTo>
                    <a:lnTo>
                      <a:pt x="181" y="85"/>
                    </a:lnTo>
                    <a:lnTo>
                      <a:pt x="153" y="9"/>
                    </a:lnTo>
                    <a:lnTo>
                      <a:pt x="139" y="1"/>
                    </a:lnTo>
                    <a:lnTo>
                      <a:pt x="113" y="1"/>
                    </a:lnTo>
                    <a:lnTo>
                      <a:pt x="100" y="22"/>
                    </a:lnTo>
                    <a:lnTo>
                      <a:pt x="94" y="11"/>
                    </a:lnTo>
                    <a:lnTo>
                      <a:pt x="101" y="1"/>
                    </a:lnTo>
                    <a:lnTo>
                      <a:pt x="79" y="1"/>
                    </a:lnTo>
                    <a:lnTo>
                      <a:pt x="86" y="11"/>
                    </a:lnTo>
                  </a:path>
                </a:pathLst>
              </a:custGeom>
              <a:solidFill>
                <a:srgbClr val="0099ff"/>
              </a:solidFill>
              <a:ln cap="rnd" w="936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57920" y="4025520"/>
                <a:ext cx="46800" cy="3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82" y="24"/>
                    </a:moveTo>
                    <a:arcTo wR="10800" hR="10800" stAng="-5628844" swAng="56288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82" y="24"/>
                    </a:moveTo>
                    <a:arcTo wR="10800" hR="10800" stAng="-5628844" swAng="5628844"/>
                  </a:path>
                </a:pathLst>
              </a:custGeom>
              <a:solidFill>
                <a:srgbClr val="0099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892320" y="4024080"/>
                <a:ext cx="84960" cy="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4" y="12364"/>
                    </a:moveTo>
                    <a:arcTo wR="10800" hR="10800" stAng="10300461" swAng="66339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4" y="12364"/>
                    </a:moveTo>
                    <a:arcTo wR="10800" hR="10800" stAng="10300461" swAng="6633915"/>
                  </a:path>
                </a:pathLst>
              </a:custGeom>
              <a:solidFill>
                <a:srgbClr val="0099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857760" y="4117320"/>
                <a:ext cx="98640" cy="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93" y="17951"/>
                    </a:moveTo>
                    <a:arcTo wR="10800" hR="10800" stAng="2487810" swAng="97380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93" y="17951"/>
                    </a:moveTo>
                    <a:arcTo wR="10800" hR="10800" stAng="2487810" swAng="9738089"/>
                  </a:path>
                </a:pathLst>
              </a:custGeom>
              <a:solidFill>
                <a:srgbClr val="0099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55760" y="4115520"/>
                <a:ext cx="94680" cy="84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87" y="845"/>
                    </a:moveTo>
                    <a:arcTo wR="10800" hR="10800" stAng="-4031371" swAng="111984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87" y="845"/>
                    </a:moveTo>
                    <a:arcTo wR="10800" hR="10800" stAng="-4031371" swAng="11198480"/>
                  </a:path>
                </a:pathLst>
              </a:custGeom>
              <a:solidFill>
                <a:srgbClr val="0099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7815240" y="3170160"/>
              <a:ext cx="293040" cy="572760"/>
              <a:chOff x="7815240" y="3170160"/>
              <a:chExt cx="293040" cy="572760"/>
            </a:xfrm>
          </p:grpSpPr>
          <p:sp>
            <p:nvSpPr>
              <p:cNvPr id="282" name=""/>
              <p:cNvSpPr/>
              <p:nvPr/>
            </p:nvSpPr>
            <p:spPr>
              <a:xfrm>
                <a:off x="7886160" y="3170160"/>
                <a:ext cx="137160" cy="116280"/>
              </a:xfrm>
              <a:prstGeom prst="ellipse">
                <a:avLst/>
              </a:prstGeom>
              <a:solidFill>
                <a:srgbClr val="be91ff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818120" y="3298680"/>
                <a:ext cx="287280" cy="444240"/>
              </a:xfrm>
              <a:custGeom>
                <a:avLst/>
                <a:gdLst/>
                <a:ahLst/>
                <a:rect l="l" t="t" r="r" b="b"/>
                <a:pathLst>
                  <a:path w="182" h="324">
                    <a:moveTo>
                      <a:pt x="86" y="11"/>
                    </a:moveTo>
                    <a:lnTo>
                      <a:pt x="81" y="23"/>
                    </a:lnTo>
                    <a:lnTo>
                      <a:pt x="69" y="7"/>
                    </a:lnTo>
                    <a:lnTo>
                      <a:pt x="69" y="0"/>
                    </a:lnTo>
                    <a:lnTo>
                      <a:pt x="47" y="0"/>
                    </a:lnTo>
                    <a:lnTo>
                      <a:pt x="19" y="17"/>
                    </a:lnTo>
                    <a:lnTo>
                      <a:pt x="0" y="86"/>
                    </a:lnTo>
                    <a:lnTo>
                      <a:pt x="22" y="107"/>
                    </a:lnTo>
                    <a:lnTo>
                      <a:pt x="42" y="127"/>
                    </a:lnTo>
                    <a:lnTo>
                      <a:pt x="42" y="323"/>
                    </a:lnTo>
                    <a:lnTo>
                      <a:pt x="97" y="323"/>
                    </a:lnTo>
                    <a:lnTo>
                      <a:pt x="97" y="171"/>
                    </a:lnTo>
                    <a:lnTo>
                      <a:pt x="121" y="323"/>
                    </a:lnTo>
                    <a:lnTo>
                      <a:pt x="179" y="323"/>
                    </a:lnTo>
                    <a:lnTo>
                      <a:pt x="153" y="167"/>
                    </a:lnTo>
                    <a:lnTo>
                      <a:pt x="153" y="129"/>
                    </a:lnTo>
                    <a:lnTo>
                      <a:pt x="181" y="85"/>
                    </a:lnTo>
                    <a:lnTo>
                      <a:pt x="137" y="80"/>
                    </a:lnTo>
                    <a:lnTo>
                      <a:pt x="111" y="81"/>
                    </a:lnTo>
                    <a:lnTo>
                      <a:pt x="112" y="128"/>
                    </a:lnTo>
                    <a:lnTo>
                      <a:pt x="137" y="128"/>
                    </a:lnTo>
                    <a:lnTo>
                      <a:pt x="137" y="144"/>
                    </a:lnTo>
                    <a:lnTo>
                      <a:pt x="53" y="144"/>
                    </a:lnTo>
                    <a:lnTo>
                      <a:pt x="53" y="43"/>
                    </a:lnTo>
                    <a:lnTo>
                      <a:pt x="137" y="43"/>
                    </a:lnTo>
                    <a:lnTo>
                      <a:pt x="137" y="80"/>
                    </a:lnTo>
                    <a:lnTo>
                      <a:pt x="181" y="85"/>
                    </a:lnTo>
                    <a:lnTo>
                      <a:pt x="153" y="9"/>
                    </a:lnTo>
                    <a:lnTo>
                      <a:pt x="139" y="1"/>
                    </a:lnTo>
                    <a:lnTo>
                      <a:pt x="113" y="1"/>
                    </a:lnTo>
                    <a:lnTo>
                      <a:pt x="100" y="22"/>
                    </a:lnTo>
                    <a:lnTo>
                      <a:pt x="94" y="11"/>
                    </a:lnTo>
                    <a:lnTo>
                      <a:pt x="101" y="1"/>
                    </a:lnTo>
                    <a:lnTo>
                      <a:pt x="79" y="1"/>
                    </a:lnTo>
                    <a:lnTo>
                      <a:pt x="86" y="11"/>
                    </a:lnTo>
                  </a:path>
                </a:pathLst>
              </a:custGeom>
              <a:solidFill>
                <a:srgbClr val="be91ff"/>
              </a:solidFill>
              <a:ln cap="rnd" w="936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015760" y="3301560"/>
                <a:ext cx="46800" cy="3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82" y="24"/>
                    </a:moveTo>
                    <a:arcTo wR="10800" hR="10800" stAng="-5628844" swAng="56288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82" y="24"/>
                    </a:moveTo>
                    <a:arcTo wR="10800" hR="10800" stAng="-5628844" swAng="5628844"/>
                  </a:path>
                </a:pathLst>
              </a:custGeom>
              <a:solidFill>
                <a:srgbClr val="be91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849800" y="3300120"/>
                <a:ext cx="85680" cy="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4" y="12364"/>
                    </a:moveTo>
                    <a:arcTo wR="10800" hR="10800" stAng="10300461" swAng="66339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4" y="12364"/>
                    </a:moveTo>
                    <a:arcTo wR="10800" hR="10800" stAng="10300461" swAng="6633915"/>
                  </a:path>
                </a:pathLst>
              </a:custGeom>
              <a:solidFill>
                <a:srgbClr val="be91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15240" y="3393360"/>
                <a:ext cx="98640" cy="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93" y="17951"/>
                    </a:moveTo>
                    <a:arcTo wR="10800" hR="10800" stAng="2487810" swAng="97380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93" y="17951"/>
                    </a:moveTo>
                    <a:arcTo wR="10800" hR="10800" stAng="2487810" swAng="9738089"/>
                  </a:path>
                </a:pathLst>
              </a:custGeom>
              <a:solidFill>
                <a:srgbClr val="be91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013600" y="3391560"/>
                <a:ext cx="94680" cy="84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87" y="845"/>
                    </a:moveTo>
                    <a:arcTo wR="10800" hR="10800" stAng="-4031371" swAng="111984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87" y="845"/>
                    </a:moveTo>
                    <a:arcTo wR="10800" hR="10800" stAng="-4031371" swAng="11198480"/>
                  </a:path>
                </a:pathLst>
              </a:custGeom>
              <a:solidFill>
                <a:srgbClr val="be91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8475840" y="4781520"/>
              <a:ext cx="291240" cy="572760"/>
              <a:chOff x="8475840" y="4781520"/>
              <a:chExt cx="291240" cy="572760"/>
            </a:xfrm>
          </p:grpSpPr>
          <p:sp>
            <p:nvSpPr>
              <p:cNvPr id="289" name=""/>
              <p:cNvSpPr/>
              <p:nvPr/>
            </p:nvSpPr>
            <p:spPr>
              <a:xfrm>
                <a:off x="8546400" y="4781520"/>
                <a:ext cx="136440" cy="116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478720" y="4910040"/>
                <a:ext cx="285480" cy="444240"/>
              </a:xfrm>
              <a:custGeom>
                <a:avLst/>
                <a:gdLst/>
                <a:ahLst/>
                <a:rect l="l" t="t" r="r" b="b"/>
                <a:pathLst>
                  <a:path w="182" h="324">
                    <a:moveTo>
                      <a:pt x="86" y="11"/>
                    </a:moveTo>
                    <a:lnTo>
                      <a:pt x="81" y="23"/>
                    </a:lnTo>
                    <a:lnTo>
                      <a:pt x="69" y="7"/>
                    </a:lnTo>
                    <a:lnTo>
                      <a:pt x="69" y="0"/>
                    </a:lnTo>
                    <a:lnTo>
                      <a:pt x="47" y="0"/>
                    </a:lnTo>
                    <a:lnTo>
                      <a:pt x="19" y="17"/>
                    </a:lnTo>
                    <a:lnTo>
                      <a:pt x="0" y="86"/>
                    </a:lnTo>
                    <a:lnTo>
                      <a:pt x="22" y="107"/>
                    </a:lnTo>
                    <a:lnTo>
                      <a:pt x="42" y="127"/>
                    </a:lnTo>
                    <a:lnTo>
                      <a:pt x="42" y="323"/>
                    </a:lnTo>
                    <a:lnTo>
                      <a:pt x="97" y="323"/>
                    </a:lnTo>
                    <a:lnTo>
                      <a:pt x="97" y="171"/>
                    </a:lnTo>
                    <a:lnTo>
                      <a:pt x="121" y="323"/>
                    </a:lnTo>
                    <a:lnTo>
                      <a:pt x="179" y="323"/>
                    </a:lnTo>
                    <a:lnTo>
                      <a:pt x="153" y="167"/>
                    </a:lnTo>
                    <a:lnTo>
                      <a:pt x="153" y="129"/>
                    </a:lnTo>
                    <a:lnTo>
                      <a:pt x="181" y="85"/>
                    </a:lnTo>
                    <a:lnTo>
                      <a:pt x="137" y="80"/>
                    </a:lnTo>
                    <a:lnTo>
                      <a:pt x="111" y="81"/>
                    </a:lnTo>
                    <a:lnTo>
                      <a:pt x="112" y="128"/>
                    </a:lnTo>
                    <a:lnTo>
                      <a:pt x="137" y="128"/>
                    </a:lnTo>
                    <a:lnTo>
                      <a:pt x="137" y="144"/>
                    </a:lnTo>
                    <a:lnTo>
                      <a:pt x="53" y="144"/>
                    </a:lnTo>
                    <a:lnTo>
                      <a:pt x="53" y="43"/>
                    </a:lnTo>
                    <a:lnTo>
                      <a:pt x="137" y="43"/>
                    </a:lnTo>
                    <a:lnTo>
                      <a:pt x="137" y="80"/>
                    </a:lnTo>
                    <a:lnTo>
                      <a:pt x="181" y="85"/>
                    </a:lnTo>
                    <a:lnTo>
                      <a:pt x="153" y="9"/>
                    </a:lnTo>
                    <a:lnTo>
                      <a:pt x="139" y="1"/>
                    </a:lnTo>
                    <a:lnTo>
                      <a:pt x="113" y="1"/>
                    </a:lnTo>
                    <a:lnTo>
                      <a:pt x="100" y="22"/>
                    </a:lnTo>
                    <a:lnTo>
                      <a:pt x="94" y="11"/>
                    </a:lnTo>
                    <a:lnTo>
                      <a:pt x="101" y="1"/>
                    </a:lnTo>
                    <a:lnTo>
                      <a:pt x="79" y="1"/>
                    </a:lnTo>
                    <a:lnTo>
                      <a:pt x="86" y="11"/>
                    </a:lnTo>
                  </a:path>
                </a:pathLst>
              </a:custGeom>
              <a:solidFill>
                <a:srgbClr val="ff9900"/>
              </a:solidFill>
              <a:ln cap="rnd" w="936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674920" y="4912920"/>
                <a:ext cx="46800" cy="3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82" y="24"/>
                    </a:moveTo>
                    <a:arcTo wR="10800" hR="10800" stAng="-5628844" swAng="56288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82" y="24"/>
                    </a:moveTo>
                    <a:arcTo wR="10800" hR="10800" stAng="-5628844" swAng="5628844"/>
                  </a:path>
                </a:pathLst>
              </a:custGeom>
              <a:solidFill>
                <a:srgbClr val="ff9900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510040" y="4911480"/>
                <a:ext cx="84960" cy="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4" y="12364"/>
                    </a:moveTo>
                    <a:arcTo wR="10800" hR="10800" stAng="10300461" swAng="66339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4" y="12364"/>
                    </a:moveTo>
                    <a:arcTo wR="10800" hR="10800" stAng="10300461" swAng="6633915"/>
                  </a:path>
                </a:pathLst>
              </a:custGeom>
              <a:solidFill>
                <a:srgbClr val="ff9900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475840" y="5004720"/>
                <a:ext cx="98280" cy="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93" y="17951"/>
                    </a:moveTo>
                    <a:arcTo wR="10800" hR="10800" stAng="2487810" swAng="97380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93" y="17951"/>
                    </a:moveTo>
                    <a:arcTo wR="10800" hR="10800" stAng="2487810" swAng="9738089"/>
                  </a:path>
                </a:pathLst>
              </a:custGeom>
              <a:solidFill>
                <a:srgbClr val="ff9900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673120" y="5002920"/>
                <a:ext cx="93960" cy="84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87" y="845"/>
                    </a:moveTo>
                    <a:arcTo wR="10800" hR="10800" stAng="-4031371" swAng="111984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87" y="845"/>
                    </a:moveTo>
                    <a:arcTo wR="10800" hR="10800" stAng="-4031371" swAng="11198480"/>
                  </a:path>
                </a:pathLst>
              </a:custGeom>
              <a:solidFill>
                <a:srgbClr val="ff9900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3348000" y="4781520"/>
              <a:ext cx="283320" cy="569520"/>
              <a:chOff x="3348000" y="4781520"/>
              <a:chExt cx="283320" cy="569520"/>
            </a:xfrm>
          </p:grpSpPr>
          <p:sp>
            <p:nvSpPr>
              <p:cNvPr id="296" name=""/>
              <p:cNvSpPr/>
              <p:nvPr/>
            </p:nvSpPr>
            <p:spPr>
              <a:xfrm>
                <a:off x="3416760" y="4781520"/>
                <a:ext cx="132840" cy="1159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350880" y="4909320"/>
                <a:ext cx="277560" cy="441720"/>
              </a:xfrm>
              <a:custGeom>
                <a:avLst/>
                <a:gdLst/>
                <a:ahLst/>
                <a:rect l="l" t="t" r="r" b="b"/>
                <a:pathLst>
                  <a:path w="182" h="324">
                    <a:moveTo>
                      <a:pt x="86" y="11"/>
                    </a:moveTo>
                    <a:lnTo>
                      <a:pt x="81" y="23"/>
                    </a:lnTo>
                    <a:lnTo>
                      <a:pt x="69" y="7"/>
                    </a:lnTo>
                    <a:lnTo>
                      <a:pt x="69" y="0"/>
                    </a:lnTo>
                    <a:lnTo>
                      <a:pt x="47" y="0"/>
                    </a:lnTo>
                    <a:lnTo>
                      <a:pt x="19" y="17"/>
                    </a:lnTo>
                    <a:lnTo>
                      <a:pt x="0" y="86"/>
                    </a:lnTo>
                    <a:lnTo>
                      <a:pt x="22" y="107"/>
                    </a:lnTo>
                    <a:lnTo>
                      <a:pt x="42" y="127"/>
                    </a:lnTo>
                    <a:lnTo>
                      <a:pt x="42" y="323"/>
                    </a:lnTo>
                    <a:lnTo>
                      <a:pt x="97" y="323"/>
                    </a:lnTo>
                    <a:lnTo>
                      <a:pt x="97" y="171"/>
                    </a:lnTo>
                    <a:lnTo>
                      <a:pt x="121" y="323"/>
                    </a:lnTo>
                    <a:lnTo>
                      <a:pt x="179" y="323"/>
                    </a:lnTo>
                    <a:lnTo>
                      <a:pt x="153" y="167"/>
                    </a:lnTo>
                    <a:lnTo>
                      <a:pt x="153" y="129"/>
                    </a:lnTo>
                    <a:lnTo>
                      <a:pt x="181" y="85"/>
                    </a:lnTo>
                    <a:lnTo>
                      <a:pt x="137" y="80"/>
                    </a:lnTo>
                    <a:lnTo>
                      <a:pt x="111" y="81"/>
                    </a:lnTo>
                    <a:lnTo>
                      <a:pt x="112" y="128"/>
                    </a:lnTo>
                    <a:lnTo>
                      <a:pt x="137" y="128"/>
                    </a:lnTo>
                    <a:lnTo>
                      <a:pt x="137" y="144"/>
                    </a:lnTo>
                    <a:lnTo>
                      <a:pt x="53" y="144"/>
                    </a:lnTo>
                    <a:lnTo>
                      <a:pt x="53" y="43"/>
                    </a:lnTo>
                    <a:lnTo>
                      <a:pt x="137" y="43"/>
                    </a:lnTo>
                    <a:lnTo>
                      <a:pt x="137" y="80"/>
                    </a:lnTo>
                    <a:lnTo>
                      <a:pt x="181" y="85"/>
                    </a:lnTo>
                    <a:lnTo>
                      <a:pt x="153" y="9"/>
                    </a:lnTo>
                    <a:lnTo>
                      <a:pt x="139" y="1"/>
                    </a:lnTo>
                    <a:lnTo>
                      <a:pt x="113" y="1"/>
                    </a:lnTo>
                    <a:lnTo>
                      <a:pt x="100" y="22"/>
                    </a:lnTo>
                    <a:lnTo>
                      <a:pt x="94" y="11"/>
                    </a:lnTo>
                    <a:lnTo>
                      <a:pt x="101" y="1"/>
                    </a:lnTo>
                    <a:lnTo>
                      <a:pt x="79" y="1"/>
                    </a:lnTo>
                    <a:lnTo>
                      <a:pt x="86" y="11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541680" y="4912200"/>
                <a:ext cx="45360" cy="3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82" y="24"/>
                    </a:moveTo>
                    <a:arcTo wR="10800" hR="10800" stAng="-5628844" swAng="56288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82" y="24"/>
                    </a:moveTo>
                    <a:arcTo wR="10800" hR="10800" stAng="-5628844" swAng="5628844"/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381480" y="4910760"/>
                <a:ext cx="82800" cy="5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4" y="12364"/>
                    </a:moveTo>
                    <a:arcTo wR="10800" hR="10800" stAng="10300461" swAng="66339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4" y="12364"/>
                    </a:moveTo>
                    <a:arcTo wR="10800" hR="10800" stAng="10300461" swAng="6633915"/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348000" y="5003280"/>
                <a:ext cx="95400" cy="8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93" y="17951"/>
                    </a:moveTo>
                    <a:arcTo wR="10800" hR="10800" stAng="2487810" swAng="97380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93" y="17951"/>
                    </a:moveTo>
                    <a:arcTo wR="10800" hR="10800" stAng="2487810" swAng="9738089"/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539520" y="5001840"/>
                <a:ext cx="91800" cy="8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87" y="845"/>
                    </a:moveTo>
                    <a:arcTo wR="10800" hR="10800" stAng="-4031371" swAng="111984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87" y="845"/>
                    </a:moveTo>
                    <a:arcTo wR="10800" hR="10800" stAng="-4031371" swAng="11198480"/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5391000" y="4119480"/>
              <a:ext cx="1609560" cy="1339920"/>
              <a:chOff x="5391000" y="4119480"/>
              <a:chExt cx="1609560" cy="1339920"/>
            </a:xfrm>
          </p:grpSpPr>
          <p:sp>
            <p:nvSpPr>
              <p:cNvPr id="303" name=""/>
              <p:cNvSpPr/>
              <p:nvPr/>
            </p:nvSpPr>
            <p:spPr>
              <a:xfrm>
                <a:off x="5391000" y="4119480"/>
                <a:ext cx="1609560" cy="1339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71785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537160" y="4214520"/>
                <a:ext cx="1317600" cy="1152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5" name=""/>
            <p:cNvSpPr/>
            <p:nvPr/>
          </p:nvSpPr>
          <p:spPr>
            <a:xfrm flipV="1">
              <a:off x="3857760" y="4911480"/>
              <a:ext cx="1330200" cy="17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86240" y="4181400"/>
              <a:ext cx="801720" cy="26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929040" y="5351040"/>
              <a:ext cx="1258920" cy="60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5391000" y="5540400"/>
              <a:ext cx="503280" cy="46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86680" y="5459400"/>
              <a:ext cx="716040" cy="36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86680" y="4943520"/>
              <a:ext cx="1073160" cy="6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186320" y="3743280"/>
              <a:ext cx="625320" cy="43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98480" y="3979800"/>
              <a:ext cx="1215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dministrador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ase de Da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32960" y="4843440"/>
              <a:ext cx="81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Líder d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oyec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79840" y="587700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nalis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55360" y="6211800"/>
              <a:ext cx="1168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iseñador/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esarroll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86840" y="2637000"/>
              <a:ext cx="1101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ngeniero d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esempeñ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87160" y="6249960"/>
              <a:ext cx="76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ueb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759800" y="4292640"/>
              <a:ext cx="1434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dministrador d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onfigur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6 Mejores Práctica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Best Practic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P describe como utilizar de forma efectiva procedimientos comerciales probados en el desarrollo de software para equipos de desarrollo de software, conocidos como “mejores prácticas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755640" y="4005360"/>
            <a:ext cx="7562160" cy="1647720"/>
            <a:chOff x="755640" y="4005360"/>
            <a:chExt cx="7562160" cy="1647720"/>
          </a:xfrm>
        </p:grpSpPr>
        <p:sp>
          <p:nvSpPr>
            <p:cNvPr id="322" name=""/>
            <p:cNvSpPr/>
            <p:nvPr/>
          </p:nvSpPr>
          <p:spPr>
            <a:xfrm>
              <a:off x="784080" y="4505400"/>
              <a:ext cx="1441440" cy="64260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ahoma"/>
                </a:rPr>
                <a:t>Desarrollo</a:t>
              </a:r>
              <a:br>
                <a:rPr sz="1800"/>
              </a:br>
              <a:r>
                <a:rPr b="1" lang="en-US" sz="1800" spc="-1" strike="noStrike">
                  <a:solidFill>
                    <a:srgbClr val="3333cc"/>
                  </a:solidFill>
                  <a:latin typeface="Tahoma"/>
                </a:rPr>
                <a:t>Ite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59720" y="4505400"/>
              <a:ext cx="1847880" cy="64260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ahoma"/>
                </a:rPr>
                <a:t>Modelamiento</a:t>
              </a:r>
              <a:br>
                <a:rPr sz="1800"/>
              </a:br>
              <a:r>
                <a:rPr b="1" lang="en-US" sz="1800" spc="-1" strike="noStrike">
                  <a:solidFill>
                    <a:srgbClr val="3333cc"/>
                  </a:solidFill>
                  <a:latin typeface="Tahoma"/>
                </a:rPr>
                <a:t>Visu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47200" y="4505400"/>
              <a:ext cx="1873800" cy="64260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ahoma"/>
                </a:rPr>
                <a:t>Verificación de</a:t>
              </a:r>
              <a:br>
                <a:rPr sz="1800"/>
              </a:br>
              <a:r>
                <a:rPr b="1" lang="en-US" sz="1800" spc="-1" strike="noStrike">
                  <a:solidFill>
                    <a:srgbClr val="3333cc"/>
                  </a:solidFill>
                  <a:latin typeface="Tahoma"/>
                </a:rPr>
                <a:t>la Ca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82560" y="4505400"/>
              <a:ext cx="2235240" cy="64260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ahoma"/>
                </a:rPr>
                <a:t>Arquitectu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ahoma"/>
                </a:rPr>
                <a:t>con Compon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5640" y="4005360"/>
              <a:ext cx="7561440" cy="36828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ahoma"/>
                </a:rPr>
                <a:t>Administración de Requerimien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5640" y="5284800"/>
              <a:ext cx="7561440" cy="36828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ahoma"/>
                </a:rPr>
                <a:t>Control de Cambi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arrollo Iterativo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Softw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27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dos los sistemas de software sofisticados de la actualidad, no es posible hacer de manera secuencial la definición completa del problema, diseñar la solución completa, construir el software y por último probar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descubrimiento de defectos en fases posteriores de diseño dan como resultado un aumento en los costos y/ó la cancelación del proye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1311840" y="5229360"/>
            <a:ext cx="6518880" cy="703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El tiempo y dinero gastados en la implementación de 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diseño fallido, son </a:t>
            </a:r>
            <a:r>
              <a:rPr b="1" i="1" lang="en-US" sz="2000" spc="-1" strike="noStrike">
                <a:solidFill>
                  <a:srgbClr val="3333cc"/>
                </a:solidFill>
                <a:latin typeface="Tahoma"/>
              </a:rPr>
              <a:t>no recuper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arrollo Iterati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545480" y="2060640"/>
            <a:ext cx="6027840" cy="2992320"/>
            <a:chOff x="1545480" y="2060640"/>
            <a:chExt cx="6027840" cy="2992320"/>
          </a:xfrm>
        </p:grpSpPr>
        <p:sp>
          <p:nvSpPr>
            <p:cNvPr id="333" name=""/>
            <p:cNvSpPr/>
            <p:nvPr/>
          </p:nvSpPr>
          <p:spPr>
            <a:xfrm>
              <a:off x="2874960" y="2131920"/>
              <a:ext cx="1590840" cy="1100160"/>
            </a:xfrm>
            <a:custGeom>
              <a:avLst/>
              <a:gdLst/>
              <a:ahLst/>
              <a:rect l="l" t="t" r="r" b="b"/>
              <a:pathLst>
                <a:path w="744" h="479">
                  <a:moveTo>
                    <a:pt x="0" y="441"/>
                  </a:moveTo>
                  <a:lnTo>
                    <a:pt x="100" y="478"/>
                  </a:lnTo>
                  <a:lnTo>
                    <a:pt x="103" y="471"/>
                  </a:lnTo>
                  <a:lnTo>
                    <a:pt x="106" y="461"/>
                  </a:lnTo>
                  <a:lnTo>
                    <a:pt x="110" y="451"/>
                  </a:lnTo>
                  <a:lnTo>
                    <a:pt x="114" y="442"/>
                  </a:lnTo>
                  <a:lnTo>
                    <a:pt x="117" y="434"/>
                  </a:lnTo>
                  <a:lnTo>
                    <a:pt x="122" y="426"/>
                  </a:lnTo>
                  <a:lnTo>
                    <a:pt x="127" y="416"/>
                  </a:lnTo>
                  <a:lnTo>
                    <a:pt x="129" y="409"/>
                  </a:lnTo>
                  <a:lnTo>
                    <a:pt x="136" y="400"/>
                  </a:lnTo>
                  <a:lnTo>
                    <a:pt x="139" y="391"/>
                  </a:lnTo>
                  <a:lnTo>
                    <a:pt x="146" y="383"/>
                  </a:lnTo>
                  <a:lnTo>
                    <a:pt x="151" y="373"/>
                  </a:lnTo>
                  <a:lnTo>
                    <a:pt x="154" y="368"/>
                  </a:lnTo>
                  <a:lnTo>
                    <a:pt x="159" y="362"/>
                  </a:lnTo>
                  <a:lnTo>
                    <a:pt x="165" y="353"/>
                  </a:lnTo>
                  <a:lnTo>
                    <a:pt x="172" y="347"/>
                  </a:lnTo>
                  <a:lnTo>
                    <a:pt x="176" y="340"/>
                  </a:lnTo>
                  <a:lnTo>
                    <a:pt x="183" y="331"/>
                  </a:lnTo>
                  <a:lnTo>
                    <a:pt x="187" y="327"/>
                  </a:lnTo>
                  <a:lnTo>
                    <a:pt x="192" y="319"/>
                  </a:lnTo>
                  <a:lnTo>
                    <a:pt x="199" y="312"/>
                  </a:lnTo>
                  <a:lnTo>
                    <a:pt x="206" y="304"/>
                  </a:lnTo>
                  <a:lnTo>
                    <a:pt x="216" y="293"/>
                  </a:lnTo>
                  <a:lnTo>
                    <a:pt x="225" y="284"/>
                  </a:lnTo>
                  <a:lnTo>
                    <a:pt x="234" y="275"/>
                  </a:lnTo>
                  <a:lnTo>
                    <a:pt x="243" y="267"/>
                  </a:lnTo>
                  <a:lnTo>
                    <a:pt x="256" y="256"/>
                  </a:lnTo>
                  <a:lnTo>
                    <a:pt x="265" y="249"/>
                  </a:lnTo>
                  <a:lnTo>
                    <a:pt x="275" y="242"/>
                  </a:lnTo>
                  <a:lnTo>
                    <a:pt x="286" y="235"/>
                  </a:lnTo>
                  <a:lnTo>
                    <a:pt x="298" y="225"/>
                  </a:lnTo>
                  <a:lnTo>
                    <a:pt x="311" y="217"/>
                  </a:lnTo>
                  <a:lnTo>
                    <a:pt x="322" y="209"/>
                  </a:lnTo>
                  <a:lnTo>
                    <a:pt x="336" y="202"/>
                  </a:lnTo>
                  <a:lnTo>
                    <a:pt x="350" y="195"/>
                  </a:lnTo>
                  <a:lnTo>
                    <a:pt x="364" y="187"/>
                  </a:lnTo>
                  <a:lnTo>
                    <a:pt x="376" y="182"/>
                  </a:lnTo>
                  <a:lnTo>
                    <a:pt x="389" y="177"/>
                  </a:lnTo>
                  <a:lnTo>
                    <a:pt x="402" y="171"/>
                  </a:lnTo>
                  <a:lnTo>
                    <a:pt x="414" y="167"/>
                  </a:lnTo>
                  <a:lnTo>
                    <a:pt x="426" y="163"/>
                  </a:lnTo>
                  <a:lnTo>
                    <a:pt x="441" y="158"/>
                  </a:lnTo>
                  <a:lnTo>
                    <a:pt x="455" y="153"/>
                  </a:lnTo>
                  <a:lnTo>
                    <a:pt x="467" y="150"/>
                  </a:lnTo>
                  <a:lnTo>
                    <a:pt x="482" y="147"/>
                  </a:lnTo>
                  <a:lnTo>
                    <a:pt x="497" y="144"/>
                  </a:lnTo>
                  <a:lnTo>
                    <a:pt x="511" y="140"/>
                  </a:lnTo>
                  <a:lnTo>
                    <a:pt x="526" y="137"/>
                  </a:lnTo>
                  <a:lnTo>
                    <a:pt x="542" y="134"/>
                  </a:lnTo>
                  <a:lnTo>
                    <a:pt x="557" y="134"/>
                  </a:lnTo>
                  <a:lnTo>
                    <a:pt x="572" y="132"/>
                  </a:lnTo>
                  <a:lnTo>
                    <a:pt x="591" y="132"/>
                  </a:lnTo>
                  <a:lnTo>
                    <a:pt x="603" y="132"/>
                  </a:lnTo>
                  <a:lnTo>
                    <a:pt x="620" y="132"/>
                  </a:lnTo>
                  <a:lnTo>
                    <a:pt x="620" y="167"/>
                  </a:lnTo>
                  <a:lnTo>
                    <a:pt x="743" y="86"/>
                  </a:lnTo>
                  <a:lnTo>
                    <a:pt x="620" y="0"/>
                  </a:lnTo>
                  <a:lnTo>
                    <a:pt x="620" y="33"/>
                  </a:lnTo>
                  <a:lnTo>
                    <a:pt x="601" y="33"/>
                  </a:lnTo>
                  <a:lnTo>
                    <a:pt x="584" y="33"/>
                  </a:lnTo>
                  <a:lnTo>
                    <a:pt x="566" y="35"/>
                  </a:lnTo>
                  <a:lnTo>
                    <a:pt x="550" y="36"/>
                  </a:lnTo>
                  <a:lnTo>
                    <a:pt x="535" y="36"/>
                  </a:lnTo>
                  <a:lnTo>
                    <a:pt x="520" y="39"/>
                  </a:lnTo>
                  <a:lnTo>
                    <a:pt x="503" y="41"/>
                  </a:lnTo>
                  <a:lnTo>
                    <a:pt x="489" y="44"/>
                  </a:lnTo>
                  <a:lnTo>
                    <a:pt x="477" y="45"/>
                  </a:lnTo>
                  <a:lnTo>
                    <a:pt x="461" y="50"/>
                  </a:lnTo>
                  <a:lnTo>
                    <a:pt x="442" y="54"/>
                  </a:lnTo>
                  <a:lnTo>
                    <a:pt x="428" y="57"/>
                  </a:lnTo>
                  <a:lnTo>
                    <a:pt x="412" y="62"/>
                  </a:lnTo>
                  <a:lnTo>
                    <a:pt x="400" y="66"/>
                  </a:lnTo>
                  <a:lnTo>
                    <a:pt x="384" y="72"/>
                  </a:lnTo>
                  <a:lnTo>
                    <a:pt x="369" y="76"/>
                  </a:lnTo>
                  <a:lnTo>
                    <a:pt x="354" y="82"/>
                  </a:lnTo>
                  <a:lnTo>
                    <a:pt x="342" y="88"/>
                  </a:lnTo>
                  <a:lnTo>
                    <a:pt x="327" y="95"/>
                  </a:lnTo>
                  <a:lnTo>
                    <a:pt x="313" y="101"/>
                  </a:lnTo>
                  <a:lnTo>
                    <a:pt x="298" y="107"/>
                  </a:lnTo>
                  <a:lnTo>
                    <a:pt x="286" y="114"/>
                  </a:lnTo>
                  <a:lnTo>
                    <a:pt x="274" y="121"/>
                  </a:lnTo>
                  <a:lnTo>
                    <a:pt x="260" y="129"/>
                  </a:lnTo>
                  <a:lnTo>
                    <a:pt x="250" y="134"/>
                  </a:lnTo>
                  <a:lnTo>
                    <a:pt x="236" y="145"/>
                  </a:lnTo>
                  <a:lnTo>
                    <a:pt x="223" y="152"/>
                  </a:lnTo>
                  <a:lnTo>
                    <a:pt x="211" y="163"/>
                  </a:lnTo>
                  <a:lnTo>
                    <a:pt x="199" y="170"/>
                  </a:lnTo>
                  <a:lnTo>
                    <a:pt x="189" y="179"/>
                  </a:lnTo>
                  <a:lnTo>
                    <a:pt x="178" y="187"/>
                  </a:lnTo>
                  <a:lnTo>
                    <a:pt x="168" y="196"/>
                  </a:lnTo>
                  <a:lnTo>
                    <a:pt x="158" y="205"/>
                  </a:lnTo>
                  <a:lnTo>
                    <a:pt x="146" y="217"/>
                  </a:lnTo>
                  <a:lnTo>
                    <a:pt x="137" y="225"/>
                  </a:lnTo>
                  <a:lnTo>
                    <a:pt x="128" y="235"/>
                  </a:lnTo>
                  <a:lnTo>
                    <a:pt x="119" y="246"/>
                  </a:lnTo>
                  <a:lnTo>
                    <a:pt x="109" y="256"/>
                  </a:lnTo>
                  <a:lnTo>
                    <a:pt x="100" y="268"/>
                  </a:lnTo>
                  <a:lnTo>
                    <a:pt x="92" y="278"/>
                  </a:lnTo>
                  <a:lnTo>
                    <a:pt x="83" y="290"/>
                  </a:lnTo>
                  <a:lnTo>
                    <a:pt x="75" y="299"/>
                  </a:lnTo>
                  <a:lnTo>
                    <a:pt x="69" y="309"/>
                  </a:lnTo>
                  <a:lnTo>
                    <a:pt x="64" y="315"/>
                  </a:lnTo>
                  <a:lnTo>
                    <a:pt x="57" y="322"/>
                  </a:lnTo>
                  <a:lnTo>
                    <a:pt x="54" y="328"/>
                  </a:lnTo>
                  <a:lnTo>
                    <a:pt x="52" y="333"/>
                  </a:lnTo>
                  <a:lnTo>
                    <a:pt x="48" y="340"/>
                  </a:lnTo>
                  <a:lnTo>
                    <a:pt x="45" y="346"/>
                  </a:lnTo>
                  <a:lnTo>
                    <a:pt x="40" y="353"/>
                  </a:lnTo>
                  <a:lnTo>
                    <a:pt x="37" y="360"/>
                  </a:lnTo>
                  <a:lnTo>
                    <a:pt x="34" y="365"/>
                  </a:lnTo>
                  <a:lnTo>
                    <a:pt x="30" y="372"/>
                  </a:lnTo>
                  <a:lnTo>
                    <a:pt x="26" y="379"/>
                  </a:lnTo>
                  <a:lnTo>
                    <a:pt x="23" y="386"/>
                  </a:lnTo>
                  <a:lnTo>
                    <a:pt x="18" y="394"/>
                  </a:lnTo>
                  <a:lnTo>
                    <a:pt x="15" y="402"/>
                  </a:lnTo>
                  <a:lnTo>
                    <a:pt x="13" y="407"/>
                  </a:lnTo>
                  <a:lnTo>
                    <a:pt x="11" y="415"/>
                  </a:lnTo>
                  <a:lnTo>
                    <a:pt x="8" y="422"/>
                  </a:lnTo>
                  <a:lnTo>
                    <a:pt x="4" y="429"/>
                  </a:lnTo>
                  <a:lnTo>
                    <a:pt x="1" y="43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46440" y="2257560"/>
              <a:ext cx="1113120" cy="1608120"/>
            </a:xfrm>
            <a:custGeom>
              <a:avLst/>
              <a:gdLst/>
              <a:ahLst/>
              <a:rect l="l" t="t" r="r" b="b"/>
              <a:pathLst>
                <a:path w="521" h="700">
                  <a:moveTo>
                    <a:pt x="49" y="1"/>
                  </a:moveTo>
                  <a:lnTo>
                    <a:pt x="38" y="0"/>
                  </a:lnTo>
                  <a:lnTo>
                    <a:pt x="0" y="92"/>
                  </a:lnTo>
                  <a:lnTo>
                    <a:pt x="10" y="96"/>
                  </a:lnTo>
                  <a:lnTo>
                    <a:pt x="17" y="98"/>
                  </a:lnTo>
                  <a:lnTo>
                    <a:pt x="27" y="102"/>
                  </a:lnTo>
                  <a:lnTo>
                    <a:pt x="38" y="105"/>
                  </a:lnTo>
                  <a:lnTo>
                    <a:pt x="48" y="110"/>
                  </a:lnTo>
                  <a:lnTo>
                    <a:pt x="57" y="112"/>
                  </a:lnTo>
                  <a:lnTo>
                    <a:pt x="65" y="115"/>
                  </a:lnTo>
                  <a:lnTo>
                    <a:pt x="75" y="121"/>
                  </a:lnTo>
                  <a:lnTo>
                    <a:pt x="83" y="125"/>
                  </a:lnTo>
                  <a:lnTo>
                    <a:pt x="92" y="129"/>
                  </a:lnTo>
                  <a:lnTo>
                    <a:pt x="102" y="133"/>
                  </a:lnTo>
                  <a:lnTo>
                    <a:pt x="111" y="139"/>
                  </a:lnTo>
                  <a:lnTo>
                    <a:pt x="119" y="144"/>
                  </a:lnTo>
                  <a:lnTo>
                    <a:pt x="127" y="148"/>
                  </a:lnTo>
                  <a:lnTo>
                    <a:pt x="133" y="152"/>
                  </a:lnTo>
                  <a:lnTo>
                    <a:pt x="141" y="158"/>
                  </a:lnTo>
                  <a:lnTo>
                    <a:pt x="149" y="163"/>
                  </a:lnTo>
                  <a:lnTo>
                    <a:pt x="158" y="168"/>
                  </a:lnTo>
                  <a:lnTo>
                    <a:pt x="167" y="173"/>
                  </a:lnTo>
                  <a:lnTo>
                    <a:pt x="171" y="178"/>
                  </a:lnTo>
                  <a:lnTo>
                    <a:pt x="179" y="181"/>
                  </a:lnTo>
                  <a:lnTo>
                    <a:pt x="186" y="189"/>
                  </a:lnTo>
                  <a:lnTo>
                    <a:pt x="194" y="197"/>
                  </a:lnTo>
                  <a:lnTo>
                    <a:pt x="207" y="204"/>
                  </a:lnTo>
                  <a:lnTo>
                    <a:pt x="215" y="214"/>
                  </a:lnTo>
                  <a:lnTo>
                    <a:pt x="225" y="221"/>
                  </a:lnTo>
                  <a:lnTo>
                    <a:pt x="237" y="231"/>
                  </a:lnTo>
                  <a:lnTo>
                    <a:pt x="246" y="242"/>
                  </a:lnTo>
                  <a:lnTo>
                    <a:pt x="252" y="250"/>
                  </a:lnTo>
                  <a:lnTo>
                    <a:pt x="261" y="261"/>
                  </a:lnTo>
                  <a:lnTo>
                    <a:pt x="269" y="270"/>
                  </a:lnTo>
                  <a:lnTo>
                    <a:pt x="279" y="281"/>
                  </a:lnTo>
                  <a:lnTo>
                    <a:pt x="286" y="293"/>
                  </a:lnTo>
                  <a:lnTo>
                    <a:pt x="296" y="305"/>
                  </a:lnTo>
                  <a:lnTo>
                    <a:pt x="304" y="316"/>
                  </a:lnTo>
                  <a:lnTo>
                    <a:pt x="312" y="331"/>
                  </a:lnTo>
                  <a:lnTo>
                    <a:pt x="319" y="343"/>
                  </a:lnTo>
                  <a:lnTo>
                    <a:pt x="324" y="356"/>
                  </a:lnTo>
                  <a:lnTo>
                    <a:pt x="330" y="366"/>
                  </a:lnTo>
                  <a:lnTo>
                    <a:pt x="336" y="379"/>
                  </a:lnTo>
                  <a:lnTo>
                    <a:pt x="341" y="390"/>
                  </a:lnTo>
                  <a:lnTo>
                    <a:pt x="346" y="403"/>
                  </a:lnTo>
                  <a:lnTo>
                    <a:pt x="351" y="415"/>
                  </a:lnTo>
                  <a:lnTo>
                    <a:pt x="355" y="430"/>
                  </a:lnTo>
                  <a:lnTo>
                    <a:pt x="360" y="440"/>
                  </a:lnTo>
                  <a:lnTo>
                    <a:pt x="363" y="455"/>
                  </a:lnTo>
                  <a:lnTo>
                    <a:pt x="366" y="468"/>
                  </a:lnTo>
                  <a:lnTo>
                    <a:pt x="370" y="481"/>
                  </a:lnTo>
                  <a:lnTo>
                    <a:pt x="373" y="497"/>
                  </a:lnTo>
                  <a:lnTo>
                    <a:pt x="375" y="512"/>
                  </a:lnTo>
                  <a:lnTo>
                    <a:pt x="377" y="525"/>
                  </a:lnTo>
                  <a:lnTo>
                    <a:pt x="378" y="540"/>
                  </a:lnTo>
                  <a:lnTo>
                    <a:pt x="378" y="556"/>
                  </a:lnTo>
                  <a:lnTo>
                    <a:pt x="378" y="569"/>
                  </a:lnTo>
                  <a:lnTo>
                    <a:pt x="378" y="585"/>
                  </a:lnTo>
                  <a:lnTo>
                    <a:pt x="341" y="585"/>
                  </a:lnTo>
                  <a:lnTo>
                    <a:pt x="427" y="699"/>
                  </a:lnTo>
                  <a:lnTo>
                    <a:pt x="520" y="585"/>
                  </a:lnTo>
                  <a:lnTo>
                    <a:pt x="484" y="585"/>
                  </a:lnTo>
                  <a:lnTo>
                    <a:pt x="484" y="567"/>
                  </a:lnTo>
                  <a:lnTo>
                    <a:pt x="484" y="550"/>
                  </a:lnTo>
                  <a:lnTo>
                    <a:pt x="482" y="534"/>
                  </a:lnTo>
                  <a:lnTo>
                    <a:pt x="480" y="517"/>
                  </a:lnTo>
                  <a:lnTo>
                    <a:pt x="480" y="504"/>
                  </a:lnTo>
                  <a:lnTo>
                    <a:pt x="477" y="490"/>
                  </a:lnTo>
                  <a:lnTo>
                    <a:pt x="475" y="475"/>
                  </a:lnTo>
                  <a:lnTo>
                    <a:pt x="472" y="461"/>
                  </a:lnTo>
                  <a:lnTo>
                    <a:pt x="471" y="449"/>
                  </a:lnTo>
                  <a:lnTo>
                    <a:pt x="466" y="434"/>
                  </a:lnTo>
                  <a:lnTo>
                    <a:pt x="462" y="416"/>
                  </a:lnTo>
                  <a:lnTo>
                    <a:pt x="458" y="403"/>
                  </a:lnTo>
                  <a:lnTo>
                    <a:pt x="453" y="390"/>
                  </a:lnTo>
                  <a:lnTo>
                    <a:pt x="450" y="379"/>
                  </a:lnTo>
                  <a:lnTo>
                    <a:pt x="443" y="362"/>
                  </a:lnTo>
                  <a:lnTo>
                    <a:pt x="438" y="349"/>
                  </a:lnTo>
                  <a:lnTo>
                    <a:pt x="431" y="336"/>
                  </a:lnTo>
                  <a:lnTo>
                    <a:pt x="426" y="323"/>
                  </a:lnTo>
                  <a:lnTo>
                    <a:pt x="418" y="308"/>
                  </a:lnTo>
                  <a:lnTo>
                    <a:pt x="411" y="295"/>
                  </a:lnTo>
                  <a:lnTo>
                    <a:pt x="405" y="281"/>
                  </a:lnTo>
                  <a:lnTo>
                    <a:pt x="397" y="270"/>
                  </a:lnTo>
                  <a:lnTo>
                    <a:pt x="390" y="260"/>
                  </a:lnTo>
                  <a:lnTo>
                    <a:pt x="382" y="247"/>
                  </a:lnTo>
                  <a:lnTo>
                    <a:pt x="375" y="236"/>
                  </a:lnTo>
                  <a:lnTo>
                    <a:pt x="365" y="223"/>
                  </a:lnTo>
                  <a:lnTo>
                    <a:pt x="356" y="211"/>
                  </a:lnTo>
                  <a:lnTo>
                    <a:pt x="346" y="201"/>
                  </a:lnTo>
                  <a:lnTo>
                    <a:pt x="338" y="189"/>
                  </a:lnTo>
                  <a:lnTo>
                    <a:pt x="327" y="179"/>
                  </a:lnTo>
                  <a:lnTo>
                    <a:pt x="319" y="168"/>
                  </a:lnTo>
                  <a:lnTo>
                    <a:pt x="310" y="161"/>
                  </a:lnTo>
                  <a:lnTo>
                    <a:pt x="300" y="149"/>
                  </a:lnTo>
                  <a:lnTo>
                    <a:pt x="288" y="141"/>
                  </a:lnTo>
                  <a:lnTo>
                    <a:pt x="279" y="131"/>
                  </a:lnTo>
                  <a:lnTo>
                    <a:pt x="268" y="123"/>
                  </a:lnTo>
                  <a:lnTo>
                    <a:pt x="257" y="114"/>
                  </a:lnTo>
                  <a:lnTo>
                    <a:pt x="246" y="105"/>
                  </a:lnTo>
                  <a:lnTo>
                    <a:pt x="233" y="96"/>
                  </a:lnTo>
                  <a:lnTo>
                    <a:pt x="223" y="89"/>
                  </a:lnTo>
                  <a:lnTo>
                    <a:pt x="210" y="79"/>
                  </a:lnTo>
                  <a:lnTo>
                    <a:pt x="201" y="73"/>
                  </a:lnTo>
                  <a:lnTo>
                    <a:pt x="189" y="65"/>
                  </a:lnTo>
                  <a:lnTo>
                    <a:pt x="182" y="62"/>
                  </a:lnTo>
                  <a:lnTo>
                    <a:pt x="176" y="57"/>
                  </a:lnTo>
                  <a:lnTo>
                    <a:pt x="169" y="54"/>
                  </a:lnTo>
                  <a:lnTo>
                    <a:pt x="165" y="51"/>
                  </a:lnTo>
                  <a:lnTo>
                    <a:pt x="158" y="48"/>
                  </a:lnTo>
                  <a:lnTo>
                    <a:pt x="150" y="44"/>
                  </a:lnTo>
                  <a:lnTo>
                    <a:pt x="143" y="41"/>
                  </a:lnTo>
                  <a:lnTo>
                    <a:pt x="135" y="36"/>
                  </a:lnTo>
                  <a:lnTo>
                    <a:pt x="129" y="33"/>
                  </a:lnTo>
                  <a:lnTo>
                    <a:pt x="123" y="30"/>
                  </a:lnTo>
                  <a:lnTo>
                    <a:pt x="114" y="26"/>
                  </a:lnTo>
                  <a:lnTo>
                    <a:pt x="107" y="23"/>
                  </a:lnTo>
                  <a:lnTo>
                    <a:pt x="97" y="19"/>
                  </a:lnTo>
                  <a:lnTo>
                    <a:pt x="92" y="17"/>
                  </a:lnTo>
                  <a:lnTo>
                    <a:pt x="85" y="14"/>
                  </a:lnTo>
                  <a:lnTo>
                    <a:pt x="77" y="11"/>
                  </a:lnTo>
                  <a:lnTo>
                    <a:pt x="70" y="9"/>
                  </a:lnTo>
                  <a:lnTo>
                    <a:pt x="61" y="6"/>
                  </a:lnTo>
                  <a:lnTo>
                    <a:pt x="55" y="4"/>
                  </a:lnTo>
                </a:path>
              </a:pathLst>
            </a:custGeom>
            <a:solidFill>
              <a:srgbClr val="33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24120" y="3305160"/>
              <a:ext cx="1109520" cy="1614600"/>
            </a:xfrm>
            <a:custGeom>
              <a:avLst/>
              <a:gdLst/>
              <a:ahLst/>
              <a:rect l="l" t="t" r="r" b="b"/>
              <a:pathLst>
                <a:path w="519" h="703">
                  <a:moveTo>
                    <a:pt x="469" y="700"/>
                  </a:moveTo>
                  <a:lnTo>
                    <a:pt x="478" y="702"/>
                  </a:lnTo>
                  <a:lnTo>
                    <a:pt x="518" y="607"/>
                  </a:lnTo>
                  <a:lnTo>
                    <a:pt x="509" y="604"/>
                  </a:lnTo>
                  <a:lnTo>
                    <a:pt x="499" y="601"/>
                  </a:lnTo>
                  <a:lnTo>
                    <a:pt x="491" y="598"/>
                  </a:lnTo>
                  <a:lnTo>
                    <a:pt x="478" y="595"/>
                  </a:lnTo>
                  <a:lnTo>
                    <a:pt x="471" y="591"/>
                  </a:lnTo>
                  <a:lnTo>
                    <a:pt x="460" y="586"/>
                  </a:lnTo>
                  <a:lnTo>
                    <a:pt x="452" y="584"/>
                  </a:lnTo>
                  <a:lnTo>
                    <a:pt x="441" y="579"/>
                  </a:lnTo>
                  <a:lnTo>
                    <a:pt x="434" y="576"/>
                  </a:lnTo>
                  <a:lnTo>
                    <a:pt x="424" y="570"/>
                  </a:lnTo>
                  <a:lnTo>
                    <a:pt x="415" y="566"/>
                  </a:lnTo>
                  <a:lnTo>
                    <a:pt x="407" y="562"/>
                  </a:lnTo>
                  <a:lnTo>
                    <a:pt x="398" y="557"/>
                  </a:lnTo>
                  <a:lnTo>
                    <a:pt x="391" y="551"/>
                  </a:lnTo>
                  <a:lnTo>
                    <a:pt x="384" y="548"/>
                  </a:lnTo>
                  <a:lnTo>
                    <a:pt x="376" y="542"/>
                  </a:lnTo>
                  <a:lnTo>
                    <a:pt x="368" y="538"/>
                  </a:lnTo>
                  <a:lnTo>
                    <a:pt x="360" y="532"/>
                  </a:lnTo>
                  <a:lnTo>
                    <a:pt x="352" y="526"/>
                  </a:lnTo>
                  <a:lnTo>
                    <a:pt x="346" y="523"/>
                  </a:lnTo>
                  <a:lnTo>
                    <a:pt x="340" y="519"/>
                  </a:lnTo>
                  <a:lnTo>
                    <a:pt x="330" y="512"/>
                  </a:lnTo>
                  <a:lnTo>
                    <a:pt x="323" y="504"/>
                  </a:lnTo>
                  <a:lnTo>
                    <a:pt x="311" y="495"/>
                  </a:lnTo>
                  <a:lnTo>
                    <a:pt x="302" y="486"/>
                  </a:lnTo>
                  <a:lnTo>
                    <a:pt x="291" y="478"/>
                  </a:lnTo>
                  <a:lnTo>
                    <a:pt x="282" y="469"/>
                  </a:lnTo>
                  <a:lnTo>
                    <a:pt x="272" y="457"/>
                  </a:lnTo>
                  <a:lnTo>
                    <a:pt x="265" y="449"/>
                  </a:lnTo>
                  <a:lnTo>
                    <a:pt x="257" y="439"/>
                  </a:lnTo>
                  <a:lnTo>
                    <a:pt x="248" y="431"/>
                  </a:lnTo>
                  <a:lnTo>
                    <a:pt x="240" y="419"/>
                  </a:lnTo>
                  <a:lnTo>
                    <a:pt x="231" y="405"/>
                  </a:lnTo>
                  <a:lnTo>
                    <a:pt x="223" y="395"/>
                  </a:lnTo>
                  <a:lnTo>
                    <a:pt x="215" y="382"/>
                  </a:lnTo>
                  <a:lnTo>
                    <a:pt x="206" y="369"/>
                  </a:lnTo>
                  <a:lnTo>
                    <a:pt x="199" y="357"/>
                  </a:lnTo>
                  <a:lnTo>
                    <a:pt x="193" y="344"/>
                  </a:lnTo>
                  <a:lnTo>
                    <a:pt x="187" y="332"/>
                  </a:lnTo>
                  <a:lnTo>
                    <a:pt x="182" y="322"/>
                  </a:lnTo>
                  <a:lnTo>
                    <a:pt x="176" y="309"/>
                  </a:lnTo>
                  <a:lnTo>
                    <a:pt x="171" y="297"/>
                  </a:lnTo>
                  <a:lnTo>
                    <a:pt x="166" y="285"/>
                  </a:lnTo>
                  <a:lnTo>
                    <a:pt x="162" y="270"/>
                  </a:lnTo>
                  <a:lnTo>
                    <a:pt x="159" y="259"/>
                  </a:lnTo>
                  <a:lnTo>
                    <a:pt x="156" y="246"/>
                  </a:lnTo>
                  <a:lnTo>
                    <a:pt x="151" y="232"/>
                  </a:lnTo>
                  <a:lnTo>
                    <a:pt x="148" y="217"/>
                  </a:lnTo>
                  <a:lnTo>
                    <a:pt x="144" y="202"/>
                  </a:lnTo>
                  <a:lnTo>
                    <a:pt x="143" y="188"/>
                  </a:lnTo>
                  <a:lnTo>
                    <a:pt x="141" y="175"/>
                  </a:lnTo>
                  <a:lnTo>
                    <a:pt x="140" y="160"/>
                  </a:lnTo>
                  <a:lnTo>
                    <a:pt x="140" y="144"/>
                  </a:lnTo>
                  <a:lnTo>
                    <a:pt x="140" y="130"/>
                  </a:lnTo>
                  <a:lnTo>
                    <a:pt x="140" y="114"/>
                  </a:lnTo>
                  <a:lnTo>
                    <a:pt x="176" y="114"/>
                  </a:lnTo>
                  <a:lnTo>
                    <a:pt x="90" y="0"/>
                  </a:lnTo>
                  <a:lnTo>
                    <a:pt x="0" y="114"/>
                  </a:lnTo>
                  <a:lnTo>
                    <a:pt x="34" y="114"/>
                  </a:lnTo>
                  <a:lnTo>
                    <a:pt x="34" y="132"/>
                  </a:lnTo>
                  <a:lnTo>
                    <a:pt x="34" y="148"/>
                  </a:lnTo>
                  <a:lnTo>
                    <a:pt x="35" y="166"/>
                  </a:lnTo>
                  <a:lnTo>
                    <a:pt x="37" y="180"/>
                  </a:lnTo>
                  <a:lnTo>
                    <a:pt x="39" y="196"/>
                  </a:lnTo>
                  <a:lnTo>
                    <a:pt x="40" y="210"/>
                  </a:lnTo>
                  <a:lnTo>
                    <a:pt x="43" y="225"/>
                  </a:lnTo>
                  <a:lnTo>
                    <a:pt x="45" y="238"/>
                  </a:lnTo>
                  <a:lnTo>
                    <a:pt x="48" y="251"/>
                  </a:lnTo>
                  <a:lnTo>
                    <a:pt x="51" y="266"/>
                  </a:lnTo>
                  <a:lnTo>
                    <a:pt x="56" y="283"/>
                  </a:lnTo>
                  <a:lnTo>
                    <a:pt x="61" y="296"/>
                  </a:lnTo>
                  <a:lnTo>
                    <a:pt x="64" y="309"/>
                  </a:lnTo>
                  <a:lnTo>
                    <a:pt x="68" y="322"/>
                  </a:lnTo>
                  <a:lnTo>
                    <a:pt x="74" y="338"/>
                  </a:lnTo>
                  <a:lnTo>
                    <a:pt x="81" y="351"/>
                  </a:lnTo>
                  <a:lnTo>
                    <a:pt x="85" y="365"/>
                  </a:lnTo>
                  <a:lnTo>
                    <a:pt x="92" y="378"/>
                  </a:lnTo>
                  <a:lnTo>
                    <a:pt x="100" y="392"/>
                  </a:lnTo>
                  <a:lnTo>
                    <a:pt x="105" y="404"/>
                  </a:lnTo>
                  <a:lnTo>
                    <a:pt x="114" y="417"/>
                  </a:lnTo>
                  <a:lnTo>
                    <a:pt x="122" y="431"/>
                  </a:lnTo>
                  <a:lnTo>
                    <a:pt x="127" y="441"/>
                  </a:lnTo>
                  <a:lnTo>
                    <a:pt x="136" y="452"/>
                  </a:lnTo>
                  <a:lnTo>
                    <a:pt x="143" y="465"/>
                  </a:lnTo>
                  <a:lnTo>
                    <a:pt x="153" y="476"/>
                  </a:lnTo>
                  <a:lnTo>
                    <a:pt x="162" y="489"/>
                  </a:lnTo>
                  <a:lnTo>
                    <a:pt x="171" y="500"/>
                  </a:lnTo>
                  <a:lnTo>
                    <a:pt x="180" y="510"/>
                  </a:lnTo>
                  <a:lnTo>
                    <a:pt x="190" y="522"/>
                  </a:lnTo>
                  <a:lnTo>
                    <a:pt x="199" y="531"/>
                  </a:lnTo>
                  <a:lnTo>
                    <a:pt x="207" y="539"/>
                  </a:lnTo>
                  <a:lnTo>
                    <a:pt x="218" y="550"/>
                  </a:lnTo>
                  <a:lnTo>
                    <a:pt x="229" y="560"/>
                  </a:lnTo>
                  <a:lnTo>
                    <a:pt x="238" y="568"/>
                  </a:lnTo>
                  <a:lnTo>
                    <a:pt x="250" y="578"/>
                  </a:lnTo>
                  <a:lnTo>
                    <a:pt x="260" y="586"/>
                  </a:lnTo>
                  <a:lnTo>
                    <a:pt x="272" y="595"/>
                  </a:lnTo>
                  <a:lnTo>
                    <a:pt x="284" y="604"/>
                  </a:lnTo>
                  <a:lnTo>
                    <a:pt x="294" y="612"/>
                  </a:lnTo>
                  <a:lnTo>
                    <a:pt x="307" y="620"/>
                  </a:lnTo>
                  <a:lnTo>
                    <a:pt x="318" y="628"/>
                  </a:lnTo>
                  <a:lnTo>
                    <a:pt x="328" y="635"/>
                  </a:lnTo>
                  <a:lnTo>
                    <a:pt x="335" y="638"/>
                  </a:lnTo>
                  <a:lnTo>
                    <a:pt x="342" y="644"/>
                  </a:lnTo>
                  <a:lnTo>
                    <a:pt x="347" y="647"/>
                  </a:lnTo>
                  <a:lnTo>
                    <a:pt x="354" y="650"/>
                  </a:lnTo>
                  <a:lnTo>
                    <a:pt x="360" y="652"/>
                  </a:lnTo>
                  <a:lnTo>
                    <a:pt x="368" y="655"/>
                  </a:lnTo>
                  <a:lnTo>
                    <a:pt x="376" y="660"/>
                  </a:lnTo>
                  <a:lnTo>
                    <a:pt x="382" y="665"/>
                  </a:lnTo>
                  <a:lnTo>
                    <a:pt x="388" y="668"/>
                  </a:lnTo>
                  <a:lnTo>
                    <a:pt x="396" y="670"/>
                  </a:lnTo>
                  <a:lnTo>
                    <a:pt x="403" y="673"/>
                  </a:lnTo>
                  <a:lnTo>
                    <a:pt x="412" y="676"/>
                  </a:lnTo>
                  <a:lnTo>
                    <a:pt x="420" y="682"/>
                  </a:lnTo>
                  <a:lnTo>
                    <a:pt x="427" y="684"/>
                  </a:lnTo>
                  <a:lnTo>
                    <a:pt x="434" y="686"/>
                  </a:lnTo>
                  <a:lnTo>
                    <a:pt x="440" y="689"/>
                  </a:lnTo>
                  <a:lnTo>
                    <a:pt x="449" y="692"/>
                  </a:lnTo>
                  <a:lnTo>
                    <a:pt x="456" y="694"/>
                  </a:lnTo>
                  <a:lnTo>
                    <a:pt x="461" y="697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930480" y="3948120"/>
              <a:ext cx="1587600" cy="1104840"/>
            </a:xfrm>
            <a:custGeom>
              <a:avLst/>
              <a:gdLst/>
              <a:ahLst/>
              <a:rect l="l" t="t" r="r" b="b"/>
              <a:pathLst>
                <a:path w="743" h="481">
                  <a:moveTo>
                    <a:pt x="742" y="36"/>
                  </a:moveTo>
                  <a:lnTo>
                    <a:pt x="640" y="0"/>
                  </a:lnTo>
                  <a:lnTo>
                    <a:pt x="637" y="7"/>
                  </a:lnTo>
                  <a:lnTo>
                    <a:pt x="634" y="16"/>
                  </a:lnTo>
                  <a:lnTo>
                    <a:pt x="631" y="26"/>
                  </a:lnTo>
                  <a:lnTo>
                    <a:pt x="626" y="35"/>
                  </a:lnTo>
                  <a:lnTo>
                    <a:pt x="623" y="44"/>
                  </a:lnTo>
                  <a:lnTo>
                    <a:pt x="618" y="51"/>
                  </a:lnTo>
                  <a:lnTo>
                    <a:pt x="613" y="62"/>
                  </a:lnTo>
                  <a:lnTo>
                    <a:pt x="610" y="69"/>
                  </a:lnTo>
                  <a:lnTo>
                    <a:pt x="605" y="78"/>
                  </a:lnTo>
                  <a:lnTo>
                    <a:pt x="601" y="86"/>
                  </a:lnTo>
                  <a:lnTo>
                    <a:pt x="595" y="96"/>
                  </a:lnTo>
                  <a:lnTo>
                    <a:pt x="590" y="103"/>
                  </a:lnTo>
                  <a:lnTo>
                    <a:pt x="586" y="110"/>
                  </a:lnTo>
                  <a:lnTo>
                    <a:pt x="581" y="116"/>
                  </a:lnTo>
                  <a:lnTo>
                    <a:pt x="576" y="123"/>
                  </a:lnTo>
                  <a:lnTo>
                    <a:pt x="569" y="131"/>
                  </a:lnTo>
                  <a:lnTo>
                    <a:pt x="564" y="138"/>
                  </a:lnTo>
                  <a:lnTo>
                    <a:pt x="557" y="147"/>
                  </a:lnTo>
                  <a:lnTo>
                    <a:pt x="554" y="152"/>
                  </a:lnTo>
                  <a:lnTo>
                    <a:pt x="549" y="159"/>
                  </a:lnTo>
                  <a:lnTo>
                    <a:pt x="542" y="166"/>
                  </a:lnTo>
                  <a:lnTo>
                    <a:pt x="534" y="173"/>
                  </a:lnTo>
                  <a:lnTo>
                    <a:pt x="526" y="186"/>
                  </a:lnTo>
                  <a:lnTo>
                    <a:pt x="516" y="194"/>
                  </a:lnTo>
                  <a:lnTo>
                    <a:pt x="507" y="203"/>
                  </a:lnTo>
                  <a:lnTo>
                    <a:pt x="496" y="212"/>
                  </a:lnTo>
                  <a:lnTo>
                    <a:pt x="485" y="222"/>
                  </a:lnTo>
                  <a:lnTo>
                    <a:pt x="476" y="230"/>
                  </a:lnTo>
                  <a:lnTo>
                    <a:pt x="467" y="236"/>
                  </a:lnTo>
                  <a:lnTo>
                    <a:pt x="455" y="244"/>
                  </a:lnTo>
                  <a:lnTo>
                    <a:pt x="443" y="253"/>
                  </a:lnTo>
                  <a:lnTo>
                    <a:pt x="431" y="262"/>
                  </a:lnTo>
                  <a:lnTo>
                    <a:pt x="418" y="268"/>
                  </a:lnTo>
                  <a:lnTo>
                    <a:pt x="404" y="276"/>
                  </a:lnTo>
                  <a:lnTo>
                    <a:pt x="390" y="284"/>
                  </a:lnTo>
                  <a:lnTo>
                    <a:pt x="378" y="290"/>
                  </a:lnTo>
                  <a:lnTo>
                    <a:pt x="363" y="297"/>
                  </a:lnTo>
                  <a:lnTo>
                    <a:pt x="353" y="302"/>
                  </a:lnTo>
                  <a:lnTo>
                    <a:pt x="340" y="306"/>
                  </a:lnTo>
                  <a:lnTo>
                    <a:pt x="326" y="312"/>
                  </a:lnTo>
                  <a:lnTo>
                    <a:pt x="313" y="316"/>
                  </a:lnTo>
                  <a:lnTo>
                    <a:pt x="301" y="320"/>
                  </a:lnTo>
                  <a:lnTo>
                    <a:pt x="287" y="325"/>
                  </a:lnTo>
                  <a:lnTo>
                    <a:pt x="274" y="330"/>
                  </a:lnTo>
                  <a:lnTo>
                    <a:pt x="259" y="333"/>
                  </a:lnTo>
                  <a:lnTo>
                    <a:pt x="245" y="336"/>
                  </a:lnTo>
                  <a:lnTo>
                    <a:pt x="229" y="338"/>
                  </a:lnTo>
                  <a:lnTo>
                    <a:pt x="215" y="341"/>
                  </a:lnTo>
                  <a:lnTo>
                    <a:pt x="198" y="344"/>
                  </a:lnTo>
                  <a:lnTo>
                    <a:pt x="184" y="344"/>
                  </a:lnTo>
                  <a:lnTo>
                    <a:pt x="168" y="347"/>
                  </a:lnTo>
                  <a:lnTo>
                    <a:pt x="151" y="347"/>
                  </a:lnTo>
                  <a:lnTo>
                    <a:pt x="137" y="347"/>
                  </a:lnTo>
                  <a:lnTo>
                    <a:pt x="119" y="347"/>
                  </a:lnTo>
                  <a:lnTo>
                    <a:pt x="119" y="312"/>
                  </a:lnTo>
                  <a:lnTo>
                    <a:pt x="0" y="393"/>
                  </a:lnTo>
                  <a:lnTo>
                    <a:pt x="119" y="480"/>
                  </a:lnTo>
                  <a:lnTo>
                    <a:pt x="119" y="446"/>
                  </a:lnTo>
                  <a:lnTo>
                    <a:pt x="138" y="446"/>
                  </a:lnTo>
                  <a:lnTo>
                    <a:pt x="157" y="446"/>
                  </a:lnTo>
                  <a:lnTo>
                    <a:pt x="175" y="444"/>
                  </a:lnTo>
                  <a:lnTo>
                    <a:pt x="190" y="443"/>
                  </a:lnTo>
                  <a:lnTo>
                    <a:pt x="206" y="443"/>
                  </a:lnTo>
                  <a:lnTo>
                    <a:pt x="221" y="440"/>
                  </a:lnTo>
                  <a:lnTo>
                    <a:pt x="237" y="439"/>
                  </a:lnTo>
                  <a:lnTo>
                    <a:pt x="252" y="436"/>
                  </a:lnTo>
                  <a:lnTo>
                    <a:pt x="265" y="433"/>
                  </a:lnTo>
                  <a:lnTo>
                    <a:pt x="281" y="430"/>
                  </a:lnTo>
                  <a:lnTo>
                    <a:pt x="300" y="425"/>
                  </a:lnTo>
                  <a:lnTo>
                    <a:pt x="313" y="422"/>
                  </a:lnTo>
                  <a:lnTo>
                    <a:pt x="327" y="418"/>
                  </a:lnTo>
                  <a:lnTo>
                    <a:pt x="340" y="413"/>
                  </a:lnTo>
                  <a:lnTo>
                    <a:pt x="357" y="407"/>
                  </a:lnTo>
                  <a:lnTo>
                    <a:pt x="371" y="403"/>
                  </a:lnTo>
                  <a:lnTo>
                    <a:pt x="385" y="397"/>
                  </a:lnTo>
                  <a:lnTo>
                    <a:pt x="399" y="391"/>
                  </a:lnTo>
                  <a:lnTo>
                    <a:pt x="415" y="386"/>
                  </a:lnTo>
                  <a:lnTo>
                    <a:pt x="429" y="378"/>
                  </a:lnTo>
                  <a:lnTo>
                    <a:pt x="441" y="372"/>
                  </a:lnTo>
                  <a:lnTo>
                    <a:pt x="455" y="365"/>
                  </a:lnTo>
                  <a:lnTo>
                    <a:pt x="467" y="359"/>
                  </a:lnTo>
                  <a:lnTo>
                    <a:pt x="479" y="350"/>
                  </a:lnTo>
                  <a:lnTo>
                    <a:pt x="492" y="343"/>
                  </a:lnTo>
                  <a:lnTo>
                    <a:pt x="506" y="336"/>
                  </a:lnTo>
                  <a:lnTo>
                    <a:pt x="518" y="326"/>
                  </a:lnTo>
                  <a:lnTo>
                    <a:pt x="530" y="318"/>
                  </a:lnTo>
                  <a:lnTo>
                    <a:pt x="542" y="307"/>
                  </a:lnTo>
                  <a:lnTo>
                    <a:pt x="552" y="300"/>
                  </a:lnTo>
                  <a:lnTo>
                    <a:pt x="564" y="291"/>
                  </a:lnTo>
                  <a:lnTo>
                    <a:pt x="571" y="283"/>
                  </a:lnTo>
                  <a:lnTo>
                    <a:pt x="584" y="273"/>
                  </a:lnTo>
                  <a:lnTo>
                    <a:pt x="593" y="262"/>
                  </a:lnTo>
                  <a:lnTo>
                    <a:pt x="603" y="253"/>
                  </a:lnTo>
                  <a:lnTo>
                    <a:pt x="612" y="243"/>
                  </a:lnTo>
                  <a:lnTo>
                    <a:pt x="622" y="233"/>
                  </a:lnTo>
                  <a:lnTo>
                    <a:pt x="631" y="222"/>
                  </a:lnTo>
                  <a:lnTo>
                    <a:pt x="640" y="210"/>
                  </a:lnTo>
                  <a:lnTo>
                    <a:pt x="648" y="200"/>
                  </a:lnTo>
                  <a:lnTo>
                    <a:pt x="658" y="188"/>
                  </a:lnTo>
                  <a:lnTo>
                    <a:pt x="665" y="180"/>
                  </a:lnTo>
                  <a:lnTo>
                    <a:pt x="673" y="169"/>
                  </a:lnTo>
                  <a:lnTo>
                    <a:pt x="676" y="162"/>
                  </a:lnTo>
                  <a:lnTo>
                    <a:pt x="682" y="156"/>
                  </a:lnTo>
                  <a:lnTo>
                    <a:pt x="685" y="152"/>
                  </a:lnTo>
                  <a:lnTo>
                    <a:pt x="689" y="144"/>
                  </a:lnTo>
                  <a:lnTo>
                    <a:pt x="692" y="138"/>
                  </a:lnTo>
                  <a:lnTo>
                    <a:pt x="695" y="133"/>
                  </a:lnTo>
                  <a:lnTo>
                    <a:pt x="699" y="123"/>
                  </a:lnTo>
                  <a:lnTo>
                    <a:pt x="704" y="119"/>
                  </a:lnTo>
                  <a:lnTo>
                    <a:pt x="707" y="113"/>
                  </a:lnTo>
                  <a:lnTo>
                    <a:pt x="711" y="106"/>
                  </a:lnTo>
                  <a:lnTo>
                    <a:pt x="714" y="99"/>
                  </a:lnTo>
                  <a:lnTo>
                    <a:pt x="716" y="91"/>
                  </a:lnTo>
                  <a:lnTo>
                    <a:pt x="723" y="84"/>
                  </a:lnTo>
                  <a:lnTo>
                    <a:pt x="724" y="76"/>
                  </a:lnTo>
                  <a:lnTo>
                    <a:pt x="728" y="70"/>
                  </a:lnTo>
                  <a:lnTo>
                    <a:pt x="731" y="63"/>
                  </a:lnTo>
                  <a:lnTo>
                    <a:pt x="734" y="56"/>
                  </a:lnTo>
                  <a:lnTo>
                    <a:pt x="735" y="49"/>
                  </a:lnTo>
                  <a:lnTo>
                    <a:pt x="738" y="43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545480" y="2060640"/>
              <a:ext cx="200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Requerimien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88240" y="2197080"/>
              <a:ext cx="20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nálisis y Diseñ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01160" y="2917800"/>
              <a:ext cx="20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Implement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076360" y="4579920"/>
              <a:ext cx="111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rueb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49800" y="4148280"/>
              <a:ext cx="141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valu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1763640" y="5315040"/>
            <a:ext cx="1944720" cy="1353960"/>
            <a:chOff x="1763640" y="5315040"/>
            <a:chExt cx="1944720" cy="1353960"/>
          </a:xfrm>
        </p:grpSpPr>
        <p:sp>
          <p:nvSpPr>
            <p:cNvPr id="343" name=""/>
            <p:cNvSpPr/>
            <p:nvPr/>
          </p:nvSpPr>
          <p:spPr>
            <a:xfrm>
              <a:off x="1763640" y="5332320"/>
              <a:ext cx="1871640" cy="1336680"/>
            </a:xfrm>
            <a:prstGeom prst="wedgeRectCallout">
              <a:avLst>
                <a:gd name="adj1" fmla="val 62467"/>
                <a:gd name="adj2" fmla="val -88481"/>
              </a:avLst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27080" y="5315040"/>
              <a:ext cx="1781280" cy="10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spAutoFit/>
            </a:bodyPr>
            <a:p>
              <a:pPr>
                <a:lnSpc>
                  <a:spcPts val="1998"/>
                </a:lnSpc>
                <a:spcBef>
                  <a:spcPts val="901"/>
                </a:spcBef>
                <a:tabLst>
                  <a:tab algn="l" pos="0"/>
                  <a:tab algn="l" pos="285840"/>
                  <a:tab algn="l" pos="571680"/>
                  <a:tab algn="l" pos="857160"/>
                  <a:tab algn="l" pos="1143000"/>
                  <a:tab algn="l" pos="1428840"/>
                  <a:tab algn="l" pos="1714680"/>
                  <a:tab algn="l" pos="20001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Cada iteración</a:t>
              </a:r>
              <a:br>
                <a:rPr sz="1800"/>
              </a:b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roduce un producto ejecut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acterísticas del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arrollo Iterati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e un entendimiento incremental del problema a través de refinamientos sucesiv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bilita una fácil retroalimentación de usuar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s específicas permiten que el equipo de desarrollo mantenga su atención en producir result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 progreso es medido conforme avanzan las implementacio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8:29:44Z</dcterms:created>
  <dc:creator>Ing. de Software y Tiempo Real</dc:creator>
  <dc:description/>
  <dc:language>en-US</dc:language>
  <cp:lastModifiedBy>Eduardo Godoy</cp:lastModifiedBy>
  <dcterms:modified xsi:type="dcterms:W3CDTF">2004-09-07T17:17:29Z</dcterms:modified>
  <cp:revision>82</cp:revision>
  <dc:subject/>
  <dc:title>Rational Unified Process</dc:title>
</cp:coreProperties>
</file>