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2B5-A5C2-46E4-9B2B-2BFB6035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33E-B071-446F-9748-1468C8AC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CC5-1F29-44D2-8A7D-04341A7E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47F-B84B-4054-87E3-5E7303BE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CB37-E20D-4D4D-9630-0CEAA99B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4C57-5265-4DC9-B17B-7DA4D8D9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453C-56CE-4A0D-BBB5-394B4381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005C-1B23-4161-8762-17804FA5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36A0-ADF9-490D-9F9D-D3D66539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C263-8AA2-4C0E-B49A-3587CAB2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2FD5-B2F9-43C4-8BD3-3454B62C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609-56D9-4496-A639-A550F425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C75D-F7CB-43C3-9563-F5AF0018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ADC6-E35B-43F5-956E-39929050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857D-8444-4F93-88FB-643EEA75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03A6-7D71-4680-AA8D-E38647A6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62B5-BC29-4F8A-8BD1-6BD4716E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8FC-240D-4823-AC59-2A6F9FD7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EC4-700C-4F2D-A762-706CA11E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B6C-FAAA-40BA-BDF0-54DA6D13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F05-B7D6-45F2-864C-B97E356B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843-8E32-4439-9DCB-3FF7738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E4F-DF7B-4986-B9F1-21249D9B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030-DEF0-49EB-B429-ACB1D5A2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C5CD-6134-4EC2-A231-AEDE7F7EA836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326E-114E-4770-84A4-CDEC09C3742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5EF8-1D37-4F42-95A7-0E9BDC437496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CE5F-7EBD-4B7E-B3CA-F40199A6AC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0D53-0C17-4426-9916-888B4F1000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eorí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enemos C grupos o niveles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 observaciones independientes y de manera aleatoria para cada nivel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C observaciones en total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ta: Pueden tenerse un número variable de observaciones para cada nivel, pero al tener la misma cantidad permite obtener máxima confiabilida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96D-E689-43AA-9F79-D7372B613B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odemos representar cada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como un modelo estadístico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147040" indent="-52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Y(i,j) =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:     Media sobre todas las muestras.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 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:  Respuesta asociada al j - ésimo nivel del factor 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en estud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: Error asociado con el valor (i,j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323-5717-4972-A8EE-7BEF7166CC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o conocemos los valores reales, por lo tanto debemos estimarl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a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    estimación par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 estimación para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D46-B27D-4516-9D66-3DF6099853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708360" y="2206800"/>
                <a:ext cx="24112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6920" y="1828800"/>
            <a:ext cx="8137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finimos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promedio para la columna j, tenemos entonces que el valor del promedio para toda las mediciones 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214000" indent="-543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492920" indent="-1569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08360" y="5256360"/>
                <a:ext cx="187344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limUp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  <m:lim/>
                            </m:limUpp>
                          </m:e>
                        </m:nary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53C-E5FD-44DA-AB23-24DBC9A394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 Como estimamos </a:t>
            </a:r>
            <a:r>
              <a:rPr b="0" lang="el-GR" sz="32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(i,j) es decir e(i,j)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Usando los estimadores ob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 -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T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ero queremos minimizar el error, es decir, encontrar M y T(j) tal que e(i,j) sea lo menor posib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38C-2B06-4C73-BFC8-3929D78299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? </a:t>
            </a:r>
            <a:r>
              <a:rPr b="0" lang="es-E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Minimizando las desviacione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los cuadrados de la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ma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63640" y="3716280"/>
                <a:ext cx="5904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545-4B2B-4936-9207-2E95F6B0E8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este criterio (mínimos cuadrados) podemos 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    estima 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       (i.e. M = Ῡ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 estima a 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  (i.e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=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lo que el error se traduce e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Ῡ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CAF-7941-4A08-B295-0D99963E24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corporando los estimadores en el modelo estadístico tenemos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Y(i,j) - Ῡ) = (Ῡ(j)- Ῡ)+(Y(i,j)- Ῡ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evamos al cuadrado y consideramos las RC ecuacion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47640" y="5084640"/>
                <a:ext cx="6407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B49-178E-4679-B873-F0F8A4B952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sarrollando el cuadrado podemos separar la ecuación anterior 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03280" y="3284640"/>
                <a:ext cx="662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348000" y="4221000"/>
                <a:ext cx="4392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2F5-52E3-4ECC-8159-5F45A7C2D9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aciendo simplificaciones, la ecuación anterior puede reducirse 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3284640"/>
                <a:ext cx="7289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9EB-1A0F-43A8-BBB7-FFF4CDDE7B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roblema:  Empresa energética dese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aber como la demand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electricidad varía según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nivel de publicidad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alizada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2FB-F965-4972-B733-BAEE37FF39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2000" y="1905120"/>
            <a:ext cx="56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denomina TSS (total sum of squ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llamado SSBc (sum of squares betwee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notado SSW (sum of squares withi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900000" y="1773360"/>
                <a:ext cx="2592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00000" y="3213000"/>
                <a:ext cx="237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71640" y="4724280"/>
                <a:ext cx="255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359-052B-40C0-B3C6-BFC63A6DD3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fini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TS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total sum of squares): la diferencia entre el valor observado y la media glob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Bc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between columns) es la desviación de cada columna con respecto a la med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W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within columns) representa la desviación de los valores con respecto de las medias de las colum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092-506E-42C8-8618-899E89A632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949400"/>
                <a:gridCol w="11588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6E1-C52E-45AF-A0B1-8809B14360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3068640"/>
                <a:ext cx="252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puede de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(supuesto varianzas iguale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para cada column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(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rresponde a la variación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entre las medias reales de la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lumna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340000" y="4437000"/>
                <a:ext cx="2808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Bc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478-79FE-40AA-89BC-4DD0853F4D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ndo la razón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(MSBc)/E(MSW)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y revisando si es mayor que 1, podemos asegur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un valor no negativo distinto de 0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volvemos al mismo caso, el de no conocer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i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92A-2E38-447D-9D9F-7E0000CC58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mos el ratio con los estimador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F = MSBc/MSW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ntonces si F &gt; 1, se tendería a pens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0, es decir, que el nivel d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actor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o influye 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resultado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4EC-5C53-4C19-8E03-05924675F4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al provenir estos datos de estimaciones sobre una muestra en particular, no podemos estar segur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lución: Hacer un test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A45-8C08-459A-A8B4-9647442AFF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: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2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3=……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C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: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No todas las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j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n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MSBc/MSW sigue una distribución de Fisher de parámetros C-1 y (R-1)C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 [C-1, (R-1) C]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409-1931-4A4B-85E3-D4147D0C2B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alor crítico para el test dependerá del valor de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que seleccionem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n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5% tenemos que el valor crítico es de 2.66, por lo tanto si el valor de la distribución es menor a este valor no podemos rechazar la hipótesis nu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437-CD79-4DFA-9374-0B9E32BE91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60F-4F0F-4131-B31E-C9A9BCBC48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ra este estudio se considera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 niveles de Public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 clientes por cada nivel de public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553-F167-4648-B8D3-43514333A9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mpresa de baterías desea estudiar si la vida media de sus pilas tiene que ver con el artefacto en las que son usad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Test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8 artefactos que poseen el mismo consum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e testean 3 baterías para cada artefac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5C2-03BD-426B-92F6-DD6CBE2F3B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Media calculada: 5.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Bc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3[(2.6-5.8)^2 + (4.6-5.8`)^2+…]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69.1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W 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[(1.8-2.6)^2 + (5-2.6)^2+…+(5.8-7.4)^2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= 46.7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99308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A14-4765-40B4-BC8E-89D5F45924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1628640"/>
            <a:ext cx="798192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85F-15F7-4882-BA76-C17EEA5D2F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38080" y="1905120"/>
          <a:ext cx="7772400" cy="427356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 (</a:t>
                      </a:r>
                      <a:r>
                        <a:rPr b="0" lang="el-GR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= 5%)</a:t>
                      </a:r>
                      <a:r>
                        <a:rPr b="0" lang="es-ES" sz="3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9.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.87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.3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6.7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9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15.8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F4A-6F03-43D1-800C-970B0E12E2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mo el valor calculado de la distribución de Fisher es mayor que el valor crítico (3.38 &gt; 2.66), podemos rechazar con un 95% de certeza que la vida media de las pilas varia con artefacto en las que se usan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CDE-D2BF-49CC-879D-48EC44D6C1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gunta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184464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¿Dudas, preguntas, comentario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racias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7C0-4342-4CFB-930B-F3E100ACF9E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0CB6-3A59-4643-A463-34AD51A95A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os datos obtenidos s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70246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5CA-5435-4EC9-8046-C0FBB6C5E7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 podemos afirmar o rechazar que el nivel de publicidad afecta la demand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spuesta: con ANOVA (Análisis de l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 varianza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EC4-879A-481B-8B83-D6DF0F9EB2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análisis de la varianza (ANOVA) es una técnica estadística de contraste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idas por R. A. Fisher en 1925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A81-D738-466B-AD69-30A05337FD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 utiliza como respuesta a la necesidad   de utilizar una técnica de comparación de más de dos grup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sólo dos grupos se utiliza un   contraste de medias basado en “t Student”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C3A-4EE7-4F1D-B56C-F494020781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n el planteamiento de ANOVA  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numérica cuantitativa (resultado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cualitativa (facto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seamos determinar en que medida la variabilidad de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se puede atribuir a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16C-F8E9-4BEF-8F16-94A3883ECC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puestos de Anova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uestras independientes y al azar para cada fact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muestras de cada factor siguen una distribución Norma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nzas de las muestras de cada factor son igua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D0A-49BD-4218-B8CD-7963BE6357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i</cp:lastModifiedBy>
  <dcterms:modified xsi:type="dcterms:W3CDTF">2004-10-21T20:30:36Z</dcterms:modified>
  <cp:revision>175</cp:revision>
  <dc:subject/>
  <dc:title>PowerPoint Presentation</dc:title>
</cp:coreProperties>
</file>