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158-257A-4041-AC64-3D204D28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949-A7A3-4441-B1EC-54ACAACA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C4A-1A76-4D6B-ADE8-0096B355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DB1-976F-4F64-B1CF-451E8C13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93F2-9852-44BB-900B-BF004DDB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735E-30E4-49CB-8C57-217A2C39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58BD-1588-4762-879B-68A7C231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1442-4088-4AB4-8AD8-78D89386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34E2-1E4A-4380-8C17-57709DA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192-62CE-4D96-824F-7297B981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AE33-5093-4A7F-9BC5-33055751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B91-C605-4F37-9AFC-1C3EF115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4738-0A9C-4F27-88A9-98FF38B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A617-6007-4A40-9E2F-100C36DA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FC0F-8C18-46B9-AC41-9BC8A630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460A-0E46-437D-A287-C5CBECEB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FE76-81AD-4C6C-9B6E-C47F5B5D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143-C8B7-4D12-94DC-C7DC45E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0D3-2EB7-4EC8-BDBA-F6A6D240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6D6-7608-476E-A5AB-909EA251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138-B192-42B9-A953-1D946CF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C16-20D5-4209-8CD6-9E75B3A4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E1C-BA0D-4945-8424-FD280664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E1D-7CFE-4F89-9818-83EA0054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C4F8-628D-41E4-A72E-59124B41231B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1D79-FDC7-49AC-865F-FF931CCF44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02D-0929-41FC-BC90-43FF797773B0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655A-3249-469A-B375-93D14AFB67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721F-7874-49A8-8E2C-2F457E2054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eorí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enemos C grupos o niveles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 observaciones independientes y de manera aleatoria para cada nivel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C observaciones en total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ta: Pueden tenerse un número variable de observaciones para cada nivel, pero al tener la misma cantidad permite obtener máxima confiabilida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4FF-73F0-47B0-95D8-A753BAA3EF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odemos representar cada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como un modelo estadístico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147040" indent="-52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Y(i,j) =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:     Media sobre todas las muestras.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 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:  Respuesta asociada al j - ésimo nivel del factor 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en estud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: Error asociado con el valor (i,j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DAB-9819-48D2-BD33-1EC47A29EF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o conocemos los valores reales, por lo tanto debemos estimarl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a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    estimación par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 estimación para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4C8-6545-462F-82D4-F336A00A3A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708360" y="2206800"/>
                <a:ext cx="24112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6920" y="1828800"/>
            <a:ext cx="8137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finimos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promedio para la columna j, tenemos entonces que el valor del promedio para toda las mediciones 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214000" indent="-543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492920" indent="-1569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08360" y="5256360"/>
                <a:ext cx="187344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limUp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  <m:lim/>
                            </m:limUpp>
                          </m:e>
                        </m:nary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E13-AF0D-4636-8C2E-6B1FA1F09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 Como estimamos </a:t>
            </a:r>
            <a:r>
              <a:rPr b="0" lang="el-GR" sz="32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(i,j) es decir e(i,j)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Usando los estimadores ob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 -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T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ero queremos minimizar el error, es decir, encontrar M y T(j) tal que e(i,j) sea lo menor posib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A48-82C9-4B1F-9343-2A94B4DC65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? </a:t>
            </a:r>
            <a:r>
              <a:rPr b="0" lang="es-E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Minimizando las desviacione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los cuadrados de la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ma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63640" y="3716280"/>
                <a:ext cx="5904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9F6-A2A5-4366-A82D-5D853036D9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este criterio (mínimos cuadrados) podemos 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    estima 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       (i.e. M = Ῡ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 estima a 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  (i.e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=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lo que el error se traduce e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Ῡ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9CA-9346-4D60-B129-EAEDB627DB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corporando los estimadores en el modelo estadístico tenemos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Y(i,j) - Ῡ) = (Ῡ(j)- Ῡ)+(Y(i,j)- Ῡ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evamos al cuadrado y consideramos las RC ecuacion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47640" y="5084640"/>
                <a:ext cx="6407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1FE-29E1-40FC-B456-7ED01AB108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sarrollando el cuadrado podemos separar la ecuación anterior 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03280" y="3284640"/>
                <a:ext cx="662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348000" y="4221000"/>
                <a:ext cx="4392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087-B9B4-4415-BAB0-EA9C3ACFA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aciendo simplificaciones, la ecuación anterior puede reducirse 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3284640"/>
                <a:ext cx="7289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192-62CB-4485-82D4-2F9FAA8BF3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roblema:  Empresa energética dese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aber como la demand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electricidad varía según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nivel de publicidad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alizada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B8D-F0F0-4247-905D-1715662DF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2000" y="1905120"/>
            <a:ext cx="56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denomina TSS (total sum of squ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llamado SSBc (sum of squares betwee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notado SSW (sum of squares withi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900000" y="1773360"/>
                <a:ext cx="2592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00000" y="3213000"/>
                <a:ext cx="237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71640" y="4724280"/>
                <a:ext cx="255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475-B832-4EBF-8BAD-3EB83F7879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fini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TS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total sum of squares): la diferencia entre el valor observado y la media glob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Bc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between columns) es la desviación de cada columna con respecto a la med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W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within columns) representa la desviación de los valores con respecto de las medias de las colum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D79-78B3-46A1-B162-B70E91E356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949400"/>
                <a:gridCol w="11588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D76-960A-42F7-8F9B-D5C5037672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3068640"/>
                <a:ext cx="252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puede de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(supuesto varianzas iguale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para cada column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(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rresponde a la variación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entre las medias reales de la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lumna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340000" y="4437000"/>
                <a:ext cx="2808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Bc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0FF-A2D1-4E49-8F8F-0330EB94FC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ndo la razón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(MSBc)/E(MSW)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y revisando si es mayor que 1, podemos asegur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un valor no negativo distinto de 0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volvemos al mismo caso, el de no conocer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i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FCB-7393-43CF-87C1-B28DE8DEDB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mos el ratio con los estimador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F = MSBc/MSW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ntonces si F &gt; 1, se tendería a pens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0, es decir, que el nivel d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actor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o influye 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resultado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A8B-420F-41F5-9993-95BDE76188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al provenir estos datos de estimaciones sobre una muestra en particular, no podemos estar segur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lución: Hacer un test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537-9D9A-4444-BFA9-2CFE87ED6B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: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2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3=……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C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: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No todas las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j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n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MSBc/MSW sigue una distribución de Fisher de parámetros C-1 y (R-1)C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 [C-1, (R-1) C]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D78-63E0-46F6-8E0F-A608C47AC5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alor crítico para el test dependerá del valor de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que seleccionem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n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5% tenemos que el valor crítico es de 2.66, por lo tanto si el valor de la distribución es menor a este valor no podemos rechazar la hipótesis nu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761-24F6-4AF7-AD90-D001A97CD6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23D-8C6C-4CCD-9E9B-A858994691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ra este estudio se considera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 niveles de Public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 clientes por cada nivel de public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886-9E2B-46F3-914C-101ABFF682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mpresa de baterías desea estudiar si la vida media de sus pilas tiene que ver con el artefacto en las que son usad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Test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8 artefactos que poseen el mismo consum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e testean 3 baterías para cada artefac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165-A71D-43D1-892F-83F737A76F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Media calculada: 5.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Bc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3[(2.6-5.8)^2 + (4.6-5.8`)^2+…]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69.1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W 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[(1.8-2.6)^2 + (5-2.6)^2+…+(5.8-7.4)^2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= 46.7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99308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FA9-513C-4B32-B9CF-0D781A5C97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1628640"/>
            <a:ext cx="798192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5F2-8DE3-4D06-8441-242EA1B3CF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38080" y="1905120"/>
          <a:ext cx="7772400" cy="427356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 (</a:t>
                      </a:r>
                      <a:r>
                        <a:rPr b="0" lang="el-GR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= 5%)</a:t>
                      </a:r>
                      <a:r>
                        <a:rPr b="0" lang="es-ES" sz="3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9.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.87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.3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6.7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9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15.8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3B7-92E6-43D5-AE31-7ACD7AA874F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mo el valor calculado de la distribución de Fisher es mayor que el valor crítico (3.38 &gt; 2.66), podemos rechazar con un 95% de certeza que la vida media de las pilas varia con artefacto en las que se usan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18F-D108-4DF3-9E5D-ACD70209A5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gunta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184464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¿Dudas, preguntas, comentario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racias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F3A-8D43-43C1-ACD9-647FEF519E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753A-4B87-4939-808A-4C00664DC0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os datos obtenidos s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70246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CAA-16E7-424F-868B-7976F9FA1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 podemos afirmar o rechazar que el nivel de publicidad afecta la demand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spuesta: con ANOVA (Análisis de l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 varianza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3A1-5A85-4D0D-BE3E-4EE7307D21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análisis de la varianza (ANOVA) es una técnica estadística de contraste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idas por R. A. Fisher en 1925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252-1AED-40C1-BD6F-729D3D9BDE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 utiliza como respuesta a la necesidad   de utilizar una técnica de comparación de más de dos grup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sólo dos grupos se utiliza un   contraste de medias basado en “t Student”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4AF-FAB7-4257-A630-183BBA1340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n el planteamiento de ANOVA  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numérica cuantitativa (resultado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cualitativa (facto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seamos determinar en que medida la variabilidad de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se puede atribuir a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440-2F0E-4720-93AE-0BB3254544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puestos de Anova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uestras independientes y al azar para cada fact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muestras de cada factor siguen una distribución Norma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nzas de las muestras de cada factor son igua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295-C1DB-4D5C-983B-355CE3207C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i</cp:lastModifiedBy>
  <dcterms:modified xsi:type="dcterms:W3CDTF">2004-10-21T20:30:36Z</dcterms:modified>
  <cp:revision>175</cp:revision>
  <dc:subject/>
  <dc:title>PowerPoint Presentation</dc:title>
</cp:coreProperties>
</file>