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3D4-FA08-4BA2-8C9F-732CB831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F85-7E9C-4689-BAEE-2D3E0F24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56E-5FEA-4F68-89CE-C376B2D5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E86-4B76-410B-9DA4-F5F3C045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5886-353E-48A7-9556-1335AACE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D550-A663-4F6E-A0A5-20D9E02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0268-0871-4BEA-ADBB-C162F053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E7AC-4A5E-40ED-B88C-7BF829EF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3905-2FCB-486E-8B23-132E6D6B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3F77-846F-4853-86B6-26A8BF3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D482-143A-4840-B08B-2269EC10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BD6-B756-43CE-9244-6F1D5F4A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0CCE-976A-4ADC-993A-32390078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384A-63B8-4229-BACF-BFA6D941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1A7D-8B17-4E1F-BC02-939864E5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BA01-10D0-4E9B-9FB9-D78767AC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C392-9EC3-478A-94C4-0FCF41DC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D1A-5AC0-4F2B-9A14-DFDA9714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D21-B427-4E4F-9922-0EA7710D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858-B130-496E-8972-27737D2E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795-EEFB-4F91-B023-ED2C3BB6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280-3880-4340-A65D-27D5C960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054-BB53-4F6C-8F31-6C140C05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DB0-D7D6-4597-92FE-78BBE24C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0A1D-BD57-466C-9462-EEABAE2E7DBB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4E76-1E2F-4FD2-B34A-C4A0A63FF2F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1B5D-5597-46EB-9AA0-B923805518F2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9F0A-4467-4DA7-AB2B-192B3E5F572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A671-5FFC-4654-AEDE-6F7A84542A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eorí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enemos C grupos o niveles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 observaciones independientes y de manera aleatoria para cada nivel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C observaciones en total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ta: Pueden tenerse un número variable de observaciones para cada nivel, pero al tener la misma cantidad permite obtener máxima confiabilida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63D-5F3C-4AA7-A18A-378B3A5A7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odemos representar cada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como un modelo estadístico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147040" indent="-52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Y(i,j) =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:     Media sobre todas las muestras.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 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:  Respuesta asociada al j - ésimo nivel del factor 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en estud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: Error asociado con el valor (i,j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B97-2000-47E1-AD49-D633F3B8A7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o conocemos los valores reales, por lo tanto debemos estimarl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a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    estimación par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 estimación para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761-2AB7-44D4-A823-E3A18CF9A3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708360" y="2206800"/>
                <a:ext cx="24112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6920" y="1828800"/>
            <a:ext cx="8137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finimos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promedio para la columna j, tenemos entonces que el valor del promedio para toda las mediciones 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214000" indent="-543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492920" indent="-1569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08360" y="5256360"/>
                <a:ext cx="187344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limUp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  <m:lim/>
                            </m:limUpp>
                          </m:e>
                        </m:nary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699-97D4-4AF7-A732-509168A52B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 Como estimamos </a:t>
            </a:r>
            <a:r>
              <a:rPr b="0" lang="el-GR" sz="32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(i,j) es decir e(i,j)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Usando los estimadores ob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 -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T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ero queremos minimizar el error, es decir, encontrar M y T(j) tal que e(i,j) sea lo menor posib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D36-628A-443A-BEF9-E26E996B84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? </a:t>
            </a:r>
            <a:r>
              <a:rPr b="0" lang="es-E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Minimizando las desviacione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los cuadrados de la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ma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63640" y="3716280"/>
                <a:ext cx="5904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B17-848E-446B-A680-AB4E6B5882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este criterio (mínimos cuadrados) podemos 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    estima 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       (i.e. M = Ῡ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 estima a 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  (i.e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=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lo que el error se traduce e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Ῡ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BA3-9D18-4136-83CB-68A15EF08C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corporando los estimadores en el modelo estadístico tenemos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Y(i,j) - Ῡ) = (Ῡ(j)- Ῡ)+(Y(i,j)- Ῡ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evamos al cuadrado y consideramos las RC ecuacion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47640" y="5084640"/>
                <a:ext cx="6407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E4F-E6A4-4FCC-90E9-8F5B5B8BB3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sarrollando el cuadrado podemos separar la ecuación anterior 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03280" y="3284640"/>
                <a:ext cx="662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348000" y="4221000"/>
                <a:ext cx="4392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2B7-5641-4B70-91CF-1DC25F8340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aciendo simplificaciones, la ecuación anterior puede reducirse 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3284640"/>
                <a:ext cx="7289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5D5-D1EB-4A10-9EC8-D376A23C83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roblema:  Empresa energética dese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aber como la demand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electricidad varía según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nivel de publicidad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alizada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7BF-4567-4E65-9864-F6FD21328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2000" y="1905120"/>
            <a:ext cx="56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denomina TSS (total sum of squ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llamado SSBc (sum of squares betwee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notado SSW (sum of squares withi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900000" y="1773360"/>
                <a:ext cx="2592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00000" y="3213000"/>
                <a:ext cx="237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71640" y="4724280"/>
                <a:ext cx="255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DAC-BFAD-42C2-88C6-672F701F6A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fini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TS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total sum of squares): la diferencia entre el valor observado y la media glob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Bc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between columns) es la desviación de cada columna con respecto a la med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W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within columns) representa la desviación de los valores con respecto de las medias de las colum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2D4-3532-45E3-8977-E3733D237D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949400"/>
                <a:gridCol w="11588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4BA-6CFD-44A5-B9D4-B5F6967DD3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3068640"/>
                <a:ext cx="252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puede de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(supuesto varianzas iguale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para cada column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(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rresponde a la variación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entre las medias reales de la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lumna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340000" y="4437000"/>
                <a:ext cx="2808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Bc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B56-CE6A-4991-AB60-875FED89A8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ndo la razón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(MSBc)/E(MSW)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y revisando si es mayor que 1, podemos asegur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un valor no negativo distinto de 0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volvemos al mismo caso, el de no conocer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i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026-A30F-4139-8583-499A49A0D9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mos el ratio con los estimador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F = MSBc/MSW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ntonces si F &gt; 1, se tendería a pens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0, es decir, que el nivel d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actor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o influye 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resultado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2E3-D170-4811-A0CC-EA04FB18DB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al provenir estos datos de estimaciones sobre una muestra en particular, no podemos estar segur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lución: Hacer un test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86D-6404-4D07-A1BD-06F266A3FA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: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2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3=……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C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: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No todas las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j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n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MSBc/MSW sigue una distribución de Fisher de parámetros C-1 y (R-1)C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 [C-1, (R-1) C]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B29-F30A-4E58-801E-9E82CAB1E6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alor crítico para el test dependerá del valor de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que seleccionem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n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5% tenemos que el valor crítico es de 2.66, por lo tanto si el valor de la distribución es menor a este valor no podemos rechazar la hipótesis nu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7AC-84E2-4C1F-8388-914CB24E21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B5C-5D7E-48AC-9BAE-7362F79FC2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ra este estudio se considera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 niveles de Public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 clientes por cada nivel de public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E76-1559-4C82-A478-B421ABD6E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mpresa de baterías desea estudiar si la vida media de sus pilas tiene que ver con el artefacto en las que son usad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Test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8 artefactos que poseen el mismo consum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e testean 3 baterías para cada artefac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C71-B74E-47B0-976F-661FF1B575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Media calculada: 5.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Bc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3[(2.6-5.8)^2 + (4.6-5.8`)^2+…]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69.1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W 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[(1.8-2.6)^2 + (5-2.6)^2+…+(5.8-7.4)^2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= 46.7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99308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40D-9A79-4A66-9053-78938FBA4A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1628640"/>
            <a:ext cx="798192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168-A2CE-4188-8323-B072613EFA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38080" y="1905120"/>
          <a:ext cx="7772400" cy="427356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 (</a:t>
                      </a:r>
                      <a:r>
                        <a:rPr b="0" lang="el-GR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= 5%)</a:t>
                      </a:r>
                      <a:r>
                        <a:rPr b="0" lang="es-ES" sz="3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9.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.87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.3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6.7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9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15.8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1D1-400F-402F-89F4-4482F040F5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mo el valor calculado de la distribución de Fisher es mayor que el valor crítico (3.38 &gt; 2.66), podemos rechazar con un 95% de certeza que la vida media de las pilas varia con artefacto en las que se usan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DCA-F2AB-41EB-B066-2B13300F8F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gunta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184464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¿Dudas, preguntas, comentario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racias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956-853A-4EA3-BBCF-A5405AB81D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5807-2B4A-468D-8B2C-8DBEE6F96F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os datos obtenidos s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70246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42A-644B-482A-92E0-44A813F4F1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 podemos afirmar o rechazar que el nivel de publicidad afecta la demand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spuesta: con ANOVA (Análisis de l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 varianza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17D-1384-45CF-9BF9-8A117484D7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análisis de la varianza (ANOVA) es una técnica estadística de contraste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idas por R. A. Fisher en 1925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BAB-2796-418A-9BF3-4BB9064CF1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 utiliza como respuesta a la necesidad   de utilizar una técnica de comparación de más de dos grup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sólo dos grupos se utiliza un   contraste de medias basado en “t Student”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3C9-AB26-472B-8FB8-1BB2205BAB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n el planteamiento de ANOVA  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numérica cuantitativa (resultado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cualitativa (facto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seamos determinar en que medida la variabilidad de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se puede atribuir a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5E6-CF4E-44E6-B006-C769A5B049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puestos de Anova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uestras independientes y al azar para cada fact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muestras de cada factor siguen una distribución Norma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nzas de las muestras de cada factor son igua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F51-80D9-4C16-BEF9-1049761F6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i</cp:lastModifiedBy>
  <dcterms:modified xsi:type="dcterms:W3CDTF">2004-10-21T20:30:36Z</dcterms:modified>
  <cp:revision>175</cp:revision>
  <dc:subject/>
  <dc:title>PowerPoint Presentation</dc:title>
</cp:coreProperties>
</file>