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FBD-7F50-4EFB-9BB7-646DA92D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252-497C-4B2F-94FC-7CBEECF5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FE1-10B2-47AA-9EEE-82B8DF6C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F6E-C788-4017-9412-1C4FBBCF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330A-6CA6-4A46-8F09-C446A988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2856-E72D-49AE-B9EE-CD9F4693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50F7-C69E-4342-9BE9-605CE4D3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A72C-450A-4F6D-B3B0-267E3FCD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644F-243D-4B86-9377-61C2E786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60AF-ED5A-40B8-8F1D-C3A5F7F2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4353-1F86-415D-A9D3-899E7082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93F-EF93-4E05-8658-9879A3AE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4871-3E16-43D7-9FE5-82F52EC6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3CD3-FC70-4D30-A107-14564826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B549-5143-4284-B8C7-4177B569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3FD1-C975-45AE-8173-35EEC2FF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F4A0-2A56-473B-B2A3-2002CDC1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CA0-341A-40CB-93BC-3C5D0D51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D11-3961-4B87-A5FC-68FCC387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35C-E701-4E2C-9004-7DAC2699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9AC-9E89-4A9E-B934-DA4AB3DA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12E-A86F-426E-BA7C-17A779B4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744-6A50-4CFB-A2FF-165EFE31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13B-4232-4C67-96C7-292FCCA3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C178-6C6F-4D1D-9C39-5E47B35730B1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55EA-0F48-4DF4-834C-DF29CD9428D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D1F2-D4A1-470D-8A91-443781F51795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FF21-E938-4371-8D5B-C0FA037C757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0066"/>
                </a:solidFill>
                <a:latin typeface="Tahoma"/>
              </a:rPr>
              <a:t>Análisis</a:t>
            </a:r>
            <a:r>
              <a:rPr b="1" lang="en-US" sz="5400" spc="-1" strike="noStrike">
                <a:solidFill>
                  <a:srgbClr val="660066"/>
                </a:solidFill>
                <a:latin typeface="Tahoma"/>
              </a:rPr>
              <a:t> de la Varianza (ANOVA)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trizzi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Virgi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6C10-CBA8-4F36-8F68-FB09949102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Teoría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Tenemos C grupos o niveles del 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 observaciones independientes y de manera aleatoria para cada nivel del 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C observaciones en total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ta: Pueden tenerse un número variable de observaciones para cada nivel, pero al tener la misma cantidad permite obtener máxima confiabilida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A84-3C98-4690-9F27-B474FA447A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odemos representar cada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resultado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como un modelo estadístico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2147040" indent="-52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Y(i,j) =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µ +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j) +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i,j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µ:     Media sobre todas las muestras.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 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j):  Respuesta asociada al j - ésimo nivel del factor    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en estudi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i,j): Error asociado con el valor (i,j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16C-578B-4ACB-8914-D8345C7516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o conocemos los valores reales, por lo tanto debemos estimarl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a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    estimación par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µ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(j)  estimación para </a:t>
            </a:r>
            <a:r>
              <a:rPr b="0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j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E8B-ADA3-4745-93EA-8D1B511078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708360" y="2206800"/>
                <a:ext cx="24112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826920" y="1828800"/>
            <a:ext cx="813780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7400" indent="-61740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finimos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promedio para la columna j, tenemos entonces que el valor del promedio para toda las mediciones 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2214000" indent="-543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492920" indent="-1569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708360" y="5256360"/>
                <a:ext cx="187344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limUp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  <m:lim/>
                            </m:limUpp>
                          </m:e>
                        </m:nary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242-D74E-4108-A964-AA491C50CA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1844640"/>
            <a:ext cx="799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 Como estimamos </a:t>
            </a:r>
            <a:r>
              <a:rPr b="0" lang="el-GR" sz="32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(i,j) es decir e(i,j)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Usando los estimadores obtenem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(i,j) = Y(i,j) -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 -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T(j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ero queremos minimizar el error, es decir, encontrar M y T(j) tal que e(i,j) sea lo menor posibl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CFC-E62B-4BCE-A669-079FFF2025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844640"/>
            <a:ext cx="813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Cómo? </a:t>
            </a:r>
            <a:r>
              <a:rPr b="0" lang="es-E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Minimizando las desviaciones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 los cuadrados de las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uma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63640" y="3716280"/>
                <a:ext cx="5904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3B0-6A40-4973-AA91-007C0C412F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este criterio (mínimos cuadrados) podemos mostrar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    estima 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µ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       (i.e. M = Ῡ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j) estima a  </a:t>
            </a:r>
            <a:r>
              <a:rPr b="0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j)   (i.e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(j) =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j)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lo que el error se traduce e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(i,j) = Y(i,j) - Ῡ(j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C8F-7895-4F53-B187-DEE22094C3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corporando los estimadores en el modelo estadístico tenemos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Y(i,j) - Ῡ) = (Ῡ(j)- Ῡ)+(Y(i,j)- Ῡ(j)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evamos al cuadrado y consideramos las RC ecuacion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47640" y="5084640"/>
                <a:ext cx="6407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DC7C-E366-4E0C-895B-7415D79E88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Desarrollando el cuadrado podemos separar la ecuación anterior e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03280" y="3284640"/>
                <a:ext cx="662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348000" y="4221000"/>
                <a:ext cx="4392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3A1-DCFA-4023-B3CE-8D3BBBBC1A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aciendo simplificaciones, la ecuación anterior puede reducirse 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332000" y="3284640"/>
                <a:ext cx="72896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r>
                      <m:t xml:space="preserve">R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3A1B-DB44-4282-BDA8-2A3F2E1C8A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roblema:  Empresa energética dese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aber como la demand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 electricidad varía según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nivel de publicidad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alizada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C91-B0F5-4136-A3B6-CACE6BB318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92000" y="1905120"/>
            <a:ext cx="56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e denomina TSS (total sum of squ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llamado SSBc (sum of squares between column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denotado SSW (sum of squares within column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900000" y="1773360"/>
                <a:ext cx="2592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00000" y="3213000"/>
                <a:ext cx="2376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71640" y="4724280"/>
                <a:ext cx="2558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8E1-4DB4-4B6E-B891-47014AB658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efini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TS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total sum of squares): la diferencia entre el valor observado y la media glob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SBc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sum of squares between columns) es la desviación de cada columna con respecto a la med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SW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sum of squares within columns) representa la desviación de los valores con respecto de las medias de las colum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4C1-4339-46D7-94CC-216F4822B4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949400"/>
                <a:gridCol w="115884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/(C-1)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R-1)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/[(R-1)C]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S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8E4-3CFF-444B-8C86-0BEF8B776A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40000" y="3068640"/>
                <a:ext cx="2521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S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e puede demostrar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                          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(supuesto varianzas iguales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para cada columna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                          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(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corresponde a la variación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entre las medias reales de las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columna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340000" y="4437000"/>
                <a:ext cx="2808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SBc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1AC-D02A-4B03-BD0A-C358B32470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enerando la razón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(MSBc)/E(MSW)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y revisando si es mayor que 1, podemos asegurar que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es un valor no negativo distinto de 0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Pero volvemos al mismo caso, el de no conocer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ni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A2A-D605-4682-B0B1-F8EB5677B8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eneramos el ratio con los estimador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F = MSBc/MSW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ntonces si F &gt; 1, se tendería a pensar que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es 0, es decir, que el nivel del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factor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no influye el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resultado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C85-815F-42AE-A227-D019EBEBB6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Pero al provenir estos datos de estimaciones sobre una muestra en particular, no podemos estar segur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olución: Hacer un test de hipótesi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CC9-1309-4057-9943-91FA4FF5C5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0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: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1=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2=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3=……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C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= 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1: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No todas las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j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on 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MSBc/MSW sigue una distribución de Fisher de parámetros C-1 y (R-1)C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F [C-1, (R-1) C]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A0A-1A08-4151-977F-857B9345CA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alor crítico para el test dependerá del valor de </a:t>
            </a:r>
            <a:r>
              <a:rPr b="0" lang="el-GR" sz="3200" spc="-1" strike="noStrike">
                <a:solidFill>
                  <a:srgbClr val="40458c"/>
                </a:solidFill>
                <a:latin typeface="Arial"/>
                <a:ea typeface="Arial"/>
              </a:rPr>
              <a:t>α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que seleccionem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Con </a:t>
            </a:r>
            <a:r>
              <a:rPr b="0" lang="el-GR" sz="3200" spc="-1" strike="noStrike">
                <a:solidFill>
                  <a:srgbClr val="40458c"/>
                </a:solidFill>
                <a:latin typeface="Arial"/>
                <a:ea typeface="Arial"/>
              </a:rPr>
              <a:t>α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= 5% tenemos que el valor crítico es de 2.66, por lo tanto si el valor de la distribución es menor a este valor no podemos rechazar la hipótesis nu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31F-BD9C-4786-AF71-6331B7279B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387800"/>
                <a:gridCol w="1368360"/>
                <a:gridCol w="1871640"/>
                <a:gridCol w="159048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 distribución 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/(C-1)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R-1)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/[(R-1)C]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S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8FE-BEB6-4C56-8649-B6BC2A3F12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ra este estudio se considera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132876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 niveles de Public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32876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 clientes por cada nivel de public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38A-3EAE-4576-A438-CCD68BD31B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mpresa de baterías desea estudiar si la vida media de sus pilas tiene que ver con el artefacto en las que son usad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Test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8 artefactos que poseen el mismo consum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e testean 3 baterías para cada artefact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FD0-F9CE-43C9-897F-0F9DE9D359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3573360"/>
            <a:ext cx="8388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Media calculada: 5.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SSBc =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3[(2.6-5.8)^2 + (4.6-5.8`)^2+…]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= 69.1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SSW  =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[(1.8-2.6)^2 + (5-2.6)^2+…+(5.8-7.4)^2]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= 46.7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993080" cy="15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161-E72A-4C66-8DE8-F12C91F918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" y="3573360"/>
            <a:ext cx="8388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38080" y="1628640"/>
            <a:ext cx="798192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712-3E8D-46C7-8FEB-0700F65090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32876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838080" y="1905120"/>
          <a:ext cx="7772400" cy="4273560"/>
        </p:xfrm>
        <a:graphic>
          <a:graphicData uri="http://schemas.openxmlformats.org/drawingml/2006/table">
            <a:tbl>
              <a:tblPr/>
              <a:tblGrid>
                <a:gridCol w="1554120"/>
                <a:gridCol w="1387800"/>
                <a:gridCol w="1368360"/>
                <a:gridCol w="1871640"/>
                <a:gridCol w="1590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 distribución F (</a:t>
                      </a:r>
                      <a:r>
                        <a:rPr b="0" lang="el-GR" sz="2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 = 5%)</a:t>
                      </a:r>
                      <a:r>
                        <a:rPr b="0" lang="es-ES" sz="3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9.1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9.87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.3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6.7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.9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15.8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847-FD5C-4227-BD7B-0CA43480A9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Como el valor calculado de la distribución de Fisher es mayor que el valor crítico (3.38 &gt; 2.66), podemos rechazar con un 95% de certeza que la vida media de las pilas varia con artefacto en las que se usan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825-8EB5-47AD-B757-4E98071FC31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gunta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32876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184464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¿Dudas, preguntas, comentario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racias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907-F4A7-4F67-94B7-4BF0D20BCD6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0066"/>
                </a:solidFill>
                <a:latin typeface="Tahoma"/>
              </a:rPr>
              <a:t>Análisis</a:t>
            </a:r>
            <a:r>
              <a:rPr b="1" lang="en-US" sz="5400" spc="-1" strike="noStrike">
                <a:solidFill>
                  <a:srgbClr val="660066"/>
                </a:solidFill>
                <a:latin typeface="Tahoma"/>
              </a:rPr>
              <a:t> de la Varianza (ANOVA)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trizzi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Virgi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73CC-F473-47F8-ABF9-E8BD2AA1C1A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os datos obtenidos s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7024680" cy="32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A24-1D4A-422B-BD7A-BB358B3CFE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Cómo podemos afirmar o rechazar que el nivel de publicidad afecta la demand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spuesta: con ANOVA (Análisis de l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 varianza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CEB-6C8E-4C8E-A25F-EACBFF6914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análisis de la varianza (ANOVA) es una técnica estadística de contraste de hipótesi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idas por R. A. Fisher en 1925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2D0-32D8-41D0-86FC-8123E0B0D3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790560" y="184464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 utiliza como respuesta a la necesidad   de utilizar una técnica de comparación de más de dos grup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sólo dos grupos se utiliza un   contraste de medias basado en “t Student”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DD2-39A3-47B5-A48B-0FF6938547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n el planteamiento de ANOVA  tenem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840" indent="-2084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ble numérica cuantitativa (resultado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840" indent="-2084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ble cualitativa (factor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seamos determinar en que medida la variabilidad del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resultado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se puede atribuir al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B8F-85A0-4DDA-A2FF-40108AE35F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790560" y="184464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31640" indent="-4316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upuestos de Anova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uestras independientes y al azar para cada fact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s muestras de cada factor siguen una distribución Norma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nzas de las muestras de cada factor son igual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E19-6894-42F4-A970-B47C15B253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i</cp:lastModifiedBy>
  <dcterms:modified xsi:type="dcterms:W3CDTF">2004-10-21T20:30:36Z</dcterms:modified>
  <cp:revision>175</cp:revision>
  <dc:subject/>
  <dc:title>PowerPoint Presentation</dc:title>
</cp:coreProperties>
</file>