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FCCC-AA42-45DC-8ABD-11C5990C9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CC39-8944-4969-B397-CF625D72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2E3B-7F0B-42E9-B832-DD6A3EED8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C9E5-E7FC-4CF5-A73D-0AFE0BC05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F458-2D5C-4008-9991-8C3DC1658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E7DC-CB19-422A-BF5B-6008121E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9C2E-449F-4C47-90E9-37ECD1F0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C309-3532-4ABD-B00C-DFADF6F9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F49B-F5E8-4EA4-8AC7-AFC2531E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41AF-9ED3-479B-8156-C3102B72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30CC-E845-419E-80FB-8A7CA30B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184C-BA2E-462E-B5DA-C2EC34A8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1680-6965-4C1F-9701-E672BC06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7FBE-0526-4CD7-A396-4C015322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96E3-2BC7-4DA1-BB59-C786C763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D608-CF53-42D7-B917-680773230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E0BD-33E7-4DD4-B0B6-971FBAB3C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69EA-D543-4207-8E96-A9679904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0434-8E5D-4401-841E-9A0316CE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850D-5CF8-4C69-BD1D-BECC8764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7290-6B88-461D-8983-EBFC8250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0D3D-D4A5-4F83-AB72-B071A463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1960-D430-49D4-A778-FB1CF985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D386-9FC3-48EC-9BC1-6F09B9F4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8328-5F5F-4A37-BF71-02CCE8BB0CBE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6F77-D559-4FFE-B322-D6569803860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7177-389A-4E6C-839C-40964F68A3D7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3269-C558-4404-86D9-3CCCE6C3C62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660066"/>
                </a:solidFill>
                <a:latin typeface="Tahoma"/>
              </a:rPr>
              <a:t>Análisis</a:t>
            </a:r>
            <a:r>
              <a:rPr b="1" lang="en-US" sz="5400" spc="-1" strike="noStrike">
                <a:solidFill>
                  <a:srgbClr val="660066"/>
                </a:solidFill>
                <a:latin typeface="Tahoma"/>
              </a:rPr>
              <a:t> de la Varianza (ANOVA)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800600" y="4723920"/>
            <a:ext cx="281952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Patrizzio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Virgil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66CD-8210-4C4E-B78B-0C8F95662E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Teoría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755640" y="184464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680040" indent="-6800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Tenemos C grupos o niveles del factor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80040" indent="-6800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R observaciones independientes y de manera aleatoria para cada nivel del factor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80040" indent="-6800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RC observaciones en total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80040" indent="-680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680040" indent="-68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Nota: Pueden tenerse un número variable de observaciones para cada nivel, pero al tener la misma cantidad permite obtener máxima confiabilidad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680040" indent="-68004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680040" indent="-680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2A18-244D-42BD-99D9-50DB436B98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755640" y="184464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98680" indent="-5986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Podemos representar cada </a:t>
            </a:r>
            <a:r>
              <a:rPr b="1" lang="es-ES" sz="3200" spc="-1" strike="noStrike">
                <a:solidFill>
                  <a:srgbClr val="40458c"/>
                </a:solidFill>
                <a:latin typeface="Tahoma"/>
              </a:rPr>
              <a:t>resultado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como un modelo estadístico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2147040" indent="-52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Y(i,j) =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µ + </a:t>
            </a:r>
            <a:r>
              <a:rPr b="0" lang="el-GR" sz="24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(j) + </a:t>
            </a:r>
            <a:r>
              <a:rPr b="0" lang="el-GR" sz="2400" spc="-1" strike="noStrike">
                <a:solidFill>
                  <a:srgbClr val="40458c"/>
                </a:solidFill>
                <a:latin typeface="Tahoma"/>
              </a:rPr>
              <a:t>ε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(i,j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98680" indent="-5986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98680" indent="-59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µ:     Media sobre todas las muestras.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 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98680" indent="-598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l-GR" sz="24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(j):  Respuesta asociada al j - ésimo nivel del factor    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 en estudi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98680" indent="-598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l-GR" sz="2400" spc="-1" strike="noStrike">
                <a:solidFill>
                  <a:srgbClr val="40458c"/>
                </a:solidFill>
                <a:latin typeface="Tahoma"/>
              </a:rPr>
              <a:t>ε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(i,j): Error asociado con el valor (i,j)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09FA-5405-4BD8-868B-C90A67310D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55640" y="184464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No conocemos los valores reales, por lo tanto debemos estimarlo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Sea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M    estimación para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µ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(j)  estimación para </a:t>
            </a:r>
            <a:r>
              <a:rPr b="0" lang="el-GR" sz="28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(j)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FE8D-86E9-492C-B232-FC4CB366AC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3708360" y="2206800"/>
                <a:ext cx="241128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limUpp>
                          <m:e>
                            <m:r>
                              <m:t xml:space="preserve">Y</m:t>
                            </m:r>
                          </m:e>
                          <m:lim/>
                        </m:limUpp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826920" y="1828800"/>
            <a:ext cx="813780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17400" indent="-61740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Definimos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17400" indent="-617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17400" indent="-617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17400" indent="-617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el promedio para la columna j, tenemos entonces que el valor del promedio para toda las mediciones e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17400" indent="-61740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2214000" indent="-54324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492920" indent="-15696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708360" y="5256360"/>
                <a:ext cx="1873440" cy="102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Y</m:t>
                        </m:r>
                      </m:e>
                      <m:lim/>
                    </m:limUpp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  <m:e>
                            <m:limUp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  <m:lim/>
                            </m:limUpp>
                          </m:e>
                        </m:nary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9190-5416-4F4A-B698-F59D2B6077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755640" y="1844640"/>
            <a:ext cx="7993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86440" indent="-5864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¿ Como estimamos </a:t>
            </a:r>
            <a:r>
              <a:rPr b="0" lang="el-GR" sz="3200" spc="-1" strike="noStrike">
                <a:solidFill>
                  <a:srgbClr val="40458c"/>
                </a:solidFill>
                <a:latin typeface="Tahoma"/>
              </a:rPr>
              <a:t>ε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(i,j) es decir e(i,j)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86440" indent="-586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86440" indent="-5864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Usando los estimadores obtenemo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417320" indent="-1490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(i,j) = Y(i,j) -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 -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T(j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417320" indent="-1490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586440" indent="-5864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Pero queremos minimizar el error, es decir, encontrar M y T(j) tal que e(i,j) sea lo menor posibl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417320" indent="-14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5EBA-DB5F-47AF-9FC9-985EBD8717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755640" y="1844640"/>
            <a:ext cx="8137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¿Cómo? </a:t>
            </a:r>
            <a:r>
              <a:rPr b="0" lang="es-ES" sz="32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Minimizando las desviaciones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de los cuadrados de las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suma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763640" y="3716280"/>
                <a:ext cx="59040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91A1-B69E-4F6C-B292-DDC352FB98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755640" y="184464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 este criterio (mínimos cuadrados) podemos mostrar que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Ῡ    estima a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µ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       (i.e. M = Ῡ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Ῡ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(j) estima a  </a:t>
            </a:r>
            <a:r>
              <a:rPr b="0" lang="el-GR" sz="28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(j)   (i.e.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(j) =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Ῡ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(j)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 lo que el error se traduce en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(i,j) = Y(i,j) - Ῡ(j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2236680" indent="-54900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4F44-A30A-4BC8-9CD9-A947F9744D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755640" y="184464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Incorporando los estimadores en el modelo estadístico tenemos que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(Y(i,j) - Ῡ) = (Ῡ(j)- Ῡ)+(Y(i,j)- Ῡ(j)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2236680" indent="-54900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Elevamos al cuadrado y consideramos las RC ecuacione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2236680" indent="-54900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2236680" indent="-549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2236680" indent="-549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547640" y="5084640"/>
                <a:ext cx="64072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p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limUpp>
                                  <m:e>
                                    <m:r>
                                      <m:t xml:space="preserve">Y</m:t>
                                    </m:r>
                                  </m:e>
                                  <m:lim/>
                                </m:limUpp>
                                <m:r>
                                  <m:t xml:space="preserve">)</m:t>
                                </m:r>
                              </m:e>
                            </m:nary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(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/>
                            </m:limUpp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/>
                            </m:limUp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/>
                            </m:limUp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A84C-3165-4664-932A-AEC591630D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4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Desarrollando el cuadrado podemos separar la ecuación anterior e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403280" y="3284640"/>
                <a:ext cx="662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/>
                            </m:limUp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(</m:t>
                                    </m:r>
                                  </m:e>
                                </m:nary>
                              </m:e>
                            </m:nary>
                          </m:e>
                        </m:nary>
                      </m:e>
                    </m:nary>
                    <m:limUpp>
                      <m:e>
                        <m:r>
                          <m:t xml:space="preserve">Y</m:t>
                        </m:r>
                      </m:e>
                      <m:lim/>
                    </m:limUpp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−</m:t>
                    </m:r>
                    <m:limUpp>
                      <m:e>
                        <m:r>
                          <m:t xml:space="preserve">Y</m:t>
                        </m:r>
                      </m:e>
                      <m:lim/>
                    </m:limUp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</m:e>
                        </m:nary>
                      </m:e>
                    </m:nary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−</m:t>
                    </m:r>
                    <m:limUpp>
                      <m:e>
                        <m:r>
                          <m:t xml:space="preserve">Y</m:t>
                        </m:r>
                      </m:e>
                      <m:lim/>
                    </m:limUpp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348000" y="4221000"/>
                <a:ext cx="43927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(</m:t>
                                </m:r>
                                <m:limUpp>
                                  <m:e>
                                    <m:r>
                                      <m:t xml:space="preserve">Y</m:t>
                                    </m:r>
                                  </m:e>
                                  <m:lim/>
                                </m:limUpp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limUpp>
                                  <m:e>
                                    <m:r>
                                      <m:t xml:space="preserve">Y</m:t>
                                    </m:r>
                                  </m:e>
                                  <m:lim/>
                                </m:limUpp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limUpp>
                                  <m:e>
                                    <m:r>
                                      <m:t xml:space="preserve">Y</m:t>
                                    </m:r>
                                  </m:e>
                                  <m:lim/>
                                </m:limUpp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C61B-4984-404F-8F5D-ABAB55A4D0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3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Haciendo simplificaciones, la ecuación anterior puede reducirse 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332000" y="3284640"/>
                <a:ext cx="72896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/>
                            </m:limUp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</m:e>
                        </m:nary>
                      </m:e>
                    </m:nary>
                    <m:r>
                      <m:t xml:space="preserve">R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/>
                            </m:limUp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/>
                            </m:limUp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+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</m:e>
                        </m:nary>
                      </m:e>
                    </m:nary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−</m:t>
                    </m:r>
                    <m:limUpp>
                      <m:e>
                        <m:r>
                          <m:t xml:space="preserve">Y</m:t>
                        </m:r>
                      </m:e>
                      <m:lim/>
                    </m:limUpp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9E34-A371-4DFA-8E6E-F327907427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tivación.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Problema:  Empresa energética desea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saber como la demanda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de electricidad varía según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el nivel de publicidad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realizada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7735-981A-4E2B-A913-1A44277A5A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492000" y="1905120"/>
            <a:ext cx="56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se denomina TSS (total sum of square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llamado SSBc (sum of squares between column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denotado SSW (sum of squares within column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900000" y="1773360"/>
                <a:ext cx="25923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/>
                            </m:limUp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00000" y="3213000"/>
                <a:ext cx="23767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limUpp>
                                  <m:e>
                                    <m:r>
                                      <m:t xml:space="preserve">Y</m:t>
                                    </m:r>
                                  </m:e>
                                  <m:lim/>
                                </m:limUpp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limUpp>
                                  <m:e>
                                    <m:r>
                                      <m:t xml:space="preserve">Y</m:t>
                                    </m:r>
                                  </m:e>
                                  <m:lim/>
                                </m:limUpp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971640" y="4724280"/>
                <a:ext cx="25588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</m:e>
                        </m:nary>
                      </m:e>
                    </m:nary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−</m:t>
                    </m:r>
                    <m:limUpp>
                      <m:e>
                        <m:r>
                          <m:t xml:space="preserve">Y</m:t>
                        </m:r>
                      </m:e>
                      <m:lim/>
                    </m:limUpp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3077-57D2-437F-A7AE-0B0A9F641D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Definición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55640" y="190512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TSS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 (total sum of squares): la diferencia entre el valor observado y la media glob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6360" indent="-57636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SSBc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 (sum of squares between columns) es la desviación de cada columna con respecto a la medi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6360" indent="-57636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SSW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 (sum of squares within columns) representa la desviación de los valores con respecto de las medias de las colum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29B3-9910-4166-8DF1-BA4FF611FC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mient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838080" y="1905120"/>
          <a:ext cx="7772400" cy="4114800"/>
        </p:xfrm>
        <a:graphic>
          <a:graphicData uri="http://schemas.openxmlformats.org/drawingml/2006/table">
            <a:tbl>
              <a:tblPr/>
              <a:tblGrid>
                <a:gridCol w="1554120"/>
                <a:gridCol w="1554480"/>
                <a:gridCol w="1555560"/>
                <a:gridCol w="1949400"/>
                <a:gridCol w="115884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Fuente de Variabilidad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Valores Numérico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Grados de libertad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uadrado Medio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Entre columnas (SSBc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SBc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-1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SBc/(C-1) 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on las columnas (SSW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SW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R-1)C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SW/[(R-1)C]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otal         (TSS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S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RC-1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B1F2-86A7-4C17-ACD7-4A7CCE5604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mient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2340000" y="3068640"/>
                <a:ext cx="25210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SW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Se puede demostrar que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                               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(supuesto varianzas iguales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para cada columna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                               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(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corresponde a la variación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entre las medias reales de las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columnas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2340000" y="4437000"/>
                <a:ext cx="28083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SBc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5246-2CD8-45A7-A709-65C40DBDE4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mient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Generando la razón </a:t>
            </a:r>
            <a:r>
              <a:rPr b="1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E(MSBc)/E(MSW)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y revisando si es mayor que 1, podemos asegurar que </a:t>
            </a:r>
            <a:r>
              <a:rPr b="1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V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es un valor no negativo distinto de 0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Pero volvemos al mismo caso, el de no conocer </a:t>
            </a:r>
            <a:r>
              <a:rPr b="1" lang="el-GR" sz="28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ni </a:t>
            </a:r>
            <a:r>
              <a:rPr b="1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V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DD41-E3F9-41C3-BEE3-24DF2EE7A22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mient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Generamos el ratio con los estimadore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F = MSBc/MSW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Entonces si F &gt; 1, se tendería a pensar que </a:t>
            </a:r>
            <a:r>
              <a:rPr b="1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V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es 0, es decir, que el nivel del </a:t>
            </a:r>
            <a:r>
              <a:rPr b="1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factor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no influye el </a:t>
            </a:r>
            <a:r>
              <a:rPr b="1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resultado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AA43-E468-402D-9B59-FE4B097A877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mient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Pero al provenir estos datos de estimaciones sobre una muestra en particular, no podemos estar seguro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Solución: Hacer un test de hipótesi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EF88-3F7A-4092-AD99-6712EBFECB2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mient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>
                <a:solidFill>
                  <a:srgbClr val="40458c"/>
                </a:solidFill>
                <a:latin typeface="Arial"/>
                <a:ea typeface="Arial"/>
              </a:rPr>
              <a:t>0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: </a:t>
            </a:r>
            <a:r>
              <a:rPr b="1" lang="el-GR" sz="28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1600" spc="-1" strike="noStrike">
                <a:solidFill>
                  <a:srgbClr val="40458c"/>
                </a:solidFill>
                <a:latin typeface="Arial"/>
                <a:ea typeface="Arial"/>
              </a:rPr>
              <a:t>1= </a:t>
            </a:r>
            <a:r>
              <a:rPr b="1" lang="el-GR" sz="28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1600" spc="-1" strike="noStrike">
                <a:solidFill>
                  <a:srgbClr val="40458c"/>
                </a:solidFill>
                <a:latin typeface="Arial"/>
                <a:ea typeface="Arial"/>
              </a:rPr>
              <a:t>2= </a:t>
            </a:r>
            <a:r>
              <a:rPr b="1" lang="el-GR" sz="28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1600" spc="-1" strike="noStrike">
                <a:solidFill>
                  <a:srgbClr val="40458c"/>
                </a:solidFill>
                <a:latin typeface="Arial"/>
                <a:ea typeface="Arial"/>
              </a:rPr>
              <a:t>3=…… </a:t>
            </a:r>
            <a:r>
              <a:rPr b="1" lang="el-GR" sz="28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1600" spc="-1" strike="noStrike">
                <a:solidFill>
                  <a:srgbClr val="40458c"/>
                </a:solidFill>
                <a:latin typeface="Arial"/>
                <a:ea typeface="Arial"/>
              </a:rPr>
              <a:t>C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= 0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>
                <a:solidFill>
                  <a:srgbClr val="40458c"/>
                </a:solidFill>
                <a:latin typeface="Arial"/>
                <a:ea typeface="Arial"/>
              </a:rPr>
              <a:t>1: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No todas las </a:t>
            </a:r>
            <a:r>
              <a:rPr b="1" lang="el-GR" sz="28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1600" spc="-1" strike="noStrike">
                <a:solidFill>
                  <a:srgbClr val="40458c"/>
                </a:solidFill>
                <a:latin typeface="Arial"/>
                <a:ea typeface="Arial"/>
              </a:rPr>
              <a:t>j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son 0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MSBc/MSW sigue una distribución de Fisher de parámetros C-1 y (R-1)C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F [C-1, (R-1) C]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C721-EE68-473B-B9BC-0C3FB2506BA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mient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Valor crítico para el test dependerá del valor de </a:t>
            </a:r>
            <a:r>
              <a:rPr b="0" lang="el-GR" sz="3200" spc="-1" strike="noStrike">
                <a:solidFill>
                  <a:srgbClr val="40458c"/>
                </a:solidFill>
                <a:latin typeface="Arial"/>
                <a:ea typeface="Arial"/>
              </a:rPr>
              <a:t>α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que seleccionemo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Con </a:t>
            </a:r>
            <a:r>
              <a:rPr b="0" lang="el-GR" sz="3200" spc="-1" strike="noStrike">
                <a:solidFill>
                  <a:srgbClr val="40458c"/>
                </a:solidFill>
                <a:latin typeface="Arial"/>
                <a:ea typeface="Arial"/>
              </a:rPr>
              <a:t>α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= 5% tenemos que el valor crítico es de 2.66, por lo tanto si el valor de la distribución es menor a este valor no podemos rechazar la hipótesis nula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661E-40EC-4A51-B975-0136053E7AC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mient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838080" y="1905120"/>
          <a:ext cx="7772400" cy="4114800"/>
        </p:xfrm>
        <a:graphic>
          <a:graphicData uri="http://schemas.openxmlformats.org/drawingml/2006/table">
            <a:tbl>
              <a:tblPr/>
              <a:tblGrid>
                <a:gridCol w="1554120"/>
                <a:gridCol w="1387800"/>
                <a:gridCol w="1368360"/>
                <a:gridCol w="1871640"/>
                <a:gridCol w="159048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Fuente de Variabilidad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Valores Numérico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Grados de libertad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uadrado Medio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Valor distribución F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Entre columnas (SSBc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SBc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-1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SBc/(C-1) 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F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on las columnas (SSW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SW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R-1)C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SW/[(R-1)C]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otal         (TSS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S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RC-1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90D9-F1D3-4B70-A1AF-3EE073F1222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tivación.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Para este estudio se considera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132876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 niveles de Public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132876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R clientes por cada nivel de public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7F37-EFFE-4748-995E-4AD93DC084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jempl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1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Empresa de baterías desea estudiar si la vida media de sus pilas tiene que ver con el artefacto en las que son usada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Test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8 artefactos que poseen el mismo consumo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Se testean 3 baterías para cada artefacto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5918-54E1-4D40-9354-08700F09E2D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jempl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755640" y="3573360"/>
            <a:ext cx="8388360" cy="24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- Media calculada: 5.8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- SSBc =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3[(2.6-5.8)^2 + (4.6-5.8`)^2+…]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= 69.12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- SSW  =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[(1.8-2.6)^2 + (5-2.6)^2+…+(5.8-7.4)^2]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    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= 46.73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993080" cy="151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BB3A-53C0-4BB9-B8B2-4DAFF60F631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jempl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755640" y="3573360"/>
            <a:ext cx="8388360" cy="24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07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838080" y="1628640"/>
            <a:ext cx="7981920" cy="43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9E36-004B-4077-AB05-8BE7BC45D47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jempl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32876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838080" y="1905120"/>
          <a:ext cx="7772400" cy="4273560"/>
        </p:xfrm>
        <a:graphic>
          <a:graphicData uri="http://schemas.openxmlformats.org/drawingml/2006/table">
            <a:tbl>
              <a:tblPr/>
              <a:tblGrid>
                <a:gridCol w="1554120"/>
                <a:gridCol w="1387800"/>
                <a:gridCol w="1368360"/>
                <a:gridCol w="1871640"/>
                <a:gridCol w="15904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Fuente de Variabilidad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Valores Numérico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Grados de libertad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uadrado Medio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Valor distribución F (</a:t>
                      </a:r>
                      <a:r>
                        <a:rPr b="0" lang="el-GR" sz="2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α</a:t>
                      </a: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 = 5%)</a:t>
                      </a:r>
                      <a:r>
                        <a:rPr b="0" lang="es-ES" sz="3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  <a:tr h="10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Entre columnas (SSBc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9.1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9.87 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.38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on las columnas (SSW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6.7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.9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otal         (TSS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15.84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6843-6B91-47DC-9E7D-647E144E20D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jempl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Como el valor calculado de la distribución de Fisher es mayor que el valor crítico (3.38 &gt; 2.66), podemos rechazar con un 95% de certeza que la vida media de las pilas varia con artefacto en las que se usan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6CAF-39A2-479D-B36A-BBFFB2EA29E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Preguntas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32876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55640" y="184464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¿Dudas, preguntas, comentarios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Gracias…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F52A-2B39-44FE-A11A-9B28C714ED2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660066"/>
                </a:solidFill>
                <a:latin typeface="Tahoma"/>
              </a:rPr>
              <a:t>Análisis</a:t>
            </a:r>
            <a:r>
              <a:rPr b="1" lang="en-US" sz="5400" spc="-1" strike="noStrike">
                <a:solidFill>
                  <a:srgbClr val="660066"/>
                </a:solidFill>
                <a:latin typeface="Tahoma"/>
              </a:rPr>
              <a:t> de la Varianza (ANOVA)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800600" y="4723920"/>
            <a:ext cx="281952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Patrizzio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Virgil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1518-C266-45E0-8DA3-702CF628205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tivación.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Los datos obtenidos so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219320" y="2743200"/>
            <a:ext cx="7024680" cy="320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9D3F-1276-43B2-9B54-506D6F860A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tivación.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¿Cómo podemos afirmar o rechazar que el nivel de publicidad afecta la demand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6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6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Respuesta: con ANOVA (Análisis de la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   varianza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8946-595B-4D79-B8E0-FD0C128341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Introducción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75564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El análisis de la varianza (ANOVA) es una técnica estadística de contraste de hipótesi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Introducidas por R. A. Fisher en 1925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2DFF-711B-482E-B76A-90B41044CD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Introducción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790560" y="1844640"/>
            <a:ext cx="835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442440" indent="-4424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Se utiliza como respuesta a la necesidad   de utilizar una técnica de comparación de más de dos grupo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42440" indent="-442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42440" indent="-4424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 sólo dos grupos se utiliza un   contraste de medias basado en “t Student”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42440" indent="-442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42440" indent="-4424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42440" indent="-442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9B8C-7E7A-4A90-9FF8-335F18817C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Introducción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184464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420480" indent="-4204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En el planteamiento de ANOVA  tenemo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69840" indent="-2084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Variable numérica cuantitativa (resultado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69840" indent="-2084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Variable cualitativa (factor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Deseamos determinar en que medida la variabilidad del </a:t>
            </a:r>
            <a:r>
              <a:rPr b="1" lang="es-ES" sz="3200" spc="-1" strike="noStrike">
                <a:solidFill>
                  <a:srgbClr val="40458c"/>
                </a:solidFill>
                <a:latin typeface="Tahoma"/>
              </a:rPr>
              <a:t>resultado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se puede atribuir al </a:t>
            </a:r>
            <a:r>
              <a:rPr b="1" lang="es-ES" sz="3200" spc="-1" strike="noStrike">
                <a:solidFill>
                  <a:srgbClr val="40458c"/>
                </a:solidFill>
                <a:latin typeface="Tahoma"/>
              </a:rPr>
              <a:t>factor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F0EF-4B39-4DBE-9FF8-F6AF1823C6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Introducción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790560" y="1844640"/>
            <a:ext cx="835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431640" indent="-4316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Supuestos de Anova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62720" indent="-22860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Muestras independientes y al azar para cada factor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62720" indent="-22860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s muestras de cada factor siguen una distribución Normal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62720" indent="-22860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Varianzas de las muestras de cada factor son igual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94C2-2C83-4D85-A72D-CC48D89990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i</cp:lastModifiedBy>
  <dcterms:modified xsi:type="dcterms:W3CDTF">2004-10-21T20:30:36Z</dcterms:modified>
  <cp:revision>175</cp:revision>
  <dc:subject/>
  <dc:title>PowerPoint Presentation</dc:title>
</cp:coreProperties>
</file>