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ABA-A24B-4FB9-8E4D-06A2849F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252-AEB6-4A4C-99E2-1D69DD3B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F11-58DA-4F81-B94F-B03FCF12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C5B-EE8F-4AF4-B1E2-90CEB3D7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4689-D15A-4697-B736-42DFC224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D295-D4F7-4390-814B-B94B8E5E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6071-BADA-4350-AA79-7ACB5CB1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87DD-23A2-441C-8E41-DCECB286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D04A-4B3E-4105-A8CF-C22126F6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B7E0-33ED-47E2-948A-5FADD78B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8F93-1816-4120-A81F-5E7E0471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170-B71E-41E2-A6F0-008AF177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74FC-4B82-4E00-833C-3FBA482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BF68-C7C2-4829-BE89-2BCB2897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4CCE-FCD6-4451-B382-6BF16A71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68D6-D5EB-48F8-99FB-23730192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AA08-D7A5-4054-B006-C4E5579D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30C-8D45-4C86-A80C-91B62C40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4B4-BBAE-4783-A0DD-02B2BD93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7C0-18DB-467E-814E-75289A88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58C-1273-4466-ADC3-A0DB3058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7DA-8236-4BEF-A868-2A6E31D7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072-FD03-46BE-A955-D8A46682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A50-026C-407C-87DF-3592F00D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D7DE-E70C-4F6E-B09C-83B00C5B329C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70E1-72D8-435C-870B-AFAB419FA42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16D1-2646-473B-8038-3C84C8B4A264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4051-A274-4018-9C79-694A9BC9BD5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0066"/>
                </a:solidFill>
                <a:latin typeface="Tahoma"/>
              </a:rPr>
              <a:t>Análisis</a:t>
            </a:r>
            <a:r>
              <a:rPr b="1" lang="en-US" sz="5400" spc="-1" strike="noStrike">
                <a:solidFill>
                  <a:srgbClr val="660066"/>
                </a:solidFill>
                <a:latin typeface="Tahoma"/>
              </a:rPr>
              <a:t> de la Varianza (ANOVA)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trizzi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Virgi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201E-C368-4B91-8339-620819C613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Teoría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Tenemos C grupos o niveles del 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 observaciones independientes y de manera aleatoria para cada nivel del 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C observaciones en total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ta: Pueden tenerse un número variable de observaciones para cada nivel, pero al tener la misma cantidad permite obtener máxima confiabilidad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80040" indent="-680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849-37B9-41F8-A368-914D51A6AD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98680" indent="-5986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odemos representar cada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resultado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como un modelo estadístico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2147040" indent="-52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Y(i,j) =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µ +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j) +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i,j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µ:     Media sobre todas las muestras.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 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j):  Respuesta asociada al j - ésimo nivel del factor    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en estudi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598680" indent="-598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l-GR" sz="24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(i,j): Error asociado con el valor (i,j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864-BD7E-4B76-A0E6-63F0F3D1D2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o conocemos los valores reales, por lo tanto debemos estimarl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a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    estimación par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µ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(j)  estimación para </a:t>
            </a:r>
            <a:r>
              <a:rPr b="0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j)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C9E-AC05-48D7-B07C-E515AFB456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708360" y="2206800"/>
                <a:ext cx="24112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826920" y="1828800"/>
            <a:ext cx="813780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7400" indent="-61740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finimos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promedio para la columna j, tenemos entonces que el valor del promedio para toda las mediciones 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17400" indent="-61740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2214000" indent="-54324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492920" indent="-1569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708360" y="5256360"/>
                <a:ext cx="187344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limUp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  <m:lim/>
                            </m:limUpp>
                          </m:e>
                        </m:nary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4DE-5B18-4C91-90CE-C6487B308E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1844640"/>
            <a:ext cx="799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 Como estimamos </a:t>
            </a:r>
            <a:r>
              <a:rPr b="0" lang="el-GR" sz="3200" spc="-1" strike="noStrike">
                <a:solidFill>
                  <a:srgbClr val="40458c"/>
                </a:solidFill>
                <a:latin typeface="Tahoma"/>
              </a:rPr>
              <a:t>ε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(i,j) es decir e(i,j)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Usando los estimadores obtenem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(i,j) = Y(i,j) -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 -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T(j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86440" indent="-586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ero queremos minimizar el error, es decir, encontrar M y T(j) tal que e(i,j) sea lo menor posibl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417320" indent="-14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16D-0DB7-4B06-AE6D-C53B0AE03A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844640"/>
            <a:ext cx="813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Cómo? </a:t>
            </a:r>
            <a:r>
              <a:rPr b="0" lang="es-E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Minimizando las desviaciones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 los cuadrados de las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uma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63640" y="3716280"/>
                <a:ext cx="5904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474-869C-4CB0-AE80-2A0873BF2A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este criterio (mínimos cuadrados) podemos mostrar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    estima a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µ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       (i.e. M = Ῡ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j) estima a  </a:t>
            </a:r>
            <a:r>
              <a:rPr b="0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j)   (i.e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(j) =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Ῡ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j)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lo que el error se traduce e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(i,j) = Y(i,j) - Ῡ(j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F50-7996-49EA-97C5-5BB8C122F6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corporando los estimadores en el modelo estadístico tenemos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(Y(i,j) - Ῡ) = (Ῡ(j)- Ῡ)+(Y(i,j)- Ῡ(j)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623880" indent="-6238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evamos al cuadrado y consideramos las RC ecuacion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508040" indent="-158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2236680" indent="-549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47640" y="5084640"/>
                <a:ext cx="6407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D07-7EA1-4BA8-A4F4-8C90FB203B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Desarrollando el cuadrado podemos separar la ecuación anterior e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03280" y="3284640"/>
                <a:ext cx="662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348000" y="4221000"/>
                <a:ext cx="4392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E40-2868-43F8-B177-F5CD8C8E83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aciendo simplificaciones, la ecuación anterior puede reducirse 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332000" y="3284640"/>
                <a:ext cx="72896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r>
                      <m:t xml:space="preserve">R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120C-26B6-4A0E-A7E9-4AB697BD83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roblema:  Empresa energética dese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aber como la demand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 electricidad varía según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nivel de publicidad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alizada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136-99CB-4A82-A935-582826A832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 Estadístic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92000" y="1905120"/>
            <a:ext cx="56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e denomina TSS (total sum of squ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llamado SSBc (sum of squares between column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denotado SSW (sum of squares within column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900000" y="1773360"/>
                <a:ext cx="2592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Y</m:t>
                                </m:r>
                              </m:e>
                              <m:lim/>
                            </m:limUp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00000" y="3213000"/>
                <a:ext cx="2376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/>
                                </m:limUp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71640" y="4724280"/>
                <a:ext cx="2558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Y</m:t>
                        </m:r>
                      </m:e>
                      <m:lim/>
                    </m:limUp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5A8-E3CD-43A8-926F-487C86D2A1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Defini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TSS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total sum of squares): la diferencia entre el valor observado y la media glob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SBc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sum of squares between columns) es la desviación de cada columna con respecto a la med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SW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(sum of squares within columns) representa la desviación de los valores con respecto de las medias de las colum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96B-F386-4B2E-B707-36AEA81055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1555560"/>
                <a:gridCol w="1949400"/>
                <a:gridCol w="115884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/(C-1)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R-1)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/[(R-1)C]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S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3B5-E473-4BB2-A566-71FE1099B8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40000" y="3068640"/>
                <a:ext cx="2521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SW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e puede demostrar que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                          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(supuesto varianzas iguales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para cada columna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                          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(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corresponde a la variación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entre las medias reales de las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columna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340000" y="4437000"/>
                <a:ext cx="2808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SBc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FC3-967E-4ADB-BB9A-EF8E67BAEF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enerando la razón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(MSBc)/E(MSW)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y revisando si es mayor que 1, podemos asegurar que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es un valor no negativo distinto de 0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Pero volvemos al mismo caso, el de no conocer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ni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587-FFBC-405E-B8DB-F8F029229E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eneramos el ratio con los estimador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F = MSBc/MSW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ntonces si F &gt; 1, se tendería a pensar que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es 0, es decir, que el nivel del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factor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no influye el </a:t>
            </a:r>
            <a:r>
              <a:rPr b="1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resultado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5EC-678D-4CB2-BB25-A9A0BCF35A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Pero al provenir estos datos de estimaciones sobre una muestra en particular, no podemos estar segur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olución: Hacer un test de hipótesi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B37-41F2-4E5F-981A-28D3694BC0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0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: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1=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2=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3=……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C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= 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1: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No todas las </a:t>
            </a:r>
            <a:r>
              <a:rPr b="1" lang="el-GR" sz="2800" spc="-1" strike="noStrike">
                <a:solidFill>
                  <a:srgbClr val="40458c"/>
                </a:solidFill>
                <a:latin typeface="Tahoma"/>
              </a:rPr>
              <a:t>σ</a:t>
            </a:r>
            <a:r>
              <a:rPr b="0" lang="es-ES" sz="1600" spc="-1" strike="noStrike">
                <a:solidFill>
                  <a:srgbClr val="40458c"/>
                </a:solidFill>
                <a:latin typeface="Arial"/>
                <a:ea typeface="Arial"/>
              </a:rPr>
              <a:t>j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son 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MSBc/MSW sigue una distribución de Fisher de parámetros C-1 y (R-1)C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F [C-1, (R-1) C]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262-26C1-4514-AA4E-DE40379540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Valor crítico para el test dependerá del valor de </a:t>
            </a:r>
            <a:r>
              <a:rPr b="0" lang="el-GR" sz="3200" spc="-1" strike="noStrike">
                <a:solidFill>
                  <a:srgbClr val="40458c"/>
                </a:solidFill>
                <a:latin typeface="Arial"/>
                <a:ea typeface="Arial"/>
              </a:rPr>
              <a:t>α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que seleccionem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Con </a:t>
            </a:r>
            <a:r>
              <a:rPr b="0" lang="el-GR" sz="3200" spc="-1" strike="noStrike">
                <a:solidFill>
                  <a:srgbClr val="40458c"/>
                </a:solidFill>
                <a:latin typeface="Arial"/>
                <a:ea typeface="Arial"/>
              </a:rPr>
              <a:t>α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= 5% tenemos que el valor crítico es de 2.66, por lo tanto si el valor de la distribución es menor a este valor no podemos rechazar la hipótesis nu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C6D-6CF5-4F4E-88D8-E9C7DBDCCB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uncionamient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1554120"/>
                <a:gridCol w="1387800"/>
                <a:gridCol w="1368360"/>
                <a:gridCol w="1871640"/>
                <a:gridCol w="159048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 distribución 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Bc/(C-1)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R-1)C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SW/[(R-1)C]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S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C-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956-0016-435D-84FD-E34460D673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ra este estudio se considera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132876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 niveles de Public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32876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 clientes por cada nivel de public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8EC-7AC8-4DAD-9992-4F2E47EB6F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Empresa de baterías desea estudiar si la vida media de sus pilas tiene que ver con el artefacto en las que son usad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Test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8 artefactos que poseen el mismo consum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Se testean 3 baterías para cada artefacto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150-BBB6-40D9-BD73-57628D3A4A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755640" y="3573360"/>
            <a:ext cx="8388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Media calculada: 5.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SSBc =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3[(2.6-5.8)^2 + (4.6-5.8`)^2+…]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 = 69.1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- SSW  =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[(1.8-2.6)^2 + (5-2.6)^2+…+(5.8-7.4)^2]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    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  <a:ea typeface="Arial"/>
              </a:rPr>
              <a:t>= 46.7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993080" cy="15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606-31D4-4A94-9FBA-A39C729634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" y="3573360"/>
            <a:ext cx="8388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38080" y="1628640"/>
            <a:ext cx="798192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09B-1791-487F-B961-280EA039B0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32876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838080" y="1905120"/>
          <a:ext cx="7772400" cy="4273560"/>
        </p:xfrm>
        <a:graphic>
          <a:graphicData uri="http://schemas.openxmlformats.org/drawingml/2006/table">
            <a:tbl>
              <a:tblPr/>
              <a:tblGrid>
                <a:gridCol w="1554120"/>
                <a:gridCol w="1387800"/>
                <a:gridCol w="1368360"/>
                <a:gridCol w="1871640"/>
                <a:gridCol w="1590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ente de Variabilid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es Numérico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Grados de libertad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adrado Medi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Valor distribución F (</a:t>
                      </a:r>
                      <a:r>
                        <a:rPr b="0" lang="el-GR" sz="2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 = 5%)</a:t>
                      </a:r>
                      <a:r>
                        <a:rPr b="0" lang="es-ES" sz="3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re columnas (SSBc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9.1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9.87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.3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 las columnas (SSW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6.7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.9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         (TSS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15.8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6962-1249-4CFC-B9A9-782B7C18A24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Como el valor calculado de la distribución de Fisher es mayor que el valor crítico (3.38 &gt; 2.66), podemos rechazar con un 95% de certeza que la vida media de las pilas varia con artefacto en las que se usan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3CB-9A60-4B34-A860-6004B41E1B2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gunta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190512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32876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1844640"/>
            <a:ext cx="838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¿Dudas, preguntas, comentarios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Gracias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328760" indent="-28584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91A-46C7-49EE-80B6-86A76A7728F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660066"/>
                </a:solidFill>
                <a:latin typeface="Tahoma"/>
              </a:rPr>
              <a:t>Análisis</a:t>
            </a:r>
            <a:r>
              <a:rPr b="1" lang="en-US" sz="5400" spc="-1" strike="noStrike">
                <a:solidFill>
                  <a:srgbClr val="660066"/>
                </a:solidFill>
                <a:latin typeface="Tahoma"/>
              </a:rPr>
              <a:t> de la Varianza (ANOVA)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atrizzio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Virgi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5926-3505-4470-9EE7-6B31B9370D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os datos obtenidos s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7024680" cy="32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900-82D4-4CAF-BDEC-CBE28DC487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tivación.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¿Cómo podemos afirmar o rechazar que el nivel de publicidad afecta la demand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spuesta: con ANOVA (Análisis de la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 varianza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453-B130-4972-87C9-F04F91803B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análisis de la varianza (ANOVA) es una técnica estadística de contraste de hipótesi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idas por R. A. Fisher en 1925.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576360" indent="-576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A84-20D9-4E16-A91C-4AF3559A32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790560" y="184464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 utiliza como respuesta a la necesidad   de utilizar una técnica de comparación de más de dos grupo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 sólo dos grupos se utiliza un   contraste de medias basado en “t Student”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42440" indent="-44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AF3-50C3-4FDF-8641-1996DB1ABF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184464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n el planteamiento de ANOVA  tenem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840" indent="-2084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ble numérica cuantitativa (resultado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969840" indent="-2084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ble cualitativa (factor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eseamos determinar en que medida la variabilidad del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resultado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se puede atribuir al </a:t>
            </a: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factor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C44-03CB-4FA1-A697-774B4A310E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790560" y="184464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31640" indent="-4316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upuestos de Anova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uestras independientes y al azar para cada facto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s muestras de cada factor siguen una distribución Norma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62720" indent="-22860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Varianzas de las muestras de cada factor son igual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431640" indent="-43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DBA-90A9-4CAA-A20B-600EEF76F0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i</cp:lastModifiedBy>
  <dcterms:modified xsi:type="dcterms:W3CDTF">2004-10-21T20:30:36Z</dcterms:modified>
  <cp:revision>175</cp:revision>
  <dc:subject/>
  <dc:title>PowerPoint Presentation</dc:title>
</cp:coreProperties>
</file>