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726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76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726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76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51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97260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7640" y="152352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56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97260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7640" y="4111200"/>
            <a:ext cx="2404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516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74000" y="411120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4000" y="1523520"/>
            <a:ext cx="36439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111200"/>
            <a:ext cx="746748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42840" y="65527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9966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C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entro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E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xperimental de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I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ngeniería de </a:t>
            </a:r>
            <a:r>
              <a:rPr b="1" lang="es-ES" sz="1200" spc="-1" strike="noStrike">
                <a:solidFill>
                  <a:srgbClr val="996633"/>
                </a:solidFill>
                <a:latin typeface="Tahoma"/>
              </a:rPr>
              <a:t>S</a:t>
            </a:r>
            <a:r>
              <a:rPr b="0" lang="es-ES" sz="1200" spc="-1" strike="noStrike">
                <a:solidFill>
                  <a:srgbClr val="996633"/>
                </a:solidFill>
                <a:latin typeface="Tahoma"/>
              </a:rPr>
              <a:t>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523520" y="1295280"/>
            <a:ext cx="7620120" cy="0"/>
          </a:xfrm>
          <a:prstGeom prst="line">
            <a:avLst/>
          </a:prstGeom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015920" cy="1524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1066680"/>
            <a:ext cx="380880" cy="1067040"/>
          </a:xfrm>
          <a:prstGeom prst="rect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914400" cy="914400"/>
          </a:xfrm>
          <a:prstGeom prst="ellipse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343400"/>
            <a:ext cx="0" cy="2514600"/>
          </a:xfrm>
          <a:prstGeom prst="line">
            <a:avLst/>
          </a:prstGeom>
          <a:ln cap="sq"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62520" y="76212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28600"/>
            <a:ext cx="5791320" cy="4800600"/>
          </a:xfrm>
          <a:prstGeom prst="rect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0"/>
            <a:ext cx="7467840" cy="6629400"/>
          </a:xfrm>
          <a:prstGeom prst="rtTriangle">
            <a:avLst/>
          </a:pr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-5409360" y="-6858720"/>
            <a:ext cx="12800880" cy="137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2666880"/>
            <a:ext cx="5410080" cy="1600200"/>
          </a:xfrm>
          <a:prstGeom prst="rect">
            <a:avLst/>
          </a:prstGeom>
          <a:noFill/>
          <a:ln w="64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6600"/>
                </a:solidFill>
                <a:latin typeface="Tahoma"/>
              </a:rPr>
              <a:t>Quadratto</a:t>
            </a:r>
            <a:r>
              <a:rPr b="0" lang="es-ES" sz="3200" spc="-1" strike="noStrike">
                <a:solidFill>
                  <a:srgbClr val="cc6600"/>
                </a:solidFill>
                <a:latin typeface="Tahoma"/>
              </a:rPr>
              <a:t>:</a:t>
            </a:r>
            <a:br>
              <a:rPr sz="3200"/>
            </a:b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I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vestigación,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E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señanza,</a:t>
            </a:r>
            <a:br>
              <a:rPr sz="2400"/>
            </a:b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A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plicación y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T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ransferencia</a:t>
            </a:r>
            <a:br>
              <a:rPr sz="2400"/>
            </a:b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en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I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ngeniería de </a:t>
            </a:r>
            <a:r>
              <a:rPr b="1" i="1" lang="es-ES" sz="2400" spc="-1" strike="noStrike">
                <a:solidFill>
                  <a:srgbClr val="cc6600"/>
                </a:solidFill>
                <a:latin typeface="Tahoma"/>
              </a:rPr>
              <a:t>S</a:t>
            </a:r>
            <a:r>
              <a:rPr b="0" i="1" lang="es-ES" sz="2400" spc="-1" strike="noStrike">
                <a:solidFill>
                  <a:srgbClr val="cc6600"/>
                </a:solidFill>
                <a:latin typeface="Tahoma"/>
              </a:rPr>
              <a:t>oftware</a:t>
            </a:r>
            <a:endParaRPr b="0" lang="en-US" sz="2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4343400"/>
            <a:ext cx="6194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Introducción a Proyecto de Softwar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Tahoma"/>
              </a:rPr>
              <a:t>Relator</a:t>
            </a: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: Agustín Villena M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(avillena@tutopia.com)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Funcionamiento de los equipos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Rol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Jefe de Proyect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Responsable de Aseguramiento de Calidad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Responsable de Codificació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Responsable de Requerimiento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Responsable de Diseñ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Cada rol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Organiza al resto para cumplir con cada aspecto del desarroll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Integra en el documento o producto correspondiente los aportes del rest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Productos  de cada iteración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Presentación con la experiencia vivida por el grup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A realizar ante el curso y los cliente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Software realizad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ocumentos actualizados al estado de la iteración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Requerimiento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Prueba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Reglas de conducta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Si el equipo no está conforme con la dedicación de un miembro, puede solicitar su remoción al equipo docent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La asistencia a presentaciones es obligatori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No se puede faltar a más de dos reuniones con el tutor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Objetivo del Curso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Ofrecer a los alumnos una experiencia lo más cercana a la realidad de lo que es el desarrollo de software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Etapas del Curso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Introducción (semana 1 y 2)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Reglas y herramientas del curs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Presentación de proyectos a desarrollar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Formación de equipos de trabajo 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5 a 6 persona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Concepción del proyecto (semanas 3 y 4)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Conocimiento del client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esarrollo de un Plan Global y uno detallado (para Primera Iteración)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esarroll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Iteraciones de 4 semanas aprox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Algunos fundamentos del curso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33"/>
                </a:solidFill>
                <a:latin typeface="Tahoma"/>
              </a:rPr>
              <a:t>Variables de un proyecto de software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El valor entregado del proyecto en su  tiempo de desarrollo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Reglas para una relación Win2Win entre cliente y desarrolladores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6633"/>
                </a:solidFill>
                <a:latin typeface="Tahoma"/>
              </a:rPr>
              <a:t>Metodología</a:t>
            </a:r>
            <a:endParaRPr b="0" lang="en-US" sz="32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99684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6633"/>
                </a:solidFill>
                <a:latin typeface="Tahoma"/>
              </a:rPr>
              <a:t>Las variables de todo proyecto de softwar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Tiempo, Costo, Alcance, Calidad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or lo regular se fijan las 3 primeras variables: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“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Hazme un administrador de estas tablas de la base de datos, en una semana, con dos programadores”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Entonces la variable que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sufre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es la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calidad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ero la calidad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no es algo realmente negociable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(¿A quién le gusta hacer un mal trabajo?)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El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tiempo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 suele estar restringido, y la </a:t>
            </a:r>
            <a:r>
              <a:rPr b="1" lang="es-ES" sz="2000" spc="-1" strike="noStrike">
                <a:solidFill>
                  <a:srgbClr val="996633"/>
                </a:solidFill>
                <a:latin typeface="Tahoma"/>
              </a:rPr>
              <a:t>disposición a pagar 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también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¿Y si lo variable fuera el </a:t>
            </a:r>
            <a:r>
              <a:rPr b="1" i="1" lang="es-ES" sz="2000" spc="-1" strike="noStrike">
                <a:solidFill>
                  <a:srgbClr val="996633"/>
                </a:solidFill>
                <a:latin typeface="Tahoma"/>
              </a:rPr>
              <a:t>Alcance</a:t>
            </a: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El valor entregado del proyecto </a:t>
            </a:r>
            <a:br>
              <a:rPr sz="2800"/>
            </a:b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en su tiempo de desarroll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39942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Tradicionalmente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530600" y="1557360"/>
            <a:ext cx="440244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¿Y si fuera así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9640" y="2637000"/>
            <a:ext cx="3816360" cy="3600360"/>
            <a:chOff x="539640" y="2637000"/>
            <a:chExt cx="3816360" cy="3600360"/>
          </a:xfrm>
        </p:grpSpPr>
        <p:grpSp>
          <p:nvGrpSpPr>
            <p:cNvPr id="101" name=""/>
            <p:cNvGrpSpPr/>
            <p:nvPr/>
          </p:nvGrpSpPr>
          <p:grpSpPr>
            <a:xfrm>
              <a:off x="539640" y="2637000"/>
              <a:ext cx="3816360" cy="3600360"/>
              <a:chOff x="539640" y="2637000"/>
              <a:chExt cx="3816360" cy="360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39640" y="2637000"/>
                <a:ext cx="3816360" cy="3600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39640" y="2852640"/>
                <a:ext cx="3600720" cy="3321000"/>
                <a:chOff x="539640" y="2852640"/>
                <a:chExt cx="360072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900000" y="5805360"/>
                  <a:ext cx="324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900000" y="285264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853280" y="5805360"/>
                  <a:ext cx="94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Verdana"/>
                    </a:rPr>
                    <a:t>tiemp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6200000">
                  <a:off x="-219600" y="4009320"/>
                  <a:ext cx="188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Verdana"/>
                    </a:rPr>
                    <a:t>funcionalidade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"/>
            <p:cNvSpPr/>
            <p:nvPr/>
          </p:nvSpPr>
          <p:spPr>
            <a:xfrm rot="21330600">
              <a:off x="826920" y="3070080"/>
              <a:ext cx="3168720" cy="2664000"/>
            </a:xfrm>
            <a:custGeom>
              <a:avLst/>
              <a:gdLst/>
              <a:ahLst/>
              <a:rect l="l" t="t" r="r" b="b"/>
              <a:pathLst>
                <a:path w="1996" h="1678">
                  <a:moveTo>
                    <a:pt x="0" y="1633"/>
                  </a:moveTo>
                  <a:cubicBezTo>
                    <a:pt x="605" y="1655"/>
                    <a:pt x="1210" y="1678"/>
                    <a:pt x="1543" y="1406"/>
                  </a:cubicBezTo>
                  <a:cubicBezTo>
                    <a:pt x="1876" y="1134"/>
                    <a:pt x="1921" y="234"/>
                    <a:pt x="199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330600">
              <a:off x="853920" y="3097080"/>
              <a:ext cx="3168720" cy="2664000"/>
            </a:xfrm>
            <a:custGeom>
              <a:avLst/>
              <a:gdLst/>
              <a:ahLst/>
              <a:rect l="l" t="t" r="r" b="b"/>
              <a:pathLst>
                <a:path w="1996" h="1678">
                  <a:moveTo>
                    <a:pt x="0" y="1633"/>
                  </a:moveTo>
                  <a:cubicBezTo>
                    <a:pt x="605" y="1655"/>
                    <a:pt x="1210" y="1678"/>
                    <a:pt x="1543" y="1406"/>
                  </a:cubicBezTo>
                  <a:cubicBezTo>
                    <a:pt x="1876" y="1134"/>
                    <a:pt x="1921" y="234"/>
                    <a:pt x="1996" y="0"/>
                  </a:cubicBezTo>
                </a:path>
              </a:pathLst>
            </a:custGeom>
            <a:noFill/>
            <a:ln w="57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788000" y="2637000"/>
            <a:ext cx="3816360" cy="3600360"/>
            <a:chOff x="4788000" y="2637000"/>
            <a:chExt cx="3816360" cy="3600360"/>
          </a:xfrm>
        </p:grpSpPr>
        <p:grpSp>
          <p:nvGrpSpPr>
            <p:cNvPr id="111" name=""/>
            <p:cNvGrpSpPr/>
            <p:nvPr/>
          </p:nvGrpSpPr>
          <p:grpSpPr>
            <a:xfrm>
              <a:off x="4788000" y="2637000"/>
              <a:ext cx="3816360" cy="3600360"/>
              <a:chOff x="4788000" y="2637000"/>
              <a:chExt cx="3816360" cy="3600360"/>
            </a:xfrm>
          </p:grpSpPr>
          <p:sp>
            <p:nvSpPr>
              <p:cNvPr id="112" name=""/>
              <p:cNvSpPr/>
              <p:nvPr/>
            </p:nvSpPr>
            <p:spPr>
              <a:xfrm>
                <a:off x="4788000" y="2637000"/>
                <a:ext cx="3816360" cy="36003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4788000" y="2852640"/>
                <a:ext cx="3600720" cy="3321000"/>
                <a:chOff x="4788000" y="2852640"/>
                <a:chExt cx="3600720" cy="33210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148360" y="5805360"/>
                  <a:ext cx="3240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5148360" y="2852640"/>
                  <a:ext cx="0" cy="295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01640" y="5805360"/>
                  <a:ext cx="94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Verdana"/>
                    </a:rPr>
                    <a:t>tiempo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6200000">
                  <a:off x="4028400" y="4009320"/>
                  <a:ext cx="1887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Verdana"/>
                    </a:rPr>
                    <a:t>funcionalidades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 flipV="1">
              <a:off x="5148360" y="2997360"/>
              <a:ext cx="295272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5175360" y="3024360"/>
              <a:ext cx="2952720" cy="280800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Reglas para una relación Win2Win entre cliente y desarrolladores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erechos del Cliente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Decidir qué será implementado, y en qué prioridad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oder canjear funcionalidades por otras no implementadas de costo equivalent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Obtener mayor valor de cada semana de desarroll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Derechos del desarrollador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Definir cuanto demorará implementar cada tarea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oder re-estimar basado en nuevos conocimiento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oder realizar un trabajo con la máxima calidad posibl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Metodología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Disposición horaria semanal del alumno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20 hrs. semanales al proyecto 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¡Ni más ni menos!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Cada seman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Reunión con tutor : 2 horas, con todo el grupo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Reunión grupal de gestión interna: 2 horas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6633"/>
                </a:solidFill>
                <a:latin typeface="Tahoma"/>
              </a:rPr>
              <a:t>Tiempo de desarrollo : 16 hrs.</a:t>
            </a:r>
            <a:endParaRPr b="0" lang="en-US" sz="2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98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516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182880" tIns="0" bIns="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6633"/>
                </a:solidFill>
                <a:latin typeface="Tahoma"/>
              </a:rPr>
              <a:t>Rol del tutor</a:t>
            </a:r>
            <a:endParaRPr b="0" lang="en-US" sz="36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Acompañar el proceso, 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controlando el avance, 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evaluando lo realizado,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aportando experiencia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Y mediando con el cliente si llega a ser necesario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6633"/>
                </a:solidFill>
                <a:latin typeface="Tahoma"/>
              </a:rPr>
              <a:t>Cada semana se evalúa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lanificación Actualizada con reporte de avanc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Planilla de gestión de riesgos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Minutas de reunión con cliente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ahoma"/>
              </a:rPr>
              <a:t>Elementos como responsabilidad personal</a:t>
            </a:r>
            <a:endParaRPr b="0" lang="en-US" sz="20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17:49:48Z</dcterms:created>
  <dc:creator>Verónica Achá Alvarez</dc:creator>
  <dc:description/>
  <dc:language>en-US</dc:language>
  <cp:lastModifiedBy>Agustin Villena</cp:lastModifiedBy>
  <cp:lastPrinted>2002-03-07T17:47:26Z</cp:lastPrinted>
  <dcterms:modified xsi:type="dcterms:W3CDTF">2004-08-05T15:49:21Z</dcterms:modified>
  <cp:revision>41</cp:revision>
  <dc:subject/>
  <dc:title>Quadratto: Investigación, Enseñanza, Aplicación y Transferencia en Ingeniería de Software</dc:title>
</cp:coreProperties>
</file>