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CE3-A889-43B7-9B55-D5305BB4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F528-CF83-4BC7-8D25-A23F0FD7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2BD-35DD-406F-8927-A5D87F57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E80E-9EA6-4671-9491-B404B7D0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27FC-2624-4ECE-B927-52607A64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A470-C790-4386-A2CA-18897BD5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5E4D-08B9-4295-9753-852E0EF1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FA53-955C-41E5-A0D3-9074E8DD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A65E-27A8-4400-9CF4-E6B296C2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5267-0C4B-4107-BBBC-C0AA002F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6929-2E39-4D76-BB98-5B8A5470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FEA-8BCE-497C-ABF4-05602AF7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AD34-8191-4D8C-8C7A-AC5DADCE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6246-B49C-4080-A3E7-A665925C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7D2E-B646-4880-B884-5164B4F5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C38A-F6AC-495A-BFE3-EA323A49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E0A1-58E5-421D-9151-56422CD2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AFC-DD53-4DBD-985E-63044713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884-130B-43FA-8B92-772B099F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771-9889-4033-9A08-2B1200A9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958-9E19-40D1-A1C3-268AF6C0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F2C-8A05-4BA6-97E1-FB4FF1E9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2F2C-4507-4D3B-B61F-909C1EE5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A28-14F8-40C9-B6C0-FF71519D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86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5076-EBE8-4491-B044-E6F1F1111F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114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991A-E810-4995-817C-35F0DB249A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523880" y="762120"/>
            <a:ext cx="63248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lgunas Reglas Para una Buena Presentación Ora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9" name="BS02064_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809880" cy="379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E7E-B519-46D2-BA5A-EC8015EFB2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42360" y="125244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Introducción al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79440" y="201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905120"/>
            <a:ext cx="746784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senta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e dividido mi presentación en nn partes/puntos     Punto 1, punto 2, punto 3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tienen aluna pregunta siéntanse en libertad de interrump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s preguntas prefiero contestarla al final para desarrollar el tema con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ECF-2EF3-43B7-85D5-38561BF2F0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85120" y="125244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-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33920" y="1801800"/>
            <a:ext cx="6778080" cy="57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Para comenzar con el primer pu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ra comenzar me gustaría considerar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imero que todo me gustaría darle una mirada a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imeramente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éjenme comenzar con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deas conec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Para finalizar cada pu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ien, eso era lo que les iba a decir acerca d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r lo t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 presentado corresponde al 1° punto d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811-1D51-412D-9B06-CD4C7C0201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85120" y="125244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-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1080" y="1878120"/>
            <a:ext cx="7191000" cy="54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Comenzando con un nuevo pu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hora iremos al siguiente punto / parte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siguiente punto / parte que me gustaría desarrolla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hora examinaremos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deas conec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Para finalizar cada pu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ien, eso era lo que les iba a decir acerca d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r lo tanto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 presentado corresponde al 1° punto d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6C6-D3C4-476A-9F7A-8489734F5B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03480" y="2014560"/>
            <a:ext cx="740700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tonces me gustaría resumir los principales puntos /t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n resumen de lo visto sería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capitulando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éjenme recapitular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58760" y="1176480"/>
            <a:ext cx="57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- Resumen de partes o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266-6A89-4382-8466-DAE80F448A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03480" y="2014560"/>
            <a:ext cx="740700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conclusión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tonces podemos concluir que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Fin de l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o sería todo lo que les quería presentar / decir por ah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 esto concluye mi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racias por su aten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15200" y="1176480"/>
            <a:ext cx="69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Conclusiones o fin de la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689-6BF3-4D20-8572-3C37664036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31120" y="117648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Consul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981080"/>
            <a:ext cx="740736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nvitación a hacer consul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Y ahora, si ustedes tienen alguna consulta, estaré atento / feliz a / de contestársela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lguna consulta?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238-2633-42E0-AB09-D47102708C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89520" y="1176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Presentación Esc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981080"/>
            <a:ext cx="50101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umen Ejecu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tecedentes Prelimin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lan o política inform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3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formación hist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agnó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vantamiento de la situación 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do del arte y tendencias tecnológ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3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FO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3.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Inter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3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Ext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3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del problema y 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3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el Probl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3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jetivos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6E6-485B-4FC9-BFDD-DC9E58706A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81880" y="117648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esentación Esc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1981080"/>
            <a:ext cx="50101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as de solu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ión sobre el  contex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ejoramiento de la Situación 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3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de alternativas de solu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4          Preselección de alternativ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5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ción de costos y benefic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5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st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5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enefic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6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valuación econó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7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lan de Activ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8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uentes de Inform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C28-9917-4057-B9D7-02A84A12F9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56120" y="117648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84760" y="1752480"/>
            <a:ext cx="55296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ahoma"/>
              </a:rPr>
              <a:t>Es recomendable un estilo so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de fiesta ni de fin de semana en la play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agen pers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s colores son importa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na presentación acorde con la oca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E01000_" descr=""/>
          <p:cNvPicPr/>
          <p:nvPr/>
        </p:nvPicPr>
        <p:blipFill>
          <a:blip r:embed="rId1"/>
          <a:stretch/>
        </p:blipFill>
        <p:spPr>
          <a:xfrm>
            <a:off x="1143000" y="4267080"/>
            <a:ext cx="1089000" cy="1820880"/>
          </a:xfrm>
          <a:prstGeom prst="rect">
            <a:avLst/>
          </a:prstGeom>
          <a:ln w="0">
            <a:noFill/>
          </a:ln>
        </p:spPr>
      </p:pic>
      <p:pic>
        <p:nvPicPr>
          <p:cNvPr id="103" name="BD05584_" descr=""/>
          <p:cNvPicPr/>
          <p:nvPr/>
        </p:nvPicPr>
        <p:blipFill>
          <a:blip r:embed="rId2"/>
          <a:stretch/>
        </p:blipFill>
        <p:spPr>
          <a:xfrm>
            <a:off x="6781680" y="4267080"/>
            <a:ext cx="137016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PE01023_" descr=""/>
          <p:cNvPicPr/>
          <p:nvPr/>
        </p:nvPicPr>
        <p:blipFill>
          <a:blip r:embed="rId3"/>
          <a:stretch/>
        </p:blipFill>
        <p:spPr>
          <a:xfrm>
            <a:off x="2590920" y="4191120"/>
            <a:ext cx="1330200" cy="2089080"/>
          </a:xfrm>
          <a:prstGeom prst="rect">
            <a:avLst/>
          </a:prstGeom>
          <a:ln w="0">
            <a:noFill/>
          </a:ln>
        </p:spPr>
      </p:pic>
      <p:pic>
        <p:nvPicPr>
          <p:cNvPr id="105" name="BD06784_" descr=""/>
          <p:cNvPicPr/>
          <p:nvPr/>
        </p:nvPicPr>
        <p:blipFill>
          <a:blip r:embed="rId4"/>
          <a:stretch/>
        </p:blipFill>
        <p:spPr>
          <a:xfrm>
            <a:off x="4495680" y="4572000"/>
            <a:ext cx="1524240" cy="1409760"/>
          </a:xfrm>
          <a:prstGeom prst="rect">
            <a:avLst/>
          </a:prstGeom>
          <a:ln w="0">
            <a:noFill/>
          </a:ln>
        </p:spPr>
      </p:pic>
      <p:pic>
        <p:nvPicPr>
          <p:cNvPr id="106" name="PE01838_" descr=""/>
          <p:cNvPicPr/>
          <p:nvPr/>
        </p:nvPicPr>
        <p:blipFill>
          <a:blip r:embed="rId5"/>
          <a:stretch/>
        </p:blipFill>
        <p:spPr>
          <a:xfrm>
            <a:off x="6781680" y="2666880"/>
            <a:ext cx="1351080" cy="12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97AE-CF31-4118-84BB-35A2C77358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2920" y="117648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La 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84360" y="2090880"/>
            <a:ext cx="656892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ahoma"/>
              </a:rPr>
              <a:t>Mostrar una actitud segura y ser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titubear o hablar con voz tirit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blar con voz fuerte (sin grita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blar con voz segura (sin titubea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blar con voz clara (sin modism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azonablemente lento o por lo menos no tan ráp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 la sensación de importancia respecto de lo que uno está hablando. Hacer sentir a la audiendia la importancia del t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C1B-4C19-4DB4-888D-F59B9EABBE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87600" y="12524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La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2166840"/>
            <a:ext cx="6782040" cy="44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gesticular demasi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determinados momentos llamar la atención con cambios de tono o indicación con punteros y ma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mirar al su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irar a los ojos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poyarse en alguno que esté concentrado. No sobreexplotar este recur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 posible apoyarse en una mesa para descansar un poco. No sobreexplotar este recur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6BAB-2F7A-4E97-9297-24A15CE92B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83640" y="11764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Colaboración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1905120"/>
            <a:ext cx="717876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ahoma"/>
              </a:rPr>
              <a:t>Los compañeros de grupo deben dar colaboración al que exp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se debe ubicar al frente o al lado del que expone, nunca detrá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debe estás concentrado frente al que exp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nunca debe conversar ni preparar cosas de última h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no debe interrumpir al que exp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debe dar soporte al que expone. Movimientos de cabeza y una atenta mirada son recursos út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C91-4CC8-4CCF-9A51-146905ABF8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01320" y="110016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Estructurando su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2590920"/>
            <a:ext cx="190512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4648320"/>
            <a:ext cx="1218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464832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5840" y="262260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Saludo in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1720" y="2590920"/>
            <a:ext cx="117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rop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rese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71760" y="2590920"/>
            <a:ext cx="12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ntrodu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al 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160" y="2666880"/>
            <a:ext cx="1826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resentación divid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en partes o pu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560" y="464832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46483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Resumen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s o pu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21960" y="4648320"/>
            <a:ext cx="129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nvitar a ha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consul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2819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71500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8098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09320" y="4876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1A0-871C-4743-B31A-828802B912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95720" y="11764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rateg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84360" y="2487600"/>
            <a:ext cx="557856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ígale a la audiencia lo que les va a dec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ígas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gale a la audiencia lo que les ha di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1F5-37E1-49E3-BE07-80060F69A6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06440" y="12524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20240" y="2292480"/>
            <a:ext cx="5622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cuerde: la primera impresión cuen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tonces muestre a la audiencia 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jores cualidades profesionales y hum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particul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plíc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64B-005F-4E34-A5A6-A9E550CE1A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74760" y="12524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Salud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7800" y="2139840"/>
            <a:ext cx="644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aludo inicial y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uenos días/tardes/n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ñora y señores, cole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i nombre es .... Y soy el Gerente de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oy quisiera (tomar nn minut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uestro tiempo para) presentarles el proyecto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24F0-88FE-418F-8FAF-84FF0A46B4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1T16:19:31Z</dcterms:created>
  <dc:creator>SAFP</dc:creator>
  <dc:description/>
  <dc:language>en-US</dc:language>
  <cp:lastModifiedBy>SAFP</cp:lastModifiedBy>
  <dcterms:modified xsi:type="dcterms:W3CDTF">2002-09-12T15:45:12Z</dcterms:modified>
  <cp:revision>15</cp:revision>
  <dc:subject/>
  <dc:title>Presentación de PowerPoint</dc:title>
</cp:coreProperties>
</file>