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763-AF79-4686-8FC3-5F8F84E9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1A3-6B68-4A5A-940B-D49CD14D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ECE-1528-476C-89C2-0624EC51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58F-55F5-4E69-BD1D-AD405BBC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CD99-0F42-4D8A-8DFA-301791EC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61C7-B1E0-4405-80F6-ADA5F923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5354-112B-4CB5-B3F7-19E8F854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B637-A0F5-40D6-B71F-0F7C1F48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109E-AD58-4002-A92D-785C26FC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FDF3-7B8A-40BB-A5B6-9F1959E6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5A80-22A5-46A1-9308-E62F8C6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9D9-6F14-4E04-8BB9-0BEC275F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6371-9651-41BC-AE09-3AF2EE9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6034-9A0B-4ADA-922E-6FDB7ED9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6574-20E3-40AD-9663-E5B74B30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8ECE-DBF5-4781-8CD2-C82E47D9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EBAB-DED8-4637-A1E4-8F82AC6A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D0E-F283-4530-8756-96A7A9FB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984-7BDA-43A2-AFCA-3E1136AA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9C2-229D-4454-AA3F-177EEB86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BE1-CAB1-43E8-9188-2ABABA20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71C-B570-4BB6-96F0-C3AF8C5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F04-5F15-46EE-8FBB-E76CA2DD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B62-81DF-4BF4-AE39-6E55E258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86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3479-32B9-46D3-A402-E48E855E18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114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345F-3E7F-478A-9225-8282D9922D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3880" y="762120"/>
            <a:ext cx="63248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gunas Reglas Para una Buena Presentación Or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BS02064_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809880" cy="379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BEC-1FD0-4ABC-BA6E-7FEA5BD267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42360" y="125244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Introducción a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79440" y="201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905120"/>
            <a:ext cx="746784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ent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e dividido mi presentación en nn partes/puntos     Punto 1, punto 2, punto 3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tienen aluna pregunta siéntanse en libertad de interrump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s preguntas prefiero contestarla al final para desarrollar el tema con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27F-D4CD-4515-B79A-667EFAFF68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33920" y="1801800"/>
            <a:ext cx="6778080" cy="57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comenzar con el primer p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a comenzar me gustaría considerar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o que todo me gustaría darle una mirada 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merament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comenzar con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C39-823B-4672-8BAD-5A0B6FABCD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85120" y="125244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1080" y="1878120"/>
            <a:ext cx="719100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menzando con un nuevo p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iremos al siguiente punto / parte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siguiente punto / parte que me gustaría desarrolla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hora examinaremos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deas conec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Para finalizar cada p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ien, eso era lo que les iba a decir acerca 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 lo tanto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presentado corresponde al 1° punto d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5A1-F61C-40BE-AA0E-E1ED23F7EA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03480" y="2014560"/>
            <a:ext cx="74070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e gustaría resumir los principales puntos /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 resumen de lo visto serí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apitulando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éjenme recapitular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58760" y="1176480"/>
            <a:ext cx="57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- Resumen de partes o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A85-F3F3-4766-95E7-4DD7F185E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03480" y="2014560"/>
            <a:ext cx="7407000" cy="56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conclusión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podemos concluir que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Fin de l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o sería todo lo que les quería presentar / decir por a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 esto concluye mi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racias por su aten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15200" y="1176480"/>
            <a:ext cx="69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clusiones o fin de la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0C9-8F88-41D6-9C87-0B1509815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31120" y="117648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Consu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981080"/>
            <a:ext cx="740736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Invitación a hacer consu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Y ahora, si ustedes tienen alguna consulta, estaré atento / feliz a / de contestársela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lguna consulta?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B36-D438-4C53-94CD-552AEA155C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89520" y="11764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5010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tecedentes Prelimin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o política infor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1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formación histó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agnó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vantamiento de la situación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do del arte y tendencias tecnológ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F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Inter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2.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Ex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l problema y 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el Probl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3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jetivo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679-C356-4021-AE2C-61C13F0E97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81880" y="1176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esentación Esc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1981080"/>
            <a:ext cx="5010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as de 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ión sobre el  contex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ejoramiento de la Situación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3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de alternativas de sol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4.4          Preselección de alternativ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ción de costos y benefic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1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5.2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enefic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valuación econó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de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8.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 de Inform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78D-79FA-4901-9863-3274AC5469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56120" y="1176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sentación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4760" y="1752480"/>
            <a:ext cx="55296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Es recomendable un estilo so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de fiesta ni de fin de semana en la play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agen pers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colores son import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na presentación acorde con la oca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E01000_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1089000" cy="1820880"/>
          </a:xfrm>
          <a:prstGeom prst="rect">
            <a:avLst/>
          </a:prstGeom>
          <a:ln w="0">
            <a:noFill/>
          </a:ln>
        </p:spPr>
      </p:pic>
      <p:pic>
        <p:nvPicPr>
          <p:cNvPr id="103" name="BD05584_" descr=""/>
          <p:cNvPicPr/>
          <p:nvPr/>
        </p:nvPicPr>
        <p:blipFill>
          <a:blip r:embed="rId2"/>
          <a:stretch/>
        </p:blipFill>
        <p:spPr>
          <a:xfrm>
            <a:off x="6781680" y="4267080"/>
            <a:ext cx="13701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E01023_" descr=""/>
          <p:cNvPicPr/>
          <p:nvPr/>
        </p:nvPicPr>
        <p:blipFill>
          <a:blip r:embed="rId3"/>
          <a:stretch/>
        </p:blipFill>
        <p:spPr>
          <a:xfrm>
            <a:off x="2590920" y="4191120"/>
            <a:ext cx="133020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BD06784_" descr=""/>
          <p:cNvPicPr/>
          <p:nvPr/>
        </p:nvPicPr>
        <p:blipFill>
          <a:blip r:embed="rId4"/>
          <a:stretch/>
        </p:blipFill>
        <p:spPr>
          <a:xfrm>
            <a:off x="4495680" y="457200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06" name="PE01838_" descr=""/>
          <p:cNvPicPr/>
          <p:nvPr/>
        </p:nvPicPr>
        <p:blipFill>
          <a:blip r:embed="rId5"/>
          <a:stretch/>
        </p:blipFill>
        <p:spPr>
          <a:xfrm>
            <a:off x="6781680" y="2666880"/>
            <a:ext cx="1351080" cy="12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269-29E5-4BD8-935C-DF2F6BA42B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2920" y="117648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84360" y="2090880"/>
            <a:ext cx="656892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Mostrar una actitud segura y se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titubear o hablar con voz tirit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fuerte (sin grit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segura (sin titube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blar con voz clara (sin modism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azonablemente lento o por lo menos no tan ráp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 la sensación de importancia respecto de lo que uno está hablando. Hacer sentir a la audiendia la importancia del t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CAC-FE07-4B6F-BE85-06F869AC4F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87600" y="12524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L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166840"/>
            <a:ext cx="6782040" cy="44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gesticular demasi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determinados momentos llamar la atención con cambios de tono o indicación con punteros y m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mirar a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rar a los ojos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arse en alguno que esté concentrado. No sobreexplotar este recu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 posible apoyarse en una mesa para descansar un poco. No sobreexplotar este recur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C4E-4BB2-47C7-AD48-17917CD1C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83640" y="11764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olaboración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905120"/>
            <a:ext cx="717876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ahoma"/>
              </a:rPr>
              <a:t>Los compañeros de grupo deben dar colaboración al que exp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se debe ubicar al frente o al lado del que expone, nunca detr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estás concentrado frente al que exp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unca debe conversar ni preparar cosas de última 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no debe interrumpir al que exp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rupo debe dar soporte al que expone. Movimientos de cabeza y una atenta mirada son recursos út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2C1-B009-4F1C-A4DC-63B9B1437F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01320" y="110016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Estructurando su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2590920"/>
            <a:ext cx="19051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648320"/>
            <a:ext cx="1218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64832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5840" y="262260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Saludo in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1720" y="259092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71760" y="259092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trodu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al 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160" y="2666880"/>
            <a:ext cx="1826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resentación divid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en partes o pu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560" y="464832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Resume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partes o pu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1960" y="4648320"/>
            <a:ext cx="129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Invitar a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consul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281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7150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8098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0932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43F-B81B-4ADF-ADC9-DB37F2433C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95720" y="1176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84360" y="2487600"/>
            <a:ext cx="557856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le a la audiencia lo que les va a dec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gas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gale a la audiencia lo que les ha di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4FD-F9F5-487E-BF7B-E64C1ABE79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06440" y="1252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0240" y="2292480"/>
            <a:ext cx="5622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cuerde: la primera impresión cue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tonces muestre a la audiencia 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jores cualidades profesionales y hum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articul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plíc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488-1149-4528-9448-7701663562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74760" y="12524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 – Salud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7800" y="2139840"/>
            <a:ext cx="644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aludo inicial y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uenos días/tardes/n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ñora y señores, cole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i nombre es .... Y soy el Gerente de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 quisiera (tomar nn minut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uestro tiempo para) presentarles el proyecto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blo González Ju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F31-E9AE-4992-BBB8-363447FB4E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6:19:31Z</dcterms:created>
  <dc:creator>SAFP</dc:creator>
  <dc:description/>
  <dc:language>en-US</dc:language>
  <cp:lastModifiedBy>SAFP</cp:lastModifiedBy>
  <dcterms:modified xsi:type="dcterms:W3CDTF">2002-09-12T15:45:12Z</dcterms:modified>
  <cp:revision>15</cp:revision>
  <dc:subject/>
  <dc:title>Presentación de PowerPoint</dc:title>
</cp:coreProperties>
</file>