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AB29-B840-43B0-93E9-3196418C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A3E7-CD21-4FC9-B762-7C67C8B1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9121-8888-434D-A84A-291E387DB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EBA3-52CC-49F2-BB89-ABD6F52B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4A50-C8D2-40C0-A4A0-5115A1DB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87AC-0FF3-4797-AAE8-CA8C2411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CEC9-4286-4191-81C7-47754586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9A38-DFA1-4533-A554-1207A45A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9449-6271-433D-9EB2-60531E55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8D52-C199-4CE3-AB80-BAF8E3E6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34AC-C4CC-4471-998D-1C24D363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B069-F743-442D-8B15-F2136921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2202-146D-4799-9BDC-0EB7ACB0F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362320" y="5181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Nicolás Le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Alvaro N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5867280" cy="1466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0880" y="4952880"/>
            <a:ext cx="1233720" cy="150516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2209680" y="3657600"/>
            <a:ext cx="5181480" cy="337320"/>
            <a:chOff x="2209680" y="3657600"/>
            <a:chExt cx="5181480" cy="337320"/>
          </a:xfrm>
        </p:grpSpPr>
        <p:sp>
          <p:nvSpPr>
            <p:cNvPr id="45" name=""/>
            <p:cNvSpPr/>
            <p:nvPr/>
          </p:nvSpPr>
          <p:spPr>
            <a:xfrm>
              <a:off x="2209680" y="3657600"/>
              <a:ext cx="5181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09680" y="3657600"/>
              <a:ext cx="518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verdana"/>
                </a:rPr>
                <a:t>Worldwide Interoperability for Microwave 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squem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5181480" cy="4083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squema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533520" y="1895400"/>
          <a:ext cx="8256600" cy="496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895400"/>
                    <a:ext cx="8256600" cy="49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Apl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762120" y="2362320"/>
          <a:ext cx="8103960" cy="381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362320"/>
                    <a:ext cx="8103960" cy="38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OFD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Divide espectro disponible en múltiples subportador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Distribuye los datos en un gran número de carri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Espaciado entre frecuencias evita que los demoduladores vean frecuencias distintas a las suyas propias (Esparcimiento ortog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Alta eficiencia de espectro, resilencia a la interface RF y menor distorsión multi-r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4800600"/>
            <a:ext cx="5486400" cy="1501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M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B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asa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da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 en el chip AGN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F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uncionando de manera experimental 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en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 la Universidad de Stanford y en los Laboratorios B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1371600" y="3549600"/>
          <a:ext cx="7391520" cy="32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3549600"/>
                    <a:ext cx="739152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odulación: Proceso mediante el cual una onda se hace capaz de transmitir un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Usualmente, ésto se hace variando alguna propiedad de la onda para transmitir datos digitales (series de 0’s y 1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ropiedades modificables de las ondas de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mplit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Frecu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3520" y="251460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odulación por amplitud : Amplitude Shift Ke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0600" y="571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5200" y="571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50320" y="571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90720" y="2971800"/>
            <a:ext cx="6941880" cy="2838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486400" y="3200400"/>
            <a:ext cx="0" cy="321624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3200400"/>
            <a:ext cx="0" cy="321624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odulación por frecuencia : Frecuency Shift Key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ás tolerante al ruido que ASK, porque éste generalmente influye en la amplitud de la señ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80880" y="3048120"/>
            <a:ext cx="8574120" cy="2581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754640" y="5334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69240" y="54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540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P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odulación por fase : Phase Shift Ke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Se varía la fase del siguiente baudio en algún áng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Existe Binary PSK (BPSK) y Quadrature PSK (QP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BPSK 0º equivale a un 0 y 180º equivale a u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BP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85800" y="2895480"/>
            <a:ext cx="81262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rebuchet MS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IEEE (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nstitute of Electrical and Electronics Engineers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Estándar 802.16: “Air Interface for fixed Broadband Wireless Access Systems”,  WirelessMAN (metropolitan area net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95280" y="4419720"/>
            <a:ext cx="6705720" cy="1920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P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grega las fases 90º y 270º, con lo cual se pueden transmitir 2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743200" y="3429000"/>
            <a:ext cx="34956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P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09480" y="2895480"/>
            <a:ext cx="80978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También se puede variar la amplitud y la fase en una misma codificación, originando Quadrature Amplitude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ada combinación de fase y amplitud indica cierto número de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295280" y="4114800"/>
            <a:ext cx="64407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Es posible agregar nuevas fases y amplitudes para obtener más estados pos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267080" y="3200400"/>
            <a:ext cx="4515120" cy="32194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85800" y="4038480"/>
            <a:ext cx="3505320" cy="1981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or ejemplo, se pueden usar 12 ángulos de fase y 2 amplitudes para obtener 16 estados (se pueden codificar 4 bits por baud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De acuerdo al número de estados posibles existen 8-QAM, 16-QAM, 64-Q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WiMAX utiliza QPSK (modulando con 4 fases), y QAM con sus distintos números de es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QPSK se transmiten 2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8-QAM se transmiten 3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16-QAM se transmiten 4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64-QAM se transmiten 6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</a:t>
            </a:r>
            <a:r>
              <a:rPr b="1" i="1" lang="es-CL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Adaptativa</a:t>
            </a:r>
            <a:r>
              <a:rPr b="1" i="1" lang="es-CL" sz="3600" spc="-1" strike="noStrike">
                <a:solidFill>
                  <a:srgbClr val="ffffff"/>
                </a:solidFill>
                <a:latin typeface="Trebuchet MS"/>
              </a:rPr>
              <a:t> - </a:t>
            </a:r>
            <a:r>
              <a:rPr b="0" i="1" lang="es-CL" sz="3200" spc="-1" strike="noStrike">
                <a:solidFill>
                  <a:srgbClr val="ffffff"/>
                </a:solidFill>
                <a:latin typeface="verdana"/>
              </a:rPr>
              <a:t>16-Q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809784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¿Por qué no utilizar sólo las técnicas de modulación de mayor orden (cantidad de bits por baudio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orque necesitan mejor relación señal/ruido para soportar las interferencias y mantener una cantidad de errores razo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a modulación adaptativa permite al sistema elegir la técnica de mayor orden que el canal de conexión perm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Generalmente el canal será mejor mientras se esté más cerca de la estación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371600" y="3124080"/>
            <a:ext cx="6629400" cy="35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33520" y="2514600"/>
            <a:ext cx="8153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WiMAX utiliza los algoritmos de encriptación DES (data encryption standard) y AES (advanced encryption stand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lgoritmo de encriptación simé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Variación del algoritmo LUCIFER de I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lave de 56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Bloques de 64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ifrador de Feis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doptado como estándar federal en E.E.U.U. en 19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Obje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Asegurar que estándar ofrezcan interoperabilidad dentro de una amplia gama de productos de comunicación certificados (WiMAX Forum Certified™) entre todas las redes y proveedores 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Acceso de última milla de banda anch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Conexión inalámbr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Sin línea directa de visión a la estación base</a:t>
            </a: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 (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Non Line of S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Diferenciar calidad de servicio (M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533160" y="3962160"/>
            <a:ext cx="5257800" cy="243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Utili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ermu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Shif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X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Funciones fi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16 r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Genera sub-llaves para cada 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809880" y="2362320"/>
            <a:ext cx="5029200" cy="3498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629400" y="601992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Fuente : Roberto Opazo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33520" y="2438280"/>
            <a:ext cx="3200400" cy="4191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uede utilizarse como electronic codebook (ECB), cipher block chaining (CBC), cipher feedback (CFB), output feedback (OF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WiMax lo utiliza en modo CBC, donde a cada bloque se le aplica XOR con el anterior antes de encripta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6553080"/>
            <a:ext cx="246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rebuchet MS"/>
              </a:rPr>
              <a:t>Fuente : Roberto Opazo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886200" y="2514600"/>
            <a:ext cx="52578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DES se extiende a Triple 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Se comenzó a perder confianza en él por los ataques por fuerza br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Fue reemplazado por AES (advanced encryption stand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A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Utiliza el algoritmo Rijnda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lgoritmo de encriptación simétrica, de substitución-permu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reado por Joan Daemen y Vincent Rij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Utiliza bloques de 128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laves de 128, 192 ó 256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doptado por el NIST (National Institute of Standards and Technology) en Noviembre 2001, reemplazando a 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A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533160" y="2361960"/>
            <a:ext cx="4724280" cy="4343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rimero se efectúa Add Round Key (bloque    sublla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uego vienen 9 rounds (si la llave es de 128 bits), 11 (192 bits) ó 13 (256 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En cada round se efectú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Byte Sub (reemplazar los valores del bloque según una S-Bo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Shift Row (ordenar de manera distinta los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ix Column (cada columna del bloque se multiplica por una matriz fi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dd Round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1676520" y="3048120"/>
            <a:ext cx="142920" cy="142920"/>
            <a:chOff x="1676520" y="3048120"/>
            <a:chExt cx="142920" cy="142920"/>
          </a:xfrm>
        </p:grpSpPr>
        <p:sp>
          <p:nvSpPr>
            <p:cNvPr id="207" name=""/>
            <p:cNvSpPr/>
            <p:nvPr/>
          </p:nvSpPr>
          <p:spPr>
            <a:xfrm>
              <a:off x="1676520" y="3048120"/>
              <a:ext cx="142920" cy="142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47800" y="30481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76520" y="311976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210040" cy="4610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600200" y="295920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A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l final se efectúa un round adicional sin Mix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ada subllave se calcula mediante el Key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a siguiente subllave es función de una parte de la llave anteri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plicando shift de un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XOR con la S-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XOR con una columna de una matriz fija Rcon (round consta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Explosivo crecimiento para próximos 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1a6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1447920" y="2971800"/>
          <a:ext cx="6172200" cy="371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971800"/>
                    <a:ext cx="617220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W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imax no es una competencia a 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W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-F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i sino un complemento y que tampoco será una competencia tan directa a la tecnolog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a 3G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 (o eventualmente 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4G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) -&gt; C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onvergencia de las tecnolog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obrepasará a los servicios de cable de banda ancha y DSL porque ofrece velocidades similares pero a un menor coste para las operad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0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xtras: Conexión Punto a pu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5943600" cy="29048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xtras: Conexión Punto-Multipu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715000" cy="42336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Algunos estándares pertenecientes a la familia IEEE 802.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EEE 802.16a (Wi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EEE 802.16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EEE 802.16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EEE 802.16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Capa PHY y Capa 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(PHY)Interfaz aire para 10-66 GHz (2-11 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Opera en bandas licenciadas y no licenciadas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Tasa de transmisión de hasta 75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xtras: Red en M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400800" cy="39416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Soporte para antenas inteligentes: Mejora eficacia espectral en redes inalámb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Orthogonal Frequency Division Multiplexing (OFD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Multiple-Input Multiple-Output (MIM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Control de potencia de transm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(MAC)Topologías de 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Punto-multip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Mesh (malla): Comunicación de suscriptor-para-suscripto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Soporte a FDD (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frequency  division duplexing)</a:t>
            </a: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 y TDD 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(time division duplex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Codificación y modulación adaptativas (QPSK, QAM)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Ajuste dinámico tamaño paqu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Nuevas características en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Medidas para privacidad y criptografía inher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Trebuchet MS"/>
              </a:rPr>
              <a:t>Autenticación instrumentos (certificados x.509) usando DES en modo CBC </a:t>
            </a:r>
            <a:r>
              <a:rPr b="0" i="1" lang="es-ES" sz="1800" spc="-1" strike="noStrike">
                <a:solidFill>
                  <a:srgbClr val="ffffff"/>
                </a:solidFill>
                <a:latin typeface="Trebuchet MS"/>
              </a:rPr>
              <a:t>(cipher block chai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Trebuchet MS"/>
              </a:rPr>
              <a:t>Soporta algoritmos AES </a:t>
            </a: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(Advanced Encryption Stand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Alcance de 50 kilómetros (NLOS)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Forum (www.wimaxforum.org/hom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ompa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2280" y="2819520"/>
          <a:ext cx="8991720" cy="3570120"/>
        </p:xfrm>
        <a:graphic>
          <a:graphicData uri="http://schemas.openxmlformats.org/drawingml/2006/table">
            <a:tbl>
              <a:tblPr/>
              <a:tblGrid>
                <a:gridCol w="2438640"/>
                <a:gridCol w="2133360"/>
                <a:gridCol w="2171880"/>
                <a:gridCol w="22478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aráme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02.16a (WiMA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02.11 (WLAN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02.15 (Bluetoot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Banda Frecu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-11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.4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Var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an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50 [km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300 [m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0 [m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Tasa transfer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70 [Mbps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0-55 [Mbps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K – 55M [bps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Usu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oce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oce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Desarroll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Fabricantes de chipsets WiMa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In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Fujit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Wavesat (de Canadá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Sequans Communications (ex-empleados Alcatel)</a:t>
            </a:r>
            <a:r>
              <a:rPr b="0" i="1" lang="en-US" sz="16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Producción de equip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Alvar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Alca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Aperto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AirS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Sieme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rebuchet MS"/>
              </a:rPr>
              <a:t>Plan Intel para expansión WiM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600200" y="2286000"/>
          <a:ext cx="6095880" cy="4110120"/>
        </p:xfrm>
        <a:graphic>
          <a:graphicData uri="http://schemas.openxmlformats.org/drawingml/2006/table">
            <a:tbl>
              <a:tblPr/>
              <a:tblGrid>
                <a:gridCol w="762120"/>
                <a:gridCol w="533376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opós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Estar presente en la mitad de los notebooks del mun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recer rápido en noteboo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Existir en teléfonos celulares y empezar a implementar en noteboo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d de banda ancha para SOH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parecer en líneas privadas de empres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4:49:10Z</dcterms:created>
  <dc:creator>Nicolas Leiva</dc:creator>
  <dc:description/>
  <dc:language>en-US</dc:language>
  <cp:lastModifiedBy>Nicolas Leiva</cp:lastModifiedBy>
  <dcterms:modified xsi:type="dcterms:W3CDTF">2004-10-29T03:38:22Z</dcterms:modified>
  <cp:revision>41</cp:revision>
  <dc:subject/>
  <dc:title>WiMAX</dc:title>
</cp:coreProperties>
</file>