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506C-32D9-4F45-A1E3-5CADF9B0D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0A18-C2B5-4A22-A662-406AC4C8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CCE0-0FE7-474B-A813-4233E42D7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45CE-5004-4002-A716-333714438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1D29-66E2-4104-A6F6-A61FC6B0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E28C-70CD-46AF-AA84-C64A3CE7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BF8E-BE14-46A2-A084-C25D92BE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AC62-F551-423B-A7B0-73F7C400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CEC3-2BD3-4CBA-9148-C268459C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7BB8-D137-40A5-992E-C8684EA1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1A93-A890-487C-9A53-0968193A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EA94-FD98-4EB8-A74A-F3F2EAC5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4F2C-0EA5-4D93-A6D1-31FE1B5B1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362320" y="5181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Nicolás Le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Alvaro Nei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5867280" cy="1466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80880" y="4952880"/>
            <a:ext cx="1233720" cy="150516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2209680" y="3657600"/>
            <a:ext cx="5181480" cy="337320"/>
            <a:chOff x="2209680" y="3657600"/>
            <a:chExt cx="5181480" cy="337320"/>
          </a:xfrm>
        </p:grpSpPr>
        <p:sp>
          <p:nvSpPr>
            <p:cNvPr id="45" name=""/>
            <p:cNvSpPr/>
            <p:nvPr/>
          </p:nvSpPr>
          <p:spPr>
            <a:xfrm>
              <a:off x="2209680" y="3657600"/>
              <a:ext cx="51814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209680" y="3657600"/>
              <a:ext cx="518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verdana"/>
                </a:rPr>
                <a:t>Worldwide Interoperability for Microwave 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Esquem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5181480" cy="4083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Esquema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533520" y="1895400"/>
          <a:ext cx="8256600" cy="496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895400"/>
                    <a:ext cx="8256600" cy="49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Apl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762120" y="2362320"/>
          <a:ext cx="8103960" cy="381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2362320"/>
                    <a:ext cx="8103960" cy="38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rebuchet MS"/>
              </a:rPr>
              <a:t>OFD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Divide espectro disponible en múltiples subportador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Distribuye los datos en un gran número de carri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Espaciado entre frecuencias evita que los demoduladores vean frecuencias distintas a las suyas propias (Esparcimiento ortogo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Alta eficiencia de espectro, resilencia a la interface RF y menor distorsión multi-ru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4800600"/>
            <a:ext cx="5486400" cy="1501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M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B</a:t>
            </a:r>
            <a:r>
              <a:rPr b="0" i="1" lang="en-GB" sz="2000" spc="-1" strike="noStrike">
                <a:solidFill>
                  <a:srgbClr val="ffffff"/>
                </a:solidFill>
                <a:latin typeface="Trebuchet MS"/>
              </a:rPr>
              <a:t>asa</a:t>
            </a: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da</a:t>
            </a:r>
            <a:r>
              <a:rPr b="0" i="1" lang="en-GB" sz="2000" spc="-1" strike="noStrike">
                <a:solidFill>
                  <a:srgbClr val="ffffff"/>
                </a:solidFill>
                <a:latin typeface="Trebuchet MS"/>
              </a:rPr>
              <a:t> en el chip AGN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F</a:t>
            </a:r>
            <a:r>
              <a:rPr b="0" i="1" lang="en-GB" sz="2000" spc="-1" strike="noStrike">
                <a:solidFill>
                  <a:srgbClr val="ffffff"/>
                </a:solidFill>
                <a:latin typeface="Trebuchet MS"/>
              </a:rPr>
              <a:t>uncionando de manera experimental </a:t>
            </a: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en</a:t>
            </a:r>
            <a:r>
              <a:rPr b="0" i="1" lang="en-GB" sz="2000" spc="-1" strike="noStrike">
                <a:solidFill>
                  <a:srgbClr val="ffffff"/>
                </a:solidFill>
                <a:latin typeface="Trebuchet MS"/>
              </a:rPr>
              <a:t> la Universidad de Stanford y en los Laboratorios B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1371600" y="3549600"/>
          <a:ext cx="7391520" cy="32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3549600"/>
                    <a:ext cx="739152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Modulación: Proceso mediante el cual una onda se hace capaz de transmitir un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Usualmente, ésto se hace variando alguna propiedad de la onda para transmitir datos digitales (series de 0’s y 1’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Propiedades modificables de las ondas de 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mplit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Frecu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F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33520" y="251460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Modulación por amplitud : Amplitude Shift Ke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0600" y="571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45200" y="571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50320" y="571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990720" y="2971800"/>
            <a:ext cx="6941880" cy="2838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486400" y="3200400"/>
            <a:ext cx="0" cy="321624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52680" y="3200400"/>
            <a:ext cx="0" cy="321624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F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Modulación por frecuencia : Frecuency Shift Key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Más tolerante al ruido que ASK, porque éste generalmente influye en la amplitud de la señ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80880" y="3048120"/>
            <a:ext cx="8574120" cy="2581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754640" y="5334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69240" y="541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4540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P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Modulación por fase : Phase Shift Ke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Se varía la fase del siguiente baudio en algún áng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Existe Binary PSK (BPSK) y Quadrature PSK (QP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on BPSK 0º equivale a un 0 y 180º equivale a u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BP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85800" y="2895480"/>
            <a:ext cx="81262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rebuchet MS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IEEE (</a:t>
            </a: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Institute of Electrical and Electronics Engineers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Estándar 802.16: “Air Interface for fixed Broadband Wireless Access Systems”,  WirelessMAN (metropolitan area net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95280" y="4419720"/>
            <a:ext cx="6705720" cy="1920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QP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grega las fases 90º y 270º, con lo cual se pueden transmitir 2 bits por ba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743200" y="3429000"/>
            <a:ext cx="349560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QP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09480" y="2895480"/>
            <a:ext cx="809784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Q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También se puede variar la amplitud y la fase en una misma codificación, originando Quadrature Amplitude Mod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ada combinación de fase y amplitud indica cierto número de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295280" y="4114800"/>
            <a:ext cx="644076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Q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Es posible agregar nuevas fases y amplitudes para obtener más estados pos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267080" y="3200400"/>
            <a:ext cx="4515120" cy="32194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85800" y="4038480"/>
            <a:ext cx="3505320" cy="1981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Por ejemplo, se pueden usar 12 ángulos de fase y 2 amplitudes para obtener 16 estados (se pueden codificar 4 bits por baud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Q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De acuerdo al número de estados posibles existen 8-QAM, 16-QAM, 64-Q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WiMAX utiliza QPSK (modulando con 4 fases), y QAM con sus distintos números de es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on QPSK se transmiten 2 bits por ba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on 8-QAM se transmiten 3 bits por ba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on 16-QAM se transmiten 4 bits por ba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on 64-QAM se transmiten 6 bits por ba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</a:t>
            </a:r>
            <a:r>
              <a:rPr b="1" i="1" lang="es-CL" sz="36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Adaptativa</a:t>
            </a:r>
            <a:r>
              <a:rPr b="1" i="1" lang="es-CL" sz="3600" spc="-1" strike="noStrike">
                <a:solidFill>
                  <a:srgbClr val="ffffff"/>
                </a:solidFill>
                <a:latin typeface="Trebuchet MS"/>
              </a:rPr>
              <a:t> - </a:t>
            </a:r>
            <a:r>
              <a:rPr b="0" i="1" lang="es-CL" sz="3200" spc="-1" strike="noStrike">
                <a:solidFill>
                  <a:srgbClr val="ffffff"/>
                </a:solidFill>
                <a:latin typeface="verdana"/>
              </a:rPr>
              <a:t>16-Q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33520" y="2743200"/>
            <a:ext cx="809784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¿Por qué no utilizar sólo las técnicas de modulación de mayor orden (cantidad de bits por baudio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Porque necesitan mejor relación señal/ruido para soportar las interferencias y mantener una cantidad de errores razo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La modulación adaptativa permite al sistema elegir la técnica de mayor orden que el canal de conexión perm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Generalmente el canal será mejor mientras se esté más cerca de la estación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371600" y="3124080"/>
            <a:ext cx="6629400" cy="35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33520" y="2514600"/>
            <a:ext cx="8153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WiMAX utiliza los algoritmos de encriptación DES (data encryption standard) y AES (advanced encryption stand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lgoritmo de encriptación simé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Variación del algoritmo LUCIFER de I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Llave de 56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Bloques de 64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ifrador de Feis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doptado como estándar federal en E.E.U.U. en 19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rebuchet MS"/>
              </a:rPr>
              <a:t>Obje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Asegurar que estándar ofrezcan interoperabilidad dentro de una amplia gama de productos de comunicación certificados (WiMAX Forum Certified™) entre todas las redes y proveedores 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Acceso de última milla de banda anch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Conexión inalámbr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Sin línea directa de visión a la estación base</a:t>
            </a: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 (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Non Line of S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Diferenciar calidad de servicio (MA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533160" y="3962160"/>
            <a:ext cx="5257800" cy="243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Utili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Permu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Shif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X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Funciones fi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16 r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Genera sub-llaves para cada 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809880" y="2362320"/>
            <a:ext cx="5029200" cy="34988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629400" y="601992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Fuente : Roberto Opazo 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33520" y="2438280"/>
            <a:ext cx="3200400" cy="4191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Puede utilizarse como electronic codebook (ECB), cipher block chaining (CBC), cipher feedback (CFB), output feedback (OF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WiMax lo utiliza en modo CBC, donde a cada bloque se le aplica XOR con el anterior antes de encriptar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95880" y="6553080"/>
            <a:ext cx="246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rebuchet MS"/>
              </a:rPr>
              <a:t>Fuente : Roberto Opazo 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3886200" y="2514600"/>
            <a:ext cx="525780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DES se extiende a Triple 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Se comenzó a perder confianza en él por los ataques por fuerza bru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Fue reemplazado por AES (advanced encryption stand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A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Utiliza el algoritmo Rijnda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lgoritmo de encriptación simétrica, de substitución-permu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reado por Joan Daemen y Vincent Rij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Utiliza bloques de 128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Llaves de 128, 192 ó 256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doptado por el NIST (National Institute of Standards and Technology) en Noviembre 2001, reemplazando a 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A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533160" y="2361960"/>
            <a:ext cx="4724280" cy="4343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Primero se efectúa Add Round Key (bloque    sublla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Luego vienen 9 rounds (si la llave es de 128 bits), 11 (192 bits) ó 13 (256 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En cada round se efectú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Byte Sub (reemplazar los valores del bloque según una S-Bo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Shift Row (ordenar de manera distinta los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Mix Column (cada columna del bloque se multiplica por una matriz fi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dd Round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grpSp>
        <p:nvGrpSpPr>
          <p:cNvPr id="206" name=""/>
          <p:cNvGrpSpPr/>
          <p:nvPr/>
        </p:nvGrpSpPr>
        <p:grpSpPr>
          <a:xfrm>
            <a:off x="1676520" y="3048120"/>
            <a:ext cx="142920" cy="142920"/>
            <a:chOff x="1676520" y="3048120"/>
            <a:chExt cx="142920" cy="142920"/>
          </a:xfrm>
        </p:grpSpPr>
        <p:sp>
          <p:nvSpPr>
            <p:cNvPr id="207" name=""/>
            <p:cNvSpPr/>
            <p:nvPr/>
          </p:nvSpPr>
          <p:spPr>
            <a:xfrm>
              <a:off x="1676520" y="3048120"/>
              <a:ext cx="142920" cy="142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747800" y="304812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676520" y="311976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210040" cy="4610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1600200" y="295920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A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l final se efectúa un round adicional sin Mix Colu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ada subllave se calcula mediante el Key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La siguiente subllave es función de una parte de la llave anteri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plicando shift de una colum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XOR con la S-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XOR con una columna de una matriz fija Rcon (round consta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Mer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Explosivo crecimiento para próximos a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1a6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0" name=""/>
          <p:cNvGraphicFramePr/>
          <p:nvPr/>
        </p:nvGraphicFramePr>
        <p:xfrm>
          <a:off x="1447920" y="2971800"/>
          <a:ext cx="6172200" cy="371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2971800"/>
                    <a:ext cx="6172200" cy="37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W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imax no es una competencia a 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W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-F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i sino un complemento y que tampoco será una competencia tan directa a la tecnolog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a 3G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 (o eventualmente 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4G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) -&gt; C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onvergencia de las tecnolog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obrepasará a los servicios de cable de banda ancha y DSL porque ofrece velocidades similares pero a un menor coste para las operad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0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Extras: Conexión Punto a pu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523880" y="2590920"/>
            <a:ext cx="5943600" cy="29048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Extras: Conexión Punto-Multipu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5715000" cy="42336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Caracterís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Algunos estándares pertenecientes a la familia IEEE 802.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IEEE 802.16a (Wi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IEEE 802.16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IEEE 802.16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IEEE 802.16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Capa PHY y Capa M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(PHY)Interfaz aire para 10-66 GHz (2-11 G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Opera en bandas licenciadas y no licenciadas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Tasa de transmisión de hasta 75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Extras: Red en Ma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6400800" cy="39416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Caracterís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Soporte para antenas inteligentes: Mejora eficacia espectral en redes inalámbr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Orthogonal Frequency Division Multiplexing (OFDM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Multiple-Input Multiple-Output (MIM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Control de potencia de transm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(MAC)Topologías de 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Punto-multipu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Mesh (malla): Comunicación de suscriptor-para-suscripto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Soporte a FDD (</a:t>
            </a: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frequency  division duplexing)</a:t>
            </a: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 y TDD </a:t>
            </a: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(time division duplex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Caracterís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Codificación y modulación adaptativas (QPSK, QAM)</a:t>
            </a:r>
            <a:r>
              <a:rPr b="0" i="1" lang="en-GB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Ajuste dinámico tamaño paqu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Nuevas características en Q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Medidas para privacidad y criptografía inher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Trebuchet MS"/>
              </a:rPr>
              <a:t>Autenticación instrumentos (certificados x.509) usando DES en modo CBC </a:t>
            </a:r>
            <a:r>
              <a:rPr b="0" i="1" lang="es-ES" sz="1800" spc="-1" strike="noStrike">
                <a:solidFill>
                  <a:srgbClr val="ffffff"/>
                </a:solidFill>
                <a:latin typeface="Trebuchet MS"/>
              </a:rPr>
              <a:t>(cipher block chain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Trebuchet MS"/>
              </a:rPr>
              <a:t>Soporta algoritmos AES </a:t>
            </a: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(Advanced Encryption Stand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Alcance de 50 kilómetros (NLOS)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Forum (www.wimaxforum.org/hom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Compa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52280" y="2819520"/>
          <a:ext cx="8991720" cy="3570120"/>
        </p:xfrm>
        <a:graphic>
          <a:graphicData uri="http://schemas.openxmlformats.org/drawingml/2006/table">
            <a:tbl>
              <a:tblPr/>
              <a:tblGrid>
                <a:gridCol w="2438640"/>
                <a:gridCol w="2133360"/>
                <a:gridCol w="2171880"/>
                <a:gridCol w="224784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aráme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802.16a (WiMA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802.11 (WLAN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802.15 (Bluetooth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Banda Frecue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-11G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.4G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Var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an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50 [km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300 [m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10 [m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Tasa transfere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70 [Mbps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10-55 [Mbps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K – 55M [bps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Usu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M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Doce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Doce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Desarroll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Fabricantes de chipsets WiMax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In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Fujit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Wavesat (de Canadá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Sequans Communications (ex-empleados Alcatel)</a:t>
            </a:r>
            <a:r>
              <a:rPr b="0" i="1" lang="en-US" sz="16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Producción de equip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Alvar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Alca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Aperto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AirS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Siemen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rebuchet MS"/>
              </a:rPr>
              <a:t>Plan Intel para expansión WiM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600200" y="2286000"/>
          <a:ext cx="6095880" cy="4110120"/>
        </p:xfrm>
        <a:graphic>
          <a:graphicData uri="http://schemas.openxmlformats.org/drawingml/2006/table">
            <a:tbl>
              <a:tblPr/>
              <a:tblGrid>
                <a:gridCol w="762120"/>
                <a:gridCol w="533376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A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ropósi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Estar presente en la mitad de los notebooks del mun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recer rápido en noteboo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Existir en teléfonos celulares y empezar a implementar en noteboo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ed de banda ancha para SOH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Aparecer en líneas privadas de empres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4:49:10Z</dcterms:created>
  <dc:creator>Nicolas Leiva</dc:creator>
  <dc:description/>
  <dc:language>en-US</dc:language>
  <cp:lastModifiedBy>Nicolas Leiva</cp:lastModifiedBy>
  <dcterms:modified xsi:type="dcterms:W3CDTF">2004-10-29T03:38:22Z</dcterms:modified>
  <cp:revision>41</cp:revision>
  <dc:subject/>
  <dc:title>WiMAX</dc:title>
</cp:coreProperties>
</file>