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BBC-9407-469A-A15A-8309DD9C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C25-016B-485C-9459-7F6A2718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F05-628A-4EB7-99D2-CA420781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71F-3164-46CE-BC69-3298E0B2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11C-C6EF-4114-9F3D-5FC389DC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969-4BF9-41E2-A0D5-F94503DA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613-9AA7-49F8-B252-E9897328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EDC-2AD9-4CA3-9A66-5F447FEA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B74-6776-47B1-9564-1C771DB3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AB3-498C-4276-93F9-845108D8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B80-81F2-4C73-9E88-31C86FB5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62B-51C2-40FC-BFB5-7BB3BE3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CBE2-9439-401B-9C02-B032A8533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81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Nicolás Le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Alvaro N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5867280" cy="1466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233720" cy="15051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209680" y="3657600"/>
            <a:ext cx="5181480" cy="337320"/>
            <a:chOff x="2209680" y="3657600"/>
            <a:chExt cx="5181480" cy="337320"/>
          </a:xfrm>
        </p:grpSpPr>
        <p:sp>
          <p:nvSpPr>
            <p:cNvPr id="45" name=""/>
            <p:cNvSpPr/>
            <p:nvPr/>
          </p:nvSpPr>
          <p:spPr>
            <a:xfrm>
              <a:off x="2209680" y="365760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09680" y="3657600"/>
              <a:ext cx="51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verdana"/>
                </a:rPr>
                <a:t>Worldwide Interoperability for Microwav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4083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33520" y="1895400"/>
          <a:ext cx="825660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95400"/>
                    <a:ext cx="82566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2120" y="2362320"/>
          <a:ext cx="8103960" cy="38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10396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F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vide espectro disponible en múltiples subportad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stribuye los datos en un gran número de car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spaciado entre frecuencias evita que los demoduladores vean frecuencias distintas a las suyas propias (Esparcimiento orto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lta eficiencia de espectro, resilencia a la interface RF y menor distorsión multi-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800600"/>
            <a:ext cx="5486400" cy="150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B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asa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a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en el chip AGN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uncionando de manera experimental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n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la Universidad de Stanford y en los Laboratorios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371600" y="3549600"/>
          <a:ext cx="739152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49600"/>
                    <a:ext cx="73915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: Proceso mediante el cual una onda se hace capaz de transmitir un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sualmente, ésto se hace variando alguna propiedad de la onda para transmitir datos digitales (series de 0’s y 1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opiedades modificables de las ondas d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51460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amplitud : Amplitud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06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5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032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6941880" cy="283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recuencia : Frecuency Shift Ke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ás tolerante al ruido que ASK, porque éste generalmente influye en la amplitud de la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8574120" cy="25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46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924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54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ase : Phas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varía la fase del siguiente baudio en algún 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xiste Binary PSK (BPSK) y Quadrature PSK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BPSK 0º equivale a un 0 y 180º equivale a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B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8126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IEEE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nstitute of Electrical and Electronics Engineers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stándar 802.16: “Air Interface for fixed Broadband Wireless Access Systems”,  Wireless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grega las fases 90º y 270º, con lo cual se pueden transmitir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495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80978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También se puede variar la amplitud y la fase en una misma codificación, originando Quadrature Amplitude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combinación de fase y amplitud indica cierto número d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440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s posible agregar nuevas fases y amplitudes para obtener más estado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5120" cy="32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038480"/>
            <a:ext cx="350532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 ejemplo, se pueden usar 12 ángulos de fase y 2 amplitudes para obtener 16 estados (se pueden codificar 4 bits por ba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 acuerdo al número de estados posibles existen 8-QAM, 16-QAM, 64-Q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QPSK (modulando con 4 fases), y QAM con sus distintos números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QPSK se transmiten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8-QAM se transmiten 3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16-QAM se transmiten 4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64-QAM se transmiten 6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Adaptativa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0" i="1" lang="es-CL" sz="3200" spc="-1" strike="noStrike">
                <a:solidFill>
                  <a:srgbClr val="ffffff"/>
                </a:solidFill>
                <a:latin typeface="verdana"/>
              </a:rPr>
              <a:t>16-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097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¿Por qué no utilizar sólo las técnicas de modulación de mayor orden (cantidad de bits por baud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que necesitan mejor relación señal/ruido para soportar las interferencias y mantener una cantidad de errores raz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modulación adaptativa permite al sistema elegir la técnica de mayor orden que el canal de conexión per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lmente el canal será mejor mientras se esté más cerca de la estación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8153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los algoritmos de encriptación DES (data encryption standard) y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Variación del algoritmo LUCIFER de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 de 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loques d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ifrador de Feis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como estándar federal en E.E.U.U. en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segurar que estándar ofrezcan interoperabilidad dentro de una amplia gama de productos de comunicación certificados (WiMAX Forum Certified™) entre todas las redes y proveedores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cceso de última milla de banda an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exión inalámb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in línea directa de visión a la estación base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n Line of S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iferenciar calidad de servicio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160" y="3962160"/>
            <a:ext cx="5257800" cy="243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ermu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nciones f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16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 sub-llaves para cada 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5029200" cy="349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29400" y="601992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2438280"/>
            <a:ext cx="3200400" cy="4191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uede utilizarse como electronic codebook (ECB), cipher block chaining (CBC), cipher feedback (CFB), output feedback (OF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lo utiliza en modo CBC, donde a cada bloque se le aplica XOR con el anterior antes de encrip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553080"/>
            <a:ext cx="24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rebuchet MS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5257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S se extiende a Tripl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comenzó a perder confianza en él por los ataques por fuerza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e reemplazado por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el algoritmo Rijnd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, de substitución-perm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reado por Joan Daemen y Vincent Rij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bloques de 12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s de 128, 192 ó 2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por el NIST (National Institute of Standards and Technology) en Noviembre 2001, reemplazando a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4724280" cy="43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imero se efectúa Add Round Key (bloque    subll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uego vienen 9 rounds (si la llave es de 128 bits), 11 (192 bits) ó 13 (25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n cada round se efe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yte Sub (reemplazar los valores del bloque según una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 Row (ordenar de manera distinta los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ix Column (cada columna del bloque se multiplica por una matriz f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676520" y="3048120"/>
            <a:ext cx="142920" cy="142920"/>
            <a:chOff x="1676520" y="3048120"/>
            <a:chExt cx="142920" cy="142920"/>
          </a:xfrm>
        </p:grpSpPr>
        <p:sp>
          <p:nvSpPr>
            <p:cNvPr id="207" name=""/>
            <p:cNvSpPr/>
            <p:nvPr/>
          </p:nvSpPr>
          <p:spPr>
            <a:xfrm>
              <a:off x="1676520" y="3048120"/>
              <a:ext cx="142920" cy="14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7800" y="30481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1197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210040" cy="46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600200" y="29592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 final se efectúa un round adicional sin Mix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subllave se calcula mediante el Ke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siguiente subllave es función de una parte de la llave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plicando shift de un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la S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una columna de una matriz fija Rcon (round cons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xplosivo crecimiento para próximos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1a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447920" y="2971800"/>
          <a:ext cx="6172200" cy="37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971800"/>
                    <a:ext cx="61722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max no es una competencia a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-F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 sino un complemento y que tampoco será una competencia tan directa a la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 3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 (o eventualmente 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4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) -&gt; C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nvergencia de las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brepasará a los servicios de cable de banda ancha y DSL porque ofrece velocidades similares pero a un menor coste para las oper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0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 a 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43600" cy="2904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-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lgunos estándares pertenecientes a la familia IEEE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a (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apa PHY y Cap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PHY)Interfaz aire para 10-66 GHz (2-11 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Opera en bandas licenciadas y no licenciadas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Tasa de transmisión de hasta 7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Red en 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94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para antenas inteligentes: Mejora eficacia espectral en redes inalámb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Orthogonal Frequency Division Multiplexing (OF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ultiple-Input Multiple-Output (M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trol de potencia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MAC)Topologías de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Punto-multi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esh (malla): Comunicación de suscriptor-para-suscrip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a FDD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requency  division duplexing)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y TDD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(time division duple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odificación y modulación adaptativas (QPSK, QAM)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juste dinámico tamaño pa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Nuevas características en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edidas para privacidad y criptografía inh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Autenticación instrumentos (certificados x.509) usando DES en modo CBC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(cipher block ch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Soporta algoritmos AES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(Advanced Encryption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Alcance de 50 kilómetros (NLOS)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orum (www.wimaxforum.org/ho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819520"/>
          <a:ext cx="8991720" cy="3570120"/>
        </p:xfrm>
        <a:graphic>
          <a:graphicData uri="http://schemas.openxmlformats.org/drawingml/2006/table">
            <a:tbl>
              <a:tblPr/>
              <a:tblGrid>
                <a:gridCol w="2438640"/>
                <a:gridCol w="2133360"/>
                <a:gridCol w="2171880"/>
                <a:gridCol w="224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ará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6a (Wi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1 (WLA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5 (Blueto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anda Frecu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-11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.4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 [k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0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sa transfe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0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-55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K – 55M [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Usu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Desarrol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Fabricantes de chipsets WiM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Fujit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Wavesat (de Canad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equans Communications (ex-empleados Alcatel)</a:t>
            </a: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Producción de equ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var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c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perto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ir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ieme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lan Intel para expansión W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00200" y="2286000"/>
          <a:ext cx="6095880" cy="4110120"/>
        </p:xfrm>
        <a:graphic>
          <a:graphicData uri="http://schemas.openxmlformats.org/drawingml/2006/table">
            <a:tbl>
              <a:tblPr/>
              <a:tblGrid>
                <a:gridCol w="762120"/>
                <a:gridCol w="53337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r presente en la mitad de los notebooks del m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recer rápido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xistir en teléfonos celulares y empezar a implementar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d de banda ancha para SO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parecer en líneas privadas de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4:49:10Z</dcterms:created>
  <dc:creator>Nicolas Leiva</dc:creator>
  <dc:description/>
  <dc:language>en-US</dc:language>
  <cp:lastModifiedBy>Nicolas Leiva</cp:lastModifiedBy>
  <dcterms:modified xsi:type="dcterms:W3CDTF">2004-10-29T03:38:22Z</dcterms:modified>
  <cp:revision>41</cp:revision>
  <dc:subject/>
  <dc:title>WiMAX</dc:title>
</cp:coreProperties>
</file>