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0AD5-360E-45A0-8FCD-0EC989A3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0E52-99FC-48C1-98D4-C028F74C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9F89-B9F7-42BC-B49C-C759B3C3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36C9-8776-44EB-899E-5C64D6E4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5DBD-1E58-46E1-8BC2-56931387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4298-B9D7-4E38-9D68-27A7EC7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29FA-098C-4C67-BAA9-DD27D73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FC8-964A-422F-B6DD-D79A932B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7CD3-967D-4149-8512-A0E9FDC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65E-343E-4E58-8072-FD38B221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BE8-0F50-4C2A-859C-4C949315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657D-8FD2-4463-90BD-E7313314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2E41-C6D7-4986-AB2C-5F63938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5CED-9007-487A-B234-28161FE3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3B75-8634-4C59-B79B-66A8E2BF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E02F-75D1-49D2-B86B-B4DFCC37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9C9D-30F4-4398-967A-939ED3A9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9FA4-FB91-44C7-8E75-FB3465D3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9794-ACDE-4089-9011-39BF4481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1349-20DC-4176-9609-8EC4D33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C57D-8DD5-443B-85E4-273E261B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6A26-0A71-4A11-89CB-44B1D14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F11A-100C-4E7C-90E3-9140496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B9BA-42A9-439A-A0B6-D031463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867-0F65-4949-AD59-718667E94E1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80D6-2D15-4601-8B2A-A3E0BB68D12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00400" y="1600200"/>
            <a:ext cx="5043600" cy="4653000"/>
          </a:xfrm>
          <a:prstGeom prst="rect">
            <a:avLst/>
          </a:prstGeom>
          <a:ln w="0">
            <a:noFill/>
          </a:ln>
        </p:spPr>
      </p:pic>
      <p:pic>
        <p:nvPicPr>
          <p:cNvPr id="107" name="Hermenegildo1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007d"/>
                </a:solidFill>
                <a:latin typeface="Arial"/>
              </a:rPr>
              <a:t>Eliminación de Superficies Ocult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7d"/>
                </a:solidFill>
                <a:latin typeface="Arial"/>
              </a:rPr>
              <a:t>Computación Gráfica CC5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7d"/>
                </a:solidFill>
                <a:latin typeface="Arial"/>
              </a:rPr>
              <a:t>Prof. M.C. Riv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7d"/>
                </a:solidFill>
                <a:latin typeface="Arial"/>
              </a:rPr>
              <a:t>Texto: Alfredo Cof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7d"/>
                </a:solidFill>
                <a:latin typeface="Arial"/>
              </a:rPr>
              <a:t>acofre@dcc.uchile.c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écnica de baja complejidad, pero cara en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cada píxel se asocia un par ordenado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más  un valor de profundidad Z, que grabaremos en un z-buff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z-buffer se inicializa con la profundidad del fondo de la pirámide de pro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6C21-FBBD-4537-B934-4C19A2729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da pí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camos todos los polígonos que intersectan un rayo que parte del ojo del observador y pasa por el píxel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intersecta, comparamos su profundidad (valor z del polígono, o distancia del punto de intersección al píxel) con la profundidad que hay en el z-buffer (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valor es menor al del z-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olígono es más cercano al observador que el que tenemos actualmente en el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emplazamos el valor del z-buffer por el valor z del polí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intamos el píxel con el color del polí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mos la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1ECC-1858-45A9-BD6C-71D394E5BF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151308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151272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15127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705720" y="2514600"/>
            <a:ext cx="1512720" cy="1190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520" y="3886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-buffer original +    cuadrado      +     triángulo       =     z-buffer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CAC8-D129-4185-867E-84DCE3FDA9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rboles B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ón recursiva y jerárquica del espacio en subespacios convex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ver que zona de las superficies ocultan otras zonas en forma de árbol b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mos un plano de part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amos el primer polígono que intersecte el plano, viendo si está delante o detrás de é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está completamente delante o detrás, dividimos el polígono en dos, de modo que cada subpolígono quede bien defi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mos recursivamente con los otros políg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7183-5D26-4DDD-9DF6-2CB0E3355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rboles B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: árbol binario que indica qué polígono o segmento de polígono está delante de que otros políg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stramos los polígonos fro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ver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7A65-047B-4DFE-AAFB-458076BFDE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lgoritmo del pi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intor pinta una tela “de atrás hacia delante”, de modo que los objetos delanteros tapen los objetos tras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 simple, pero que pinta polígonos inneces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 grave: polígonos que se traslapan de forma no triv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927520" cy="29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CA7C-31BA-48AD-89EA-436B674819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lgoritmo del pi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: Dividimos la imagen hasta que cada parte de ella sea fácilmente pintable con el algori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927520" cy="29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D4FA-C871-4911-BED9-A5A7D03DB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A quien hay que elimi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modelo 3D contiene polígonos por toda su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n render, solamente queremos ver los polígonos que NO ESTAN OCULTOS por otros polígonos y que SON VISIBLES POR LA C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tamos eliminar superficies ocultas (backface cu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938B-EBA9-436B-96E5-1C4BD897E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Ray 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y Casting es una técnica de eliminación de superficies ocul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a es lanzar un rayo de luz desde el ojo del observador a través de cada uno de los píxeles del viewport y determinar con que objetos se inters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las intersecciones resultantes, se elige la más cercana al observador y se colorea el píxel con el color del objeto intersec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9697-3F2C-4050-9E84-C85B687954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seudo algorit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 RayCasting(camara, scena, ancho, al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n imagen = new Imagen(ancho, alt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 (int i=0; i&lt; ancho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 (int j=0; j&lt; alto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ayo rayo = ConstruirRayoAtravespíxel(camara, i, 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section punto = EncontrarInterseccion(rayo, escen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n[i][j] = getColor(punt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urn imag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AC54-252E-4BCF-AF1D-782175B12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mos encontrar las intersecciones de los rayos con los diferentes objetos de la escena. Pero, ¿qué es un ray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ay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rayo es una ecuación paramétrica definida por un origen y una dirección. La ecuación del ray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(t) = 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t *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2057400" cy="168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2468-570C-4647-B56F-98B1CAC96B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13372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necesario determinar la intersección de un rayo con todos los objetos “visibles” de la esce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só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3D71-778D-4CEA-9E3A-65413CA83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 con esfer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punto de la esfera centrada en  C =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l,m,n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radi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atisfa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|Q-C|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a ecuación del rayo en la ec. de la esfe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|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+ t*d - C|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finien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C y desarrollando , se ob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907920"/>
            <a:ext cx="3959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2t(d •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) + |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|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solución real         el rayo no intercepta esta e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 dos soluciones       el rayo intersecta la esfera dos veces: cuando entra y cuando sale de 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184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2421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013360"/>
            <a:ext cx="136836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867280" y="4941360"/>
            <a:ext cx="259236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500280"/>
            <a:ext cx="367200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8" y="2449"/>
                </a:moveTo>
                <a:lnTo>
                  <a:pt x="-448" y="2449"/>
                </a:lnTo>
                <a:lnTo>
                  <a:pt x="-448" y="25376"/>
                </a:lnTo>
                <a:lnTo>
                  <a:pt x="9918" y="40717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olución más pequeña corresponde a la intersección más próxima al obser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5760" y="547524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lnTo>
                  <a:pt x="0" y="288"/>
                </a:lnTo>
                <a:lnTo>
                  <a:pt x="28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48400" y="5551560"/>
            <a:ext cx="228600" cy="3808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cubicBezTo>
                  <a:pt x="36" y="12"/>
                  <a:pt x="72" y="24"/>
                  <a:pt x="96" y="48"/>
                </a:cubicBezTo>
                <a:cubicBezTo>
                  <a:pt x="120" y="72"/>
                  <a:pt x="132" y="108"/>
                  <a:pt x="14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768800">
            <a:off x="5724360" y="5589360"/>
            <a:ext cx="76320" cy="230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A3AE-48C7-418C-950E-7DC5359A1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 con polígo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el polígono contenido en el p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x + by + cz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be entonces chequear la intersección del rayo con este plano.  En este caso, la intersección está dada 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ax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z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     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lmente, se debe revisar si el punto de intersección está contenido dentro del políg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AA52-57C7-4C42-9E1E-12BB9BD20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 != Ray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122640" cy="1951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122640" cy="1950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38480" y="182880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om 2: Ray 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iminación de superficies ocultas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ndereo muy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or de render senc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real Tournament: Ray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global de ilu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orpora ray casting como elemento constituyente de ray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e mucho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poya en Direc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C6C6-CFE1-4F7B-943E-2EDF4360C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21:36:52Z</dcterms:created>
  <dc:creator>Alfredo Cofré E</dc:creator>
  <dc:description/>
  <dc:language>en-US</dc:language>
  <cp:lastModifiedBy>Alfredo Cofré</cp:lastModifiedBy>
  <cp:lastPrinted>2004-06-02T17:48:38Z</cp:lastPrinted>
  <dcterms:modified xsi:type="dcterms:W3CDTF">2004-11-05T04:16:59Z</dcterms:modified>
  <cp:revision>59</cp:revision>
  <dc:subject/>
  <dc:title>Raytracing y Radiosity</dc:title>
</cp:coreProperties>
</file>