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02FD-1852-4FAC-8D1E-62CC97F3E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BFD02-CE34-4F69-8423-1744C994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A73E-BE7B-4074-86A9-FF6CCA03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01F7-F73F-414E-A6DB-DC394481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FD33-1E8D-48C4-94B9-B43AB5F8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D75CA-69B7-4766-813E-FB58A799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6E2F-D718-4126-82A4-3DDC95DDB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CCDC-94D7-4710-8D53-7077A373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7670-F7D2-4C4F-BC0A-890968ED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7143-364F-4F70-A890-6EE59F29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E172-5B69-431E-A4A7-B69BD34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981C8-CFC6-44B2-B207-2AC39A50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8480-AA52-4C6C-B337-594B4BE9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8666-971D-45BC-9C18-DDED0B22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84EA-EF03-4C92-ABA6-017F7A0D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BAA4-74E0-42C3-B0E1-9C9CA286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19D1-4944-4A94-806E-82B8D435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E7C47-54C3-4955-BB98-627E52AD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F3175-6F37-430B-9F6A-D67F8610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A8E1-E62E-4153-B204-33C2D5C2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6B11C-E4B7-4099-9E05-94A68D28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B506E-0EC5-4614-852D-04407974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CB10-E5E0-41B0-BFF0-5F180378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CBA1D-4D2C-4C4B-891D-41887507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66B5-F086-430E-98C3-91474FE823F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F916-016C-498C-8F10-950998FE035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100400" y="1600200"/>
            <a:ext cx="5043600" cy="4653000"/>
          </a:xfrm>
          <a:prstGeom prst="rect">
            <a:avLst/>
          </a:prstGeom>
          <a:ln w="0">
            <a:noFill/>
          </a:ln>
        </p:spPr>
      </p:pic>
      <p:pic>
        <p:nvPicPr>
          <p:cNvPr id="107" name="Hermenegildo1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007d"/>
                </a:solidFill>
                <a:latin typeface="Arial"/>
              </a:rPr>
              <a:t>Eliminación de Superficies Ocult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335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7d"/>
                </a:solidFill>
                <a:latin typeface="Arial"/>
              </a:rPr>
              <a:t>Computación Gráfica CC5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7d"/>
                </a:solidFill>
                <a:latin typeface="Arial"/>
              </a:rPr>
              <a:t>Prof. M.C. Riva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7d"/>
                </a:solidFill>
                <a:latin typeface="Arial"/>
              </a:rPr>
              <a:t>Texto: Alfredo Cofr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7d"/>
                </a:solidFill>
                <a:latin typeface="Arial"/>
              </a:rPr>
              <a:t>acofre@dcc.uchile.c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écnica de baja complejidad, pero cara en mem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cada píxel se asocia un par ordenado (x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), más  un valor de profundidad Z, que grabaremos en un z-buff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z-buffer se inicializa con la profundidad del fondo de la pirámide de proy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429F-40CC-487C-89F5-EE71DCB9FB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cada píx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uscamos todos los polígonos que intersectan un rayo que parte del ojo del observador y pasa por el píxel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intersecta, comparamos su profundidad (valor z del polígono, o distancia del punto de intersección al píxel) con la profundidad que hay en el z-buffer (x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y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 algn="just">
              <a:lnSpc>
                <a:spcPct val="10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 el valor es menor al del z-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olígono es más cercano al observador que el que tenemos actualmente en el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emplazamos el valor del z-buffer por el valor z del polí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intamos el píxel con el color del políg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 algn="just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gamos la im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0EA96-3EF1-4D6D-8165-C722E3CA9A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Z- Bu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151308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1512720" cy="1190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15127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6705720" y="2514600"/>
            <a:ext cx="1512720" cy="1190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33520" y="3886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z-buffer original +    cuadrado      +     triángulo       =     z-buffer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6A168-CA6D-42D4-A602-6976613B80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rboles B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ión recursiva y jerárquica del espacio en subespacios convex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ver que zona de las superficies ocultan otras zonas en forma de árbol bi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leccionamos un plano de part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amos el primer polígono que intersecte el plano, viendo si está delante o detrás de é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no está completamente delante o detrás, dividimos el polígono en dos, de modo que cada subpolígono quede bien defi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guimos recursivamente con los otros polígo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6A65F-39BF-435C-87D2-01E568F98D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rboles B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ultado: árbol binario que indica qué polígono o segmento de polígono está delante de que otros polígo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stramos los polígonos fro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ver appl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34ED3-C78D-4DF1-9432-496FF292CE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lgoritmo del pin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pintor pinta una tela “de atrás hacia delante”, de modo que los objetos delanteros tapen los objetos tras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goritmo simple, pero que pinta polígonos innecesari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blema grave: polígonos que se traslapan de forma no triv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2927520" cy="29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DDE78-2FC9-4887-8526-13A3732A47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Algoritmo del pin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ón: Dividimos la imagen hasta que cada parte de ella sea fácilmente pintable con el algori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2927520" cy="29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ED17-1E1C-4BF4-828A-2DEB3A475E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A quien hay que elimin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modelo 3D contiene polígonos por toda su superfic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n render, solamente queremos ver los polígonos que NO ESTAN OCULTOS por otros polígonos y que SON VISIBLES POR LA C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itamos eliminar superficies ocultas (backface cull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6B33-C1BA-425F-87EC-FDF308B06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écnica: Ray 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y Casting es una técnica de eliminación de superficies ocul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a es lanzar un rayo de luz desde el ojo del observador a través de cada uno de los píxeles del viewport y determinar con que objetos se inters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las intersecciones resultantes, se elige la más cercana al observador y se colorea el píxel con el color del objeto intersec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41229-CA8C-4B64-BD86-B1C8B49F4B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pseudo algoritm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 RayCasting(camara, scena, ancho, alt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n imagen = new Imagen(ancho, alt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 (int i=0; i&lt; ancho; 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or (int j=0; j&lt; alto; j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ayo rayo = ConstruirRayoAtravespíxel(camara, i, j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section punto = EncontrarInterseccion(rayo, escen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magen[i][j] = getColor(punt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turn image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534B6-2F06-46BC-B03A-F50BBEED7D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mos encontrar las intersecciones de los rayos con los diferentes objetos de la escena. Pero, ¿qué es un ray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Ray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rayo es una ecuación paramétrica definida por un origen y una dirección. La ecuación del rayo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(t) = 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t *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2057400" cy="168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CE208-2C52-49B8-B0F1-EBFD610B7C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2133720"/>
            <a:ext cx="8458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 necesario determinar la intersección de un rayo con todos los objetos “visibles” de la esce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só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f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ilin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f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iáng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lígo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: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354E9-E8D6-43EC-91E5-73A839D0DE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 con esfer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ada punto de la esfera centrada en  C =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l,m,n)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 radio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atisfac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|Q-C|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a ecuación del rayo en la ec. de la esfer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|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+ t*d - C|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- r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finiendo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p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- C y desarrollando , se obtie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16360" y="907920"/>
            <a:ext cx="39592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+ 2t(d •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) + |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|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– r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n solución real         el rayo no intercepta esta esfe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 dos soluciones       el rayo intersecta la esfera dos veces: cuando entra y cuando sale de el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77080" y="18446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2421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04000" y="5013360"/>
            <a:ext cx="1368360" cy="1297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867280" y="4941360"/>
            <a:ext cx="2592360" cy="79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500280"/>
            <a:ext cx="3672000" cy="10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48" y="2449"/>
                </a:moveTo>
                <a:lnTo>
                  <a:pt x="-448" y="2449"/>
                </a:lnTo>
                <a:lnTo>
                  <a:pt x="-448" y="25376"/>
                </a:lnTo>
                <a:lnTo>
                  <a:pt x="9918" y="40717"/>
                </a:lnTo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olución más pequeña corresponde a la intersección más próxima al observ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95760" y="5475240"/>
            <a:ext cx="457200" cy="45720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96" y="0"/>
                </a:moveTo>
                <a:lnTo>
                  <a:pt x="0" y="288"/>
                </a:lnTo>
                <a:lnTo>
                  <a:pt x="288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48400" y="5551560"/>
            <a:ext cx="228600" cy="38088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0" y="0"/>
                </a:moveTo>
                <a:cubicBezTo>
                  <a:pt x="36" y="12"/>
                  <a:pt x="72" y="24"/>
                  <a:pt x="96" y="48"/>
                </a:cubicBezTo>
                <a:cubicBezTo>
                  <a:pt x="120" y="72"/>
                  <a:pt x="132" y="108"/>
                  <a:pt x="144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9768800">
            <a:off x="5724360" y="5589360"/>
            <a:ext cx="76320" cy="230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830D6-D01A-4070-9CE6-62083DB75D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58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Intersecciones con polígo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a el polígono contenido en el pl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x + by + cz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debe entonces chequear la intersección del rayo con este plano.  En este caso, la intersección está dada 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 = ax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z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     ----------------------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inalmente, se debe revisar si el punto de intersección está contenido dentro del polígo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11576-DFC7-4913-A329-AB5F8C87F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ay Casting != Raytr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122640" cy="19512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3962520"/>
            <a:ext cx="3122640" cy="1950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038480" y="1828800"/>
            <a:ext cx="4572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om 2: Ray Ca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iminación de superficies ocultas sol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ndereo muy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or de render senc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real Tournament: Ray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 global de ilu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orpora ray casting como elemento constituyente de raytr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cho más l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ve mucho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apoya en Direc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mputación Gráfica - CC52B                                                                     Alfredo Cofré - acofre@dcc.uchile.c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9B11-3CB6-4BD0-BF6A-C8A1999280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2T21:36:52Z</dcterms:created>
  <dc:creator>Alfredo Cofré E</dc:creator>
  <dc:description/>
  <dc:language>en-US</dc:language>
  <cp:lastModifiedBy>Alfredo Cofré</cp:lastModifiedBy>
  <cp:lastPrinted>2004-06-02T17:48:38Z</cp:lastPrinted>
  <dcterms:modified xsi:type="dcterms:W3CDTF">2004-11-05T04:16:59Z</dcterms:modified>
  <cp:revision>59</cp:revision>
  <dc:subject/>
  <dc:title>Raytracing y Radiosity</dc:title>
</cp:coreProperties>
</file>