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7BD9-6A28-490B-A743-5E387C83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F82A-9BE1-4A33-8DB3-B26A72C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C168-7788-4D23-83F0-BF73AA2E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2B99-C2E6-40E3-A948-E419106C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DDB9-91E5-41B0-A705-47F9F733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A980-D883-4B60-ADB9-840F5BD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E01-F506-449F-A9ED-FF98E129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371B-44F1-4B81-985C-49EB639A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8E86-3C2D-4B3C-84FF-BDA6A054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2CB-A76D-4DE3-B0A7-F3616A3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0D1-E262-4A49-AFCD-7D4DB74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3736-A0D7-4803-8BDF-B0074164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08A9-C02E-4B18-997D-08E677E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B00B-6BCA-45B9-8D81-2D353CC0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38E-3397-4402-8275-2C37D35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65EE-632B-4367-8828-A025FB5B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BAC-799A-4E47-BBAE-8E79DABF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F0D0-100A-4C97-9046-7F22056A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C12D-A57A-4C5B-8F1F-DD661CBA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0664-E73A-445E-9823-494B8791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53D0-5DCC-4250-B925-7E62D80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68B3-301E-4EF9-9505-476A044F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18A5-0C02-47EF-99F2-6CCFBAE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871A-F4ED-4714-B241-665D07E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ECDC-F018-462B-BE45-4A7125F0279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174B-176D-4E9A-99A2-A8CF9F1ACDD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00400" y="1600200"/>
            <a:ext cx="504360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Hermenegildo1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7d"/>
                </a:solidFill>
                <a:latin typeface="Arial"/>
              </a:rPr>
              <a:t>Eliminación de Superficies Ocult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7d"/>
                </a:solidFill>
                <a:latin typeface="Arial"/>
              </a:rPr>
              <a:t>Computación Gráfica CC5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7d"/>
                </a:solidFill>
                <a:latin typeface="Arial"/>
              </a:rPr>
              <a:t>Prof. M.C. Riv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7d"/>
                </a:solidFill>
                <a:latin typeface="Arial"/>
              </a:rPr>
              <a:t>Texto: Alfredo Cof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7d"/>
                </a:solidFill>
                <a:latin typeface="Arial"/>
              </a:rPr>
              <a:t>acofre@dcc.uchile.c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écnica de baja complejidad, pero cara en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ada píxel se asocia un par ordenado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más  un valor de profundidad Z, que grabaremos en un z-buff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z-buffer se inicializa con la profundidad del fondo de la pirámide de pro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64D0-2C73-44A6-95B9-5304A46670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da pí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camos todos los polígonos que intersectan un rayo que parte del ojo del observador y pasa por el píxel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intersecta, comparamos su profundidad (valor z del polígono, o distancia del punto de intersección al píxel) con la profundidad que hay en el z-buffer (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valor es menor al del z-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olígono es más cercano al observador que el que tenemos actualmente en e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emplazamos el valor del z-buffer por el valor z del polí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intamos el píxel con el color del polí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mos la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C468-903A-4DD7-AD28-4A028F66D7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151308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151272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15127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705720" y="2514600"/>
            <a:ext cx="1512720" cy="119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3886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-buffer original +    cuadrado      +     triángulo       =     z-buffer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A70A-22A5-4578-B6E8-8E0D0D2A6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rboles B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ón recursiva y jerárquica del espacio en subespacios convex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ver que zona de las superficies ocultan otras zonas en forma de árbol b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mos un plano de part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amos el primer polígono que intersecte el plano, viendo si está delante o detrás de é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está completamente delante o detrás, dividimos el polígono en dos, de modo que cada subpolígono quede bien defi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mos recursivamente con los otros políg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E90A-2A38-4A1A-A436-E5640BDB08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rboles B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: árbol binario que indica qué polígono o segmento de polígono está delante de que otros políg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ramos los polígonos fro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ver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2E53-7426-4B37-A7CC-4D40A189A2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lgoritmo del pi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intor pinta una tela “de atrás hacia delante”, de modo que los objetos delanteros tapen los objetos tras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 simple, pero que pinta polígonos inneces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 grave: polígonos que se traslapan de forma no triv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927520" cy="29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DCD0-F973-4A2C-8E11-A0B722C9C3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lgoritmo del pi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: Dividimos la imagen hasta que cada parte de ella sea fácilmente pintable con el algori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927520" cy="29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54A4-359E-4E51-9BE8-8F162F66F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A quien hay que elimi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modelo 3D contiene polígonos por toda su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n render, solamente queremos ver los polígonos que NO ESTAN OCULTOS por otros polígonos y que SON VISIBLES POR LA C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tamos eliminar superficies ocultas (backface cu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B972-D4B2-4DB1-9F1E-9B99864B4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Ray 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y Casting es una técnica de eliminación de superficies ocul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a es lanzar un rayo de luz desde el ojo del observador a través de cada uno de los píxeles del viewport y determinar con que objetos se inters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s intersecciones resultantes, se elige la más cercana al observador y se colorea el píxel con el color del objeto intersec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E681-EBF4-40D4-8BF7-2F7F3281C2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seudo algorit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 RayCasting(camara, scena, ancho, al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n imagen = new Imagen(ancho, alt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 (int i=0; i&lt; ancho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 (int j=0; j&lt; alto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ayo rayo = ConstruirRayoAtravespíxel(camara, i, 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section punto = EncontrarInterseccion(rayo, escen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n[i][j] = getColor(punt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imag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1615-4D30-4B58-86F8-41FE0DFDF4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mos encontrar las intersecciones de los rayos con los diferentes objetos de la escena. Pero, ¿qué es un ra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ay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rayo es una ecuación paramétrica definida por un origen y una dirección. La ecuación del ray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(t) = 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t *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2057400" cy="168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0CF9-C007-4915-86AF-61BA7AFB4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13372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determinar la intersección de un rayo con todos los objetos “visibles” de la esce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só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6477-E338-4A5F-8D7C-F39291633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 con esfer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punto de la esfera centrada en  C 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l,m,n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radi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atisfa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|Q-C|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a ecuación del rayo en la ec. de la esfe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|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+ t*d - C|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inien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C y desarrollando , se ob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907920"/>
            <a:ext cx="3959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2t(d •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) + |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|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solución real         el rayo no intercepta esta e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 dos soluciones       el rayo intersecta la esfera dos veces: cuando entra y cuando sale de 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184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2421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013360"/>
            <a:ext cx="136836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867280" y="4941360"/>
            <a:ext cx="259236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500280"/>
            <a:ext cx="367200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8" y="2449"/>
                </a:moveTo>
                <a:lnTo>
                  <a:pt x="-448" y="2449"/>
                </a:lnTo>
                <a:lnTo>
                  <a:pt x="-448" y="25376"/>
                </a:lnTo>
                <a:lnTo>
                  <a:pt x="9918" y="40717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olución más pequeña corresponde a la intersección más próxima al obser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5760" y="547524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lnTo>
                  <a:pt x="0" y="288"/>
                </a:lnTo>
                <a:lnTo>
                  <a:pt x="28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48400" y="5551560"/>
            <a:ext cx="228600" cy="3808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cubicBezTo>
                  <a:pt x="36" y="12"/>
                  <a:pt x="72" y="24"/>
                  <a:pt x="96" y="48"/>
                </a:cubicBezTo>
                <a:cubicBezTo>
                  <a:pt x="120" y="72"/>
                  <a:pt x="132" y="108"/>
                  <a:pt x="14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768800">
            <a:off x="5724360" y="5589360"/>
            <a:ext cx="76320" cy="230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4FAF-40DE-44CD-A7F7-CA5FC524AC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 con polígo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el polígono contenido en el p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x + by + cz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be entonces chequear la intersección del rayo con este plano.  En este caso, la intersección está dada 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ax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     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lmente, se debe revisar si el punto de intersección está contenido dentro del políg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8AF8-ADDA-471C-A9A7-8E0495FB2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 != Ray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122640" cy="1951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122640" cy="195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38480" y="182880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om 2: Ray 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iminación de superficies ocultas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ndereo muy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or de render senc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real Tournament: Ray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global de ilu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orpora ray casting como elemento constituyente de ray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e mucho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poya en Direc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7E70-9054-41F9-8F73-67FDFFC84D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21:36:52Z</dcterms:created>
  <dc:creator>Alfredo Cofré E</dc:creator>
  <dc:description/>
  <dc:language>en-US</dc:language>
  <cp:lastModifiedBy>Alfredo Cofré</cp:lastModifiedBy>
  <cp:lastPrinted>2004-06-02T17:48:38Z</cp:lastPrinted>
  <dcterms:modified xsi:type="dcterms:W3CDTF">2004-11-05T04:16:59Z</dcterms:modified>
  <cp:revision>59</cp:revision>
  <dc:subject/>
  <dc:title>Raytracing y Radiosity</dc:title>
</cp:coreProperties>
</file>