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BCFEB-2FD8-43B4-8B67-6223AC54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2EF7B-0B63-465D-9A1F-B8E31865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9AED1-052A-4601-A47E-8E2D8E14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30221-160D-4046-8C81-C44F7707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7C54-AF99-4A59-8636-10E95B11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CA10-22E6-410A-A0D7-BD4F2298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C8DB-F598-43A6-800D-D978D10B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FA6D-1FD6-4BF8-96B7-A75B543B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E96D-5004-44BE-96CE-FC8D22BE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0E9A-AE32-4ABD-8831-9479F56D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2A20-5006-434C-843E-C8431833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8F6B6-D146-4EE1-A1BD-59E858A9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CFD7-878F-42F1-9A37-96D44558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7156-5DFF-409D-BC38-0198644D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F3F6-D591-443D-87D8-6E558857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05DC-BAA0-4A26-8E57-52AF8890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B144-C9F3-4BDE-AE1B-AE948537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B4A4C-6E24-43A8-B29A-8DB09204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8CF10-862F-401B-9D12-90C83581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790C1-16EE-496B-B5F8-786446B5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19CB7-7C1A-4011-94DB-6CB97A7A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238AA-29FD-4816-B5AC-A171408E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CAA66-51D1-480B-8617-ED6D4958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128DD-BC3C-4DDB-8693-46C77DD4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CCCD-96AB-4137-9A17-286222512BA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BB6E-49BD-4E98-8788-1B561082DBB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cofre@dcc.uchile.c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ANTIALIASING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Cáteda CC52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Alfredo Cofr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acofre@dcc.uchile.c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147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ultisampling: Hacemos supersampling de una textura a la vez por píxel, pero seguimos generamos subpíx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a: Sólo los bordes se generan en alta reso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écnica: Multi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3960" y="4797360"/>
            <a:ext cx="61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Necesita sólo un pipeline por píxel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1471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terminamos cuál es el área del píxel que queda dentro de triángulo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intamos el píxel con la textura del polígono multiplicada por el área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écnica: Ponderación por á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256536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5400" y="3933720"/>
            <a:ext cx="85165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terminamos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usando el algoritmo de dibuj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 líneas de Bresen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resenham: defs. y preci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2133720"/>
            <a:ext cx="2736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= f(x) = mx, 0&lt;m&lt;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 = (mx - y) + (1 -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 ≤ d ≤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ordenadas de 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1,y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0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ordenadas de 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1,y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348000" y="1773360"/>
            <a:ext cx="508320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ructura del algorit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1628640"/>
            <a:ext cx="73454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a = 1 - 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d = 0.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WRITE_PIXEL( x , y , d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while ( x != x_end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if ( d &lt; a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d = d + m;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// Nos movemos horizontal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else{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d = d + a;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// Nos movemos en diag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y = y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x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WRITE_PIXEL( x , y 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0755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ínea y = (5/7)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de (0,0) hasta (7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75164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nta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ápido y efi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venta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ólo puede haber un borde por pí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68360" y="4076640"/>
            <a:ext cx="64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se pueden representar polígonos muy delg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4292640"/>
            <a:ext cx="936720" cy="358560"/>
          </a:xfrm>
          <a:prstGeom prst="rightArrow">
            <a:avLst>
              <a:gd name="adj1" fmla="val 50000"/>
              <a:gd name="adj2" fmla="val 6531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ero la mano es más rápida que el ojo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se usan suficientes niveles de intensidad para representar polígonos delgados, el ojo interpola subpíxele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932360" y="220500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508720" y="321300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765800" y="537372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stos casos, es mej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multi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51664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7037E-006 L -0.06302 -0.09445 E">
                                      <p:cBhvr>
                                        <p:cTn id="12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3384360" cy="3384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427640" y="2924280"/>
            <a:ext cx="3457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ensidad de lí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3116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 línea horizontal se ve más intensa que una línea di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342900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148360" y="342900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067280" y="4508640"/>
            <a:ext cx="936360" cy="649080"/>
          </a:xfrm>
          <a:prstGeom prst="rightArrow">
            <a:avLst>
              <a:gd name="adj1" fmla="val 50000"/>
              <a:gd name="adj2" fmla="val 3606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ensidad de lí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bemos ajustar la intensidad de la línea 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3213000"/>
            <a:ext cx="82296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s limitamos a líneas con pendiente entre 0 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4365720"/>
            <a:ext cx="82296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ultiplicamos la intensidad del píxel a pintar por 1/cos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Anti qu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5635800" cy="4227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12000" y="270828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284720" y="3213000"/>
            <a:ext cx="431640" cy="432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284720" y="2708280"/>
            <a:ext cx="1727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4284720" y="364464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2708280"/>
            <a:ext cx="129672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36520" y="43848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n antialiasin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ensidad de lí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211640" y="3573360"/>
            <a:ext cx="792000" cy="4320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8480" y="2246400"/>
            <a:ext cx="335592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avizando caract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cesitamos suavizar los bordes de las f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3578400" cy="2630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148360" y="2421000"/>
            <a:ext cx="4248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67280" y="2565360"/>
            <a:ext cx="1150920" cy="936720"/>
          </a:xfrm>
          <a:custGeom>
            <a:avLst/>
            <a:gdLst>
              <a:gd name="textAreaLeft" fmla="*/ 201240 w 1150920"/>
              <a:gd name="textAreaRight" fmla="*/ 834480 w 115092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avizando caract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calculamos la intensidad de los píxeles, usando técnicas de antiali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ablecemos una escala de intensidades. Por ejemplo, entre 0 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íxel está cubierto en un 0% =&gt; intensidad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íxel está cubierto en un 100% =&gt; intensida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avizando caract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2727360" cy="2781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219640" y="2637000"/>
            <a:ext cx="2727360" cy="2781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995640" y="3645000"/>
            <a:ext cx="936720" cy="720720"/>
          </a:xfrm>
          <a:prstGeom prst="rightArrow">
            <a:avLst>
              <a:gd name="adj1" fmla="val 50000"/>
              <a:gd name="adj2" fmla="val 3249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2000" y="270828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5635800" cy="42274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h, eso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3213000"/>
            <a:ext cx="431640" cy="432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284720" y="2708280"/>
            <a:ext cx="1727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284720" y="364464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0" y="2708280"/>
            <a:ext cx="129672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6520" y="438480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 antialiasin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1401840" cy="18666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iasing 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aparición de distorsiones y colgajos en curvas y líneas diagonales debido a resolución limitada de rendereo y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300720" y="3284640"/>
            <a:ext cx="1401840" cy="1866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rot="5400000">
            <a:off x="6768000" y="2313720"/>
            <a:ext cx="792360" cy="863640"/>
          </a:xfrm>
          <a:custGeom>
            <a:avLst/>
            <a:gdLst>
              <a:gd name="textAreaLeft" fmla="*/ 0 w 792360"/>
              <a:gd name="textAreaRight" fmla="*/ 792720 w 79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1401840" cy="1866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tialiasing 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écnicas de eliminación de ali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lementadas por software y/o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miten obtener bordes suaves con resoluciones limi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768000" y="2313720"/>
            <a:ext cx="792360" cy="863640"/>
          </a:xfrm>
          <a:custGeom>
            <a:avLst/>
            <a:gdLst>
              <a:gd name="textAreaLeft" fmla="*/ 0 w 792360"/>
              <a:gd name="textAreaRight" fmla="*/ 792720 w 79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00720" y="3284640"/>
            <a:ext cx="14018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écnica: Over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ómo saber si un píxel está dentro o fuera de un triángul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06864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4581360"/>
            <a:ext cx="43200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4508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IASE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285264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el centro del píxel está dentro del triángulo, pintamos el pí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5112000" cy="13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écnica: Over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86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versampling: Ejes X e Y se escalan en un factor ent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renderea el cuadro mod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filtra a la resolución orig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51280" y="5300640"/>
            <a:ext cx="4446720" cy="1195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39640" y="4076640"/>
            <a:ext cx="4248360" cy="1141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rot="5400000">
            <a:off x="4968000" y="4328280"/>
            <a:ext cx="792000" cy="720720"/>
          </a:xfrm>
          <a:custGeom>
            <a:avLst/>
            <a:gdLst>
              <a:gd name="textAreaLeft" fmla="*/ 0 w 792000"/>
              <a:gd name="textAreaRight" fmla="*/ 792360 w 792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1471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tal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brir píxeles enteros cada vez que sea 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itar cubrir fracciones de píx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itar sobresamplear usando factores no ent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écnica: Over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47640" y="4221000"/>
            <a:ext cx="60487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1471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versampling es un caso particular de Super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a: Reposicionar subpíxeles de modo de obtener una “resolución de borde equivalen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écnica: Super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3080" y="3933720"/>
            <a:ext cx="831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ntaja: Supersampling es más eficiente y entreg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ordes de mejor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5800" y="4869000"/>
            <a:ext cx="612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ventaj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cesita hardware especializ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cesita un pipeline por subpí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8:41:50Z</dcterms:created>
  <dc:creator>alfredo</dc:creator>
  <dc:description/>
  <dc:language>en-US</dc:language>
  <cp:lastModifiedBy>alfredo</cp:lastModifiedBy>
  <dcterms:modified xsi:type="dcterms:W3CDTF">2004-08-27T13:46:27Z</dcterms:modified>
  <cp:revision>22</cp:revision>
  <dc:subject/>
  <dc:title>ANTIALIAS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