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7210-1B9F-4EE6-9D80-B909F760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38C4-A7CD-41EE-A497-C949A703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66F5-751D-44C5-BF7F-A1DB1334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6EB8-3532-4688-87BD-9F5CF054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71C-7484-4193-ADD6-47007A72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009B-4BE6-47CF-88E1-8D4B6F0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08E1-7BB5-4293-A793-5E08BE63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6A4B-FA7B-46C0-A3AD-91DC0B0D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C758-ECF8-452C-9017-24A5BE84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26D4-FD70-4600-B6B2-87CF4BA7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D21-4691-4D5B-A305-47D2444C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48F3-022B-475E-BFA3-00256514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9FB-ABA8-4A46-9CC5-A8762AA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1AB-4D01-4424-9BB3-C8514F2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8814-EF7B-4956-B052-0169988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DFFF-8EBF-49D5-BFA2-1AB9E1BB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508E-6B6A-49A7-8DF7-E1CDDEC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FF29-A555-4082-B597-4B1A311D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AB9C-5A8F-463F-810F-1683702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ADD0-8A36-4D97-B6FE-F2FA02FF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30E9-EA6A-41CD-B111-9D88BB0E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BFCE-73EE-4BD7-9180-F529E99E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0F95-4ABE-4DBC-9849-C01F7A42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4947-DE87-4641-9F9B-25FE2CC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F24F-490D-462C-824C-86F9EDF8D9A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0AC-05C7-40A4-BCD5-419F0C2D169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cofre@dcc.uchile.c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ANTIALIASI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Cáteda CC5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lfredo Cofr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acofre@dcc.uchile.c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ltisampling: Hacemos supersampling de una textura a la vez por píxel, pero seguimos generamos subpíx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Sólo los bordes se generan en alta re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Multi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3960" y="479736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Necesita sólo un pipeline por píxel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terminamos cuál es el área del píxel que queda dentro de triángulo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intamos el píxel con la textura del polígono multiplicada por el área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Ponderación por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2565360"/>
            <a:ext cx="503280" cy="287280"/>
          </a:xfrm>
          <a:prstGeom prst="rightArrow">
            <a:avLst>
              <a:gd name="adj1" fmla="val 50000"/>
              <a:gd name="adj2" fmla="val 4379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400" y="3933720"/>
            <a:ext cx="8516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terminamos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usando el algoritmo de dibu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 líneas de Bresen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esenham: defs. y prec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2133720"/>
            <a:ext cx="2736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50832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uctura del algorit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1628640"/>
            <a:ext cx="73454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a = 1 - 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0.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RITE_PIXEL( x , y , d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hile ( x != x_end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if ( d &lt; 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d + m;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// Nos movemos horizont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else{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d = d + a;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// Nos movemos en diag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y = y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WRITE_PIXEL( x , y 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075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7516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nt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ápido y e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vent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ólo puede haber un borde por 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4076640"/>
            <a:ext cx="64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pueden representar polígonos muy del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292640"/>
            <a:ext cx="936720" cy="358560"/>
          </a:xfrm>
          <a:prstGeom prst="rightArrow">
            <a:avLst>
              <a:gd name="adj1" fmla="val 50000"/>
              <a:gd name="adj2" fmla="val 6531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ero la mano es más rápida que el ojo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usan suficientes niveles de intensidad para representar polígonos delgados, el ojo interpola subpíxel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65800" y="53737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os casos, es me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multi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51664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6 L -0.06302 -0.09445 E">
                                      <p:cBhvr>
                                        <p:cTn id="12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311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línea horizontal se ve más intensa que una línea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067280" y="4508640"/>
            <a:ext cx="936360" cy="649080"/>
          </a:xfrm>
          <a:prstGeom prst="rightArrow">
            <a:avLst>
              <a:gd name="adj1" fmla="val 50000"/>
              <a:gd name="adj2" fmla="val 360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ajustar la intensidad de la línea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3213000"/>
            <a:ext cx="8229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s limitamos a líneas con pendiente entre 0 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36572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ultiplicamos la intensidad del píxel a pintar por 1/cos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Anti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5635800" cy="422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84720" y="3213000"/>
            <a:ext cx="43164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284720" y="2708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284720" y="364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2708280"/>
            <a:ext cx="1296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6520" y="4384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 antialia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nsidad de lí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211640" y="3573360"/>
            <a:ext cx="792000" cy="432000"/>
          </a:xfrm>
          <a:prstGeom prst="rightArrow">
            <a:avLst>
              <a:gd name="adj1" fmla="val 50000"/>
              <a:gd name="adj2" fmla="val 4583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8480" y="2246400"/>
            <a:ext cx="33559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mos suavizar los bordes de las f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78400" cy="2630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148360" y="2421000"/>
            <a:ext cx="4248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67280" y="2565360"/>
            <a:ext cx="1150920" cy="936720"/>
          </a:xfrm>
          <a:custGeom>
            <a:avLst/>
            <a:gdLst>
              <a:gd name="textAreaLeft" fmla="*/ 201240 w 1150920"/>
              <a:gd name="textAreaRight" fmla="*/ 834480 w 115092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alculamos la intensidad de los píxeles, usando técnicas de antiali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blecemos una escala de intensidades. Por ejemplo, entre 0 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íxel está cubierto en un 0% =&gt; intensida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íxel está cubierto en un 100% =&gt; intensid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avizando caract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635800" cy="4227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h, eso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3213000"/>
            <a:ext cx="43164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84720" y="2708280"/>
            <a:ext cx="1727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284720" y="364464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2708280"/>
            <a:ext cx="129672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6520" y="4384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antialias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1401840" cy="1866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iasing 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parición de distorsiones y colgajos en curvas y líneas diagonales debido a resolución limitada de rendereo y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140184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5400000">
            <a:off x="6768000" y="231372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1401840" cy="1866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tialiasing 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écnicas de eliminación de ali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das por software y/o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miten obtener bordes suaves con resoluciones limi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768000" y="231372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14018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íxel está dentro o fuera de un triángu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068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581360"/>
            <a:ext cx="43200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45086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IASE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852640"/>
            <a:ext cx="70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el centro del píxel está dentro del triángulo, pintamos el 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51120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868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versampling: Ejes X e Y se escalan en un factor ent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nderea el cuadro mod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filtra a la resolución orig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51280" y="5300640"/>
            <a:ext cx="4446720" cy="1195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4248360" cy="1141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5400000">
            <a:off x="4968000" y="4328280"/>
            <a:ext cx="792000" cy="720720"/>
          </a:xfrm>
          <a:custGeom>
            <a:avLst/>
            <a:gdLst>
              <a:gd name="textAreaLeft" fmla="*/ 0 w 792000"/>
              <a:gd name="textAreaRight" fmla="*/ 792360 w 792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tal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brir píxeles enteros cada vez que sea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itar cubrir fracciones de píx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itar sobresamplear usando factores no en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Ov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60487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000" y="1988640"/>
            <a:ext cx="8147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versampling es un caso particular de Super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Reposicionar subpíxeles de modo de obtener una “resolución de borde equival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écnica: Super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3080" y="39337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ntaja: Supersampling es más eficiente y entre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ordes de mejor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5800" y="4869000"/>
            <a:ext cx="612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ventaj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 hardware especializ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cesita un pipeline por subpí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8:41:50Z</dcterms:created>
  <dc:creator>alfredo</dc:creator>
  <dc:description/>
  <dc:language>en-US</dc:language>
  <cp:lastModifiedBy>alfredo</cp:lastModifiedBy>
  <dcterms:modified xsi:type="dcterms:W3CDTF">2004-08-27T13:46:27Z</dcterms:modified>
  <cp:revision>22</cp:revision>
  <dc:subject/>
  <dc:title>ANTIALIA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