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DD26-E37E-48AC-A4CB-AB027207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7DB8-AEF0-499E-98F2-EE4AC6F4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5163-AE3D-4912-AC3B-75E3D142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A559-9792-4A67-8EE9-FE814486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E753-E973-4C8A-A431-01C294B1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3F6C-A0E1-4F26-88BD-B4DB520E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EDAA-7D13-4A20-8365-0E748B63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08D1-E1EC-4FA4-BF62-70DB9961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54DC-E5B2-4658-8BEF-7CDB64BC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5204-F6EA-4C59-8071-88BCCA68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63DC-8DC3-458D-91F2-36B8168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B00F-2775-48EB-B383-55AD6532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B355-4DF1-44F4-83B1-845C53B3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D976-B816-4B3E-A19B-29AA26B8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57C3-261C-4E50-BE29-2DE04B70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66CB-994B-4859-8D16-9500AB69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51A4-ECAD-428A-956C-A4AFE5F2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866D-BB9F-40D8-B8F0-190214E9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AC8E-1528-4C51-83E7-4E982642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81B9-F29F-452D-A3DC-14C88083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FE14-B6A0-433B-9F99-F43BE6D9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AA6A-726D-4FD8-8E01-12D0FAC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7CB4-0D27-40C9-B16D-1B1D3671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35DA9-2768-42A2-9E47-CD3DEEEA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BC24-9BC8-493A-B0ED-4702CC6CEBC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36BC-3A20-4C24-B162-8ABCDBD9706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cofre@dcc.uchile.c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ANTIALIAS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Cáteda CC52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Alfredo Cofr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cofre@dcc.uchile.c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ltisampling: Hacemos supersampling de una textura a la vez por píxel, pero seguimos generamos subpíx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a: Sólo los bordes se generan en alta re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Multi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3960" y="479736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Necesita sólo un pipeline por píxe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terminamos cuál es el área del píxel que queda dentro de triángulo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ntamos el píxel con la textura del polígono multiplicada por el área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Ponderación por á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256536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5400" y="3933720"/>
            <a:ext cx="85165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terminamos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usando el algoritmo de dibu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 líneas de Bresen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resenham: defs. y preci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2133720"/>
            <a:ext cx="2736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= f(x) = mx, 0&lt;m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 = (mx - y) + (1 -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 ≤ d ≤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ordenadas de 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0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ordenadas de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508320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uctura del algorit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1628640"/>
            <a:ext cx="73454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a = 1 - 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d = 0.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WRITE_PIXEL( x , y , d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while ( x != x_end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if ( d &lt; a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d = d + m;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// Nos movemos horizont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else{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d = d + a;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// Nos movemos en diag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y = y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WRITE_PIXEL( x , y 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075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y = (5/7)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de (0,0) hasta (7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7516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nt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ápido y e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vent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ólo puede haber un borde por pí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4076640"/>
            <a:ext cx="64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e pueden representar polígonos muy del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292640"/>
            <a:ext cx="936720" cy="358560"/>
          </a:xfrm>
          <a:prstGeom prst="rightArrow">
            <a:avLst>
              <a:gd name="adj1" fmla="val 50000"/>
              <a:gd name="adj2" fmla="val 6531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ero la mano es más rápida que el ojo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usan suficientes niveles de intensidad para representar polígonos delgados, el ojo interpola subpíxel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65800" y="5373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stos casos, es me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multi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51664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6 L -0.06302 -0.09445 E">
                                      <p:cBhvr>
                                        <p:cTn id="12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3384360" cy="3384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427640" y="292428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nsidad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311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línea horizontal se ve más intensa que una línea di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148360" y="342900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067280" y="4508640"/>
            <a:ext cx="936360" cy="649080"/>
          </a:xfrm>
          <a:prstGeom prst="rightArrow">
            <a:avLst>
              <a:gd name="adj1" fmla="val 50000"/>
              <a:gd name="adj2" fmla="val 3606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nsidad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mos ajustar la intensidad de la línea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3213000"/>
            <a:ext cx="82296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s limitamos a líneas con pendiente entre 0 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4365720"/>
            <a:ext cx="8229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ultiplicamos la intensidad del píxel a pintar por 1/cos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Anti qu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635800" cy="4227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84720" y="3213000"/>
            <a:ext cx="43164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284720" y="2708280"/>
            <a:ext cx="1727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284720" y="364464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2708280"/>
            <a:ext cx="129672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6520" y="4384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 antialias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nsidad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211640" y="357336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8480" y="2246400"/>
            <a:ext cx="33559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avizando carac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cesitamos suavizar los bordes de las f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578400" cy="2630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148360" y="2421000"/>
            <a:ext cx="4248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67280" y="2565360"/>
            <a:ext cx="1150920" cy="936720"/>
          </a:xfrm>
          <a:custGeom>
            <a:avLst/>
            <a:gdLst>
              <a:gd name="textAreaLeft" fmla="*/ 201240 w 1150920"/>
              <a:gd name="textAreaRight" fmla="*/ 834480 w 115092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avizando carac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alculamos la intensidad de los píxeles, usando técnicas de antiali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ablecemos una escala de intensidades. Por ejemplo, entre 0 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íxel está cubierto en un 0% =&gt; intensida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íxel está cubierto en un 100% =&gt; intensid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avizando carac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2727360" cy="2781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2727360" cy="2781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995640" y="3645000"/>
            <a:ext cx="936720" cy="720720"/>
          </a:xfrm>
          <a:prstGeom prst="rightArrow">
            <a:avLst>
              <a:gd name="adj1" fmla="val 50000"/>
              <a:gd name="adj2" fmla="val 3249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5635800" cy="42274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h, es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3213000"/>
            <a:ext cx="43164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284720" y="2708280"/>
            <a:ext cx="1727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284720" y="364464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2708280"/>
            <a:ext cx="129672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6520" y="43848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antialias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1401840" cy="1866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iasing 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parición de distorsiones y colgajos en curvas y líneas diagonales debido a resolución limitada de rendereo y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3284640"/>
            <a:ext cx="1401840" cy="1866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5400000">
            <a:off x="6768000" y="2313720"/>
            <a:ext cx="792360" cy="8636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1401840" cy="1866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tialiasing 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écnicas de eliminación de ali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ementadas por software y/o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miten obtener bordes suaves con resoluciones limi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768000" y="2313720"/>
            <a:ext cx="792360" cy="8636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3284640"/>
            <a:ext cx="14018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Ov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saber si un píxel está dentro o fuera de un triángu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0686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581360"/>
            <a:ext cx="43200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4508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IAS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852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el centro del píxel está dentro del triángulo, pintamos el pí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511200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Ov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86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versampling: Ejes X e Y se escalan en un factor ent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renderea el cuadro mod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filtra a la resolución orig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51280" y="5300640"/>
            <a:ext cx="4446720" cy="1195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4248360" cy="1141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5400000">
            <a:off x="4968000" y="4328280"/>
            <a:ext cx="792000" cy="720720"/>
          </a:xfrm>
          <a:custGeom>
            <a:avLst/>
            <a:gdLst>
              <a:gd name="textAreaLeft" fmla="*/ 0 w 792000"/>
              <a:gd name="textAreaRight" fmla="*/ 792360 w 792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tal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brir píxeles enteros cada vez que sea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itar cubrir fracciones de píx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itar sobresamplear usando factores no ent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Ov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60487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versampling es un caso particular de Super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a: Reposicionar subpíxeles de modo de obtener una “resolución de borde equivalen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Sup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3080" y="3933720"/>
            <a:ext cx="83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ntaja: Supersampling es más eficiente y entre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ordes de mejor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5800" y="4869000"/>
            <a:ext cx="612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ventaj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cesita hardware especializ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cesita un pipeline por subpí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8:41:50Z</dcterms:created>
  <dc:creator>alfredo</dc:creator>
  <dc:description/>
  <dc:language>en-US</dc:language>
  <cp:lastModifiedBy>alfredo</cp:lastModifiedBy>
  <dcterms:modified xsi:type="dcterms:W3CDTF">2004-08-27T13:46:27Z</dcterms:modified>
  <cp:revision>22</cp:revision>
  <dc:subject/>
  <dc:title>ANTIALIAS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