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F4E4-5EFB-4CBF-8794-822173A12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B158-B8AF-4B11-BCD8-3E90B855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5342-542F-4BB3-A074-1101A9C8F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CE6D-F0B3-4DF9-9F9A-B8CEED3A8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1EFA-EF85-4741-8BF5-42628E36D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92DD-047C-4637-AA97-9B9B9D2C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5810-DD97-49CA-8002-7F6A4BB6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3E04-53E4-4B97-99A0-30C5D4A5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740D-BE02-4A31-A385-ABFBF412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5991-E9F1-4D25-B9B9-925D8486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81BF-C4CA-4C85-8E56-6874E3C7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035D-ED0C-46AA-A195-8EF1BC63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B8F6-35DF-4B0E-A39A-6191F382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2271-8312-4366-BE62-2D2898DB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21D4-9A21-407F-B697-4289F789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1F41-A880-4147-A1C8-577A52A02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4566-188C-4034-B2C5-727468927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02AF-2D7C-46E3-8F89-960BA705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0571-7763-45A7-86BE-65821F1E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F584-E2E3-40BC-8520-497BEF50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6AC3-F6DD-4112-9CCA-F6866ED8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CD91-B5D6-48E5-AEAB-2BFA8504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FADE-3D5C-4FEA-AADC-077032BD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284F-1C00-4FA5-A545-AC5E2210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6CB1-6599-4CAE-93C1-E746BBDF60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1D2C-4A41-41B0-8AA1-0143BFF1F9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044720" y="1628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eec94"/>
                </a:solidFill>
                <a:latin typeface="Arial"/>
              </a:rPr>
              <a:t>Telemedicina.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steban Almun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Marcelo González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C50M – Informática Médic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DCC – U. de Chi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651640" y="907920"/>
            <a:ext cx="27478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eec94"/>
                </a:solidFill>
                <a:latin typeface="Arial"/>
              </a:rPr>
              <a:t>¿Cuáles son las principales ventajas de la telemedicina?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58560" y="1773360"/>
            <a:ext cx="87850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esi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Servicios a distanc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ficienc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Información compartid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Mejora en la precisión diagnós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mació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Posibilidad de educación práctic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jora en la calidad de vida de pacientes crónico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quidad de los servicios sanit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eec94"/>
                </a:solidFill>
                <a:latin typeface="Arial"/>
              </a:rPr>
              <a:t>Principales Ventaja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idencia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bertad y movilidad para el pacien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bertad y movilidad para el profesion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cilidad de contacto medico-pacien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evos modos de relación entr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cientes y proveedor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 salu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evas perspectivas en l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operación sanitaria internacion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eec94"/>
                </a:solidFill>
                <a:latin typeface="Arial"/>
              </a:rPr>
              <a:t>Principales Ventaj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conómica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timización de recursos human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ansión de la base de merc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minución de cost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eec94"/>
                </a:solidFill>
                <a:uFillTx/>
                <a:latin typeface="Arial"/>
              </a:rPr>
              <a:t>Expectativas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</a:rPr>
              <a:t> </a:t>
            </a:r>
            <a:r>
              <a:rPr b="0" i="1" lang="en-US" sz="3600" spc="-1" strike="noStrike">
                <a:solidFill>
                  <a:srgbClr val="feec94"/>
                </a:solidFill>
                <a:latin typeface="Arial"/>
              </a:rPr>
              <a:t>¿Hacia dónde apunta el Futuro de la Telemedicina?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spital virtu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no es necesario que los servicios médicos ocupen un mismo lugar físic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ios de asesoramien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centro virtual de asesoramiento especializad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spitalización domiciliaria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sladar los recursos hospitalarios y de Atención Primaria y especializada hasta el domicilio de los pacientes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ios móviles de Urgencia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telemedicina móvil ofrece la posibilidades de diagnosticar y tratar al paciente en el lugar donde se manifiesta su enferme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Telemedicina en Chile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estro país posee una singular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grafía, que provoca qu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alqui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gar esté muy alejado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 por supuesto los servicios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ud también. Por esta razón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e reúne las condicion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es para el desarrollo de la telemedicina, además de la creciente expansión de tecnologías en los últimos añ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161928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</a:rPr>
              <a:t>Experiencias en Telemedicina realizadas en nuestro país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yecto de l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línica Alemana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crear una red interna de transmisión de datos que también permitiera intercambiar información médica con su similar en Temu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ospital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línico de la Universidad Católic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En 1993 se unió a través de fibra óptica con el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Hospital Sótero del Rí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principalmente con fines académic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Telemedicina en nuestro paí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1998 el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Ministerio de Salud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puso en marcha un proyecto piloto de telemedicina, cuyo objetivo era evitar que los pacientes de zonas alejadas o rurales se desplazaran a los hospitales base provinciales y regional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e mismo año, 1998, se estableció una conexión entre la remota isla de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Juan Fernández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y la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línica Las Condes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Santiago. Así, los pacientes se evaluaban por el médico general, quién decidía, si el caso lo ameritaba, solicitar una interconsulta dermatológica remot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Telemedicina en nuestro paí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Enero del 2003, se comenzó a desarrollar en l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ntártic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un sistema de Telemedicina que permitirá transmitir en un tiempo mínimo cualquier parámetro fisiológico o fisiopatológico, desde las bases Escudero y O'Higgins a un Centro de Investigación universitario u hospitalario de primer orden, y recibir tanto datos experimentales como diagnósticos e indicaciones terapéutic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Arial"/>
              </a:rPr>
              <a:t>Temario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Referecias históric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elemedici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efiniciones y objetiv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plica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Ventaj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xpectativ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elemedicina en Chi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Arial"/>
              </a:rPr>
              <a:t>Referencias históricas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924: “Doctor por Radio” artículo de la revista “Radio News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951: Demostración Feria Mundial de Nueva York. Líneas de comunicación y estudios de T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955: Teleradiologí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959: Teleeducación y Telepsiquiatrí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960: NASA – telemetría méd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967: Primera estación teleméd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971: Video Consulta médica en Alask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Arial"/>
              </a:rPr>
              <a:t>Referencias históricas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974: Telediagnó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988: Space Brid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993 – 1995: Primeros Seminarios internacionales de Telemedici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Arial"/>
              </a:rPr>
              <a:t>Definiciones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Práctica de de la medicina a distancia, gracias al uso de redes de telecomunicación”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LA OMS da la  siguiente definición: “suministro de servicios de atención sanitaria, en las que la distancia constituye un factor crítico, por los profesionales que apelan a las TICs con el objeto de intercambiar datos para hacer diagnósticos, aprobar tratamientos y prevenir enfermedades y heridas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, así como para la formación permanente de los profesionales de atención de salud y en actividades de investigación y evaluación, con el fin de mejorar la salud de las personas y de las comunidades en que viven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Arial"/>
              </a:rPr>
              <a:t>Definiciones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elemedicina es Medic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elemedicina es servicio a la socie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elemedicina es práctica a distanc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Arial"/>
              </a:rPr>
              <a:t>Objetivos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Brindar servicio de Asistencia Médica a quien lo requiera, independientemente del momento y ubicación geográfica del paciente y el centro asistencial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yuda para el diagnósti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ontrol a Distanc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olaboración en tiempo real para el manejo del paciente a distanc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Arial"/>
              </a:rPr>
              <a:t>Aplicaciones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iagnóst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Videoconferenci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Historia clínica comú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ntern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irugía asistida por robo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SD(Sistema Digital Personalizado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Monitorización intelig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3744720" cy="2367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219640" y="476280"/>
            <a:ext cx="3022560" cy="2266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39640" y="3213000"/>
            <a:ext cx="3810240" cy="3048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859280" y="3357720"/>
            <a:ext cx="385776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23:53:31Z</dcterms:created>
  <dc:creator>Marcelo Gonzalez Leiva</dc:creator>
  <dc:description/>
  <dc:language>en-US</dc:language>
  <cp:lastModifiedBy>Marcelo Gonzalez Leiva</cp:lastModifiedBy>
  <dcterms:modified xsi:type="dcterms:W3CDTF">2004-10-05T21:32:50Z</dcterms:modified>
  <cp:revision>12</cp:revision>
  <dc:subject/>
  <dc:title>¿Cuáles son las principales ventajas de la telemedicina?</dc:title>
</cp:coreProperties>
</file>