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BF4-6991-403F-9ADB-F4AD6B7D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6B5-E96E-46BD-B2A8-16D58070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EA9-BE17-4896-84FF-5F1864E8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031-CF5A-4B62-8A17-693000D9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252B-2A86-47AC-9899-CB9DBA7E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F6D0-98B8-45E5-AB35-2D7B3E3A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10BF-F3D3-46E1-BFB3-A4DF9AFF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DF8C-CE25-41C2-AAEB-404C05E8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46F3-6088-4BDE-8C68-5F761401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1B04-0A67-4F60-8BD3-320FA1BC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2AB1-3413-4324-B26A-62D902BB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B97-0540-495C-8D28-FBD66E6B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A7EA-6C8F-4DC2-B609-2BBC6BD6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27FC-03B8-48C9-B966-C24ECDFF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3E23-AE28-4CE0-AE1C-59477863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9CE1-4700-411E-8757-19504498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A888-754B-4D6E-A649-DB393CDB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E8D-1120-4425-8D55-E9809791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93E-0507-41BB-9703-2C0F1858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405-CCD9-4748-A231-094CB81F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2A4-9699-41EC-BF6B-53A9C199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75C-B0BB-4F75-8B66-4016052D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CA4-375C-4C12-8C26-144A8468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E7F-B1F9-4FEE-81A8-B0812E91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A488-9454-4C45-A1B4-AAB2FE057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24B9-CE1C-4A48-87F9-1290A62F8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044720" y="1628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eec94"/>
                </a:solidFill>
                <a:latin typeface="Arial"/>
              </a:rPr>
              <a:t>Telemedicina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steban Almu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arcelo González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C50M – Informática Médi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CC – U. de Ch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651640" y="907920"/>
            <a:ext cx="27478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eec94"/>
                </a:solidFill>
                <a:latin typeface="Arial"/>
              </a:rPr>
              <a:t>¿Cuáles son las principales ventajas de la telemedicina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58560" y="1773360"/>
            <a:ext cx="8785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i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ervicios a dista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icienc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nformación comparti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ejora en la precisión diagnós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Posibilidad de educación práct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jora en la calidad de vida de pacientes crónic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idad de los servicios sani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eec94"/>
                </a:solidFill>
                <a:latin typeface="Arial"/>
              </a:rPr>
              <a:t>Principales Ventaja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dencia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bertad y movilidad para el pacien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bertad y movilidad para el profesio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ilidad de contacto medico-pacien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evos modos de relación entr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cientes y proveedo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 salu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evas perspectivas en l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peración sanitaria internacio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eec94"/>
                </a:solidFill>
                <a:latin typeface="Arial"/>
              </a:rPr>
              <a:t>Principales 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conómic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ización de recursos human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sión de la base de merc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minución de cos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eec94"/>
                </a:solidFill>
                <a:uFillTx/>
                <a:latin typeface="Arial"/>
              </a:rPr>
              <a:t>Expectativas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</a:rPr>
              <a:t> </a:t>
            </a:r>
            <a:r>
              <a:rPr b="0" i="1" lang="en-US" sz="3600" spc="-1" strike="noStrike">
                <a:solidFill>
                  <a:srgbClr val="feec94"/>
                </a:solidFill>
                <a:latin typeface="Arial"/>
              </a:rPr>
              <a:t>¿Hacia dónde apunta el Futuro de la Telemedicina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ital virtu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o es necesario que los servicios médicos ocupen un mismo lugar físic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ios de asesoramien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entro virtual de asesoramiento especializa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italización domiciliaria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sladar los recursos hospitalarios y de Atención Primaria y especializada hasta el domicilio de los paciente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ios móviles de Urgencia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telemedicina móvil ofrece la posibilidades de diagnosticar y tratar al paciente en el lugar donde se manifiesta su enferm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Telemedicina en Chile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estro país posee una singular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fía, que provoca qu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lqui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gar esté muy alejado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 por supuesto los servicios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ud también. Por esta razón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e reúne las condicion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es para el desarrollo de la telemedicina, además de la creciente expansión de tecnologías en los últimos añ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16192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Experiencias en Telemedicina realizadas en nuestro país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to de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línica Aleman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rear una red interna de transmisión de datos que también permitiera intercambiar información médica con su similar en Temu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ospita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línico de la Universidad Católic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En 1993 se unió a través de fibra óptica con e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ospital Sótero del Rí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rincipalmente con fines académ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Telemedicina en nuestro paí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1998 el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inisterio de Salu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uso en marcha un proyecto piloto de telemedicina, cuyo objetivo era evitar que los pacientes de zonas alejadas o rurales se desplazaran a los hospitales base provinciales y region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e mismo año, 1998, se estableció una conexión entre la remota isla de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an Fernández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la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línica Las Conde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Santiago. Así, los pacientes se evaluaban por el médico general, quién decidía, si el caso lo ameritaba, solicitar una interconsulta dermatológica remo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Telemedicina en nuestro paí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nero del 2003, se comenzó a desarrollar en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ntártic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un sistema de Telemedicina que permitirá transmitir en un tiempo mínimo cualquier parámetro fisiológico o fisiopatológico, desde las bases Escudero y O'Higgins a un Centro de Investigación universitario u hospitalario de primer orden, y recibir tanto datos experimentales como diagnósticos e indicaciones terapéut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Temario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ferecias histór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finiciones y objetiv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plica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Ventaj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xpectativ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 en Chi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Referencias históric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24: “Doctor por Radio” artículo de la revista “Radio News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51: Demostración Feria Mundial de Nueva York. Líneas de comunicación y estudios de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55: Teleradiolog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59: Teleeducación y Telepsiquiatr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60: NASA – telemetría méd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67: Primera estación teleméd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71: Video Consulta médica en Alask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Referencias históric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74: Telediagnó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88: Space Brid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93 – 1995: Primeros Seminarios internacionales de Telemedic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Definicione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Práctica de de la medicina a distancia, gracias al uso de redes de telecomunicación”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LA OMS da la  siguiente definición: “suministro de servicios de atención sanitaria, en las que la distancia constituye un factor crítico, por los profesionales que apelan a las TICs con el objeto de intercambiar datos para hacer diagnósticos, aprobar tratamientos y prevenir enfermedades y heridas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, así como para la formación permanente de los profesionales de atención de salud y en actividades de investigación y evaluación, con el fin de mejorar la salud de las personas y de las comunidades en que viven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Definicione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 es Medic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 es servicio a la soci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 es práctica a dista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Objetivo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Brindar servicio de Asistencia Médica a quien lo requiera, independientemente del momento y ubicación geográfica del paciente y el centro asistenci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yuda para el diagnóst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ntrol a Dist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laboración en tiempo real para el manejo del paciente a dist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Aplicacione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iagnóst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ideoconferenc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Historia clínica comú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irugía asistida por robo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SD(Sistema Digital Personalizad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onitorización intelig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3744720" cy="2367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219640" y="476280"/>
            <a:ext cx="3022560" cy="2266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39640" y="32130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859280" y="3357720"/>
            <a:ext cx="3857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3:53:31Z</dcterms:created>
  <dc:creator>Marcelo Gonzalez Leiva</dc:creator>
  <dc:description/>
  <dc:language>en-US</dc:language>
  <cp:lastModifiedBy>Marcelo Gonzalez Leiva</cp:lastModifiedBy>
  <dcterms:modified xsi:type="dcterms:W3CDTF">2004-10-05T21:32:50Z</dcterms:modified>
  <cp:revision>12</cp:revision>
  <dc:subject/>
  <dc:title>¿Cuáles son las principales ventajas de la telemedicina?</dc:title>
</cp:coreProperties>
</file>