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AC8-781A-4461-B570-529D6B6A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F3D-7455-434B-9083-96E7561D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4FC-6115-4388-ADA6-343BB618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3F9-E7F6-494B-977C-AAD0D229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C509-3D5A-42DB-9121-FDBDB8F0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EFC6-C3E5-4160-925E-C9C3869E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044E-C83C-4924-B350-3BE8A6B3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A53C-DF97-4A37-AB42-37E52D1E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9577-B959-42D5-A072-34353257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A203-54F2-4EBE-BD5B-04673374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6D72-5EC8-4394-B70F-2B79465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ED2-90CB-474F-B7E3-7BBF3DFF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C0AE-E6A1-42E4-9A44-B001D7C0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DF74-5838-4FBA-B3AA-5DF81E56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E42A-7D92-4852-8ED7-1E463536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42BE-94FE-4DB2-B7D9-4BA38C23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6FE0-F517-40E3-930A-92EB4E5C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4A2-EFD9-462D-A451-0D7CC359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56D-5621-4642-8A4F-45FBBD3D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D9B-8261-4153-A24F-1DAD568A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895-FC78-4E8E-BE0A-76E78E14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C7A-E1D3-4F13-8940-D0D6FE6B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A29-8DE0-4939-9617-E03B0DF3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02C-29E3-4AA0-95E2-8EF45118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33D-5D95-498A-B443-5B4F05FBA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003E-9759-4CEE-8237-B32A46EDD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04472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Arial"/>
              </a:rPr>
              <a:t>Telemedicina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teban Almu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arcelo Gonzál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C50M – Informática Méd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CC – U. de Ch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27478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Arial"/>
              </a:rPr>
              <a:t>¿Cuáles son las principales ventajas de la telemedicina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58560" y="1773360"/>
            <a:ext cx="8785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i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rvicios a dista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icie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nformación compart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jora en la precisión diagnós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osibilidad de educación práct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jora en la calidad de vida de pacientes crónic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dad de los servicios sani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c94"/>
                </a:solidFill>
                <a:latin typeface="Arial"/>
              </a:rPr>
              <a:t>Principales Ventaj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bertad y movilidad para el paci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bertad y movilidad para el profes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ilidad de contacto medico-paci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os modos de relación ent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cientes y proveed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salu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as perspectivas en 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peración sanitaria internac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Arial"/>
              </a:rPr>
              <a:t>Principales 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conómic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ación de recursos huma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sión de la base de merc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inución de cos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eec94"/>
                </a:solidFill>
                <a:uFillTx/>
                <a:latin typeface="Arial"/>
              </a:rPr>
              <a:t>Expectativas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 </a:t>
            </a:r>
            <a:r>
              <a:rPr b="0" i="1" lang="en-US" sz="3600" spc="-1" strike="noStrike">
                <a:solidFill>
                  <a:srgbClr val="feec94"/>
                </a:solidFill>
                <a:latin typeface="Arial"/>
              </a:rPr>
              <a:t>¿Hacia dónde apunta el Futuro de la Telemedicina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 virtu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 es necesario que los servicios médicos ocupen un mismo lugar fís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 de asesoramien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entro virtual de asesoramiento especializ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ización domiciliari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sladar los recursos hospitalarios y de Atención Primaria y especializada hasta el domicilio de los pacient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 móviles de Urgenci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telemedicina móvil ofrece la posibilidades de diagnosticar y tratar al paciente en el lugar donde se manifiesta su enferm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Chile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stro país posee una singular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fía, que provoca 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qui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gar esté muy alejado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por supuesto los servicios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ud también. Por esta razón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e reúne las condicion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es para el desarrollo de la telemedicina, además de la creciente expansión de tecnologías en los últimos añ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16192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Experiencias en Telemedicina realizadas en nuestro país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ínica Aleman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rear una red interna de transmisión de datos que también permitiera intercambiar información médica con su similar en Temu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spita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ínico de la Universidad Catól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En 1993 se unió a través de fibra óptica con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spital Sótero del Rí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rincipalmente con fines académ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nuestro paí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1998 el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inisterio de Salu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uso en marcha un proyecto piloto de telemedicina, cuyo objetivo era evitar que los pacientes de zonas alejadas o rurales se desplazaran a los hospitales base provinciales y region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e mismo año, 1998, se estableció una conexión entre la remota isla de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an Fernández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línica Las Cond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Santiago. Así, los pacientes se evaluaban por el médico general, quién decidía, si el caso lo ameritaba, solicitar una interconsulta dermatológica remo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nuestro paí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nero del 2003, se comenzó a desarrollar e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tárt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 sistema de Telemedicina que permitirá transmitir en un tiempo mínimo cualquier parámetro fisiológico o fisiopatológico, desde las bases Escudero y O'Higgins a un Centro de Investigación universitario u hospitalario de primer orden, y recibir tanto datos experimentales como diagnósticos e indicaciones terapéut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Temario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ferecias histór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finiciones y obje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plica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Ventaj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xpectativ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n Ch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Referencias históric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24: “Doctor por Radio” artículo de la revista “Radio New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1: Demostración Feria Mundial de Nueva York. Líneas de comunicación y estudios de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5: Teleradi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9: Teleeducación y Telepsiquiatr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0: NASA – telemetría mé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7: Primera estación telemé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71: Video Consulta médica en Alask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Referencias históric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74: Telediagnó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88: Space Brid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93 – 1995: Primeros Seminarios internacionales de Telemedic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Defini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Práctica de de la medicina a distancia, gracias al uso de redes de telecomunicación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A OMS da la  siguiente definición: “suministro de servicios de atención sanitaria, en las que la distancia constituye un factor crítico, por los profesionales que apelan a las TICs con el objeto de intercambiar datos para hacer diagnósticos, aprobar tratamientos y prevenir enfermedades y heridas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así como para la formación permanente de los profesionales de atención de salud y en actividades de investigación y evaluación, con el fin de mejorar la salud de las personas y de las comunidades en que viven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Defini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Medic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servicio a la soc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práctica a dista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Objetivo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Brindar servicio de Asistencia Médica a quien lo requiera, independientemente del momento y ubicación geográfica del paciente y el centro asistenci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yuda para el diagnós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trol a Dist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laboración en tiempo real para el manejo del paciente a dist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Aplica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agnóst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ideoconferenc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istoria clínica comú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irugía asistida por rob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SD(Sistema Digital Personalizad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onitorización intelig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744720" cy="236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59280" y="3357720"/>
            <a:ext cx="3857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3:53:31Z</dcterms:created>
  <dc:creator>Marcelo Gonzalez Leiva</dc:creator>
  <dc:description/>
  <dc:language>en-US</dc:language>
  <cp:lastModifiedBy>Marcelo Gonzalez Leiva</cp:lastModifiedBy>
  <dcterms:modified xsi:type="dcterms:W3CDTF">2004-10-05T21:32:50Z</dcterms:modified>
  <cp:revision>12</cp:revision>
  <dc:subject/>
  <dc:title>¿Cuáles son las principales ventajas de la telemedicina?</dc:title>
</cp:coreProperties>
</file>