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E01-33F7-4238-8CC5-0F86B714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D12B-8142-4EB2-B8E7-B56BF819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0C5-6D5C-4335-9845-7B000B09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7990-55C4-4E6C-A77E-9C1101E2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1037-F0EB-476A-89B9-BF443AE0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E0D0-67E4-4364-9AA8-67A8F07D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6727-EF02-4841-A0AA-9F15B630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11EE-D791-43E9-8C8A-5871D4E9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CE7E-60E0-464B-B44F-74ABB15E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42FE-E392-41BB-B413-49C64BF0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C9DD-F3A8-4CFF-AB88-3F1081D8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683C-DB43-4989-B538-8F6CAE9D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D1E3-854D-4064-BD69-67E263F5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161B-35AF-41A7-8AAE-FC2C976B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9E4C-D890-4DD9-95B4-81F4EB4A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73D3-870D-4953-ADFC-ADA49766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8319-5FCD-45D5-930D-85FA3A9D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9EEF-5136-48E1-8ADC-8122D7F4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D2E8-3238-43A0-824F-9618541C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F85-6EAB-4DA5-9605-C4A61D2E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5BC-9E80-4E69-B106-619BE1B5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BDF6-FDF2-406C-86D4-DF9395C5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FFC7-7C54-4D3B-A75B-8EAA95D8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FF73-BCC7-4B9F-B54D-BB205671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DC37-7999-45AB-8010-6F584F09FA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58D0-5C53-46F9-BD64-37B84C8D3F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044720" y="1628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eec94"/>
                </a:solidFill>
                <a:latin typeface="Arial"/>
              </a:rPr>
              <a:t>Telemedicina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steban Almun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arcelo González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C50M – Informática Médi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DCC – U. de Ch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651640" y="907920"/>
            <a:ext cx="27478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eec94"/>
                </a:solidFill>
                <a:latin typeface="Arial"/>
              </a:rPr>
              <a:t>¿Cuáles son las principales ventajas de la telemedicina?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58560" y="1773360"/>
            <a:ext cx="87850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si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ervicios a dista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icienc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Información comparti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Mejora en la precisión diagnós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ació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Posibilidad de educación práct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jora en la calidad de vida de pacientes crónic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uidad de los servicios sanit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eec94"/>
                </a:solidFill>
                <a:latin typeface="Arial"/>
              </a:rPr>
              <a:t>Principales Ventaja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dencia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bertad y movilidad para el pacien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bertad y movilidad para el profesion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cilidad de contacto medico-pacien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evos modos de relación entr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cientes y proveedo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 salu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evas perspectivas en l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operación sanitaria internacion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eec94"/>
                </a:solidFill>
                <a:latin typeface="Arial"/>
              </a:rPr>
              <a:t>Principales 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conómic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mización de recursos human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ansión de la base de merc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minución de cos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eec94"/>
                </a:solidFill>
                <a:uFillTx/>
                <a:latin typeface="Arial"/>
              </a:rPr>
              <a:t>Expectativas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Arial"/>
              </a:rPr>
              <a:t> </a:t>
            </a:r>
            <a:r>
              <a:rPr b="0" i="1" lang="en-US" sz="3600" spc="-1" strike="noStrike">
                <a:solidFill>
                  <a:srgbClr val="feec94"/>
                </a:solidFill>
                <a:latin typeface="Arial"/>
              </a:rPr>
              <a:t>¿Hacia dónde apunta el Futuro de la Telemedicina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pital virtu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o es necesario que los servicios médicos ocupen un mismo lugar físic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ios de asesoramien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entro virtual de asesoramiento especializa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pitalización domiciliaria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sladar los recursos hospitalarios y de Atención Primaria y especializada hasta el domicilio de los paciente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ios móviles de Urgencia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telemedicina móvil ofrece la posibilidades de diagnosticar y tratar al paciente en el lugar donde se manifiesta su enferm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Telemedicina en Chile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estro país posee una singular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fía, que provoca qu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alqui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gar esté muy alejado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 por supuesto los servicios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ud también. Por esta razón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e reúne las condicion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es para el desarrollo de la telemedicina, además de la creciente expansión de tecnologías en los últimos añ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16192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Experiencias en Telemedicina realizadas en nuestro país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to de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línica Alemana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crear una red interna de transmisión de datos que también permitiera intercambiar información médica con su similar en Temu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ospital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línico de la Universidad Católic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En 1993 se unió a través de fibra óptica con el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Hospital Sótero del Rí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principalmente con fines académ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Telemedicina en nuestro paí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1998 el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inisterio de Salud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uso en marcha un proyecto piloto de telemedicina, cuyo objetivo era evitar que los pacientes de zonas alejadas o rurales se desplazaran a los hospitales base provinciales y regiona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e mismo año, 1998, se estableció una conexión entre la remota isla de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an Fernández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la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línica Las Conde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Santiago. Así, los pacientes se evaluaban por el médico general, quién decidía, si el caso lo ameritaba, solicitar una interconsulta dermatológica remo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Telemedicina en nuestro paí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Enero del 2003, se comenzó a desarrollar en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ntártic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un sistema de Telemedicina que permitirá transmitir en un tiempo mínimo cualquier parámetro fisiológico o fisiopatológico, desde las bases Escudero y O'Higgins a un Centro de Investigación universitario u hospitalario de primer orden, y recibir tanto datos experimentales como diagnósticos e indicaciones terapéutic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Temario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ferecias históric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lemedicin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finiciones y objetiv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plica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Ventaj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xpectativ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lemedicina en Chi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Referencias histórica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24: “Doctor por Radio” artículo de la revista “Radio News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51: Demostración Feria Mundial de Nueva York. Líneas de comunicación y estudios de T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55: Teleradiolog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59: Teleeducación y Telepsiquiatr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60: NASA – telemetría méd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67: Primera estación teleméd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71: Video Consulta médica en Alask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Referencias histórica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74: Telediagnó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88: Space Brid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93 – 1995: Primeros Seminarios internacionales de Telemedic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Definicione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Práctica de de la medicina a distancia, gracias al uso de redes de telecomunicación”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LA OMS da la  siguiente definición: “suministro de servicios de atención sanitaria, en las que la distancia constituye un factor crítico, por los profesionales que apelan a las TICs con el objeto de intercambiar datos para hacer diagnósticos, aprobar tratamientos y prevenir enfermedades y heridas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, así como para la formación permanente de los profesionales de atención de salud y en actividades de investigación y evaluación, con el fin de mejorar la salud de las personas y de las comunidades en que viven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Definicione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lemedicina es Medic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lemedicina es servicio a la socie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lemedicina es práctica a dista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Objetivo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Brindar servicio de Asistencia Médica a quien lo requiera, independientemente del momento y ubicación geográfica del paciente y el centro asistenci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yuda para el diagnóst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ntrol a Dist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laboración en tiempo real para el manejo del paciente a dist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Arial"/>
              </a:rPr>
              <a:t>Aplicacione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iagnóst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Videoconferenci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Historia clínica comú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ter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irugía asistida por robo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SD(Sistema Digital Personalizado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onitorización intelig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3744720" cy="2367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219640" y="476280"/>
            <a:ext cx="3022560" cy="2266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39640" y="321300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859280" y="3357720"/>
            <a:ext cx="38577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23:53:31Z</dcterms:created>
  <dc:creator>Marcelo Gonzalez Leiva</dc:creator>
  <dc:description/>
  <dc:language>en-US</dc:language>
  <cp:lastModifiedBy>Marcelo Gonzalez Leiva</cp:lastModifiedBy>
  <dcterms:modified xsi:type="dcterms:W3CDTF">2004-10-05T21:32:50Z</dcterms:modified>
  <cp:revision>12</cp:revision>
  <dc:subject/>
  <dc:title>¿Cuáles son las principales ventajas de la telemedicina?</dc:title>
</cp:coreProperties>
</file>