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0DDF-1853-4669-80BD-FCC063A4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3085-2E71-4B43-BD92-A06D1808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D77-40D4-421A-A87E-12DA455B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AFAB-B12B-497F-87BE-8527B335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B776-DB46-4F30-BDEF-3D4302C5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3E3-7511-4870-87DF-1AD433A0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5CD1-5851-41CF-92F6-597D9648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8ED4-82C8-4E7E-8C01-94282F90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6FA-4892-4D61-86C2-AFA53169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A037-1CDF-45EF-8223-FBF22956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FCF1-DBE1-48A6-8BD8-A77B9507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63C5-C80D-4F86-84DF-BD2442CC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B6D5-6A2B-4F63-A71B-48B001DD4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-12/5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-16/6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4/7 (Aproximadamente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5/7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br>
              <a:rPr sz="2400"/>
            </a:br>
            <a:br>
              <a:rPr sz="24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HARLA SOBRE ENTREVISTAS LABORALES</a:t>
            </a:r>
            <a:br>
              <a:rPr sz="2800"/>
            </a:br>
            <a:br>
              <a:rPr sz="28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HARLA SOBRE PREPARACION DE C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67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5 de Mayo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14:30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Contador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laudia Orellan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URMENETA LABARC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5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2 de Mayo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NGELA CINTOLESI MAKUC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ABRIELA ANDREA MORALES DARKER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IA PAZ MERINO SAN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75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9 de Mayo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BASTIAN ANDRES BUCCICAR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BASTIAN GALVEZ AVENDA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NDRES MATURANA SEPULV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RISTIAN ANDRES SAAVEDRA F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5-03-11T15:22:03Z</dcterms:modified>
  <cp:revision>118</cp:revision>
  <dc:subject/>
  <dc:title>El ingeniero, etica y sociedad</dc:title>
</cp:coreProperties>
</file>