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B0D-636C-4D26-9C6F-469C53B1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D0E-5C2D-4A84-B0C7-99180FD1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4F7-E3E5-46A0-B4F8-BF352CBC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296-5084-457C-86C7-DF03CB5F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742-2455-4887-9B1C-C59DC82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899-CD10-4F6D-B5FB-5EEDC7AA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987-F940-4BCB-9D4B-A066E974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155-012C-42B8-9493-1D86B1CD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611-5588-4A6D-9041-07B42EFA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1F3-097D-47EF-8D8C-967CBE6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5B8-C6FC-4825-8A7B-506EDBD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FB1-589E-4A22-8EB3-6EA9C17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EEC8-326D-4BE0-93AA-D1D7CE896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5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-16/6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/7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5/7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LA SOBRE ENTREVISTAS LABORALES</a:t>
            </a:r>
            <a:br>
              <a:rPr sz="28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LA SOBRE PREPARACION DE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Mayo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LABARC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2 de May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NGELA CINTOLESI MAKUC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BRIELA ANDREA MORALES DARKE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A PAZ MERINO S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9 de May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BASTIAN ANDRES BUCCICAR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BASTIAN GALVEZ AVEN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NDRES MATURANA SEPULV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RISTIAN ANDRES SAAVEDRA F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3-11T15:22:03Z</dcterms:modified>
  <cp:revision>118</cp:revision>
  <dc:subject/>
  <dc:title>El ingeniero, etica y sociedad</dc:title>
</cp:coreProperties>
</file>