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EA7A-2C0B-472B-884F-A676814DA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F198-8433-46CB-A921-ADE8E853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E446-DC11-4AFA-ABE9-5AD85078B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1105-6391-4443-95C1-3356964A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0108-D8A0-43AF-A215-B50F05B3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DB7D-1AE4-4F7E-AC5A-B33417B3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B194-3A1F-433C-AEA3-415D491C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2F14-1E99-4A57-ADDB-CBF11B88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BBEA-3E5D-4E3A-8F35-8AF4BB62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E516-95B4-4F2A-8ED4-F72A56D0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E960-B8DF-432A-9B27-AD171349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E1BC-C78A-4E6B-8996-41ACC91C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0E5A-F129-416A-B50B-0C52E868C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F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 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lc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I Resultados ( y Discus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V Disc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C Concl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91520" y="3429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1219320"/>
            <a:ext cx="15238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5-12/5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-16/6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4/7 (Aproximadamente)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5/7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</a:t>
            </a:r>
            <a:br>
              <a:rPr sz="2400"/>
            </a:br>
            <a:br>
              <a:rPr sz="2400"/>
            </a:b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HARLA SOBRE ENTREVISTAS LABORALES</a:t>
            </a:r>
            <a:br>
              <a:rPr sz="2800"/>
            </a:br>
            <a:br>
              <a:rPr sz="2800"/>
            </a:b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HARLA SOBRE PREPARACION DE C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lc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jar límites al proyecto, se define la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ofund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Final BT-IQ 69F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ULTIMO DIA DE EXAMEN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67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5 de Mayo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14:30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olina Contador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laudia Orellana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OLINA URMENETA LABARCA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75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2 de Mayo 16:15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NGELA CINTOLESI MAKUC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ABRIELA ANDREA MORALES DARKER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RIA PAZ MERINO SAN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75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9 de Mayo 16:15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EBASTIAN ANDRES BUCCICARD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EBASTIAN GALVEZ AVENDA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NDRES MATURANA SEPULVE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RISTIAN ANDRES SAAVEDRA F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 C.</cp:lastModifiedBy>
  <dcterms:modified xsi:type="dcterms:W3CDTF">2005-03-11T15:22:03Z</dcterms:modified>
  <cp:revision>118</cp:revision>
  <dc:subject/>
  <dc:title>El ingeniero, etica y sociedad</dc:title>
</cp:coreProperties>
</file>