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33AA-0138-4B46-833C-F9BAB3E9B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98E3-68D2-4004-AE30-46BBD8D25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64F5-F304-4923-AAC5-E45368684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B59E-41C9-48D4-980B-6AB7D4EC4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B03E-7DE6-4EC7-B024-9C61CEDF3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122C-D362-47B8-A00E-A2214E42B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F1BF-5186-4AC6-BAA0-70B310CFF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017F-0F51-4956-8881-BD28D57AD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9351-B4C0-4B43-A98F-6713C776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B0D7-1973-4704-A5BA-EB3F9570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B934-7187-43FE-ABDF-72DC1FDB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5445-BDFE-49FB-986C-921EC61B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CD742-2A6B-4ADA-B771-472A2E4D59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conama.cl/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bajo de Títul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T-IQ69F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 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m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Arial Unicode MS"/>
              </a:rPr>
              <a:t>Títu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Arial Unicode MS"/>
              </a:rPr>
              <a:t>Resu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 Int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ntecedentes Bibliográf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Descripción del Proyecto y Justific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Obje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lc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I Metod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ateri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étod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II Resultados ( y Discusion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V Discus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C Conclus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00"/>
                </a:solidFill>
                <a:uFillTx/>
                <a:latin typeface="Arial Unicode MS"/>
                <a:ea typeface="Arial"/>
              </a:rPr>
              <a:t>Bibliograf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Arial"/>
              </a:rPr>
              <a:t>Anex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391520" y="3429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50 pág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2720" y="1219320"/>
            <a:ext cx="15238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}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epresentativo, pero bre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ebe dar una 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dea concreta del tema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del tema en estu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EBE ESTAR LI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una de las partes más crucial del Infor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ser de la menor extensión posible (1 a 1 1/2 págin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entregar una visión completa (autocontenido), de modo que los lectores puedan decidir si leen otras sec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tiene antecedentes que justifiquen la realización de la memoria, la metodologías utilizada, lo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sultados  y la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conclu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resentación del tema de estudio, permite ubicar al lector indicando bajo que área se encuentra contenido el estudio específ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os principales aspectos que dan relevancia al estudio específico que se propone desarroll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ntecedentes Bibliográf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recopilación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y análisi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 las  experiencias o publicaciones recientes sobre el tema en estud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incluir en forma oportuna las referen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!! Es básico investigar sobre el tema del proyecto, adecuada y profunda búsqueda bibliográfica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e realizó el semestre pasado (IQ-BT69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jemplo de entrega de anteced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alfab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(Charniak y Mc Dermot, 1985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de apar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[1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fer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itar las que se usarán en el tr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Belter PA, Cussler  E.L., Hu W. (1988) “ Bioseparations:  Processing for Biotechnology",John Wiley &amp; Sons, New York, 368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apítulos en 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Hagel L(1998) “ Gel Filtration" en "Protein Purification: Principles, High-Resolution Methods, and Applications”, Editado por J-C Janson and L. Ryden,2 Edition, Wiley-Liss, New York, 79-144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ap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Eriksson H, Sandahl K, Brewer J, Osterlund B (1991b). “Reactive planning for chromatography”, Chemometrics and Intelligent laboratory Systems: Laboratory Information Management 13: 185-194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emo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Muñoz D (1989) "Metodologías de Adquisición de conocimiento para la construcción de sistemas computacionales basados en el conocimiento (Sistemas Expertos) y aplicación a la ingeniería de procesos", Memoria de Magister en Cs. de la Ingeniería mención Química, Univeridad de Chile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anu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euroData (1991) "Nexpert Object - Reference manual", Neuron Data Inc.,Palo Alto, USA, 284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omunicación Direc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Righetti P.G (1999) Comunicación personal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áginas 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1"/>
              </a:rPr>
              <a:t>www.conama.cl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: Página Comisión Nacional Medio Ambiente, 20/mayo/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escripción del Proyecto y Justific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xplicar y fundamentar (con los antecedentes previos) qué problema se pretende abord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a relevancia o utilidad del proyecto propues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dar  las razones que implican que se desarrolle este proye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ier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uede ga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</a:t>
            </a:r>
            <a:br>
              <a:rPr sz="4400"/>
            </a:br>
            <a:br>
              <a:rPr sz="4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5-12/5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9-16/6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4/7 (Aproximadamente)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5/7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</a:t>
            </a:r>
            <a:br>
              <a:rPr sz="2400"/>
            </a:br>
            <a:br>
              <a:rPr sz="2400"/>
            </a:br>
            <a:r>
              <a:rPr b="1" lang="es-E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CHARLA SOBRE ENTREVISTAS LABORALES</a:t>
            </a:r>
            <a:br>
              <a:rPr sz="2800"/>
            </a:br>
            <a:br>
              <a:rPr sz="2800"/>
            </a:br>
            <a:r>
              <a:rPr b="1" lang="es-E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CHARLA SOBRE PREPARACION DE C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46483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un desglose detallado del objetivo general, se relacionan con los resultados parciales que deberán obteners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los logros intermedios que, en conjunto, posibilitan o alcanzar el objetivo gene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342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s Específicos</a:t>
            </a: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presenta en forma breve y precisa lo más relevante que se pretende lograr con el proyec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ser coherente con la justificación previa y con los resultados posteriores que se planteará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os objetivos se deben correlacionar directamente con las conclu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176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99"/>
                </a:solidFill>
                <a:uFillTx/>
                <a:latin typeface="Times New Roman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Específ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1640" y="2590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ccffff"/>
                </a:solidFill>
                <a:uFillTx/>
                <a:latin typeface="Times New Roman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ón Princip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ones de cad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95480" y="3429000"/>
            <a:ext cx="167652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05320" y="4038480"/>
            <a:ext cx="106668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lca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ijar límites al proyecto, se define la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profundidad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l proye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todolog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te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ét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2895480"/>
            <a:ext cx="77724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n ser breves y si necesita extenderse más use anex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ltados (y Discusion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dica los productos concretos obteni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dividir el capítulo por objetivos específ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usar tablas y gráficos en forma simultánea. Si piensa que lo necesita colocar uno de ellos en apénd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ir discutiendo inmediatamente los resultados, resulta más fácil para el le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isc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de las partes más importantes de la memo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todo lo aprendido, junto a la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apacidad de análisis y sínte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star relacionada y comentar lo presentado tanto en resultados como en los antecedentes bibliográfico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(apoyarlos o refutarl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Calend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arte más importantes de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be responder a los objetivos propue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Se ha logrado establecer 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 puede contener nada que no tenga respaldo con lo antes expuesto en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No deben aparecer nuevos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ome tiempo en escribir este capítulo, COMENTELO CON SU PROFESOR GU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enga cuidado en la forma de redacción, pues se confunden los resultados con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as conclus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l pH óptimo para la reacción en estudio es 7.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Resultado o Conclus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Cómo debería s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criba todo en términos posi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se logró detectar la presencia de orgánicos en la solu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  <a:ea typeface="Times New Roman"/>
              </a:rPr>
              <a:t>¿Correcto o no?, ¿Cómo debería se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La cantidad de orgánicos en la solución se encontraba bajo los niveles de detección. Se recomienda utilizar otros métodos de análi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Fecha de entrega del Borrador de Memoria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 Final BT-IQ 69F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ULTIMO DIA DE EXAMENE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vitado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¿ Consultas  y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 escribir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52280"/>
            <a:ext cx="8229600" cy="67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5 de Mayo </a:t>
            </a: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14:30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arolina Contador (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laudia Orellana (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AROLINA URMENETA LABARCA (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LA ASISTENCIA ES OBLIGATORIA A TODAS LAS PRESEN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52280"/>
            <a:ext cx="8229600" cy="75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2 de Mayo 16:15 Sala Por Fi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ANGELA CINTOLESI MAKUC (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GABRIELA ANDREA MORALES DARKER (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ARIA PAZ MERINO SAN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LA ASISTENCIA ES OBLIGATORIA A TODAS LAS PRESEN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52280"/>
            <a:ext cx="8229600" cy="75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9 de Mayo 16:15 Sala Por Fi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SEBASTIAN ANDRES BUCCICARD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SEBASTIAN GALVEZ AVENDA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 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ANDRES MATURANA SEPULVE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RISTIAN ANDRES SAAVEDRA FL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LA ASISTENCIA ES OBLIGATORIA A TODAS LAS PRESEN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04560" y="16765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sistencia Obligatoria a TODA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las presen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71320" y="3805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Datos Prác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no debe durar más de 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20 min con preguntas (5 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Se cuenta con PC y Datash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visar los diskettes y  llegar antes para instalar y ver que la presentación func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be entregar algún tipo de material escrito a los profesores de la comi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Ver Pauta de Presentaciones Or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7132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se debe centrar en los siguientes pu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Introducción (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BREVE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Objetivos generales y específicos de la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sultados obte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iscusión y Conclusiones PA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Actividades 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Maria Elena Lienqueo C.</cp:lastModifiedBy>
  <dcterms:modified xsi:type="dcterms:W3CDTF">2005-03-11T15:22:03Z</dcterms:modified>
  <cp:revision>118</cp:revision>
  <dc:subject/>
  <dc:title>El ingeniero, etica y sociedad</dc:title>
</cp:coreProperties>
</file>