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3542-0F4E-4116-84A4-91D05DDF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371-3C3F-40C6-8F9D-2FBA2EFB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D47-29EF-476E-8399-8B8078F3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DEE-7B7F-4F89-A571-26C3EEF0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2BC-638F-4983-867C-1107E680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B46-BC12-48CA-BCFC-EE9A5D52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9FD-11C8-48CC-847E-CEA4DD70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4F6-7E4B-4857-95B6-1416E422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803-B619-4AD6-884F-A3AFD964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453-8072-4D78-8A3A-29A57062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596-F139-4D85-BFD5-782B5CE7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307-DE47-4565-88DD-E3303DFE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3C6B-ED6F-46B2-AFF0-8BD8DFD95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6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Agost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blo Mo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arin Henrí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ladys Nava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89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baldo Abr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tricia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imlin F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onzalo Águ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los D Andu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ejandro Mo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ola Bustos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8T09:22:18Z</dcterms:modified>
  <cp:revision>113</cp:revision>
  <dc:subject/>
  <dc:title>El ingeniero, etica y sociedad</dc:title>
</cp:coreProperties>
</file>