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359-FA2B-480D-B6E2-0FFD760A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5F1-4320-417B-BAE3-D2156D8D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19A-D59A-4153-8F7E-ACEE41C9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032-C687-4783-A10A-2D005F07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539-715A-4963-8098-64542B5E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F46-F062-4B0A-BB8C-E862514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4DF-6203-4104-9EFD-743481D4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931-46DA-455E-B3F9-317C4E37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FC7-78E8-434B-BB17-D435260C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2BD-875F-4B67-B5DE-784B931B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773-97E2-426A-986D-BD5A0F04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6E4-7722-4C77-80F2-9D1ADDD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EFB9-4310-4F64-AD14-75EE588D5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2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5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8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6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7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(5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Jesus Ca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.- Determinación de la especiación del hierro en soluciones procedentes de circuitos hidrometalúrgicos mediante experimentación y la aplicación  de modelos geoquímicos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2.- Estudio del proceso de precipitación hidrotermal del hierro a escala de laboratorio. Análisis de experimentos y formulación de modelos fenomenológic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Luis Cifuente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3.- Modelación matemática de celdas de EO de cobre con cátodos particulado y fluidizado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4.- Separación de Cu y Fe mediante electrodialisis a partir de soluciones de la hidrometalurgia del C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Tomas Vargas V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6.- Rol de aditivos en la electrocristalización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7.- Cinética de disolución de minerales oxidados de cobre con soluciones lixiviantes con alta concentración iónic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8.- Influencia de la concentración iónica de soluciones lixiviantes sobre la eficiencia de la extracción por solventes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9.- Determinación de la actividad catalítica de bacterias en circuitos   de lixiviación industrial mediante métodos biooelectr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0.- Lixiviación bacteriana de minerales sulfurados de cobre con bacterias termófilas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M.Elena Lienqueo - Oriana Salaz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1.- Efecto de la distribución de aminoácidos superficiales en el comportamiento cromatográfico de las proteína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2.- Química del Arsénico: Métodos de remoción en pequeña escal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3.- Energías alternativas: Diseño de reactor para la Producción bioquímica de Hidrógeno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4.- Residuos Industriales Líquidos: Tratamientos bi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5.- Emisiones de Anhidrido Sulfuroso: Su conversión a productos valios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lanca Escob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6.- Determinación de compuestos reducidos de azufre en soluciones de  biolixiviación de sulfuros con microorganismos mesofil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puestos por empre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IOENLAC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a) " Estudio prospectivo de innovación en procesos biotecnológicos en la minerí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) " Estudio prospectivo de innovación en procesos biotecnológicos en la industria acuicol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c) " Estudio prospectivo de innovación en procesos biotecnológicos en la industria forestal ( celulosa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4:30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INTOLESI MAKUC ANG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TURANA SEPULVEDA ANDRES OS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RINO SANTIS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ALES DARKER GABRIELA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6T11:05:27Z</dcterms:modified>
  <cp:revision>83</cp:revision>
  <dc:subject/>
  <dc:title>El ingeniero, etica y sociedad</dc:title>
</cp:coreProperties>
</file>