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6E5-4DC5-4C6B-9678-B3076A6C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7C3-0417-4295-8570-ACBB31C2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873-A6C5-4D35-A971-EB442B37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B57-7D05-4F2A-92AC-AEBC9264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F59-DE43-4642-820D-405C4DE1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B2D-3972-4AA5-89B9-DDC4FF09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F0B-F357-4C41-BC5F-B52948DC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123-1849-4B88-80B0-2FE21EA7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89F-58BB-4DD1-84A8-4B566C3C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503-0330-4234-84A9-AA944DD6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6FE-FCE7-42E5-962D-04459C8F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498-1BF1-4F30-8D65-4A13FC0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28E2-0864-4FC1-B495-AD96955A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2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5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8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6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7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(5 semana)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Jesus Ca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.- Determinación de la especiación del hierro en soluciones procedentes de circuitos hidrometalúrgicos mediante experimentación y la aplicación  de modelos geoquímicos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2.- Estudio del proceso de precipitación hidrotermal del hierro a escala de laboratorio. Análisis de experimentos y formulación de modelos fenomenológic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Luis Cifuente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3.- Modelación matemática de celdas de EO de cobre con cátodos particulado y fluidizado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4.- Separación de Cu y Fe mediante electrodialisis a partir de soluciones de la hidrometalurgia del Cu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Tomas Vargas V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6.- Rol de aditivos en la electrocristalización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7.- Cinética de disolución de minerales oxidados de cobre con soluciones lixiviantes con alta concentración iónic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8.- Influencia de la concentración iónica de soluciones lixiviantes sobre la eficiencia de la extracción por solventes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9.- Determinación de la actividad catalítica de bacterias en circuitos   de lixiviación industrial mediante métodos biooelectr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0.- Lixiviación bacteriana de minerales sulfurados de cobre con bacterias termófilas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M.Elena Lienqueo - Oriana Salaz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1.- Efecto de la distribución de aminoácidos superficiales en el comportamiento cromatográfico de las proteína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Leandro Herrera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2.- Química del Arsénico: Métodos de remoción en pequeña escal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3.- Energías alternativas: Diseño de reactor para la Producción bioquímica de Hidrógeno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4.- Residuos Industriales Líquidos: Tratamientos bi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5.- Emisiones de Anhidrido Sulfuroso: Su conversión a productos valios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lanca Escob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6.- Determinación de compuestos reducidos de azufre en soluciones de  biolixiviación de sulfuros con microorganismos mesofil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puestos por empre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IOENLAC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a) " Estudio prospectivo de innovación en procesos biotecnológicos en la minerí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) " Estudio prospectivo de innovación en procesos biotecnológicos en la industria acuicol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c) " Estudio prospectivo de innovación en procesos biotecnológicos en la industria forestal ( celulosa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4:30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INTOLESI MAKUC ANG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TURANA SEPULVEDA ANDRES OS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RINO SANTIS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ALES DARKER GABRIELA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6T11:05:27Z</dcterms:modified>
  <cp:revision>83</cp:revision>
  <dc:subject/>
  <dc:title>El ingeniero, etica y sociedad</dc:title>
</cp:coreProperties>
</file>