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EA0-09FC-4169-8E9E-40B1980C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07E-FECD-430B-AFBF-ED83A9A7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630-EC47-4862-8072-B42AE468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C25-DC34-4A12-9B4B-A7EF00C7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4F56-CABD-42E3-818D-DC8307FA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FE3-329E-44E8-A5F4-98847469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19B-BCBC-4125-BC14-B302320B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5806-3330-4D8B-82F6-C67DF9C3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DE8-31FC-4182-AC2F-83D3B2F3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6DF-D955-4CE1-86A9-4D914F24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725-1BA3-40EF-B1BC-DF5715CA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BBB-86C1-4FF9-9253-D8E8D9C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9070-C490-4119-9596-889B0854C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4400"/>
            </a:b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731880"/>
            <a:ext cx="82296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 DEBEN  inscribir los cursos 69E ni 69F, éstos se convalidarán automáticamente con los Talleres de Titulo del Ma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Magis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731880"/>
            <a:ext cx="822960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alum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.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.Haber reprobado muy pocas asignaturas pero tener inscrito el curso XX69E en su undécimo semestre de permanencia en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.Haber figurado en los dos años anteriores al que se inscribe el XX69E, en la Lista de Alumnos Destacados de la Escuel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ntecedentes del 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 informe del Profesor Guía debe explicar por qué el tema califica al tratarse de un trabajo experimental, profesionalmente innovativo o de investigación. De manera concisa pero clara hay que describir cómo el tema se inscribe en una de estas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286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57200"/>
            <a:ext cx="8229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ambio al XX69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50%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 + 50% Nota de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7e8f9"/>
                </a:solidFill>
                <a:latin typeface="Comic Sans MS"/>
                <a:ea typeface="Times New Roman"/>
              </a:rPr>
              <a:t>Si la de presentación es igual o superior a 5,5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Nota Final de la carrera se calcula como la nota d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la memoria y examen de títu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S02064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72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75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78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86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87" name="BD04897_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E01846_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-12/8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O DE BASES DE DATOS ESPECIALIZADAS (Biblioteca)</a:t>
            </a: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8 (5 semana)</a:t>
            </a:r>
            <a:br>
              <a:rPr sz="32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9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a semana de Clases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0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l semestr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E01496_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EMA PROPUESTOS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Jesus Casa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.- Determinación de la especiación del hierro en soluciones procedentes de circuitos hidrometalúrgicos mediante experimentación y la aplicación  de modelos geoquímicos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2.- Estudio del proceso de precipitación hidrotermal del hierro a escala de laboratorio. Análisis de experimentos y formulación de modelos fenomenológic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Luis Cifuente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3.- Modelación matemática de celdas de EO de cobre con cátodos particulado y fluidizado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4.- Separación de Cu y Fe mediante electrodialisis a partir de soluciones de la hidrometalurgia del Cu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fesor Guía: Tomas Vargas V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6.- Rol de aditivos en la electrocristalización de cobr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7.- Cinética de disolución de minerales oxidados de cobre con soluciones lixiviantes con alta concentración iónica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8.- Influencia de la concentración iónica de soluciones lixiviantes sobre la eficiencia de la extracción por solventes de cobr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9.- Determinación de la actividad catalítica de bacterias en circuitos   de lixiviación industrial mediante métodos biooelectroquímico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0.- Lixiviación bacteriana de minerales sulfurados de cobre con bacterias termófilas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fesor Guía: M.Elena Lienqueo - Oriana Salazar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1.- Efecto de la distribución de aminoácidos superficiales en el comportamiento cromatográfico de las proteínas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fesor Guía: Leandro Herrera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2.- Química del Arsénico: Métodos de remoción en pequeña escala.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3.- Energías alternativas: Diseño de reactor para la Producción bioquímica de Hidrógeno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4.- Residuos Industriales Líquidos: Tratamientos bioquímico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5.- Emisiones de Anhidrido Sulfuroso: Su conversión a productos valios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lanca Escobar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16.- Determinación de compuestos reducidos de azufre en soluciones de  biolixiviación de sulfuros con microorganismos mesofilos.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Propuestos por empresas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IOENLACE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a) " Estudio prospectivo de innovación en procesos biotecnológicos en la minería"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b) " Estudio prospectivo de innovación en procesos biotecnológicos en la industria acuicola" 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c) " Estudio prospectivo de innovación en procesos biotecnológicos en la industria forestal ( celulosa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71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 de Septiembre 14:30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INTOLESI MAKUC ANG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TURANA SEPULVEDA ANDRES OS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RINO SANTIS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ALES DARKER GABRIELA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731880"/>
            <a:ext cx="82296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ben inscribir el curso 69E en las dos especialidad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     BT69E e IQ69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ro sólo deben inscribir un solo 69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jemplo BT69 F  o IQ 69F o IN69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28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omic Sans MS"/>
              </a:rPr>
              <a:t>Alumnos que cursan 2 c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4-07-26T11:05:27Z</dcterms:modified>
  <cp:revision>83</cp:revision>
  <dc:subject/>
  <dc:title>El ingeniero, etica y sociedad</dc:title>
</cp:coreProperties>
</file>